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D53F-A42B-4D77-A4FA-C1A3462FA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B667-D253-44E0-B825-18D454FA4B1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F38DE7-858A-4A7C-95CB-EC841B12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AD014D-08E3-4E2E-9471-189AAF6B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68097-7072-48E7-845E-305EB51E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B2A006-5426-4447-9598-B8F1B03E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59B54B-DFD2-4634-B52F-5558E9AF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AA3D37-4978-424E-8DAA-1EF2FE17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0B2D78-62D8-4E1C-86E3-4E6BDFE5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D011F4-97D6-4127-86E5-6D7AB04F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E3E33A-C760-407E-A279-D544A94C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0EEA1C-8DB9-4E85-98C0-267742D0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F3F6-DE69-4098-A433-3166A1B2942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BF437F-F301-4FAF-8E53-85BAC649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5F4F36-0753-4D1D-A76D-0EC37C8B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69C5C6-7119-44BD-AD70-6314CF9A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4F836D-CA65-4993-94E4-0AA3B353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307C2E-3E84-4014-8B16-5CAAA591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5CE0DB-3428-4D92-9B6B-A358A10D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79278B-F392-43FD-A130-1C9D938B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1D502B-9433-453B-9F9E-BD818001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789D1-4005-4347-8DD9-8E76DBC0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D53C3-C134-4C78-A530-202F8833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FF4A3-47DC-4B75-9F40-029FFF71E1B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6EEDE0-171F-4D19-9C4D-672D9C25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211927-E8E2-4CAF-8A8C-510543D0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3920F2-3D10-4B1F-A501-30DCB7EB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3BC016-5E35-4875-A625-57378196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1F85BA-83EC-4392-B1DA-DA5F90B9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8B3172-3C94-463F-A94B-DDA6034C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56DDD5-71B2-43BC-B8BC-85216156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D55AC4-C145-4A00-8630-2EA12C03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15182D-2073-45C7-B840-28EE37A7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5C870F-BD6D-432B-8C47-D2C31E28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5CA2B-0BD8-4339-855F-B50A4B87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9AA0AB-50E0-4D2D-9857-B847E03E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5AF3E9-F098-42B0-B123-1B761F41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F9D8C2-3217-4E26-A6ED-918219B8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9A3556-1BA3-4B45-9902-3226BE5D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5D8B07-AD81-4F2F-A7AC-04F24A6B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BCCE37-A161-4725-9749-F40C84D8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DE17A8-498A-4FF8-AFB5-5CDB249B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FC7EBC-8252-4D87-8926-51083A39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C70D75-0322-4AE4-8AF5-B075B501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35252C-F3AE-4CC0-BDAD-E6197800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2E9CF-E782-48DA-B9B0-439181AB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D8AAE6-76CD-4FA3-8135-F8CF435A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B365A-D54B-4E3A-B1C8-4AE54865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98948D-D845-47C5-89EE-576FD2AB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3DB9A9-BC12-4C47-BA58-2D0F51EE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232FED-4100-4112-8F21-96338A66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85A6E-2B7C-40AF-84A4-8E837F4A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9ABA7-B47A-4100-A857-A974500E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686FA-ECD8-4781-9232-67C49573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6B13B-4870-4351-A0E6-1301C25A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2A5AB-6DD8-4759-8BBD-9D501AAA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936E9-7FEF-41EA-9783-55BE55BCC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7479C-5F3A-458D-99E5-E467C7FD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EB85A-1184-44EE-BEBF-013AEE2D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A6FB6-93FD-4EDB-9E1B-B8EBC99B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78488-5155-4519-9583-8EE5753C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45CAB-43C8-4B78-8A5F-E6629820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0C9A30-627B-4C09-A51F-7B8005C6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B12BF9-6AE6-4F3C-8E92-A4F72748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4C7CEB-201B-4DF6-8B98-7A29A538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B691AB-8CCD-4F7D-B634-B3437AF2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433CF4-FABD-4A73-83E0-D8134641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3BD28-5C10-4B77-966D-58894104CB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D60C9E-2C57-46E0-99AE-486B4E02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98DC0A-7F19-4FA6-AA58-160011D9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EEEDBB-CB61-4880-BB55-46C14DE0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0918F7-5420-4BAB-83B6-32C7170B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3C509B-191E-4AA4-9960-CDCB3D33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ED52D0-6DD4-425D-8CBE-D51A1DB1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D74B9D-29B0-454A-8279-39C7178C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8DEE08-287E-41D3-ADC4-F632C2D1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82B9A0-4110-4184-AD9A-9290B70C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9CB265-2C03-4CD5-BE37-F11F9CB3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2BA3-905B-4B27-8CDD-A2BCFF77B35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E0B5B5-EA80-4B39-9F6A-E79DEF20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2D0554-BF0C-4E47-871E-FD10F2CC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8703F9-4297-409F-8076-C4694C7C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1EC534-D97F-418C-91DC-6DFF542A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C46430-8EF6-46C6-8B41-76420315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D6902B-4F1B-418C-A484-6340EC89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FA3029-F82C-421D-B866-A2271AC5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0B8D41-6BB5-4B74-89B4-E4194BD1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92BA44-4DDD-4519-9FDD-449F1923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E88ED6-F61C-41B7-96F5-32B72100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9C44-94E7-460B-92CD-40740E0D8F9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B3FFB9-96FD-40D3-B2F9-F15B9E9B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9A274B-52AF-4C32-9AE9-91BD5B3D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3F2354-47DA-4447-AD0F-0E7AD2AC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2A9349-F18C-46DC-8CA5-C74B57EC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02703A-A99D-44B8-9028-B45173E6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7B7309-8B27-4C7C-993D-40DB1599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A0069C-6D9D-4036-8443-CEDBE6C9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F67FE1-D042-4E5C-8D59-C61C586D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044E96-9593-4B6E-956B-6F2F8976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6C7089-2046-42A8-9682-09AFBC5A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21FC-5455-4FA0-AD43-2C2066BE8BB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C07263-25C6-4C2A-A119-35DD3D58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FD0B5B-CD66-435D-8398-7C4B24FC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4B62B5-B4D1-4EE1-BBF1-7850A38D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7ECAC7-0A09-4FFC-8D36-8485D7DC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5515D0-6252-4FA9-9541-BE9538CA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7BE9E9-4CD7-4812-99E3-5C96D0FA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76B8AF-35C3-4990-A680-5A475AE6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722537-3618-4E73-9F4D-AAE32A08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A64D14-7AA9-469B-B77B-8CC54EFF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0B4002-6759-4C0D-8F3B-7E5BCD1D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94B17-4B0D-49EC-ABF4-904980FF25B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6C9D33-BFE1-47DB-8FC4-11D3335C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CA963E-9EE1-4724-905C-91505C68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3226AE-4EBD-4385-B2ED-CB540893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B5A56B-3A3A-4AEE-B2DB-43A304B5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695CF9-F4F7-4D22-AFC8-0DA24653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A10056-6C31-443B-B95A-53071125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1D95A3-F3D7-4ED8-B8F8-0E2AE820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8E6CF6-C781-4FF2-B314-AD3828D0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D8D838-1EDC-4134-9D40-0710BD5C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758390-D961-4CFC-8753-16136C3E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67F1-5291-4E27-97EB-2ED3D6AEA02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ED8544-0A82-48DE-8F2F-C6876141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A509C1-169A-4D81-84E0-1EAD882E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DFFE27-7044-4072-BC46-C0273872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302318-E73B-4A44-80FA-4CAD8028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E6B931-CBAF-4DFC-8FB6-4344AA86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87FB3A-E112-48A7-8554-AF07C2A3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46955E-36B6-4D89-BCCF-FA403A16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DA8A80-A13F-498D-960B-5C41C922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D8FC90-8132-41E1-9C52-1C873127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322C55-B733-4460-8B25-0BD6D8C0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D4E69-A19D-47A5-AA30-30ECD95D79D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44C441-8A2F-4A90-A0C6-BE56357C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E76602-7993-4CE2-A721-B53B185B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C1F69D-CA74-4702-AD53-840DDAAC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6A02FD-518A-41ED-ADCE-76698437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0AB597-7028-4EF0-BE3C-4158648F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A99768-FB60-4067-BF20-D360DB2F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D2A6D5-4291-43B1-AC23-80225A82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7CE444-E8C4-4338-9AC9-4264E3E9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1DADD5-91F7-4D38-9766-9663A696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1A33B-7DDA-4611-BA7B-DD8678A1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48CAA-0EAD-4D39-ADE9-18264EE48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D9187-49C9-4E98-A61B-BE5D99C4165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808EC-48B4-4757-84D4-14DA6CE44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81854-1B80-47FA-9E0B-68CACD9A135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011955-2EE5-4DCB-9023-11E76ECD9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EE8BB-DDFD-46AA-A3F2-7C6B8AE6823F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382DC-6C94-4D2A-8E00-CB59C6D3F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0" t="0" r="825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2A6C3-00BC-40FE-9170-A5B61367F688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CE485-5BF5-4953-AFD6-0372C416D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941FB7-15C7-4A49-9BA2-847DCA575D3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03B15-F101-40BE-B08C-8C39E6AC0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9A9CB-87F8-4F0A-9D1F-B878F3D0CA1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C1010A-16D7-4E06-9199-63E06AF77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A20B77-05B6-4C20-9EC0-57A4CD77B381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2DAD1-C0CD-4C07-BA8B-5AD6C2979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B35E56-8C2F-474E-9925-E57B844B37EE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5016C-71E4-4249-88F2-0D7F5835B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4ADD9-CD89-4087-9131-276C60BC56F5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9B5FD2-E14C-453A-A6AE-834D1F405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CC3E8-B578-4096-B017-5CE50BE352FA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64C0D4-58EE-4047-9E91-3A00A0D4B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63AD4-0E77-4733-9C33-8457A73AF84F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CBE94-93FB-45BB-BFC9-BA2F042F6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490644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mer Riz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ategy Focused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:  Robert Kaplan and David Nor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1" descr=""/>
          <p:cNvPicPr/>
          <p:nvPr/>
        </p:nvPicPr>
        <p:blipFill>
          <a:blip r:embed="rId1"/>
          <a:stretch/>
        </p:blipFill>
        <p:spPr>
          <a:xfrm>
            <a:off x="5118120" y="1521000"/>
            <a:ext cx="360216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s and measures drive change within an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s derived from strategy are more effective than metrics derived from tactical (the here and n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key principles for building strategy focused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the strategy to operational ter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 the organization to th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trategy everyone’s everyday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trategy a continu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ze change through strong, effective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tudy of 275 portfolio managers reported that the ability to execute strategy was more important than the quality of the strategy itself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ategy-Focused Organizations require that all employees understand the strategy and conduct their day-to-day business in a way that contributes to the success of that strateg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r research indicates that 85% of management teams spend less than 1 hour per month discussing strateg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asurement creates focus for the future because the measures chosen by managers communicate to the organization what is importa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79440" y="1650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ng a strategy into measurable metrics is a very effective way to drive change within an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buy in for the strategy at all levels of the organization ultimately can make the strategy more successfu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Mobil truck driver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measurements aren’t ever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Trish Mooney</cp:lastModifiedBy>
  <cp:lastPrinted>2011-06-13T12:29:39Z</cp:lastPrinted>
  <dcterms:modified xsi:type="dcterms:W3CDTF">2017-01-05T13:14:28Z</dcterms:modified>
  <cp:revision>21</cp:revision>
  <dc:subject/>
  <dc:title>Leading with Impact</dc:title>
</cp:coreProperties>
</file>