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FA0D-5E75-4CA8-836C-C5C5AEC57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572A-4E60-4F09-91C3-5223201CC98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E12D9-FFB1-4CCA-B0E0-DD3701C29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59531D-40F3-4EA2-891B-5C5A126C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C75556-15AF-4811-B2E6-7CADAEBB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E2B81-659F-4F29-B157-A3A5A040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A7A649-BE41-444B-B3BC-5C300F0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2A333-29C0-464F-9F6F-28F08893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26E0B3-621E-4A15-AC13-0D76EE24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03C47E-3527-4683-8E9D-227C4F53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290440-CFBD-4400-9A92-090E65FC1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8CA303-33F7-48E2-AB19-FFBE9CBC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B6923-C3D6-47B4-B71C-AD7F0A85BA2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21DEBD-5B9B-4010-A38A-A7D628A3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CB7D37-5356-43FA-980F-3A1B2592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D953D-0D75-48A3-B56D-9DDA47B3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32A165-C0A6-4346-A6DE-A66259A1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1D1607-1602-45C0-896B-57079EDC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35DD5-580A-4F12-8EB1-0D491478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269F6C-9DD2-4B83-872F-97AF1EE9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B696D-D701-449E-A6E2-7288DDE3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D891B-1D16-4059-85B1-C1378755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9E9CA-5AE6-4407-B21C-017D98CD8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50F08-4704-4C63-BF22-1395C124AE5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695C00-1402-47BC-BB4F-32C8E175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378EEAD-3784-47FE-B146-EC430790D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BB38F1-6F28-4EDF-AC79-451B5400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DDC5A3-33C7-45FB-B843-D3AAEF43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02227A-0733-4578-A317-50C711FE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C68BF4-8A75-4750-92C7-5472C8A8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8B3710-0818-4314-9540-94844AB1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4180BE-6090-45DC-AA8A-2555982A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FD3101-C411-420A-A603-46FE9C85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667704-B6A2-482B-9458-E59769820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39168-7BCD-4579-8E2B-0E286FCD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89080CE-DA41-4630-BBED-741E346F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F2D3A8-AFF4-409D-AE5D-5BC830DA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E05DF38-A6BF-47AF-A826-9B62E4AC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50BAB2-F50E-40C3-B006-BE3E69B5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04394F-ED73-48CD-84B8-4F9E9DB0D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59F54-55B6-4DBF-8391-F5A76CB5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5DC18-6C1D-4765-9FDD-DCFC8C8B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CF24E1-6568-410B-8CA7-BD398F53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FA36EE-8245-4B5B-9EAB-A6B9E062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63616A-138C-46F4-9D18-5CE4B24F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E3F46-7F0E-4688-A1A9-D3BA2A5C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040ECE-944F-4F0C-8149-F53E0616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814934-74AA-413A-A225-479CBACD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A992C6-09B8-4D7F-BB37-69A2F53A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D8579A-E5E4-4379-89A3-334CCF0B6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F9D029-DC4C-4FA6-9525-21748D96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0EB5E-22E0-4E4F-9188-BD047AC8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4455D-034A-4322-98ED-88943C6C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FAF7E-3809-4F3F-856F-8CAB131C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3F8C5-C95A-423A-A854-9ABB26A9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E124C-C243-45FC-A0B4-A8D812FB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BA3F2-51E5-490F-918D-E146C302E6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76735-399F-4886-85C5-04963994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4CB23-FCC0-43CE-A8FD-E5572340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05EF53-83C3-47B9-8D0F-000B2903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426AD-EF2E-402E-86AD-96B219266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443D5-027F-488F-9A66-CDDF528FD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8C14BA-D7FE-43F3-A1D1-CA24EA34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3DACAA-C69A-4CEC-9CDB-92FE651E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F09924-34E1-4322-B75F-603E3B00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3201A-BB36-4980-AA4C-7EFF253F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6E151-2451-499E-B7EC-0DD8CE51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6B56B-4067-4BC0-9A4F-7DA1144418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E1FB79-3AC2-4D28-81FF-D2FD0005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D52BD-3B54-4B36-8055-77DC682C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24B269-13B0-464B-9F71-ABD411DA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FBE073-C59C-42DA-88F6-0AE2F98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2D965-3E22-4F5A-8868-A51D3230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66B659-558B-43AE-B7AA-00281F4BB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A8FBE1-1884-49CB-8DC4-95AA7F8F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59145E-833D-4AF9-B23E-989BC8BFA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B8EEB1-3F53-433B-BC9C-5E9677DD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56FB4B-D4FF-40F0-8E66-5E734F22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1BA3-DDED-4915-9F77-46FEB6AE09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8D520C-9C21-4F26-A57A-E02574A4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86EEBF-8F39-48A9-B628-AF384CD7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CE19F5-CA7D-49E5-BE35-28944A88D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6F2B13-8E7E-4576-BCB5-C9AB538D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A3AA6-3183-452B-90CB-11A00512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F9B073-F05B-44FE-B37A-B0672EEC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839BBB-8273-4AB1-9D0F-D3CF8EC3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50D066-1456-4B00-AC92-56597B8D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52908C-F7BA-45A5-8626-97D95C9C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85CEF-12F1-4C9F-8BEB-5D014772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B132B-E58D-4798-8ABA-DEF1C64BE7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B8C114-AF82-4A7E-B4F6-8E7B3FA4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93E270-B815-4CCC-A2F9-1FB08039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7B4F85-1FD7-4B14-B354-5AA54F41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AC587E-ED6F-4001-AFE5-E5455B5C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3AF585-372A-4DFA-B555-36A77838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05DD88-2B19-4A8B-AF17-C4E7584D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C00777-7868-40D8-A038-3385127D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D39744-D732-4864-BE6B-5B0361D6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91538-83A2-4973-9616-09B26796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165247-3850-4C22-A427-8575E8EE8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B39E7-C1BD-4006-AC09-C08C4ACFC7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C42244-45C3-4A25-8BEF-D3E987EEF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5B4E1E-10A2-4CC1-BB88-606B8061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DCA326-554F-45DA-8750-6C43EFE4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269275-B1B1-4BC1-B950-BC066AD5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21C6AC-B43A-4D32-97B1-73B988C38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D9B17F-1D5E-4613-B63C-B12E5657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35BE2C-F318-4B37-A63C-21A27332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BDB1763-FCB6-40B9-BBA8-25FB1B63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D0B054-0D48-4B39-8212-C8A3A6D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3EF328-E008-47C9-9C4B-1E2EE400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71AE-CBF3-4F15-B6BF-5FF1D5D4E19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6ADD22-188C-43F0-BA73-2AF44EE4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87550D-D6E6-40C7-8BF9-81D27468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744A78-00F9-4570-9BA3-0E098142C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44F908-7C58-4938-895D-0A8ADA091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B22A5E-0FCC-4137-93DB-A57F2991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7E4E2D-33D4-493B-A0B8-B19F31CF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DB5799-CADB-4805-92A8-3C63AA10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6FC0BA-8E77-4645-8DD2-354D5159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516E6A-1B51-4AC8-A4E3-712E2549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78805-C146-48B4-A1C9-7ABFD4CF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A373-CA01-4EAF-B9FE-5791597E01D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C4A061-A10B-4F2E-A8E1-A8A876DB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55BB71-C8DC-4748-A38A-0FA19FB6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09A054-D845-4844-8841-318A3740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CA1688-E7F2-4726-9313-8D93E396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909AE9-2AE3-483D-BA7C-0B67555B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C370AD-87B4-46C3-9E42-468452F2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0DAC87-77C3-4DD4-A571-F76BE583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DFBA47-35C1-46C5-9518-20CBCA943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993BD-1A1A-4E2C-884C-40C3E099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54D898-2DBA-4D7D-A1B5-52788098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7835-56E8-4B51-8056-F2EE340EFA3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61960" y="75960"/>
            <a:ext cx="66294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28BBCA-DF75-4AA8-AA8E-277A29AD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FED20C-4564-471D-9A5A-D2A3EE4E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A6CD32-B885-47D7-902E-CBF4E950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1C2486-C86E-4528-A1DC-498EB64F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C0993A-0738-4099-8899-62F411F0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C16B70-78E3-4944-AA0E-138410D06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7781B9-6C21-4392-A48D-610ABB4C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6A333-7AC0-4631-B780-F03EE587E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F999E-820C-4439-BE93-E4C76896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361960" y="36360"/>
            <a:ext cx="6629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13FDCC-6CB2-4B59-8F5F-46490733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870B4F-46E9-4E1A-850E-1F0F5C010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972FF9-7E12-4ED3-9C22-802A03B44FE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9C0497-75AE-43AE-BCC0-E57A5BCEC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026ED8-3666-4A5B-8E58-644797929CFA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6B722-5642-4172-BCCE-1B0FAC9E1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C76EAE-76A7-45B1-82F2-F5120684B92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9B652-E62A-4899-A397-BD8FFBF6F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CMA_ppt_wDUI_front_bkgrnd"/>
          <p:cNvPicPr/>
          <p:nvPr/>
        </p:nvPicPr>
        <p:blipFill>
          <a:blip r:embed="rId2"/>
          <a:srcRect l="240" t="0" r="825" b="846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COHORT Logo by Toby Cisneros 2 16 2010"/>
          <p:cNvPicPr/>
          <p:nvPr/>
        </p:nvPicPr>
        <p:blipFill>
          <a:blip r:embed="rId3"/>
          <a:stretch/>
        </p:blipFill>
        <p:spPr>
          <a:xfrm>
            <a:off x="609480" y="457200"/>
            <a:ext cx="3733920" cy="1919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41EA5-D4AE-4F4A-A8E2-1B527FFDCCF2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1890D-78B4-4495-A5FA-810612ECB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C7655A-8C67-4078-8196-17F4A3E655A0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674EA5-1F54-4993-BEB9-DA8792672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DD504-FAC9-4309-B636-59B2C908A07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56D3C-B69A-42F8-9205-D6503793C4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9A172-E855-4E76-B205-DEE35C4B61B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42263-58D7-41F9-935A-2C05512A7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A76598-37B9-460C-8AD4-0F4D8B05E0AB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80488-C49D-4485-A1BE-CBDDD534E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14EB5-A28B-4A07-B868-35330BF65541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EBCCA4-FAC4-40BE-AE31-78689136F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0BC4C-66A5-47EB-81BF-2F3E91885184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9452D-15EA-4885-9AE4-D39767440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" descr="CMA_ppt_wDUI_inside_bkgrnd_top"/>
          <p:cNvPicPr/>
          <p:nvPr/>
        </p:nvPicPr>
        <p:blipFill>
          <a:blip r:embed="rId2"/>
          <a:srcRect l="756" t="6677" r="8507" b="0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COHORT Logo by Toby Cisneros 2 16 2010"/>
          <p:cNvPicPr/>
          <p:nvPr/>
        </p:nvPicPr>
        <p:blipFill>
          <a:blip r:embed="rId3"/>
          <a:stretch/>
        </p:blipFill>
        <p:spPr>
          <a:xfrm>
            <a:off x="228600" y="152280"/>
            <a:ext cx="1871640" cy="9622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9"/>
          <p:cNvSpPr/>
          <p:nvPr/>
        </p:nvSpPr>
        <p:spPr>
          <a:xfrm>
            <a:off x="0" y="6553080"/>
            <a:ext cx="3124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APG Senior Leadership Cohort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5EF303-0528-43E4-BE6B-2CFA9F5F110E}" type="datetime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A1DA2-F704-4DAE-862B-306EC1BCE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G Senior Leadership Cohort Program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490644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er Riz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OPM Seal"/>
          <p:cNvPicPr/>
          <p:nvPr/>
        </p:nvPicPr>
        <p:blipFill>
          <a:blip r:embed="rId1"/>
          <a:stretch/>
        </p:blipFill>
        <p:spPr>
          <a:xfrm>
            <a:off x="3886200" y="32767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528" name="Rectangle 7"/>
          <p:cNvSpPr/>
          <p:nvPr/>
        </p:nvSpPr>
        <p:spPr>
          <a:xfrm>
            <a:off x="105552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ategy Focuse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s:  Robert Kaplan and David Nor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" descr=""/>
          <p:cNvPicPr/>
          <p:nvPr/>
        </p:nvPicPr>
        <p:blipFill>
          <a:blip r:embed="rId1"/>
          <a:stretch/>
        </p:blipFill>
        <p:spPr>
          <a:xfrm>
            <a:off x="5118120" y="1521000"/>
            <a:ext cx="3602160" cy="38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Messages from this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and measures drive change within an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s derived from strategy are more effective than metrics derived from tactical (the here and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key principles for building strategy focused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e the strategy to operational te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gn the organization to th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trategy everyone’s everyday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trategy a continu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ze change through strong, effective leade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otes I Would Like To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tudy of 275 portfolio managers reported that the ability to execute strategy was more important than the quality of the strategy itself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rategy-Focused Organizations require that all employees understand the strategy and conduct their day-to-day business in a way that contributes to the success of that strateg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r research indicates that 85% of management teams spend less than 1 hour per month discussing strategy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surement creates focus for the future because the measures chosen by managers communicate to the organization what is important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61960" y="75960"/>
            <a:ext cx="6629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This Book Meant To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79440" y="1650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ng a strategy into measurable metrics is a very effective way to drive change within an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buy in for the strategy at all levels of the organization ultimately can make the strategy more successfu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Mobil truck driv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ncial measurements aren’t every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6T12:32:45Z</dcterms:created>
  <dc:creator>Trish Mooney</dc:creator>
  <dc:description/>
  <dc:language>en-US</dc:language>
  <cp:lastModifiedBy>Trish Mooney</cp:lastModifiedBy>
  <cp:lastPrinted>2011-06-13T12:29:39Z</cp:lastPrinted>
  <dcterms:modified xsi:type="dcterms:W3CDTF">2017-01-05T13:14:28Z</dcterms:modified>
  <cp:revision>21</cp:revision>
  <dc:subject/>
  <dc:title>Leading with Impact</dc:title>
</cp:coreProperties>
</file>