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A1D8-3677-4E28-93BB-0A62A671A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6BD3-45F6-497D-A47A-B3A1863A7F9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B05A0-5DB2-421E-9035-C771241E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67875-3265-40BA-900D-89B93913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0CEF5-28A3-4D04-B550-8BBC97C8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9582D-5D3B-4B37-BE40-F0FE0B0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383C7-D439-4108-A1FE-3AA58165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FDA88-C4CC-4119-AA89-18C8934C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A55B6-68A4-4ED8-B3E3-FE70B049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0D1DC-8A18-432C-AFF3-1937C906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5C919-29C9-4FD0-ACB5-FA3FEDBA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68DF0-AE2E-4747-9BC6-4B8CA836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A06F-016F-4DFC-AF50-7E2950AB150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E9F68-4E80-4798-BBAC-0362A3E8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64DAC-0C07-4864-A09E-8D65A049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E1779-A62E-4550-AFC6-AFA5656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A7890-A1E8-44E1-AC7E-B9A99594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927F0-B081-4CFA-A01B-C9BB1C8C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9C128-2078-4CB3-8607-3629E6AE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4FBD8-BDE8-41A2-9AC7-A3A1B44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F2866-AEF0-44A9-AD88-2C0BB70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44E91-6AB7-455B-81FC-90EF2149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56997-0800-49C7-B0B3-5763808D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2067-F2E2-4981-9A86-C0E5CA17C6E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4077A-ACB6-49CC-8DE9-D5728321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4EC224-B48F-4985-AD8A-6C1B363C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FB779E-46A6-4B16-9127-1DFF4BA2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DA57E5-0A69-48C9-B3BD-6BA04512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E33285-5A57-414C-BF67-A909D58C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255341-F5E4-4417-90AD-EE4B8E74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566D74-062D-4175-BEBB-99650889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60DEF6-E6AC-4577-9C28-96BB19F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088FF5-335A-4395-B5ED-9E1ACB0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8F8C25-C408-473B-922E-C1E4542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9EEF6-6479-496C-A875-F8CCAD97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54D94C-AB85-483C-AD89-379E258F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0FED52-236E-41EF-A950-56000CC8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C4C350-84B2-485D-AE5E-E6DA647D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D8307-04B3-4976-A4BD-4902D717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3A0E5-7FDB-4DDA-83FC-E7AF2115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20295-F745-4BD3-90B2-185E8E38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D987D-29CB-4068-AFA3-010FCBE0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5FBCB-719C-411E-AC49-486A05EB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9E667-F018-4074-825D-D4A55C81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E8FF9-C2A9-4063-8C21-5C349DF3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E6E0E-30AA-4B79-8C22-D1AB3DBB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16607-2785-4A5A-B08E-E4223248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C56B1-2CAC-4262-967A-B9403B6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E1539-0A6D-42FE-9A44-967CD2E3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EED05-DCB4-4CD1-83FF-C5D822A0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DF11B-6F53-4FCF-A562-01571BC5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6975A-541F-447E-8741-B2BDA36F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34D0C-5FCE-458B-BDF6-5796C8E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0227F-0A3C-42D8-A7E2-F3D679C1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0ECB6-7B86-4352-B5C4-6D03C8A6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4D929-9093-439F-A9B6-06CDC90E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AF27-4D24-49C0-BC1C-3D33E0BC4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FDF0E-7933-4947-B3FE-732885B3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E6EA2-8ED6-4C3F-9606-70D3C55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C7F97-0087-4158-A7E1-1D1B32EF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0D75B-47F1-4D28-A5BC-53C63CC6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C68D8-4156-4DD0-B702-E8D58EFF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C6D70-DDCA-47E7-96F8-73871D54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6D9E5-07C2-4D6B-9A50-C72958A6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F53CB-6FB7-4540-BBBF-61A2CDD8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3A93B-9EE7-49A9-A55D-4ABEBB09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A06A4-D07E-4C98-9FB3-ADA8863D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B7F8-DF2A-48EE-9EAD-1834ACB911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6BA2B-7C9B-4CC8-850D-41FCB5B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6EDB1-3C1B-4F18-BBD1-1997C8D1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67CAD-1093-4FF7-9FD8-26AF391C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1FFFD-3B5F-43BF-A30B-8D62F6B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FEB7D-ADC5-4BF4-A2C7-A5E300EF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5EC82-0862-4AA2-A7E6-84E47C12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4D5F6E-F088-41CF-A8C0-523E3012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02D74-52CD-43B3-954A-8BE91E06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5D86F-2F20-4430-B02C-DF53CA02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C92B9-8B4F-44DC-8F62-DC211CE0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523D-1413-4A4E-AD1F-26AB8A545B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FD9AD-BE5F-455D-91B5-EE113820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93192-1628-4016-BEA5-3B7149C9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560C7-C191-469C-8D07-1CE9F17C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9883E-906C-48EE-B0F0-443C7E4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D87A2-B35F-4CD8-8ACE-B0C70A1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110C8-719B-4E20-81D6-72908273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CAB31-FAB6-479E-9718-C241FBC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38B94-9373-4290-BDE2-C688BA16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18390-DE15-45E9-8FCF-794B55B9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CC034-D03D-4149-8EF7-3A2F4A8F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8308-833F-4D7B-AC1B-CD06889570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02483C-85E7-4173-B4B2-5BA980F2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73D72-4660-477C-BD27-6D2CF0DE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160FB-4AB4-4D8E-8736-8242CD35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AA3E5E-AD98-4B0B-A6A6-6CB6C73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DBB5ED-9F7E-46A0-AEE1-E48FFD86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B29CA7-2EAD-43BF-9446-DD6BBF1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B037CD-4116-45A2-A077-C471DB1B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415BD6-AC1D-4B45-968C-9EED699C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87DAC-1D56-4834-ACFE-E2AFBEC8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26C2A3-2C15-4232-BA50-175BBF5A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0471-B100-415E-84A2-EDA20584E7B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6D37F1-6853-4662-8BAD-12651EC5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3C912A-5FAB-47A8-A78A-4382CD14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D6D38-72A2-4F46-878C-81896E65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3F1E2-D86E-4AA8-AB96-F2907031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B8D640-E44F-46FD-915D-42EF949B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ED924-7670-4B1D-AA4F-99838482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815CAD-DEAB-41F9-A925-6F282713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74283-43BA-4570-AA04-2995077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3708F-6936-4B09-8D98-4CDE525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8ABE09-1B30-420D-A7A5-9C897827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5D2A-5B5F-4FB8-8BEF-5FF73797C0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936F5A-904F-4CF2-B85F-66F9463F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AC8130-D239-4AEF-B4B9-F5828AA6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14E5D1-F70D-47E2-A5BE-299686E0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DB1668-38AC-496C-8F6C-CA192E47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A92B96-DD41-4B92-8483-DE433488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EB2A10-CDA7-4DEB-81E8-5D31FD35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E90190-6FE3-4952-B520-675456C0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BEA078-A802-418F-9407-DE0A7FF2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81C0FE-2433-47BE-A05F-3AFD7B9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1D4431-96DE-4707-9D87-0A618FC4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594A-B1B3-473B-AD3F-BE5C2737013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95C16D-C44B-48D6-A625-F75B0B2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9DE94D-A77D-4081-A9A3-FD5CF7A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A8CA75-B181-48F7-8CAE-53D5D5C4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02624D-F3F4-49CB-92F8-23CB3CB1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10E6C8-51D0-40C5-BBD7-6917B21F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68EEB5-CE9C-44C6-A3F1-AA1E0542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F0F4B5-BD6C-4236-BDF2-3D12D44E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661F53-6A12-4456-8747-A9A23BDC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4B9675-7BBA-4D71-8CCC-5D1A81A9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EA6BA3-20A1-4375-A04B-EE54FB71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7302-CBED-4533-AB42-A1BE120BCBE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AAF45F-1CB3-4B9F-9160-ED159B42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571A58-2194-4C7C-B0DC-C617C398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DE1DB3-2941-4E0C-ACE5-4EDD55E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975FA5-6CE0-43F9-828F-3177F7B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A5931-0CB1-4C07-A630-3E516005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7D9059-42DF-4298-B4BC-7403FB60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1A9137-F758-49E8-BF54-EFA4A4D7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A99E4-CD92-4F37-BC1E-74454914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A1DCC-7EEA-4DB6-B720-2C8E6EEC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733E1-8971-4807-81D9-8281C3E2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0C345-6643-46D0-B87B-2785BD284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831A6-F97D-4929-89A9-21A6F0A6C74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54CD4-6BC9-4F43-9976-7487615F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F048E-1300-4FFA-BB2C-531FCEE5406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8DA7F-D645-4B40-ABEE-8CD6C5101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A1D22-F3AD-4667-8290-5C12B50EE95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BB02B-78B5-4EEE-8221-3E71F199A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0" t="0" r="825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E6A4F-037B-4A81-A5A3-BCBE2F32B89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1CA73-16E0-4B4A-8375-6CD3D22E1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6F1C8-A94E-4286-B194-3A9E1358FB2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8C489-F697-460E-8A3E-DC7BC0565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D964C-AEFC-4AE2-8D4D-7738133CBA3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95EA2-932E-4D9F-869B-45B34DC38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16F80-28ED-46E3-815C-437AE131119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95717-27AD-4BFD-8E70-A8F4BC4F3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754E6-2CD4-4790-8833-7CD55D1FF04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D4410-AAE7-40FD-BF50-1FEE0BA1C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4FCC9-8448-4B1B-A53A-B48E65B6F14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61DF6-6ECF-4B0F-BA0A-58DDFB0AE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34335-835C-4DAF-AF4F-A716FF77563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287CE-C52A-4E9F-9C36-07CD3EEBA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A04C5-E17D-48D5-97F8-81E5BB6994F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9465B-987D-40D8-9488-DFD4CB7F9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90644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er Riz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ategy Focuse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Robert Kaplan and David No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" descr=""/>
          <p:cNvPicPr/>
          <p:nvPr/>
        </p:nvPicPr>
        <p:blipFill>
          <a:blip r:embed="rId1"/>
          <a:stretch/>
        </p:blipFill>
        <p:spPr>
          <a:xfrm>
            <a:off x="5118120" y="1521000"/>
            <a:ext cx="360216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and measures drive change within an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derived from strategy are more effective than metrics derived from tactical (the here and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key principles for building strategy focused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the strategy to operational te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the organization to th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trategy everyone’s everyday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trategy a continu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change through strong, effectiv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tudy of 275 portfolio managers reported that the ability to execute strategy was more important than the quality of the strategy itself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ategy-Focused Organizations require that all employees understand the strategy and conduct their day-to-day business in a way that contributes to the success of that strateg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r research indicates that 85% of management teams spend less than 1 hour per month discussing strateg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surement creates focus for the future because the measures chosen by managers communicate to the organization what is importa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79440" y="1650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a strategy into measurable metrics is a very effective way to drive change within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buy in for the strategy at all levels of the organization ultimately can make the strategy more successfu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Mobil truck driv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measurements aren’t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7-01-05T13:14:28Z</dcterms:modified>
  <cp:revision>21</cp:revision>
  <dc:subject/>
  <dc:title>Leading with Impact</dc:title>
</cp:coreProperties>
</file>