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B36FE-F233-4377-8295-5BCA12D91CCB}"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257AC-EB3C-4915-BC58-DBA50F5628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A425D-B262-43FA-8BB9-1BF5B1C434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D4CDDB-50B8-45B8-B2CD-FB3178E54D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2D062-BA18-455E-BEE9-4726477F2C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9BA7157-F126-4AF2-A595-BA19462886C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1F89915-9420-4A2A-8717-067402E44BF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2B37C0B-15DF-4EA3-8580-0B0A42EC533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FBDEFF3-723C-4D3E-ABD8-A9284A536E5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0F9DF61-E3B5-46DE-8A15-730F3E7EE77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D3E2B9F-32B1-44ED-BD0A-E92BE9C56F4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D1E0D52-2A9D-4654-9F62-ABA67FE0D18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056322F-0EF5-4E13-8F6D-3B49B0A0DFD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9278DC5-982D-4FEA-B09E-B1D7EFC8FBC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DBBDB32-67EF-4DA2-BF18-754688858EF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08C02B-5840-4EB2-946B-882D3DD1BE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91EBB9C-044A-49F6-A22E-CF6A158AC76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BF1E826-C7EB-4191-8D59-CE3F7B79A76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4D1AC24-0CD6-4C5A-A43D-5AC8240F7FE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190218D-4E57-4E1C-9A3B-FB19DA91C39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A4DC4A7-DF60-48AF-B9B9-27F2604F444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225CBA7-C133-4932-ABF6-F30ADBDF22F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0A7E410-4A58-4DEC-9937-2212FA074D0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88E81A6-6C54-4F62-A4F7-8436F37C26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4047A32-C2F2-4E3E-9256-CCC875C961B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DF7DF4E-2287-4B78-8E93-900BDBDC04D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E52607-A0CF-4CD4-946F-829C62FA9FA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11A706F-C894-464F-900E-83A8EB9BAA2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580B0D2-E417-4347-8DE4-BED393A579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16FF6ED-6D73-4DE3-A15C-1A5E81B2F5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E969A58-57AD-4133-87B3-5F16481DAD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97083C1-366E-42CA-88E1-8CB3E96EB2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7243A06-45B1-4CE5-9A3A-C940FB7187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C4CA2CC-90BD-407A-8513-165B138390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EA295E6-D038-4331-9EA9-B9993B904C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6F67736-4B1B-4E52-96FD-C2F0ACFFEC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ADF9277-E76E-4D16-9F42-96AE8180B2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F180FE0-3982-4AFB-8468-2738BB9E1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20E05DC-FBAF-43F1-9405-DEDBA55E7B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3EEC8E2-578E-4025-92AA-C207A87A20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05D8BA8-571B-4F31-A493-CB99FC6537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071B623-FA9F-4535-B4CE-25F611897A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94D7394-0B96-4B32-AAB8-F96D88E523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D5519DE-A46C-4DF8-ADD7-35090901DF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A753B0C-4250-4050-9167-99720DE93D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95C27DC-D130-4846-87B5-8716E5875C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853C148-D3B3-41DB-A36D-0851EB2945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0B216DF-2BFD-46DB-B3C8-E84128B77C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E42F8E-0411-4F5F-8B77-3EB7CA954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1B6522A-7873-4EF5-AF60-803A406D02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E1DCC5E-CBF7-4284-8342-4485686471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2DD5A27-B14D-4635-9BBE-673F947C1A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CF35D2A-B461-45B8-9069-86C0C10CD0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3A06B2C-8B88-48AC-8DB7-9BE0560A69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20BD27-915B-454A-A026-E5D6ED08B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E6921B-10D9-4B7C-B08B-24F5557DD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BDDDB6-260D-44AE-9637-2F80A13CD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018726-56C8-4C46-B07A-A32B17A5A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733C44-A371-4BF0-90E6-D7BEE3B906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3C89-5946-4595-991D-AEBFBD8719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29AD16-7707-4935-ACAC-C87350D42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EDC1C0-8C38-40FC-9773-799A2004C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A1E3BC-3CD5-4E75-967E-BBF9AD0CE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0DA3A25-9D84-4138-AF40-2DBC772953C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BF2787-E53E-4D8C-A336-7CE75870D93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6058895-1406-4B1F-BD2F-8A7242E474E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E068D68-7DA8-4ED6-B855-2F6AC00B3C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DC0E4B9-9FF7-4881-933F-D28C6C34EC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C75D31B-6D2B-43DD-B28A-ACE6B317401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8A8B532-2954-44BF-A6D0-ACE5FE87E8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3077-4A46-4700-8071-97E0959EE7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BB18018-7BA9-4696-9641-D9D056F877C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CF90A1B-E3A4-4602-BF44-4569FFCA62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1984596-1A9C-46AF-A4DE-F22D05C3DD1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2E0EEE2-4382-4B76-A0FB-70A83CF46F3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24EEA65-3DD4-48F0-9D3A-FB6EE60CAB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BE57F72-D5C8-4D66-8DD0-3FC70F9144C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D4E12FE-D187-4582-BDFE-8489C7CEA62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825634A-5A23-46F1-B262-41FE3A7B177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2369D08-2744-4CAB-B4D9-72216C21284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B69B1C1-94A6-4871-87F7-FC664545302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578B1-2F5F-4BD0-AE80-A0BF3F6E5F7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F51C941-65B2-45D4-81BD-FA1EC9B6E92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6ED3A8D-6C6E-4135-9E93-82CC6FFA70A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C9EBF46-3BB1-4935-B03F-F3DC739BD4D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EEFE0CC-6EA0-40CA-8F6D-9A51B9620A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DC9BF50-DB8E-44F0-80C5-EB534232969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7E9BCF2-C883-4B9D-A50E-633A89534DD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6D824A7-A43B-4BD5-AD2F-58706E9E8F0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AAF0C86-4FEA-4974-B8E8-F0F96050774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323018B-C84B-4320-B1BF-22210ED0095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EA2AE6A-9F1E-4BE0-ACEE-A7B7EF12BBA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802A4545-6399-4363-8023-01AC8AEC14A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166DCA4-1415-4ACD-BA16-F7701289EB9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BA82CBA-D775-4D9B-A48C-40ABE5055F2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D301222-3EB1-44E3-B999-EEE771BC08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3A65A51-A044-42E4-97FA-212EC26AA51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EF8E7D4-EE30-4C80-9D46-3FC4CAF90A6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C8DE838-96C1-487F-9285-EA2249C1C8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EF64368-6BAB-4B80-982B-64F138173E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E8BDB32-EA17-492C-BD70-70F0767EA1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CBAB19C-4A31-467C-BFC2-E9F65993B3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82DE676-F095-4398-96F5-EEEDA29E759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4C349DD-2558-47D7-BC14-A00AC75745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636CA24-6E85-45F5-A76C-617DB77DF6C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6C4770C-27A2-4967-BE24-782062937E3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A89F51A-A95D-451A-9571-9A9D87CBE83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184ABC8-4DD3-4BA9-9C48-21344C22293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5529B9E-679E-40A3-8D2A-A6AE51EA1D2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03112ED-6F36-4B7A-A98B-703EE836DBE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15AE3A2-C5C1-451B-82A7-2103C253204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D203E5B-EC07-4CBB-830C-7CD1C50432C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866E370-E74F-451C-B632-A07FB1705B8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D462674-448B-48D9-9CCC-33C50DB2B68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E8BAE-41E2-4A97-99FB-D69A18A09C7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7AEF8F2-E970-4B55-BE43-6B31D0B9290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C155D7E-4FDD-452A-9112-01D13345E85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E5DA743-7519-4FD1-B0BE-E509DE6536A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BE43669-187A-4D9A-9C34-61BDF9F3B62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604967B-A100-4C22-9D2F-688A43EFD94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1C6F710-5ACC-4EE9-B995-551132F9D3E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2DEC1E5-1326-4520-8A1B-E7ED05D2603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D322ED2-9DB3-4E44-BB9C-FF5B9587014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FFB573D-55AF-4F26-A7FD-81A5FA4710D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1BE5566-64C5-4A0E-8C4E-F56D9234C25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6E969-6DE4-49E0-A32F-2749301F91D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1FEBFC3-D13B-4472-B0C4-3D60E872298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7AFF298-03AC-4F27-872D-176A10FD287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8577C4E-E5E3-4257-A9D7-6970779EA65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CB91B37-0CD0-407B-8DE9-4571D083C6F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A53B20E-005C-480F-B6A1-ECC1C3CE3B0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14AF85F-C615-456E-B2F9-89B66E4259F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F2381C3-5F55-4209-87DF-3FAEA8329D9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4215285-8444-422F-B91B-C826D6B464B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FA6972F-681D-4EA2-BCAA-0F660C9DD8F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0C796ED-8B02-487A-BFF4-7C35092BD91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4F6FD-0943-493C-9B74-9E510E4B7AC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49631F2-A67D-46A5-8996-C1050851E83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A0F1EF0-673C-4AD2-AC92-A0FB7B0B5C5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4E5E5AA-E423-433B-9D53-F5E2BC9D245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8DBFFE7-6225-408E-9B1F-437F8C32032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C7E8F53-9B04-4D16-ACCF-36FDA4A239C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0896CBC-31B4-4453-AB43-BEFFA7A2BD7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40943BF-F4E6-4258-B31A-1F4517E69E3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B9ABEC0-4843-427B-93DD-2843C00584E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70B950B-9D21-4AA7-8E5A-C924BFF676E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47FAD31-E0CF-4595-955C-EADBE63AE8C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7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B496B-F9C4-4368-B7B3-913A49A9B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5BE93-1765-4261-B7A6-ED30F54B0717}"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E50F2-E1C2-4270-B88B-6628211D4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40F56-C0B1-4DD9-AF92-82242AA7277F}"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BE032-22A3-42B6-B417-C03BADC20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0E75B-490D-4CB6-BC75-F61F8CECA5E2}"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8F9EE-C9AB-4DBB-B96D-30FC1F1E4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0" t="0" r="825"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DE0E3-28B3-4705-8B38-C88DEA7C24ED}"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B22C7-AFBB-4F9C-86C8-FF864AB75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BE958-57C3-423E-BA36-D948B892B6AC}"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8B8C7-0C1B-4614-9188-653C581B4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C0F42-CF10-40EA-9CFF-70F4A073DE48}"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E6627-FA7D-4FBE-AD9C-1411E15E39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6CF1F-57EA-4208-BCB5-EC1D0C548F0F}"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184CD-6216-4F9B-A949-DEFA18C82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360D5-362C-4CDD-8CEC-5AF9F5A4EA8E}"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709AA-13DE-4C63-A595-D4BADBFA2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726D6-C77B-4F40-A64D-DBE611EB9E9E}"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C30B4-4356-4567-BDF4-07837198C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C104E-B3C2-4542-85A4-58E74B8E4C3F}"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7462A1-C56C-420D-A54E-C1CCB6D31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FCF56-CAFC-4D95-B637-7DE3F7DBCD82}"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B51F4-D9C7-43E8-ACAA-2C008BD702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6</a:t>
            </a:r>
            <a:endParaRPr b="0" lang="en-US" sz="2800" spc="-1" strike="noStrike">
              <a:solidFill>
                <a:srgbClr val="000000"/>
              </a:solidFill>
              <a:latin typeface="Arial"/>
            </a:endParaRPr>
          </a:p>
        </p:txBody>
      </p:sp>
      <p:pic>
        <p:nvPicPr>
          <p:cNvPr id="533" name="Picture 4" descr="OPM Seal"/>
          <p:cNvPicPr/>
          <p:nvPr/>
        </p:nvPicPr>
        <p:blipFill>
          <a:blip r:embed="rId1"/>
          <a:stretch/>
        </p:blipFill>
        <p:spPr>
          <a:xfrm>
            <a:off x="3886200" y="3276720"/>
            <a:ext cx="1371600" cy="1371600"/>
          </a:xfrm>
          <a:prstGeom prst="rect">
            <a:avLst/>
          </a:prstGeom>
          <a:ln w="0">
            <a:noFill/>
          </a:ln>
        </p:spPr>
      </p:pic>
      <p:sp>
        <p:nvSpPr>
          <p:cNvPr id="534"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5" name="PlaceHolder 2"/>
          <p:cNvSpPr>
            <a:spLocks noGrp="1"/>
          </p:cNvSpPr>
          <p:nvPr>
            <p:ph type="subTitle"/>
          </p:nvPr>
        </p:nvSpPr>
        <p:spPr>
          <a:xfrm>
            <a:off x="731880" y="4754520"/>
            <a:ext cx="7680240" cy="1006560"/>
          </a:xfrm>
          <a:prstGeom prst="rect">
            <a:avLst/>
          </a:prstGeom>
          <a:noFill/>
          <a:ln w="0">
            <a:noFill/>
          </a:ln>
        </p:spPr>
        <p:txBody>
          <a:bodyPr anchor="t">
            <a:no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ＭＳ Ｐゴシック"/>
              </a:rPr>
              <a:t>Book Presentation</a:t>
            </a:r>
            <a:endParaRPr b="0" lang="en-US" sz="23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y</a:t>
            </a:r>
            <a:endParaRPr b="0" lang="en-US" sz="1800" spc="-1" strike="noStrike">
              <a:solidFill>
                <a:srgbClr val="000000"/>
              </a:solidFill>
              <a:latin typeface="Arial"/>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ＭＳ Ｐゴシック"/>
              </a:rPr>
              <a:t>Laith Toni (L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isible Employ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Adrian Gostick &amp; Chester Elton</a:t>
            </a:r>
            <a:endParaRPr b="0" lang="en-US" sz="2800" spc="-1" strike="noStrike">
              <a:solidFill>
                <a:srgbClr val="000000"/>
              </a:solidFill>
              <a:latin typeface="Arial"/>
            </a:endParaRPr>
          </a:p>
        </p:txBody>
      </p:sp>
      <p:pic>
        <p:nvPicPr>
          <p:cNvPr id="538" name="Picture 4" descr=""/>
          <p:cNvPicPr/>
          <p:nvPr/>
        </p:nvPicPr>
        <p:blipFill>
          <a:blip r:embed="rId1"/>
          <a:stretch/>
        </p:blipFill>
        <p:spPr>
          <a:xfrm>
            <a:off x="5451480" y="888840"/>
            <a:ext cx="3606840" cy="567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T” clear values and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E” behaviors towards val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ELEBRATE” behaviors with recognition and make it personaliz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lented employee will be the first to “blink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incere! Be a Se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2" name=""/>
          <p:cNvSpPr txBox="1"/>
          <p:nvPr/>
        </p:nvSpPr>
        <p:spPr>
          <a:xfrm>
            <a:off x="158760" y="1372680"/>
            <a:ext cx="8832960" cy="532476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Great leaders, you see, lead people – not systems, processes, technology, strategy, or functions. Because, when it comes right down to it, all those things can be replicated – but your people can’t.” pg 8</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As a leader, its important to remember that specific, frequent praise isn’t the warm and fuzzy side of life, it’s an essential component of leadership. It’s an essential in creating a great work environment.” pg 33</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Today’s See-ers don’t see the future. They create the future, by seeing people.” pg 44</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hat leaders like Studer learn about their employees (their fears, strengths, weaknesses, wants, and needs) gives these managers the ability to motivate effectively and strategically channel employee efforts. That’s why it’s usually true that behind every great employee, you’ll find an exceptional boss.” pg 5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Recognition is America’s most underused motivational tool.” pg 79</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4" name=""/>
          <p:cNvSpPr txBox="1"/>
          <p:nvPr/>
        </p:nvSpPr>
        <p:spPr>
          <a:xfrm>
            <a:off x="457200" y="1599840"/>
            <a:ext cx="8229600" cy="3933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is a lot of talent in employees that we just don’t recogniz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hough we have limited tools, we still don’t utilize them as often as we should to recognize or celebrate. The book actually lists 50+ ways to recognize achiever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book hits close to home when I reflect on the past and presen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minds me of the balcony and the dance floo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7-02-09T17:32:02Z</dcterms:modified>
  <cp:revision>29</cp:revision>
  <dc:subject/>
  <dc:title>Leading with Impact</dc:title>
</cp:coreProperties>
</file>