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E49AF-5D6C-4601-A7BF-97C2B6511E6D}"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34A87-1290-472B-A91D-B71F1DC4594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F0D55-24EE-409B-8040-D3EA32856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43DBEB-0F43-45B4-B1B7-3A4F788B26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EAAF4-1280-4C74-8F98-7FA4C64DFD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1B9D38E-101A-4939-AF71-D31475BE26D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933DDB7-3FDF-45F8-AC05-79246170BC9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EA60522-937C-45AB-8A93-A0A068853AE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7826832-2B31-4377-A40F-0A8D36902E5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679931A-2D34-46EC-BD00-FFEFF4F479E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017DC6D-BB46-4B76-9733-64E9D15CD17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0836059-D41D-499F-A313-EBD469C7F4D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BF645F7-5CC5-4617-A9A0-FE505055AC8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4388EAD-0F81-4291-AD2B-6FAEBBAE21E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E621019-9846-45E8-B4AE-821EB6AF7CC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264D36-3DE1-4089-BDD9-A2B0F883B13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980CA96-6A32-4739-ADD4-ADC2403B5B1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3CB5135-1BC6-4FCB-BB11-B2DD1265445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7CF126D-417F-4BFA-97BA-307BDEFF148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B59CFDF-205B-4358-A49C-E4E7B1CA1E1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3123B7B-16E0-4B8F-A874-C68CC4AA1A4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64DD7F8-1F10-48A6-B4F2-0792636E692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35B2A48-E046-4310-9A45-0C8C081FC0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CBEACED-3AF1-41C3-8823-7C0D95B595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21B3EC0-F186-4A02-9AA2-A2FE1DDEF84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2A288CB-42BF-42DD-B866-1E329776748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AE638-F29D-42EC-AC82-E205CCAE0B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C38471F-8213-4F2C-8859-E677B15AA35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92F45BD-FC89-455D-821C-41B3277F74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341879F-8BEC-4B13-86CA-CA871873FD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F80CB15-A80D-4230-B576-D2370772AD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EB6D036-BA59-4763-86C2-F4663B4F78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B892876-9BE8-4123-A627-72E6B8B1B4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F817628-7B7B-499A-A04A-0D9F91B254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5950CB3-CC2F-4462-B958-411C75A21F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994B260-BF84-47C4-BA66-B42EAECEED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DE59935-C2A2-44D9-A5A9-C36FC1C4AF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9DE892-FEB8-4111-B143-4EC7B7CA3F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C72C2E7-ED04-44AE-B1DB-66EC2B5A7F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772C4E4-148C-4743-9AEA-101E11CFA8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3F14065-39C2-466D-AAA4-1C232D6474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AAC3904-489A-4402-8A58-2FA6768006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3FAADC1-3D5C-437E-8B0A-65F67FD2FB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7CF56D5-73FB-4378-B5E6-97AFCC81F9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52523D3-D3D6-44B6-8094-95EB9A00C1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D7FE85F-0D8A-4FD1-B4CC-FEF12019FE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B42B2E9-861B-4D52-BDDF-2C87F3082C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A92063C-0977-4698-994E-BF204A321E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29F84E-3D19-4272-AB4D-9E18BD088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6F6E137-AB6B-4559-9FB4-22864A23F6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950613E-F2D5-4BD3-BADD-576F401EA8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E3DA745-0805-47EE-B496-4439E754CE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E2A6255-CD5B-498C-9C68-77B3C343EA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65BA035-A2BD-40BE-A6D3-2B5C90A26E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DF87CF-5092-4132-8364-2A7FC51D4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1787F0-35A5-43E8-B512-6E925EE18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807156-B25F-4A4A-896E-0BA6022B3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110635-5DC3-4340-A2D3-FB173EC1B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C169E6-E608-455F-86E1-895B8AD018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0DB13-8A50-45B8-959B-0B538FE86C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FBA852-BF62-4A79-BD20-3BC9324C5F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087425-AABD-4D3C-827F-57806E36D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DC348A-4CCC-41CA-A131-62BA80A68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82317C8-6958-413C-A6BC-1EDDD0AFE89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B8AF50-EB92-409B-84E1-12D1B903D8C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FB93E0A-0F43-472B-B430-B7D1E075CBE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4EE4169-BE0B-4507-999E-8D44A89682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8E6D03E-F6C7-4CD5-BD17-4A775F2712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A0C671-8D9C-48FE-A3CF-F018875F16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09CA080-77E0-4D0C-B3D8-AF2AD973BE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0FE10-CCF8-466F-9EA3-3340E17CAF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B0A265A-8E9A-44D2-9495-54655E67ECB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AAC214-5C9D-4631-BCEE-408493A0FDB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BA30019-B7A0-4485-AD5B-ECE4EC9D01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36A2BCD-5A90-4B85-A208-4E6059A0E78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614055D-7243-4202-9758-D506628759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566D22D-BFF6-4BE1-A00F-476FD8DC7DE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9197153-0901-4B14-9F80-24EF64E0FA2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B30A99A-5654-423B-AC42-CCD9DDF0FC1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792D9AF-E690-4A9F-812D-95B4FE518C8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C872699-BACA-4757-B595-3672F6C44CD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0A871D-DDB3-4BAC-9E36-EDC8FC8D8B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5C04CFE-D1B8-4535-99E8-BBBFE841E4C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7927712-B7D7-47C1-9F1F-69F97220A61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D8F443B-CC2A-41A1-8A6E-A9DA8CB806A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E16371-E587-4DD2-96E7-318B011278E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4C29A2D-E13C-4C6C-B73A-37AB4705E95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333BCF-E074-4C1C-9426-2999122B399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062634D-D382-48BA-A49E-C79DDE0298B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2C367FD-6AE0-41AD-8A95-CA890DD4ACD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EE3F66C-1852-4D32-A909-1157CE4DF44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2B09367-0DDD-419A-880B-A0D073A84FB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086BC26F-E8FB-44E4-AB3F-BA90F64D619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55082F7-C056-49AF-BAD0-5629D545293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F6073E7-9EF0-4FBB-9424-12513238178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D24ACF2-50B7-423B-BBA1-6BF2FDF8A8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B140061-42A8-4EF6-9BCB-52FCE479BB9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EA88D1C-4C39-4AC3-A78D-FFAC238E528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CE37657-5CA9-4577-A27F-745F80FD39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07AC384-5362-42D9-BCB4-5C060667B3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B707B83-DAF3-448E-B564-D4353747484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CFC7C0D-B9F4-4415-B17F-84F1F8F46D9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993A918-156E-4CC1-A39B-5DD2B932447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898FD98-A499-4AB9-B5F3-39FDAA9468F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9DFFD16-54FE-485E-81CE-92ADE72E7C3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7205CDE-48EB-4620-9AEE-872F39670BA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F209E7F-A5A0-4616-BE3B-238CBBF4C31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3BE9F26-A565-4002-8BF4-FF7B411D498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0A3FFDD-BACC-4CEF-AB51-A6C73F88944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1965E89-4537-4AA0-AF91-1B29FFBA722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375BB62-0B39-46CF-A058-57E27300CDB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044296E-3CD2-4824-8835-9466EE4E096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D6B67B0-8AC8-43C1-843C-114F88D9DAC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D757E0F-AA3B-418B-9C8D-25903DBAEB7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D6BA9-8434-4794-82EA-4B8835A26E7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C89B848-7DDE-47C4-A7A1-BC4D3638D90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FE22A31-8EF2-4792-A2CD-17A372ED924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C40AD00-0B9F-49C2-B028-D77C954DF32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74C9EBC-F67B-4FCC-A340-622F8F49819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95177F0-6803-4CDC-8AA5-37FAE76F109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3A5AAAD-060E-4B4B-8100-A044832C368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CC024B-E56C-4481-A754-711A4FEBC01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9CEC5FC-A952-403F-A1AF-8E4FC920F50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0A174DC-7772-4449-A21D-78A98E5A4D8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770C2D5-C926-4A6C-A708-F65388B0159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5E3D4-7FA6-4A61-8F42-A00A3B399E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441553-4129-497D-BF22-DE767D36738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46E43BB-F76E-4AB2-B27F-5C5821434CB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74F6DF1-ED00-4748-A1D3-8B804864E3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27311CA-F1FB-480A-B3E9-E8F329041B5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0078783-8C08-42AF-A437-3FDB4FA2375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D01DE34-8D82-4F02-93C5-32C4E1BED04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C219EC7-414B-48BE-9131-054B240F959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BA39E07-AFE8-4069-836C-148E411F11A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55DC206-FF74-442F-BD5C-97BAAABC3E7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4A5DF22-E599-469B-A5A4-6A128FAD500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393E1-BB9B-4F7C-844D-110C9F797C9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362CA99-F441-4B43-B468-A7A5EE70641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ED46679-01C2-4E63-B9A5-475F886D444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F0D41CD-D4C5-4EA1-AA2F-F4136012B84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DDDDE3-AAF2-4AE4-8731-FD30735554C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E4DF8DA-E72F-4FE2-9377-904E81E79B0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218FA1C-E378-4861-A6C9-89E07FCC040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6730414-ED41-413E-97A7-4BC89A08501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D774CCA-6958-48F5-AFE1-FC07BDE05D4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563C3C5-0015-40AC-83FB-DCC6C51D673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81D1A70-4B12-4775-834C-9422C09BA3F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7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A66CF-34F9-45D3-8CDB-A3D632B090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6AA93-C59D-4C9D-80CD-7562ACEC64FA}"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A8539-66C8-4707-B1A0-58AE2BBDB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A6F7F-CB60-4C01-87C8-FA663A003679}"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CB87C-F29F-4490-A457-E8965BF03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519D7-4042-4190-8361-4BF69ADDB70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50971-3E4F-4B85-B8EA-CBAFFDB55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0" t="0" r="825"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0A054-E5EF-43E4-9A07-1BF32C48CA89}"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81ADE-BF08-4534-893D-5FBE26D34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99303-9D60-404A-A172-FD98A4FEBBAC}"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3539F-5DAC-4EB7-A129-E3D9C4682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4B5A8-80D2-4CD6-9FF6-C7E40277B508}"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6762C-5022-44C8-8AC4-33AF71E0D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9CF18-2897-4E9D-9B4A-B5899909CDD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37583-D933-44EC-9AE2-AA4CA2232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2F7A0-3C68-417A-9E71-719D227E6FBB}"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B0EF3-307C-4147-A101-BBF0BAF08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CDECC-7675-40C3-B703-1F4B7D04D204}"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0E408-440C-4B2B-801B-326D4D62C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8E0FF-27D8-4613-B5C4-6026E99BAF79}"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77D32-52C9-4208-B244-AC43CE9C6D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2E789-A691-4742-A05D-3D89D80FEB8A}"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3A4C9-B4B6-45F8-9164-11954B4B8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6</a:t>
            </a:r>
            <a:endParaRPr b="0" lang="en-US" sz="2800" spc="-1" strike="noStrike">
              <a:solidFill>
                <a:srgbClr val="000000"/>
              </a:solidFill>
              <a:latin typeface="Arial"/>
            </a:endParaRPr>
          </a:p>
        </p:txBody>
      </p:sp>
      <p:pic>
        <p:nvPicPr>
          <p:cNvPr id="533" name="Picture 4" descr="OPM Seal"/>
          <p:cNvPicPr/>
          <p:nvPr/>
        </p:nvPicPr>
        <p:blipFill>
          <a:blip r:embed="rId1"/>
          <a:stretch/>
        </p:blipFill>
        <p:spPr>
          <a:xfrm>
            <a:off x="3886200" y="3276720"/>
            <a:ext cx="1371600" cy="1371600"/>
          </a:xfrm>
          <a:prstGeom prst="rect">
            <a:avLst/>
          </a:prstGeom>
          <a:ln w="0">
            <a:noFill/>
          </a:ln>
        </p:spPr>
      </p:pic>
      <p:sp>
        <p:nvSpPr>
          <p:cNvPr id="534"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5" name="PlaceHolder 2"/>
          <p:cNvSpPr>
            <a:spLocks noGrp="1"/>
          </p:cNvSpPr>
          <p:nvPr>
            <p:ph type="subTitle"/>
          </p:nvPr>
        </p:nvSpPr>
        <p:spPr>
          <a:xfrm>
            <a:off x="731880" y="4754520"/>
            <a:ext cx="7680240" cy="1006560"/>
          </a:xfrm>
          <a:prstGeom prst="rect">
            <a:avLst/>
          </a:prstGeom>
          <a:noFill/>
          <a:ln w="0">
            <a:noFill/>
          </a:ln>
        </p:spPr>
        <p:txBody>
          <a:bodyPr anchor="t">
            <a:no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ＭＳ Ｐゴシック"/>
              </a:rPr>
              <a:t>Book Presentation</a:t>
            </a:r>
            <a:endParaRPr b="0" lang="en-US" sz="23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y</a:t>
            </a:r>
            <a:endParaRPr b="0" lang="en-US" sz="1800" spc="-1" strike="noStrike">
              <a:solidFill>
                <a:srgbClr val="000000"/>
              </a:solidFill>
              <a:latin typeface="Arial"/>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ＭＳ Ｐゴシック"/>
              </a:rPr>
              <a:t>Laith Toni (L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isible Employ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Adrian Gostick &amp; Chester Elton</a:t>
            </a:r>
            <a:endParaRPr b="0" lang="en-US" sz="2800" spc="-1" strike="noStrike">
              <a:solidFill>
                <a:srgbClr val="000000"/>
              </a:solidFill>
              <a:latin typeface="Arial"/>
            </a:endParaRPr>
          </a:p>
        </p:txBody>
      </p:sp>
      <p:pic>
        <p:nvPicPr>
          <p:cNvPr id="538" name="Picture 4" descr=""/>
          <p:cNvPicPr/>
          <p:nvPr/>
        </p:nvPicPr>
        <p:blipFill>
          <a:blip r:embed="rId1"/>
          <a:stretch/>
        </p:blipFill>
        <p:spPr>
          <a:xfrm>
            <a:off x="5451480" y="888840"/>
            <a:ext cx="3606840" cy="567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T” clear values and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E” behaviors towards val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ELEBRATE” behaviors with recognition and make it personaliz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lented employee will be the first to “blink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incere! Be a Se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2" name=""/>
          <p:cNvSpPr txBox="1"/>
          <p:nvPr/>
        </p:nvSpPr>
        <p:spPr>
          <a:xfrm>
            <a:off x="158760" y="1372680"/>
            <a:ext cx="8832960" cy="532476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Great leaders, you see, lead people – not systems, processes, technology, strategy, or functions. Because, when it comes right down to it, all those things can be replicated – but your people can’t.” pg 8</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As a leader, its important to remember that specific, frequent praise isn’t the warm and fuzzy side of life, it’s an essential component of leadership. It’s an essential in creating a great work environment.” pg 33</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Today’s See-ers don’t see the future. They create the future, by seeing people.” pg 44</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hat leaders like Studer learn about their employees (their fears, strengths, weaknesses, wants, and needs) gives these managers the ability to motivate effectively and strategically channel employee efforts. That’s why it’s usually true that behind every great employee, you’ll find an exceptional boss.” pg 5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Recognition is America’s most underused motivational tool.” pg 79</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4" name=""/>
          <p:cNvSpPr txBox="1"/>
          <p:nvPr/>
        </p:nvSpPr>
        <p:spPr>
          <a:xfrm>
            <a:off x="457200" y="1599840"/>
            <a:ext cx="8229600" cy="3933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is a lot of talent in employees that we just don’t recogniz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hough we have limited tools, we still don’t utilize them as often as we should to recognize or celebrate. The book actually lists 50+ ways to recognize achiever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book hits close to home when I reflect on the past and presen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minds me of the balcony and the dance floo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7-02-09T17:32:02Z</dcterms:modified>
  <cp:revision>29</cp:revision>
  <dc:subject/>
  <dc:title>Leading with Impact</dc:title>
</cp:coreProperties>
</file>