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7" name="PlaceHolder 2"/>
          <p:cNvSpPr>
            <a:spLocks noGrp="1"/>
          </p:cNvSpPr>
          <p:nvPr>
            <p:ph type="dt" idx="3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D8B881-8922-41F8-B4E9-AF6F7AF4BE0A}" type="datetime">
              <a:rPr b="0" lang="en-US" sz="1200" spc="-1" strike="noStrike">
                <a:solidFill>
                  <a:srgbClr val="000000"/>
                </a:solidFill>
                <a:latin typeface="Calibri"/>
              </a:rPr>
              <a:t>07/31/26</a:t>
            </a:fld>
            <a:endParaRPr b="0" lang="en-US" sz="1200" spc="-1" strike="noStrike">
              <a:solidFill>
                <a:srgbClr val="000000"/>
              </a:solidFill>
              <a:latin typeface="Times New Roman"/>
            </a:endParaRPr>
          </a:p>
        </p:txBody>
      </p:sp>
      <p:sp>
        <p:nvSpPr>
          <p:cNvPr id="5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5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0" name="PlaceHolder 5"/>
          <p:cNvSpPr>
            <a:spLocks noGrp="1"/>
          </p:cNvSpPr>
          <p:nvPr>
            <p:ph type="ftr" idx="3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1" name="PlaceHolder 6"/>
          <p:cNvSpPr>
            <a:spLocks noGrp="1"/>
          </p:cNvSpPr>
          <p:nvPr>
            <p:ph type="sldNum" idx="3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A2B53B-D873-4D48-B4F1-39A476DD24E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159F74-ABD2-47A7-A157-289AF3955E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93D09E-B7B3-4FDC-81F1-359DB0970E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3DA02F-8EB1-4BBC-8CD9-DD583BBBDAF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EEDAB40-094B-49A2-8FF8-E30B460F3B0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264CB02-2BDF-497A-9E5F-0630ACB0224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EF1ED40-69EE-47BF-A345-C1DA1D5C0BC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3699203-3BE0-4714-9C91-CEA437F650A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A7D2F7D-CAE6-469C-810F-5BA2AB9E9BE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6BC8DF5-6395-485B-A6B9-D0AD33262A6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1189116-6A4D-4493-975E-B1564490C54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E6E81222-C7BF-46F7-ADA1-F25C6EADE006}"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C3B25912-0F0E-4F6B-B19F-C303D258D09B}"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45FC8D1F-C1C2-4DB3-86EA-E321121E103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11E101-D8F6-4343-977F-D781BC5123F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2C5E222-8F38-499C-8DD1-6D8F06CAB3F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5688B61-9CF1-4C24-A043-44B27448100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B5CF795-2C12-4A11-A115-E4F47CD46DE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BAB28AC-74AE-4E4A-8504-C60B372AF84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71070D9-1F6C-40C9-A785-93158172E95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E93184D-EDCC-404C-82B9-3DE94AE4853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278F3AC-EDC1-49DF-8D1C-53D6F7210AE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4561FC8-2BF0-4908-83A5-64DCFA46130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5A391E2-F476-4618-A830-55CD68521A3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D7A3BE59-7BC4-43BE-B10C-F88F4C7F744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CC3118-D5EB-4D68-BC15-D0737CA46E8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CE045140-FDAE-410F-8711-9D2C05E90D6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55A43976-891E-464C-BF03-B4D901C26EF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957AA0A-CFFF-499E-9723-4EF027CAE7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C820585-183E-4C56-A1F8-3956092839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230E43B7-2958-4797-B5F7-F98CDC5723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FB02BB8-7AED-4AE1-AF83-4AEAFF52E0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077E9BB-D7EF-456C-AEDD-F9501801BE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51E08C9-7BA3-4F7A-839E-95723AB2E4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717FA49-25EA-4E9E-9549-338B43C136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EA20FEE-1CBF-48AE-A60B-CEE82406C4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42CB0D9-9D0C-430F-BCFD-287E1C5438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44E15125-A04F-429B-9747-993A91CEF7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99052F9A-E5B8-436A-964F-E4EBE51FE0E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9D43AEE0-DCED-44A5-8712-41C12ED9687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64D23F9F-4D06-4466-A236-4625082E9EA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DB0F3094-1706-44F8-979B-4FAF1FE10F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64358DB-C72B-4BE8-A1FD-EC17B6B867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F4CC89C-D3FA-4728-BC13-9246E20F51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3FE07FD4-6585-4AA8-9EC8-546ACDA34F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68D18E6C-4CAA-429D-9F12-FF091B7459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D24B441-CEC4-434D-AC97-110374381A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6419F2F-763F-469A-9470-9A28869F2B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7CF60D1-7872-434B-BA52-DA876E0310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A460BDA-B8B0-4184-9B83-10C68C3865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1F0F684-9F58-41CB-9E5D-2933269915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718FFB84-62B8-4D7C-AA66-CF78A22F3D2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DE33D093-7483-4111-9B6B-B37CFF14958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4AC88BA-910F-452D-BFC8-655CA7E094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64F9A9D-B116-46A8-86FE-07D29B10CC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ACC2420-F817-4A41-AA19-5D8807654D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609C664-7BB6-42B5-8B69-BCCB652787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2AAAD3D-D334-469D-81C1-674AEBE4BC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D30DB-DBD7-46F4-8207-F47B836AC8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0DC002-F149-4C7D-A155-BC1A8F4998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369034-89E5-4207-BB64-0714FA1F81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F2D6FAB-D626-496B-AC38-55019B75D4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5B21B9F-EEBB-4536-BF8E-A30D097C84C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0EFB5BE-C7C2-424E-8173-30E07DCDBAC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8893FF9-7D96-4AF8-9303-3F530E76A32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8A1A2A8-2E72-4885-BF94-447A723779B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E7056DD-C44C-4DEF-B89E-7FC0CAC3459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031FF2F-AEF8-457F-965B-4913232BC88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DE4AA38-90AD-470C-B0EB-6D4ED1665FE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568E9-B4C9-41D7-8468-685B61920DA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03927D2-746C-4D13-A945-B4FFCACEE61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88AAA74-3D3A-489A-9920-528C18790A7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6534E21-B79F-4A74-9855-1878DB5DEB9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7AD91CE-4653-4E2E-A222-CC689ADB25E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15670A2-4E64-4FAB-B4D5-DEC272F1172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2DF29E1-740C-4C7B-8DD5-F044B813728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3FD1225-BB75-41A3-82CF-93BEBA23488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17B8D71-EAC4-45CC-88BC-C35511A06E0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0D29F10-0297-4EBA-B926-221754E5E38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8A10716-BF07-4C24-9592-A02C1E2B707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4BB69C-5B89-41A0-AC59-4695B010AF7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20D668F-CBBC-46CD-9637-192A153CAD0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2E0DE84-754E-4002-9CEA-1D917C97D61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722A188-9BC2-4AFF-9923-BB2ADC66DA9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6F42213-DE61-4990-9D19-8B1614BB97D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53E59E0-F494-4300-93CE-CCE7B8EF959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49082D5-8E04-4868-8FF5-E0E8D603A84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0C01463-2994-4343-88DF-8F8C7718D7C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3EC07CD-EB5F-4E0C-9A97-3C37B65EA11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A7CC18F-D16E-4DBD-AA2A-B8651094B62C}"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32A4F26-ECD5-4D96-A224-EBEDB27ADA0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28FF37E7-D19A-4405-A3FA-363274B9011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7A5CB9B-DAF5-490B-A318-BBC1DF37FEF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88C375A-82E9-4632-B055-1A43CB3C93C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C75CFCF-BA59-4A62-AA17-905BAC98671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72E111A-54BB-4278-8F80-84278EE3A5C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9360096-9AEE-4E23-B650-F8CB5FFC22E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1B3AB0C-0166-4ECD-9F44-1CC3E69761F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23224C3-7FCB-43D5-B734-72AE222DB53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72FF982-2AFA-4067-856C-E25FB83B7C7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6762956-F798-465C-96FC-5FE41DCEE15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91CF580-AFF0-401F-B636-E810FF3ACC6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7CA4977-B46C-42BD-ACDA-F2E0271E713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5E2844EA-FFE4-4F92-BCB9-2CBD70A2197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F661F0D-5540-4D17-B41C-B01D3301132C}"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2E86EAC-CE02-4766-A52A-1D082C134AC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E3D435F-B6C1-4C7B-998C-6B5307BC233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946145B-594E-44CC-8329-64B622B6B2B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F0186F2-96C9-4306-8283-D531C1B74E4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93730B7-FD27-4C64-BD47-FD83BD80BD7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BEB1CC0-1AFE-4C34-8BE5-ED7E12E55D3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7936D78-EC4F-4085-B70B-D2178FE0B69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6E682E4-B89C-42D2-8C5E-13A27C0FEB1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973E49-18E6-485C-A958-EE5577D43D6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0E9E582-FABE-4AA0-AE5E-E771680070C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66AD307-3865-4E28-BBBC-4AC55D819026}"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753B2F46-EC79-41CD-838A-D7E8C16E3BB5}"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A89D321-D0BE-416A-8D49-AF68FD763FB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646275F-7397-442B-978F-994E9A6998F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F700CB3-2F0A-4B75-8FD2-86098F46CF7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F126064-7BDE-4E6E-BA24-25B1FE2F192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F36C244-D890-4C3A-92A7-A75864C7777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109400A-40C5-4B1A-9870-BDB85E023B1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12BD3EB-7547-425C-9911-116261D218D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BDD42D-14F8-4F93-AF2B-CABC9FF1AB4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315ADE9-389C-4928-8515-179E5B786E2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511D52D-FD44-4856-9F13-6573213347D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FB37F8C-3135-49CC-8098-05A96EF9516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2F340AF-F802-4710-B36E-5157D7EBFFF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9AE60AF-FFC5-4FD6-A224-1F159D757085}"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900DA75-B5E7-4DB1-8F6F-41306F6B2D73}"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A035C68-F037-444D-9F77-E46FC43F4BD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720BCE5-D013-4942-8D20-38F98C7C806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A32C153-B1B6-4BC0-8B47-A56B9C6597C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DE519C4-5048-42B1-ADD0-8590C8F01BC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6E12F4-70CD-4829-A733-A4887E3CFA5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111EC41-39CE-4667-9690-9040BA8890A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0FA6EE0-832E-4079-97D1-0B4DBC1A8C2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1D340CF-7FFC-4AD0-90C7-13332467A3B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3A4B0E1-589A-4097-8D46-B39C6F46998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71A9EAB-D5D2-472A-8851-8C21C781557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10B271F-D639-42A6-B296-0E75BE974937}"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5841869C-B519-4754-83D6-CF915031681D}"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7E8DFAF-C736-4E9B-AFDC-C112584FDC6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3C6BA3D-FADB-4CE4-A2D3-5CB2E616743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361515A-F826-4F33-9A60-005BB6E07800}"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7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BF86BF-F809-4800-B2AD-7AF6D4CDD1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7CD3DB-3EA8-42B2-8747-350FD8CEB56B}"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B58F6F-04A8-4423-9EA8-C0F79816C8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41E4CA-B17C-4C7A-8DE6-E5F44D6FB8B1}"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9045E0-F7F6-49E7-AEF0-8C663A622E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EDCF23-2A39-4516-BEEC-4E513158BED2}"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8CE9BF-7F1B-4FA9-A4AB-BBB078A231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0" t="0" r="825"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EE4E93-D1B4-44C7-B252-1CEE6D162677}"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138F31-C081-4225-9E9D-451B8654EE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3A4A54-6F25-4D10-9D8E-28DB5CF73E7F}"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441711-AE89-4E03-BAC3-24B87C99DD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B453EE-B0FE-4A68-B1A0-21DC2E6A2E31}"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89633D-FA34-4D3B-BB97-AFFCF4CD05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AC1D0B-FEDB-48D7-9442-85D04476D763}"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D8E122-AD6D-4A07-BAF5-20E55B0E90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53AC1F-1FF2-4158-B644-01CC5D239C5E}"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57CF80-8CAD-4DF2-AECD-6E99B800F9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C9A6C9-0A20-450B-AB02-95C669262F09}"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7A83E4-5937-4A0E-85B8-E11FE665A1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5568F5-BFAD-48DB-A57C-838047E585D5}"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8122F7-6F94-4998-A399-A06B3D3A8B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959CD8-B4A2-45E1-9E82-E5890077ACCF}" type="datetime">
              <a:rPr b="0" lang="en-US" sz="1800" spc="-1" strike="noStrike">
                <a:solidFill>
                  <a:srgbClr val="000000"/>
                </a:solidFill>
                <a:latin typeface="Times New Roman"/>
              </a:rPr>
              <a:t>07/31/26</a:t>
            </a:fld>
            <a:endParaRPr b="0" lang="en-US" sz="18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6C5396-5A9D-453A-A5BB-366D6514F0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6</a:t>
            </a:r>
            <a:endParaRPr b="0" lang="en-US" sz="2800" spc="-1" strike="noStrike">
              <a:solidFill>
                <a:srgbClr val="000000"/>
              </a:solidFill>
              <a:latin typeface="Arial"/>
            </a:endParaRPr>
          </a:p>
        </p:txBody>
      </p:sp>
      <p:pic>
        <p:nvPicPr>
          <p:cNvPr id="533" name="Picture 4" descr="OPM Seal"/>
          <p:cNvPicPr/>
          <p:nvPr/>
        </p:nvPicPr>
        <p:blipFill>
          <a:blip r:embed="rId1"/>
          <a:stretch/>
        </p:blipFill>
        <p:spPr>
          <a:xfrm>
            <a:off x="3886200" y="3276720"/>
            <a:ext cx="1371600" cy="1371600"/>
          </a:xfrm>
          <a:prstGeom prst="rect">
            <a:avLst/>
          </a:prstGeom>
          <a:ln w="0">
            <a:noFill/>
          </a:ln>
        </p:spPr>
      </p:pic>
      <p:sp>
        <p:nvSpPr>
          <p:cNvPr id="534"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5" name="PlaceHolder 2"/>
          <p:cNvSpPr>
            <a:spLocks noGrp="1"/>
          </p:cNvSpPr>
          <p:nvPr>
            <p:ph type="subTitle"/>
          </p:nvPr>
        </p:nvSpPr>
        <p:spPr>
          <a:xfrm>
            <a:off x="731880" y="4754520"/>
            <a:ext cx="7680240" cy="1006560"/>
          </a:xfrm>
          <a:prstGeom prst="rect">
            <a:avLst/>
          </a:prstGeom>
          <a:noFill/>
          <a:ln w="0">
            <a:noFill/>
          </a:ln>
        </p:spPr>
        <p:txBody>
          <a:bodyPr anchor="t">
            <a:no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ＭＳ Ｐゴシック"/>
              </a:rPr>
              <a:t>Book Presentation</a:t>
            </a:r>
            <a:endParaRPr b="0" lang="en-US" sz="23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y</a:t>
            </a:r>
            <a:endParaRPr b="0" lang="en-US" sz="1800" spc="-1" strike="noStrike">
              <a:solidFill>
                <a:srgbClr val="000000"/>
              </a:solidFill>
              <a:latin typeface="Arial"/>
            </a:endParaRPr>
          </a:p>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ＭＳ Ｐゴシック"/>
              </a:rPr>
              <a:t>Laith Toni (L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a:t>
            </a:r>
            <a:endParaRPr b="0" lang="en-US" sz="2800" spc="-1" strike="noStrike">
              <a:solidFill>
                <a:srgbClr val="000000"/>
              </a:solidFill>
              <a:latin typeface="Arial"/>
            </a:endParaRPr>
          </a:p>
        </p:txBody>
      </p:sp>
      <p:sp>
        <p:nvSpPr>
          <p:cNvPr id="53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visible Employe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Adrian Gostick &amp; Chester Elton</a:t>
            </a:r>
            <a:endParaRPr b="0" lang="en-US" sz="2800" spc="-1" strike="noStrike">
              <a:solidFill>
                <a:srgbClr val="000000"/>
              </a:solidFill>
              <a:latin typeface="Arial"/>
            </a:endParaRPr>
          </a:p>
        </p:txBody>
      </p:sp>
      <p:pic>
        <p:nvPicPr>
          <p:cNvPr id="538" name="Picture 4" descr=""/>
          <p:cNvPicPr/>
          <p:nvPr/>
        </p:nvPicPr>
        <p:blipFill>
          <a:blip r:embed="rId1"/>
          <a:stretch/>
        </p:blipFill>
        <p:spPr>
          <a:xfrm>
            <a:off x="5451480" y="888840"/>
            <a:ext cx="3606840" cy="567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ET” clear values and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EE” behaviors towards valu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ELEBRATE” behaviors with recognition and make it personaliz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alented employee will be the first to “blink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sincere! Be a See-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42" name=""/>
          <p:cNvSpPr txBox="1"/>
          <p:nvPr/>
        </p:nvSpPr>
        <p:spPr>
          <a:xfrm>
            <a:off x="158760" y="1372680"/>
            <a:ext cx="8832960" cy="532476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Great leaders, you see, lead people – not systems, processes, technology, strategy, or functions. Because, when it comes right down to it, all those things can be replicated – but your people can’t.” pg 8</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As a leader, its important to remember that specific, frequent praise isn’t the warm and fuzzy side of life, it’s an essential component of leadership. It’s an essential in creating a great work environment.” pg 33</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Today’s See-ers don’t see the future. They create the future, by seeing people.” pg 44</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What leaders like Studer learn about their employees (their fears, strengths, weaknesses, wants, and needs) gives these managers the ability to motivate effectively and strategically channel employee efforts. That’s why it’s usually true that behind every great employee, you’ll find an exceptional boss.” pg 57</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Recognition is America’s most underused motivational tool.” pg 79</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44" name=""/>
          <p:cNvSpPr txBox="1"/>
          <p:nvPr/>
        </p:nvSpPr>
        <p:spPr>
          <a:xfrm>
            <a:off x="457200" y="1599840"/>
            <a:ext cx="8229600" cy="3933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re is a lot of talent in employees that we just don’t recognize.</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though we have limited tools, we still don’t utilize them as often as we should to recognize or celebrate. The book actually lists 50+ ways to recognize achiever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book hits close to home when I reflect on the past and present.</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minds me of the balcony and the dance floo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Trish Mooney</cp:lastModifiedBy>
  <cp:lastPrinted>2011-06-13T12:29:39Z</cp:lastPrinted>
  <dcterms:modified xsi:type="dcterms:W3CDTF">2017-02-09T17:32:02Z</dcterms:modified>
  <cp:revision>29</cp:revision>
  <dc:subject/>
  <dc:title>Leading with Impact</dc:title>
</cp:coreProperties>
</file>