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49187-027D-4FB0-8455-164849D0532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C27AE-5B41-481B-AA63-1882BBF832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675EA-62BB-484D-B7AC-D12AEAA2D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236CA-29DA-43B3-A1EB-F0B121CF1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610C6-A6E2-45C1-B029-446A28B6AF2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492D26B-1103-4219-8010-2E5B5D9CB03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8A71D3B-9586-41D7-8367-5ABE95C1EA2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635BAE6-FA05-4A22-8540-0917E0E1868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7135B83-58F1-430A-84DD-D5353B17D9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EE1DDC1-4A4F-4A7B-BFF2-FBE746A72E9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183AD49-F33F-45E7-B962-8D311C3BF2D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04FC40B-B43B-4A71-9A40-8096739A7C2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D42D07C-4E8C-48F9-AE21-0DBA522312B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75206A1-C63D-4CAA-AB42-9A402ED8292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52C93D1-4817-4E62-B24E-D2765D17358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3C3B4-428A-4EB5-BEAE-72F34EB67B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39D56A1-B4E5-48D9-B2A8-0F450ACDD6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B5AF770-1C95-4EE0-AB50-586C90418C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914A60B-DF1E-43A5-9E13-DDE2A8CC6B1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C283166-FB2E-40E9-8F86-1FF12F0497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524225D-F592-4F60-AC4F-E62982134B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B917111-B787-4412-A36B-121035EA23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D770ED2-A9E0-4CE7-9A52-5B8F7D4666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1B47AE8-FD26-41A2-AF71-A9110161A1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00840AA-F5CC-4C60-8AD0-E4C880463CD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3322034-3817-49A2-92CF-38B403330E7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ACED76-711A-41E0-9CA5-0548A44286D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E40F536-4953-4D28-AFA4-A80F6FB6ABD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D97E05F-BC61-46D2-9832-8FCFFDA28B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836896C-4BD7-4E17-A87B-AE19A353D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16EE703-C20B-4E47-85FE-4CAB49EC19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BA0A168-31AF-4852-AC8E-EAF29B2007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B54C5EC-B8BB-448C-AD53-FA0DB77031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71BBCA2-D4CC-4E6B-B9CF-028E566BCD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2DE3472-434C-4B85-B17B-5969E9D657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7DE5A7-8A42-41B1-A02A-1DDB01ED4C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748670F-EF26-416A-8DF7-5727764E0C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5908502-03A7-4345-A0A3-A74DFAE60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44CDC71-9693-488D-B6AB-D042A9A1C4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C1B926E-835C-481F-A759-B966FBF9CB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AC1A12A-5CCC-4895-9208-5CF81AB728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023F6BA-F323-4FE6-88F9-46C80D337A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36F28F3-9F44-4535-BB28-0B9557AD6C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41D869D-A64A-44F2-8A40-63CF1D5BFD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B759A7A-77E6-4C9C-AE8A-87A93B325E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BE1C8B9-0D3F-415F-91BA-ADD484A574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027F243-5CC1-4170-AD43-8C2E35EDA0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14B9539-A715-46CB-96EA-9A261A0082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999911-CFEC-4D68-8138-1F1690034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928EE65-2AC2-4090-9BD8-35315BF084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D0174B5-0EC7-42F4-BE77-8DA8266F8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5CDA84A-541D-4E46-BB81-186BBA5E52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5AC061B-D616-47A4-BC3D-D679D7C7AC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80CC586-6480-4BE4-8A84-19AA26F2B1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E19118-9B0A-4CAC-86AF-D2D59E989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061ECE-6C8F-439E-8BAB-0628F40D7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7848C2-EC33-4F6D-A079-2350443B6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AE0284-D765-4B8D-9CF9-E9FD42DE3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FB1B89-1336-47E8-B128-EF34D33939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5B74-EC65-493D-B65F-534BE6654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9E6F0B-8FA7-445B-9FE3-0BE8EBC3D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D0BA98-133B-405A-A7C2-BC8B77489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1B0C32-D12D-4466-9766-65B4A7A55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1985A5-33C4-456D-AF65-DAFD5D161B3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E9C722-FABB-42DD-8899-3EA870E07C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14B5773-BEFA-4805-8AFB-8A58336BEE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573E3E2-8EA3-43CA-AFE7-0AC7C76505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6A66E13-D52A-4C89-BC82-B46F0188A2B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18FD0C-9CDE-4FBB-B74F-6E3E3EA6F5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DEC7D5-BDAA-435D-9D9E-91F3891BB7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A4023-7B0A-44DD-A383-BE165272F5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7C8268-EF55-4176-B29C-E3F6A9B961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BC7503-7565-420F-8478-BAA93C3E10F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7FA9A8-9A2A-4E10-8204-19CD4F848F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DE3DA2-D987-4542-87C8-8196ED0CA4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4C7E3EB-286E-4268-825E-3ED8AE62D1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59009A-6E7A-45EA-A70E-8C1AA68888D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2767502-ABD2-4A9D-925D-E2288022501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4DA4140-E938-4EF7-8954-0D0E3B09B27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DC99231-6365-4CB3-9623-37576D29763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B6495D0-8DE6-4BB1-B42E-F0DFD9DAD5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2271D-7CF8-404C-8DDE-F4028BD45DB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F337878-CF5F-4B62-A363-368E9C86E55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784D13A-6861-494A-889E-D3F717DF88D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1C65301-AF02-4C0D-9111-2CE9D02DDE2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DDD30E-2E0A-461E-BE8E-5413EB4FA3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9E04B3-66EC-4A75-8CC8-26A2DFC11CC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221A8E-D59A-42C0-91DB-E8B429A8F48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336B92-0EE6-482B-82DC-5232E693D08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CAE7B9F-6844-4C35-A069-A719E984908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0A2B70F-64AC-4CE8-8FE7-BB0A088CBDD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5A7ED34-2C0D-4A85-8066-B2C5CE7C408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D531EBBC-E515-4D1E-8560-C0F32910B3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AB15E3-A8EE-4537-89C8-D6F0B8BAFC8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5BAC14C-1A71-421E-9B8B-3A6B814632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D739FD-2A00-4377-B66F-ED79DC2CB9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2944899-8231-483A-96B1-B08AFB571A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B87B6C8-7624-49BB-AC90-2C75CFE339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FDEFD37-943C-406B-A4D8-FD29DCC971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C4AEA3-2258-4769-B097-6B42AA8B65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C616D4-0848-4FDE-929C-400D200ACD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C7E2977-D9F7-47B1-80A7-4092DD31DC7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27D00A7-F0BF-4E61-99B0-3B2A0A5197C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E8CCD92-611F-4BF2-BEF1-887E81100A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F3F3A60-5C0A-4F8B-A243-D71931EFBAB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003811F-5681-4D0F-9908-6AAE914877C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E19F748-72A5-431B-B31D-FEF5E93DDF9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78CB40-4D74-4EB7-BE94-C208F06B840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9B5A7C-6316-40B0-82F9-CD899762349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A248545-5037-4F2C-93D3-1FB0131683A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2E92D9D-DAB7-4E28-A61C-35DD82D4D82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636D05-79A3-4F5A-9B67-18E6B4E3A1A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A562CE-1CB2-4C8E-B664-F81533E7F85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98442ED-4C33-40EA-94EF-6F2851F2E50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6CD0A-4182-47E2-AD2E-0E849A2E75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DE234F3-AA1B-4BE0-ADE8-5280AD9156F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DB448F1-5FF2-4AE0-9AD7-DB66D1C7455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AB5417D-F640-4A4C-9112-39B7288A029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CFC4C4A-2ADB-418F-A04E-49A651CFCE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5E527A-4E08-4004-88AC-D0EB6B176CB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D143FFB-7D7E-4E01-AF20-7AB32B19D76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EDAAFF8-5E53-4E48-8237-B35A94B709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FAEE2F-32EA-4243-9BA6-37ADC00D32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90CC8BB-38CC-424B-9F94-237BEBFA8E1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A58851-51D6-4338-9FB9-477629591D8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0DAE1-69AA-44C5-A358-8BF57B5609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3821EF-E7EB-41B4-920A-D89C264697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002CA17-007B-488F-81B9-7159FC11F53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0E341FC-2903-4B6D-A786-384725D4F59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2B237B6-9DE0-4924-9196-073E1A23549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8E71D67-E0A2-4050-A17D-A6A941EA2D3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70CF40B-65DC-49C5-AE6B-AF79E28B8C6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AEE50DE-4E78-4ED2-889B-8EA41C02EF1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A3C5F1A-C48A-4607-A27D-5ED00B1AB7C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C13646-AB90-47DC-9F99-189FDBA06FC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5F94F08-5907-4D9E-9118-86077112E57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CC311-628A-4100-BDDC-3D5356413DE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2E8C3C7-F6E2-423C-9ED6-E3E500C3680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8CBB2F7-5A34-4ECD-A229-38E1F81176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25C11C4-F757-47F6-8B2B-69DCAF0B34C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51E8C3-E187-4E11-A9EF-D6CC7181AF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4C78002-98BA-4A12-BDA5-78DDB0E718E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DC114B5-FE8C-4DF5-91AA-A6E2A0C89E8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8326D96-4B04-44C4-AE46-6698DB39E7D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697D4A9-92A3-4CC0-BF06-0EF563319F2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A1FD51C-7F5A-4682-B9AE-8E0885C9597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8BA8B19-ACDE-4F2C-B216-F8C8AA2F668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49961-4A15-4DCF-8C74-5674E7164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8DA33-6286-401D-85C9-A1D0FBDF042E}"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A6F33-FE51-4881-BF8F-A06369349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B03DA-BE88-41BC-9D4D-E9EE39AA1CF3}"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54D0C-CAC4-4EE4-BE46-F771E4CD3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BA71E-5F3D-45F6-8B85-E437D53744C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F8C28-C491-4380-95C3-6C70FC970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0D8ED-1DA2-4947-A934-7BDF942CDE7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8ABA3-49F9-4158-A4EC-17922356E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A42C6-08D3-404E-8B4C-6F7806BE55B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A3A1A-2FCC-48CF-B254-397F295F0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446EF-50A6-4DD0-B2C9-6547D49C0F77}"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20B16-F21C-4963-ACF6-E8082B44D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5B58B-4C25-4843-96D4-CB450B3C40DB}"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34274-2007-4118-A49A-60148FD67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07D40-AD89-4F88-B530-7F5122679F59}"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44417-7401-41BB-9270-99CBA746B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7EDE7-F2BB-4289-89A2-368DC5E6164B}"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A5785-430F-4F98-AD2E-7C1EF1157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EA3D4-73AC-4E8C-A838-DA1FAF38D3B1}"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A548A-F34F-466E-8D0F-F08DADEB3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1C19E-9F96-4752-9635-0D7ECEF70A69}"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0552A-ADB6-4D2B-9A44-137650030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6</a:t>
            </a:r>
            <a:endParaRPr b="0" lang="en-US" sz="2800" spc="-1" strike="noStrike">
              <a:solidFill>
                <a:srgbClr val="000000"/>
              </a:solidFill>
              <a:latin typeface="Arial"/>
            </a:endParaRPr>
          </a:p>
        </p:txBody>
      </p:sp>
      <p:pic>
        <p:nvPicPr>
          <p:cNvPr id="533" name="Picture 4" descr="OPM Seal"/>
          <p:cNvPicPr/>
          <p:nvPr/>
        </p:nvPicPr>
        <p:blipFill>
          <a:blip r:embed="rId1"/>
          <a:stretch/>
        </p:blipFill>
        <p:spPr>
          <a:xfrm>
            <a:off x="3886200" y="3276720"/>
            <a:ext cx="1371600" cy="1371600"/>
          </a:xfrm>
          <a:prstGeom prst="rect">
            <a:avLst/>
          </a:prstGeom>
          <a:ln w="0">
            <a:noFill/>
          </a:ln>
        </p:spPr>
      </p:pic>
      <p:sp>
        <p:nvSpPr>
          <p:cNvPr id="534"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5" name="PlaceHolder 2"/>
          <p:cNvSpPr>
            <a:spLocks noGrp="1"/>
          </p:cNvSpPr>
          <p:nvPr>
            <p:ph type="subTitle"/>
          </p:nvPr>
        </p:nvSpPr>
        <p:spPr>
          <a:xfrm>
            <a:off x="731880" y="4754520"/>
            <a:ext cx="7680240" cy="100656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Book Presentation</a:t>
            </a:r>
            <a:endParaRPr b="0" lang="en-US" sz="23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y</a:t>
            </a:r>
            <a:endParaRPr b="0" lang="en-US" sz="1800" spc="-1" strike="noStrike">
              <a:solidFill>
                <a:srgbClr val="000000"/>
              </a:solidFill>
              <a:latin typeface="Arial"/>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ＭＳ Ｐゴシック"/>
              </a:rPr>
              <a:t>Laith Toni (L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isible Employ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Adrian Gostick &amp; Chester Elton</a:t>
            </a:r>
            <a:endParaRPr b="0" lang="en-US" sz="2800" spc="-1" strike="noStrike">
              <a:solidFill>
                <a:srgbClr val="000000"/>
              </a:solidFill>
              <a:latin typeface="Arial"/>
            </a:endParaRPr>
          </a:p>
        </p:txBody>
      </p:sp>
      <p:pic>
        <p:nvPicPr>
          <p:cNvPr id="538" name="Picture 4" descr=""/>
          <p:cNvPicPr/>
          <p:nvPr/>
        </p:nvPicPr>
        <p:blipFill>
          <a:blip r:embed="rId1"/>
          <a:stretch/>
        </p:blipFill>
        <p:spPr>
          <a:xfrm>
            <a:off x="5451480" y="888840"/>
            <a:ext cx="3606840" cy="567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T” clear values and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E” behaviors towards val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ELEBRATE” behaviors with recognition and make it personaliz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lented employee will be the first to “blin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incere! Be a See-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42" name=""/>
          <p:cNvSpPr txBox="1"/>
          <p:nvPr/>
        </p:nvSpPr>
        <p:spPr>
          <a:xfrm>
            <a:off x="158760" y="1372680"/>
            <a:ext cx="8832960" cy="532476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Great leaders, you see, lead people – not systems, processes, technology, strategy, or functions. Because, when it comes right down to it, all those things can be replicated – but your people can’t.” pg 8</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As a leader, its important to remember that specific, frequent praise isn’t the warm and fuzzy side of life, it’s an essential component of leadership. It’s an essential in creating a great work environment.” pg 33</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Today’s See-ers don’t see the future. They create the future, by seeing people.” pg 44</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hat leaders like Studer learn about their employees (their fears, strengths, weaknesses, wants, and needs) gives these managers the ability to motivate effectively and strategically channel employee efforts. That’s why it’s usually true that behind every great employee, you’ll find an exceptional boss.” pg 5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Recognition is America’s most underused motivational tool.” pg 79</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4" name=""/>
          <p:cNvSpPr txBox="1"/>
          <p:nvPr/>
        </p:nvSpPr>
        <p:spPr>
          <a:xfrm>
            <a:off x="457200" y="1599840"/>
            <a:ext cx="8229600" cy="3933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is a lot of talent in employees that we just don’t recogniz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hough we have limited tools, we still don’t utilize them as often as we should to recognize or celebrate. The book actually lists 50+ ways to recognize achiever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book hits close to home when I reflect on the past and presen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minds me of the balcony and the dance floo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7-02-09T17:32:02Z</dcterms:modified>
  <cp:revision>29</cp:revision>
  <dc:subject/>
  <dc:title>Leading with Impact</dc:title>
</cp:coreProperties>
</file>