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79538-CA22-4BCF-A4AE-7B7D1065D81F}"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B7356-59FA-44EE-A2D8-5DF1EF124F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9F0C5-21C4-4607-A50A-EA86BFD87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facets of the book are based on the five components of the pyramid that identify the five dysfunctions of a team. At the base of the pyramid is the </a:t>
            </a:r>
            <a:r>
              <a:rPr b="0" lang="ja-JP" sz="1200" spc="-1" strike="noStrike">
                <a:solidFill>
                  <a:srgbClr val="000000"/>
                </a:solidFill>
                <a:latin typeface="Calibri"/>
              </a:rPr>
              <a:t>“</a:t>
            </a:r>
            <a:r>
              <a:rPr b="0" lang="en-US" sz="1200" spc="-1" strike="noStrike">
                <a:solidFill>
                  <a:srgbClr val="000000"/>
                </a:solidFill>
                <a:latin typeface="Calibri"/>
              </a:rPr>
              <a:t>Absence of Trust.</a:t>
            </a:r>
            <a:r>
              <a:rPr b="0" lang="ja-JP" sz="1200" spc="-1" strike="noStrike">
                <a:solidFill>
                  <a:srgbClr val="000000"/>
                </a:solidFill>
                <a:latin typeface="Calibri"/>
              </a:rPr>
              <a:t>”</a:t>
            </a:r>
            <a:r>
              <a:rPr b="0" lang="en-US" sz="1200" spc="-1" strike="noStrike">
                <a:solidFill>
                  <a:srgbClr val="000000"/>
                </a:solidFill>
                <a:latin typeface="Calibri"/>
              </a:rPr>
              <a:t>  This lack of trust does not allow for good dialogue and debate among teammates.  No one will allow themselves to be vulnerable.  You can</a:t>
            </a:r>
            <a:r>
              <a:rPr b="0" lang="ja-JP" sz="1200" spc="-1" strike="noStrike">
                <a:solidFill>
                  <a:srgbClr val="000000"/>
                </a:solidFill>
                <a:latin typeface="Calibri"/>
              </a:rPr>
              <a:t>’</a:t>
            </a:r>
            <a:r>
              <a:rPr b="0" lang="en-US" sz="1200" spc="-1" strike="noStrike">
                <a:solidFill>
                  <a:srgbClr val="000000"/>
                </a:solidFill>
                <a:latin typeface="Calibri"/>
              </a:rPr>
              <a:t>t move forward without honesty and trust. </a:t>
            </a:r>
            <a:endParaRPr b="0" lang="en-US" sz="1200" spc="-1" strike="noStrike">
              <a:solidFill>
                <a:srgbClr val="000000"/>
              </a:solidFill>
              <a:latin typeface="Calibri"/>
            </a:endParaRPr>
          </a:p>
        </p:txBody>
      </p:sp>
      <p:sp>
        <p:nvSpPr>
          <p:cNvPr id="5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30D51-7F42-4F86-9983-983A99ACD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second dysfunction is the </a:t>
            </a:r>
            <a:r>
              <a:rPr b="0" lang="ja-JP" sz="1000" spc="-1" strike="noStrike">
                <a:solidFill>
                  <a:srgbClr val="000000"/>
                </a:solidFill>
                <a:latin typeface="Calibri"/>
              </a:rPr>
              <a:t>“</a:t>
            </a:r>
            <a:r>
              <a:rPr b="0" lang="en-US" sz="1000" spc="-1" strike="noStrike">
                <a:solidFill>
                  <a:srgbClr val="000000"/>
                </a:solidFill>
                <a:latin typeface="Calibri"/>
              </a:rPr>
              <a:t>Fear of Conflict.</a:t>
            </a:r>
            <a:r>
              <a:rPr b="0" lang="ja-JP" sz="1000" spc="-1" strike="noStrike">
                <a:solidFill>
                  <a:srgbClr val="000000"/>
                </a:solidFill>
                <a:latin typeface="Calibri"/>
              </a:rPr>
              <a:t>”</a:t>
            </a:r>
            <a:r>
              <a:rPr b="0" lang="en-US" sz="1000" spc="-1" strike="noStrike">
                <a:solidFill>
                  <a:srgbClr val="000000"/>
                </a:solidFill>
                <a:latin typeface="Calibri"/>
              </a:rPr>
              <a:t>  Strongly linked to the </a:t>
            </a:r>
            <a:r>
              <a:rPr b="0" lang="ja-JP" sz="1000" spc="-1" strike="noStrike">
                <a:solidFill>
                  <a:srgbClr val="000000"/>
                </a:solidFill>
                <a:latin typeface="Calibri"/>
              </a:rPr>
              <a:t>“</a:t>
            </a:r>
            <a:r>
              <a:rPr b="0" lang="en-US" sz="1000" spc="-1" strike="noStrike">
                <a:solidFill>
                  <a:srgbClr val="000000"/>
                </a:solidFill>
                <a:latin typeface="Calibri"/>
              </a:rPr>
              <a:t>Absence of Trust,</a:t>
            </a:r>
            <a:r>
              <a:rPr b="0" lang="ja-JP" sz="1000" spc="-1" strike="noStrike">
                <a:solidFill>
                  <a:srgbClr val="000000"/>
                </a:solidFill>
                <a:latin typeface="Calibri"/>
              </a:rPr>
              <a:t>”</a:t>
            </a:r>
            <a:r>
              <a:rPr b="0" lang="en-US" sz="1000" spc="-1" strike="noStrike">
                <a:solidFill>
                  <a:srgbClr val="000000"/>
                </a:solidFill>
                <a:latin typeface="Calibri"/>
              </a:rPr>
              <a:t> if people have not built up strong rapport and are afraid to speak their minds and really challenge some notions, there can be no chance of moving forward.  As I was taught long ago, </a:t>
            </a:r>
            <a:r>
              <a:rPr b="0" lang="ja-JP" sz="1000" spc="-1" strike="noStrike">
                <a:solidFill>
                  <a:srgbClr val="000000"/>
                </a:solidFill>
                <a:latin typeface="Calibri"/>
              </a:rPr>
              <a:t>“</a:t>
            </a:r>
            <a:r>
              <a:rPr b="0" lang="en-US" sz="1000" spc="-1" strike="noStrike">
                <a:solidFill>
                  <a:srgbClr val="000000"/>
                </a:solidFill>
                <a:latin typeface="Calibri"/>
              </a:rPr>
              <a:t>Disagreement is Not Disrespect.</a:t>
            </a:r>
            <a:r>
              <a:rPr b="0" lang="ja-JP" sz="1000" spc="-1" strike="noStrike">
                <a:solidFill>
                  <a:srgbClr val="000000"/>
                </a:solidFill>
                <a:latin typeface="Calibri"/>
              </a:rPr>
              <a:t>”</a:t>
            </a:r>
            <a:r>
              <a:rPr b="0" lang="en-US" sz="1000" spc="-1" strike="noStrike">
                <a:solidFill>
                  <a:srgbClr val="000000"/>
                </a:solidFill>
                <a:latin typeface="Calibri"/>
              </a:rPr>
              <a:t>  People need to live this, and know that it is important to have healthy debates.  Agreement for the sake of just doing so only results in </a:t>
            </a:r>
            <a:r>
              <a:rPr b="0" lang="ja-JP" sz="1000" spc="-1" strike="noStrike">
                <a:solidFill>
                  <a:srgbClr val="000000"/>
                </a:solidFill>
                <a:latin typeface="Calibri"/>
              </a:rPr>
              <a:t>“</a:t>
            </a:r>
            <a:r>
              <a:rPr b="0" lang="en-US" sz="1000" spc="-1" strike="noStrike">
                <a:solidFill>
                  <a:srgbClr val="000000"/>
                </a:solidFill>
                <a:latin typeface="Calibri"/>
              </a:rPr>
              <a:t>Artificial Harmony.</a:t>
            </a:r>
            <a:r>
              <a:rPr b="0" lang="ja-JP" sz="1000" spc="-1" strike="noStrike">
                <a:solidFill>
                  <a:srgbClr val="000000"/>
                </a:solidFill>
                <a:latin typeface="Calibri"/>
              </a:rPr>
              <a: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the third layer of the pyramid is the </a:t>
            </a:r>
            <a:r>
              <a:rPr b="0" lang="ja-JP" sz="1000" spc="-1" strike="noStrike">
                <a:solidFill>
                  <a:srgbClr val="000000"/>
                </a:solidFill>
                <a:latin typeface="Calibri"/>
              </a:rPr>
              <a:t>“</a:t>
            </a:r>
            <a:r>
              <a:rPr b="0" lang="en-US" sz="1000" spc="-1" strike="noStrike">
                <a:solidFill>
                  <a:srgbClr val="000000"/>
                </a:solidFill>
                <a:latin typeface="Calibri"/>
              </a:rPr>
              <a:t>Lack of Commitment.</a:t>
            </a:r>
            <a:r>
              <a:rPr b="0" lang="ja-JP" sz="1000" spc="-1" strike="noStrike">
                <a:solidFill>
                  <a:srgbClr val="000000"/>
                </a:solidFill>
                <a:latin typeface="Calibri"/>
              </a:rPr>
              <a:t>”</a:t>
            </a:r>
            <a:r>
              <a:rPr b="0" lang="en-US" sz="1000" spc="-1" strike="noStrike">
                <a:solidFill>
                  <a:srgbClr val="000000"/>
                </a:solidFill>
                <a:latin typeface="Calibri"/>
              </a:rPr>
              <a:t>  This is the failure to buy into decisions.  While disagreement is encouraged, once a decision is made the team must rally behind it, that is why it is so important that people feel their opinions have been heard.  Without contribution and buy-in, </a:t>
            </a:r>
            <a:r>
              <a:rPr b="0" lang="ja-JP" sz="1000" spc="-1" strike="noStrike">
                <a:solidFill>
                  <a:srgbClr val="000000"/>
                </a:solidFill>
                <a:latin typeface="Calibri"/>
              </a:rPr>
              <a:t>“</a:t>
            </a:r>
            <a:r>
              <a:rPr b="0" lang="en-US" sz="1000" spc="-1" strike="noStrike">
                <a:solidFill>
                  <a:srgbClr val="000000"/>
                </a:solidFill>
                <a:latin typeface="Calibri"/>
              </a:rPr>
              <a:t>Ambiguity</a:t>
            </a:r>
            <a:r>
              <a:rPr b="0" lang="ja-JP" sz="1000" spc="-1" strike="noStrike">
                <a:solidFill>
                  <a:srgbClr val="000000"/>
                </a:solidFill>
                <a:latin typeface="Calibri"/>
              </a:rPr>
              <a:t>”</a:t>
            </a:r>
            <a:r>
              <a:rPr b="0" lang="en-US" sz="1000" spc="-1" strike="noStrike">
                <a:solidFill>
                  <a:srgbClr val="000000"/>
                </a:solidFill>
                <a:latin typeface="Calibri"/>
              </a:rPr>
              <a:t> en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fourth dysfunction is the </a:t>
            </a:r>
            <a:r>
              <a:rPr b="0" lang="ja-JP" sz="1000" spc="-1" strike="noStrike">
                <a:solidFill>
                  <a:srgbClr val="000000"/>
                </a:solidFill>
                <a:latin typeface="Calibri"/>
              </a:rPr>
              <a:t>“</a:t>
            </a:r>
            <a:r>
              <a:rPr b="0" lang="en-US" sz="1000" spc="-1" strike="noStrike">
                <a:solidFill>
                  <a:srgbClr val="000000"/>
                </a:solidFill>
                <a:latin typeface="Calibri"/>
              </a:rPr>
              <a:t>Avoidance of Accountability.</a:t>
            </a:r>
            <a:r>
              <a:rPr b="0" lang="ja-JP" sz="1000" spc="-1" strike="noStrike">
                <a:solidFill>
                  <a:srgbClr val="000000"/>
                </a:solidFill>
                <a:latin typeface="Calibri"/>
              </a:rPr>
              <a:t>”</a:t>
            </a:r>
            <a:r>
              <a:rPr b="0" lang="en-US" sz="1000" spc="-1" strike="noStrike">
                <a:solidFill>
                  <a:srgbClr val="000000"/>
                </a:solidFill>
                <a:latin typeface="Calibri"/>
              </a:rPr>
              <a:t>  Once the stage is set and a decision has been made, all must do their part to execute the tasks at hand to achieve the mission.  If someone falls short on holding up their end, it</a:t>
            </a:r>
            <a:r>
              <a:rPr b="0" lang="ja-JP" sz="1000" spc="-1" strike="noStrike">
                <a:solidFill>
                  <a:srgbClr val="000000"/>
                </a:solidFill>
                <a:latin typeface="Calibri"/>
              </a:rPr>
              <a:t>’</a:t>
            </a:r>
            <a:r>
              <a:rPr b="0" lang="en-US" sz="1000" spc="-1" strike="noStrike">
                <a:solidFill>
                  <a:srgbClr val="000000"/>
                </a:solidFill>
                <a:latin typeface="Calibri"/>
              </a:rPr>
              <a:t>s up to his or her peers to hold him or her accountable.  Though it can be awkward it is absolutely necessary.  There isn</a:t>
            </a:r>
            <a:r>
              <a:rPr b="0" lang="ja-JP" sz="1000" spc="-1" strike="noStrike">
                <a:solidFill>
                  <a:srgbClr val="000000"/>
                </a:solidFill>
                <a:latin typeface="Calibri"/>
              </a:rPr>
              <a:t>’</a:t>
            </a:r>
            <a:r>
              <a:rPr b="0" lang="en-US" sz="1000" spc="-1" strike="noStrike">
                <a:solidFill>
                  <a:srgbClr val="000000"/>
                </a:solidFill>
                <a:latin typeface="Calibri"/>
              </a:rPr>
              <a:t>t room for </a:t>
            </a:r>
            <a:r>
              <a:rPr b="0" lang="ja-JP" sz="1000" spc="-1" strike="noStrike">
                <a:solidFill>
                  <a:srgbClr val="000000"/>
                </a:solidFill>
                <a:latin typeface="Calibri"/>
              </a:rPr>
              <a:t>“</a:t>
            </a:r>
            <a:r>
              <a:rPr b="0" lang="en-US" sz="1000" spc="-1" strike="noStrike">
                <a:solidFill>
                  <a:srgbClr val="000000"/>
                </a:solidFill>
                <a:latin typeface="Calibri"/>
              </a:rPr>
              <a:t>Low Standards</a:t>
            </a:r>
            <a:r>
              <a:rPr b="0" lang="ja-JP" sz="1000" spc="-1" strike="noStrike">
                <a:solidFill>
                  <a:srgbClr val="000000"/>
                </a:solidFill>
                <a:latin typeface="Calibri"/>
              </a:rPr>
              <a:t>”</a:t>
            </a:r>
            <a:r>
              <a:rPr b="0" lang="en-US" sz="1000" spc="-1" strike="noStrike">
                <a:solidFill>
                  <a:srgbClr val="000000"/>
                </a:solidFill>
                <a:latin typeface="Calibri"/>
              </a:rPr>
              <a:t> on a successful team.</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 finally, at the top of the pyramid is </a:t>
            </a:r>
            <a:r>
              <a:rPr b="0" lang="ja-JP" sz="1000" spc="-1" strike="noStrike">
                <a:solidFill>
                  <a:srgbClr val="000000"/>
                </a:solidFill>
                <a:latin typeface="Calibri"/>
              </a:rPr>
              <a:t>“</a:t>
            </a:r>
            <a:r>
              <a:rPr b="0" lang="en-US" sz="1000" spc="-1" strike="noStrike">
                <a:solidFill>
                  <a:srgbClr val="000000"/>
                </a:solidFill>
                <a:latin typeface="Calibri"/>
              </a:rPr>
              <a:t>Inattention to Results.</a:t>
            </a:r>
            <a:r>
              <a:rPr b="0" lang="ja-JP" sz="1000" spc="-1" strike="noStrike">
                <a:solidFill>
                  <a:srgbClr val="000000"/>
                </a:solidFill>
                <a:latin typeface="Calibri"/>
              </a:rPr>
              <a:t>”</a:t>
            </a:r>
            <a:r>
              <a:rPr b="0" lang="en-US" sz="1000" spc="-1" strike="noStrike">
                <a:solidFill>
                  <a:srgbClr val="000000"/>
                </a:solidFill>
                <a:latin typeface="Calibri"/>
              </a:rPr>
              <a:t>  When people don</a:t>
            </a:r>
            <a:r>
              <a:rPr b="0" lang="ja-JP" sz="1000" spc="-1" strike="noStrike">
                <a:solidFill>
                  <a:srgbClr val="000000"/>
                </a:solidFill>
                <a:latin typeface="Calibri"/>
              </a:rPr>
              <a:t>’</a:t>
            </a:r>
            <a:r>
              <a:rPr b="0" lang="en-US" sz="1000" spc="-1" strike="noStrike">
                <a:solidFill>
                  <a:srgbClr val="000000"/>
                </a:solidFill>
                <a:latin typeface="Calibri"/>
              </a:rPr>
              <a:t>t think holistically (about the team) and think only of themselves, status and ego get in the way of achieving team results.  It is very difficult, nearly impossible, for the organization to achieve success when people are focused on themselves and their individual contributions and accolades.</a:t>
            </a:r>
            <a:endParaRPr b="0" lang="en-US" sz="1000" spc="-1" strike="noStrike">
              <a:solidFill>
                <a:srgbClr val="000000"/>
              </a:solidFill>
              <a:latin typeface="Calibri"/>
            </a:endParaRPr>
          </a:p>
        </p:txBody>
      </p:sp>
      <p:sp>
        <p:nvSpPr>
          <p:cNvPr id="5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C8786-7780-4A43-AE0F-D90DBD287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1160" y="696960"/>
            <a:ext cx="4648320" cy="3486240"/>
          </a:xfrm>
          <a:prstGeom prst="rect">
            <a:avLst/>
          </a:prstGeom>
          <a:ln w="0">
            <a:noFill/>
          </a:ln>
        </p:spPr>
      </p:sp>
      <p:sp>
        <p:nvSpPr>
          <p:cNvPr id="5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D6E32-132A-43A7-A2CB-025E6648B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F0BE1-7465-4FFE-BE1D-2CF1C6FDC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81160" y="696960"/>
            <a:ext cx="4648320" cy="3486240"/>
          </a:xfrm>
          <a:prstGeom prst="rect">
            <a:avLst/>
          </a:prstGeom>
          <a:ln w="0">
            <a:noFill/>
          </a:ln>
        </p:spPr>
      </p:sp>
      <p:sp>
        <p:nvSpPr>
          <p:cNvPr id="5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6ECE8-97ED-43D4-A76E-C48CAE8A9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BD85A-71FC-4A89-AEAE-B15BA378A0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9FC85-36D6-4132-9369-4BFBDDF201E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8DBC233-F309-407B-BE19-E2A7A013611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F8C4B47-74B1-4ED2-9361-1982704ACBB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BBE46D-59EA-45BE-87BA-B32ECD10D17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EB10E89-EB13-453B-A20E-68440EE319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36A38D-DF3B-4536-AAD8-2F73E9274CA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D1B210B-C03E-4592-9E8E-6930A47A1F3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0216EE3-CA8E-47BC-B1C9-16072EE583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B61D169-34F3-4E0B-85A2-12C9DB3B102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090977C-EFEC-416B-9B99-6C87555CFA1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211F5FF-A625-4033-A78E-C9656B622FA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3064C-AADB-4A7B-ADA2-E84E60F6FE9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739270E-A357-4796-BEBF-0C6604ADA58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28E7396-4FA8-4F67-971C-D64138388C5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F37EBC3-68F3-4D5B-A05D-D10029A692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F8CA198-60FC-4F5B-8363-4407D62239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895A881-CDC0-4ADE-881B-FE0FBFF083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5DB3A46-F055-4BA9-804B-900829CE10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A21D78D-3032-44F1-84BB-94E90658DD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8B8381A-729F-46F0-ADB5-0B745AE577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8F1B422-BC05-421F-A8F7-34F67883699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AC786C9-2A4B-4C18-89A0-FCD943BA239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325D8D-46A2-4492-B485-C0F29D1A410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A46A1BE-7CAD-4057-8FA0-C803A35C8B8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EE619DD-5E1D-4027-93F7-A91199F244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14FF3A7-FC42-458F-A986-7B9E3E015A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B7825CB-525B-48A2-A57B-E75FFFC4E9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6E10A46-44F4-4DF9-BC11-235852D5F6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9D4385B-BEE6-4FE9-A0F1-8434038B1C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44200E7-06EF-4235-84AE-6B84B7341B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96F240B-D6C9-43E8-86C4-EA8C229166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9D0D764-DC00-4983-A415-CF80BFFAA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EEAA06B-0497-4F37-9DE1-0439195EB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C1B63D-D8E0-4616-BF6C-DA85C3331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A243D7F-4521-4C56-9854-E0CF9185BB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8500BC9-63EE-44B3-8E25-2A81AE6973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363DF6D-DA3F-49E7-92B4-963760D39B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5B3CD2A-EB52-484D-87B3-5D39E9AC4D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4C9BB57-993E-4EB4-98CD-273BCF5EA7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DC7F33A-42A7-40D6-B694-5BB873F494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D07BAC8-F8F2-440B-9B5D-520D7EF755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4A24348-4941-4451-88B6-0CDD5BE71F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5B1B93F-26DF-444E-972D-BE318CA30A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CFF9FB-FFE3-48D0-A7D4-6B5AA27BC7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45C370-02FE-4835-94DB-87CD8664D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A8C56E6-16C9-44E3-AF6D-B6A6290A65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2896674-D575-4C9B-B0D8-A88CA994B5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8D38CB4-768C-4D4A-8929-E718A8319C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964A627-DDCB-4BA1-905E-9A023EFB2B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51EE542-5F06-447C-944A-B030A297C3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380AF3-DA14-4BB4-B3DB-A96E5354B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973B84-906C-4D00-8FD4-0F596E05C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9FBB70-EAAE-4177-AE65-DBAAD3558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301A8D-671E-480D-9B79-912075886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66557D-01D2-4D19-8C4B-8606C9C91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851F8-6519-4784-A067-FEC39C4C3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59C0EE-6C2B-40BB-8A97-4636F27CC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B20161-683A-4E61-8A09-A212F1775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A3DDF7-F0C8-4D04-BE3E-72EF98E6E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3446C1-0641-4BBD-967C-B371CA6022B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17A5B1E-7297-4EB5-B9E7-90065A79FE2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C7ED001-DD9C-411E-8245-E6700D7CC0D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8808A1A-A4DB-4814-9DAD-850F964E3E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BB69D3-6D3B-4BE0-95B0-DAA7420918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F97C31-3523-478C-BA55-032939D448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14AA80C-CD94-4F33-B230-060479F828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0EC4-D5BC-4F40-BF99-F16FEB3698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FAA6F4-DCFB-4ADF-AD6D-5E52A139129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22FD35-DB11-413C-9712-557E6C8AAF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21E0115-BB08-4A0A-A4A5-172D858A22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EB604C-55D9-4730-ADA4-0A121106DE9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8BCD0A-9C11-44B4-AE1F-B5C20DA3E7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2398E7-F14D-424D-8DFC-8BEB879E98D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8DDF740-CF00-4063-997A-1F3EC6A0A77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0C5819C-7553-41B7-A4A5-96B0B9F0BAA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8F19675-EA85-46B2-95ED-E5700BC9B06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6D921A1-1BBC-4307-826F-5287ED1BD7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12282-52C4-4C0D-ACC8-3A7DC6240C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BC24894-F7C2-41AA-B3C6-C0D9DDEABF0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3689C11-2D56-451B-B65A-AE5D94D9FF0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AFB5AFB-0D9C-4510-9F47-3430A0C31DE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D7378AA-47C1-4D4C-A1E1-DE72169A071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EAD2A0B-CE7D-4632-9FBB-6F84488C1A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6C8516-CBD9-4A93-8BDF-470BD71DEC4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6286C6-1EA6-46C2-A409-0F22AA1D1CB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8D09C23-720C-49B6-8539-30FFF9CEE1C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91D38F2-64F0-4BD0-8E04-23ECDDEC17C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F8E9959-20A1-40F7-BEDA-40AA601EF2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986BDC3B-8D3C-49BE-9E80-A853A70193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BD9B6DF-C72B-43A6-8BBC-CE918E90175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C555D40-71C8-4EA1-B9BC-EEFD4EECA19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5FF7E3-22B2-4ECB-8805-12C44CF01D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CBD80A9-7767-41A7-8755-0287A395FC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DEF385D-770F-474B-8A23-880318B73DF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8BF0B00-C6F7-4050-900D-30B35BC810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8C3B3E8-8C0E-4CBC-80FD-1EA2BA7884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E35EBA0-FAD9-4629-B0A9-A2E2367C62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A737087-4265-4210-BC00-804A8C3245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2B892A8-EF85-4D86-858B-D57F8216F49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F2C5AA-2C1E-4D7B-8A81-ACB7F8A5B9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1E737BA-2680-472D-A05A-D8C4ED18F15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04E3C79-D617-4CF0-982C-434245F7E1D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6D47651-13AB-4D49-841D-D39935EFAC4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530DB9F-5D7F-4FAB-8787-9CC4D0AC6E4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7F046C5-0453-4ECE-A39D-4E15E105530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E1FEC14-53BC-4B5F-B9A9-60E23D60729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1C9E5D9-2F50-4869-8435-3D4F2B74760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2FCD693-09D8-49EE-A2B3-547160C4865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1D750DE-4300-483E-A2E8-EB82DB9E7C4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4CB3589-9503-4197-B888-4B2717D259D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81622-1E06-40EF-A16D-F40EE7B82D9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18755A-7921-43E6-8A5E-BDE8F5066DA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3FD6622-7961-4E81-8809-129F54183A4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F7D0F8D-609F-4DB3-978D-6F00BD0762A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4EE3575-E982-4EE7-9376-55473DB87A3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331A5D4-39F1-4126-B3F3-566C14897C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BB4C8ED-9232-4826-9D96-E2B8598170B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BFF659D-F785-4C0C-B5D1-2661F10D492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B933E56-5B86-4872-8A1E-1A6283134BA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AA33AD9-04FE-4B30-BB0E-47372D1E80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3D88CA1-CCAC-4EF2-8668-9799ED6D28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F265C-265E-4697-8BFB-1DF9DB93B5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0F463B-0828-4E2A-AFBA-6E0332B483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37BDE61-F9FC-4BB9-9FF8-3D56676AC85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40382CC-5D2C-4855-AB39-3F81893958B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F7DE22E-C26B-4757-814C-86A70FAB73F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CB10B22-45C8-4BBE-A328-F0AC2DFD6EC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DBC483A-E5EA-48C3-9D25-58CF6DE389A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B1472D5-1440-42E1-ABC2-FF71AE9DEEF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6B1DA8F-7E9E-4D43-BD21-828187C2AD0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46B9E01-4385-4386-B492-68D830DFD73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69EF1F3-C51E-447D-8ECB-300491C666C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92F0E-F65C-44C0-AEE7-59F48838BC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7D08A9C-ECAC-43F6-A5DE-78569B0663E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E2A12B8-5633-4F24-B57C-6E4EECFAF2F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3659A3-F796-45C6-A23D-762B73DD10A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6F21D4-621F-4CCE-B26A-162655E34F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0EC26AD-6DD7-490E-9B74-1252F07991C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51E9272-5043-4DA8-8588-B8B0796B39A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17F2872-3793-46E9-B4DE-77BE4008E8C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B6309BC-5CF9-499E-8500-FAE0195793E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EA73E2D-C647-4B08-9BC4-6A32543D2FA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18567C6-C379-450B-A2BE-A27B2CAF44B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E1C06-1F29-4175-82EA-45A804D73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9D6CC-64CC-4472-97B3-BCF60622DB25}"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9686D-7139-478E-98C0-C909DC406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14A9E-4E0D-43BD-8DC8-D74EE5B7CA2B}"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E415E-A838-4C84-8D40-89ADC4B5A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9BBFD-0B0E-4F5A-B246-95952506FDCB}"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C7D08-3851-4B2D-9197-9714D025A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EF74E-3EEA-4604-8C2A-420D3B259FA8}"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D2D74-DCAC-44F3-A09E-C04AB3158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62675-343A-413F-8B23-AB57423ECC28}"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EDCBE-45DB-4F60-BD3A-B20483308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FA050-E6A2-4D3C-A144-6154A67E98E5}"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F8B90-9FF2-4B2B-9D86-D81BD1BF7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86126-40A1-4F12-A1AC-5CAD7D613D4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7A59A-951C-4900-937B-6E0D1A0184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992F3-4938-4B35-AC48-4FDF111E98CD}"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60A5A-2BA4-4B24-9C2A-D1B4B64C0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619D2-C687-4E88-B2E4-761FE0F5DFF3}"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CDF5F-4330-4051-85B2-247657B46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25374-C820-4535-8DE8-62DD85C6DF3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ABDEA-80BA-41BF-BA4A-B2346A80D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6A915-89BD-482C-9172-86FAA96551B1}"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FD722-3A78-4C3D-8E0D-13D040F59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7</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hleen Maxwell</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ve Dysfunctions of a Te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Patrick Lencioni</a:t>
            </a:r>
            <a:endParaRPr b="0" lang="en-US" sz="2800" spc="-1" strike="noStrike">
              <a:solidFill>
                <a:srgbClr val="000000"/>
              </a:solidFill>
              <a:latin typeface="Arial"/>
            </a:endParaRPr>
          </a:p>
        </p:txBody>
      </p:sp>
      <p:pic>
        <p:nvPicPr>
          <p:cNvPr id="538" name="Content Placeholder 2" descr=""/>
          <p:cNvPicPr/>
          <p:nvPr/>
        </p:nvPicPr>
        <p:blipFill>
          <a:blip r:embed="rId1"/>
          <a:stretch/>
        </p:blipFill>
        <p:spPr>
          <a:xfrm>
            <a:off x="4606920" y="1374840"/>
            <a:ext cx="3867120" cy="372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Messages from this Book</a:t>
            </a:r>
            <a:endParaRPr b="0" lang="en-US" sz="3400" spc="-1" strike="noStrike">
              <a:solidFill>
                <a:srgbClr val="000000"/>
              </a:solidFill>
              <a:latin typeface="Arial"/>
            </a:endParaRPr>
          </a:p>
        </p:txBody>
      </p:sp>
      <p:pic>
        <p:nvPicPr>
          <p:cNvPr id="540" name="Content Placeholder 3" descr=""/>
          <p:cNvPicPr/>
          <p:nvPr/>
        </p:nvPicPr>
        <p:blipFill>
          <a:blip r:embed="rId1"/>
          <a:stretch/>
        </p:blipFill>
        <p:spPr>
          <a:xfrm>
            <a:off x="2362320" y="1874880"/>
            <a:ext cx="4789440" cy="31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980720" y="48960"/>
            <a:ext cx="7425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Messages from this Book (cont)</a:t>
            </a:r>
            <a:endParaRPr b="0" lang="en-US" sz="3400" spc="-1" strike="noStrike">
              <a:solidFill>
                <a:srgbClr val="000000"/>
              </a:solidFill>
              <a:latin typeface="Arial"/>
            </a:endParaRPr>
          </a:p>
        </p:txBody>
      </p:sp>
      <p:pic>
        <p:nvPicPr>
          <p:cNvPr id="542" name="Content Placeholder 3" descr=""/>
          <p:cNvPicPr/>
          <p:nvPr/>
        </p:nvPicPr>
        <p:blipFill>
          <a:blip r:embed="rId1"/>
          <a:stretch/>
        </p:blipFill>
        <p:spPr>
          <a:xfrm>
            <a:off x="1557360" y="1600200"/>
            <a:ext cx="6029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544" name="Picture 1" descr=""/>
          <p:cNvPicPr/>
          <p:nvPr/>
        </p:nvPicPr>
        <p:blipFill>
          <a:blip r:embed="rId1"/>
          <a:stretch/>
        </p:blipFill>
        <p:spPr>
          <a:xfrm>
            <a:off x="1508040" y="1793880"/>
            <a:ext cx="612792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pic>
        <p:nvPicPr>
          <p:cNvPr id="546" name="Content Placeholder 1" descr=""/>
          <p:cNvPicPr/>
          <p:nvPr/>
        </p:nvPicPr>
        <p:blipFill>
          <a:blip r:embed="rId1"/>
          <a:stretch/>
        </p:blipFill>
        <p:spPr>
          <a:xfrm>
            <a:off x="3589200" y="865080"/>
            <a:ext cx="3162600" cy="1847880"/>
          </a:xfrm>
          <a:prstGeom prst="rect">
            <a:avLst/>
          </a:prstGeom>
          <a:ln w="0">
            <a:noFill/>
          </a:ln>
        </p:spPr>
      </p:pic>
      <p:sp>
        <p:nvSpPr>
          <p:cNvPr id="547" name="TextBox 2"/>
          <p:cNvSpPr/>
          <p:nvPr/>
        </p:nvSpPr>
        <p:spPr>
          <a:xfrm>
            <a:off x="625320" y="2751120"/>
            <a:ext cx="8201160" cy="37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It is teamwork that remains the ultimate competitive advantage, both because it is so powerful and so rare.</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If you get all the people in an organization rowing in the same direction, you could dominate any industry, in any market, against any competitor, at any time.</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Trust is the foundation of real teamwork.  Great teams do not hold back with one another.  They are unafraid to air their dirty laundry.  They admit their mistakes, their weaknesses and their concerns without fear of reprisal.</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The ultimate test of a great team is results. And considering that tens of thousands of people escaped from the World Trade Center towers in New York City and the Pentagon in Washington, D.C., there can be no doubt that the teams who risked, and lost, their lives to save them were extraordinary.</a:t>
            </a:r>
            <a:r>
              <a:rPr b="0" lang="ja-JP" sz="1700" spc="-1" strike="noStrike">
                <a:solidFill>
                  <a:srgbClr val="000000"/>
                </a:solidFill>
                <a:latin typeface="Arial"/>
              </a:rPr>
              <a:t>”</a:t>
            </a: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 and teamwork have always been a huge factor for me, in every position, in every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experienced someone taking all the credit for the good, and blaming me (and others) for all of the b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who your “First Team”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6-02-08T20:52:41Z</cp:lastPrinted>
  <dcterms:modified xsi:type="dcterms:W3CDTF">2016-02-09T12:19:43Z</dcterms:modified>
  <cp:revision>29</cp:revision>
  <dc:subject/>
  <dc:title>Leading with Impact</dc:title>
</cp:coreProperties>
</file>