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657CD-F71B-468C-A89A-ACFB2399CC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EEF82-F72F-428C-9C04-140981F17B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D67223C-1F07-4CB3-B7B2-3C13A892BD6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63CDE57-B423-42BA-BF09-62389C673BD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A1A5B8-64D1-47DF-B271-7894BB8EE71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0331D1E-DCF8-434C-8CD3-A7A152AFA9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9F6E5A5-52AA-4ADC-8DCB-8E3679E7ECB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894DCB6-AA39-4E42-842C-9D677FF441C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FB296DA-7696-4DC3-A4F7-A8C550DDC4A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9A3EEAA-F074-4437-8EF5-9F66BDB6A8D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50FFFC1-41F1-45DB-81E6-A7E27B38859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42E6EA0-CAE0-4308-94FB-9D3BFA4C352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DF8DD3-2B43-4D50-9F02-35365776E98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3D6823C-7254-48EF-9C33-9D0E2760ADE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E43788E-8A8E-45EB-BB7B-8F9C74C214F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6FBCE92-9261-44E2-98DD-0C0F5B60D4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D95E303-B6DD-4A52-A967-E957F3B82CF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6CAF118-E717-4BBA-892A-2BF8FA5986B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7E7CC29-D606-4BEF-955D-C70C221AF8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FACC44-837F-49AB-B00B-6CBE811752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112E3D0-7FB1-4C74-BA65-878CD9AE63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915775F-76CD-451E-AADA-CA79108505C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EDC6D32-4D2D-4959-92D6-195E8342538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3C1943-FEC0-4A2E-BFD6-E8682ADDA2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09BDE79-F41A-4218-8747-7012FD8F0C4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506D78D-2EC8-4887-BA74-01D9F67F0D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E3EAA91-B23E-4CAE-B864-A5C31BADB9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78944F1-8B62-4680-8C51-AE25B04A77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1779E3F-D060-455A-A77C-63F7432C6A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9B1A808-DDB9-40CD-827C-CCE4ECA12E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FCBB4C6-42F7-4C33-A0F8-F59358EB89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017ACF-2388-4228-8F80-9692ED37CD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C0F23DE-C74C-4C34-A22A-9C8A840462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1CE53D9-B52A-4A93-8525-2BBEE6142F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C8BA4B5-F226-4193-B64F-31BA9E67C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A0AB2CA-6B2A-4A28-902C-4B1D4FBF2E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23101D0-09B9-4E0A-92A2-9DEB5AB5D7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876FD6D-25F7-4CFF-A701-F812ECC048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E0DF0ED-77F8-4D66-8E5C-0D1E19F3B8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622ABD8-8B72-4FCD-A052-D3078CE5AC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05916CA-5AE3-4BBA-8D65-6A6E622999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184F660-8D20-46DC-A28E-8090CCB52F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6324D06-EDA4-47FD-8871-F66A15893B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EAB8384-2505-4691-A15A-ECD359435A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41A5CB1-DC6D-4385-91A5-7E2D066D68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E090A2-E8EE-4C8D-97C4-5B0DC9BC7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767591E-2A29-4944-A256-8E74F67F1F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F7DFDAC-FB0F-4293-8CBD-BABFA67AE8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59622FB-7998-4415-A201-8D3A6AAB49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9A09798-23BB-4716-80D2-F48D71EA3A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72D6776-11F7-423A-9BD5-71B12EA260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D5067B-2421-49DF-ACCE-E574B9672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A7DD4D-9FCC-4187-8D49-F2F79B203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170265-5255-4E0C-BADF-2F39E92A4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F9382C-A20D-4AFC-A2BF-483AEBF65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6BC0BF-7583-4971-9CCB-6CC07F12F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3FE45-7187-4829-9A15-05984BC198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8A0F53-B1B6-4785-A122-E0CFA84CF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A7497C-D10F-4C4D-AA3E-A25CB8424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DD0BFC-0724-43DF-9243-82024764E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E85AB8-81CA-48C8-80E5-72B64F4DD65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E8534A-AD80-47FA-BD4B-CABF405AE93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F28817A-FE6E-419B-B6E1-9EE843E670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5757473-23FC-401C-BC55-32E10CF4BE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843F7E2-F087-4926-898A-C3BB9055A7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1EF2551-DCD8-4F05-B1FC-C9E724E2098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5BF92BC-6F63-4112-AB01-0F5A7D2F7C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03B1-85BB-4111-9AC2-31F4991EE5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873267C-BD3F-40E7-AA18-A2B91BEB7F0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C9DE23-9E1C-4725-8C35-968BDEA444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06422D-8173-437D-9C85-AFFA441D8B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2F0065-C835-4BFA-A338-3F45B0E29A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717AB9A-7DCC-432B-8B31-D341AADB8B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6980AD3-7A2F-4A53-8A88-122815BBBD0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C31B556-B2AE-4809-B059-65403903F2D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F7AD40E-4E4E-40EB-BB96-1BB1DAA7067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C9831E1-24CD-47E6-A064-A67C6CC5C9C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133C6F8-D9A5-44E9-ABAB-54299EDA133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49D2C-16A6-4096-9760-0D3B9A7A50F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1601445-B6AC-47B3-A2F9-1397A6FEA64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1EE2F6E-F6C0-45A0-B072-B882C504669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00D66DD-E4E4-46FA-9CA1-8B333BF909D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E0B096-AA95-4AB2-8487-C8E17EE9DD5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31541E-B3B4-421A-84FF-8943731A4B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E58138-FD6B-4AB8-A233-70614FAF027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97AFABA-9EAC-4ADC-AAC6-036E1F12593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3DFC0B3-42C7-4412-A2F6-05D873FB927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A762B64-568F-4AC0-B3B7-FADB95B7676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8C70D9A-0CD0-4404-B6C4-FAA26FA9513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3A7A568-C859-4417-9E8C-D6866197A7D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549C867-48F3-49F3-B9ED-082C207FDB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D869EB4-DE77-4273-A4F8-906040AF62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3881052-C3A2-4EDE-8A81-A3A7151FD9B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F24BDBA-6C32-423C-A17D-27635ED621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1313ACB-7767-49D5-8E59-D3767C09D0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C539D86-1631-4DE0-998B-4933C950C7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3C267B-E10E-4BAC-84A8-B795177013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3E3127-7F57-410A-BFAE-D53D597BBA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284C70B-5B49-4DE4-B4AA-1E4BABCC47D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C41A0F5-7FA4-4168-99C6-C7EDF311543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80CEA87-C186-4343-9E80-B38DDA2FF73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1C3B42A-2231-4272-9E85-F65E9E9C250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1695607-D782-4C97-99A3-C882252EF0E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2BE4B13-96F7-41CD-9659-545CD12E017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183894F-C838-49AC-A8A2-53BB199AA0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92A974D-5799-4CDA-9B4E-965661B8863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146590E-DBFE-430F-9BBD-A5AD466DCF1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BF47EB8-FA32-4F70-B044-42D476C329C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135AC8-B5AD-4E23-8D8E-E4E94CED7A6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2106B9F-24F8-4F54-84EC-4978DAD486C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79F70FA-A24C-4F82-9836-381FB6ED187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8306E-CA99-4D4A-8B25-C22F5EE7D3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2998FA7-598C-453F-8E57-A21470B05E0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9C24899-75C1-4B73-A8A7-00B1AE3BE4F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B78E393-E2F7-47BD-94F7-4F6A9D33CEE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E9180D8-7C92-4A70-A892-E5CE320BC4A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3FE1B2-8F78-424C-B24D-3466DC10579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0822C5-8882-4CBB-B1E3-56D1F5CEC11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FEBAB6C-5A57-4B7C-B117-3F3804AF38F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440253B-1A39-4A2F-B493-910810FFD74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A9ADC64-B03D-404D-8E31-89CDB647B63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F11A6B3-B712-4F3D-BF46-9F27990745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C8E78-E125-4926-8AF9-3098F2B2CA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1523D7-CC87-4680-B9B3-69CA35951B4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B0D5348-D960-4807-B373-E2D949F461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CB298C7-A2A2-4BB8-8753-D5B995E3C4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30C8A14-CDBB-4858-9D1B-09AE11FAD74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33C9E24-2126-4386-96F4-3BEFDF23B67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034B345-CC87-4B37-BA56-9B808510208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F538789-F7D1-419A-B5F6-3E188134497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0F61113-1DDF-4FBA-ADD8-E6897657938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7F6265B-CF9B-43F5-9AA4-2982728F0E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C9045D-2E7F-466A-82E2-B347207D41B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BA447-CC24-43C9-AC12-CD6E15BE3A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60A6A22-5BB4-4920-A230-CF494135D5D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600A36-EFD2-4618-89CD-F813E713A98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50A900-B774-4861-B5FD-F31B5C1DE5E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8937D4-21D7-41D6-9BCD-6D2B3022669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657371A-2F7E-4F0C-A8D7-AFD1A708731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8253165-92FB-474B-897D-7CB5C55AE54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06D29AB-1A7B-46C9-9F71-BF1797B5DEF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8B058A3-7604-4EB5-99EB-5A43C37B2FB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C664086-39B7-4F97-9EAA-F2E1DD1CE35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A2795B6-0DD9-4A27-A202-950D22E8D55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898B5-FB00-4CCF-BCA3-4E39E8072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F7FBA-4FC0-421F-9B8B-E198FCA90E86}"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3402B-E215-481E-9E8A-972D96C52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0ACB6-0A70-406F-9698-EAF2029657E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8BC9E-DFAB-4CC5-80B3-638BBAC93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ED3EB-AB37-4C5E-979B-FF0FF619351B}"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93B0D-3AD3-4DAC-B7DA-14A47F389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D74A9-D45A-47A8-A7DE-F2F69D7B4FAB}"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7522E-7FF6-4E64-9389-EE1359BA0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C02E5-1DA2-4AD7-B84D-EA94EFB82F2A}"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03BAF-15B6-4AF6-917C-4D6DD0E6A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59C33-3635-4421-8F6B-0B0739E78506}"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D341A-240F-4530-9DA6-8BA4175A9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AC4F3-BFFB-462F-A061-D5B77D9B8FB3}"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3E6A1-8C9C-44D1-9D86-0A7BEDBCB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F61CF-D3B5-4D07-8629-D10292F98A75}"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96BA3-4E68-408E-8EB8-945FC098A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F6B17-E62B-42E8-9B06-E79E2D27418F}"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44189-2F60-4E53-A01F-34436EF12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A70BF-DE71-4C23-B9F8-F9596C16DB77}"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765FB-27AD-4FEA-93A3-4490234F3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B6E2C-2865-406A-81EF-F4767AD2F255}"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D2B66-D907-4184-BDB2-6B8770F30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6</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nd the One Minute Manag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ilkington</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the One Minute Mana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Ken Blanchard, Patricia Zigarmi, Drea Zigarmi</a:t>
            </a:r>
            <a:endParaRPr b="0" lang="en-US" sz="2800" spc="-1" strike="noStrike">
              <a:solidFill>
                <a:srgbClr val="000000"/>
              </a:solidFill>
              <a:latin typeface="Arial"/>
            </a:endParaRPr>
          </a:p>
        </p:txBody>
      </p:sp>
      <p:pic>
        <p:nvPicPr>
          <p:cNvPr id="531" name="Picture 2" descr=""/>
          <p:cNvPicPr/>
          <p:nvPr/>
        </p:nvPicPr>
        <p:blipFill>
          <a:blip r:embed="rId1"/>
          <a:stretch/>
        </p:blipFill>
        <p:spPr>
          <a:xfrm>
            <a:off x="4889520" y="1168560"/>
            <a:ext cx="3701880" cy="550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271080" y="1321920"/>
            <a:ext cx="8637480" cy="5232600"/>
          </a:xfrm>
          <a:prstGeom prst="rect">
            <a:avLst/>
          </a:prstGeom>
          <a:noFill/>
          <a:ln w="0">
            <a:noFill/>
          </a:ln>
        </p:spPr>
        <p:txBody>
          <a:bodyPr anchor="t">
            <a:normAutofit/>
          </a:bodyPr>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vious book: Take ONE minute a day to look into the faces of the people we lead</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ue leadership is executed using multiple leadership styles, not per person, but by task = Situational Leadership</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tuational Leadership requires 3 skills: </a:t>
            </a:r>
            <a:endParaRPr b="0" lang="en-US" sz="15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al Setting – Collaborative process used to identify and agree to the employees “SMART” goals</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gnosis – Determine a person’s development level based on competence and commitment</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ching – Ability to determine what leadership style applies at a given time to the employee’s task</a:t>
            </a:r>
            <a:endParaRPr b="0" lang="en-US" sz="13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Leadership Styles include:</a:t>
            </a:r>
            <a:endParaRPr b="0" lang="en-US" sz="15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recting – Leader provides specific direction and closely monitors the individual’s performance and provides frequent feedback</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aching – Leader continues to direct goals but solicits suggestions and begins to encourage involvement in decision making</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 Leader and the individual make decisions together. Leader facilitates, listens, draws out, encourages and supports.</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egating – Individual makes most of the decisions. Leader values the individual’s contributions and supports their growth.</a:t>
            </a:r>
            <a:endParaRPr b="0" lang="en-US" sz="13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loyees can “graduate” requiring different leadership styles as they gain experience and confidence</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 your workforce so they know what to expect as you handle employees differently</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 One on One discussions with your direct reports every 2 weeks (15-30 min each). Employee sets the agend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5" name=""/>
          <p:cNvSpPr txBox="1"/>
          <p:nvPr/>
        </p:nvSpPr>
        <p:spPr>
          <a:xfrm>
            <a:off x="457200" y="1366920"/>
            <a:ext cx="8229600" cy="5170320"/>
          </a:xfrm>
          <a:prstGeom prst="rect">
            <a:avLst/>
          </a:prstGeom>
          <a:noFill/>
          <a:ln w="0">
            <a:noFill/>
          </a:ln>
        </p:spPr>
        <p:txBody>
          <a:bodyPr anchor="t">
            <a:normAutofit/>
          </a:bodyPr>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One Minute Manager’s symbol…is intended to remind each of us to take a minute out of our day to look into the faces of the people we lead. And to realize that they are our most important resourc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he delegating style, “Keep me informed, but that’s your area – you run with the ball. You’re the technical expert around her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reating people differently, “There is nothing so unequal as the equal treatment of unequals”</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en the best leader’s work is done, the people say, ‘We did it ourselves!’”</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ituational leadership is not something you do </a:t>
            </a:r>
            <a:r>
              <a:rPr b="0" i="1" lang="en-US" sz="2200" spc="-1" strike="noStrike">
                <a:solidFill>
                  <a:srgbClr val="000000"/>
                </a:solidFill>
                <a:latin typeface="Arial"/>
              </a:rPr>
              <a:t>TO</a:t>
            </a:r>
            <a:r>
              <a:rPr b="0" lang="en-US" sz="2200" spc="-1" strike="noStrike">
                <a:solidFill>
                  <a:srgbClr val="000000"/>
                </a:solidFill>
                <a:latin typeface="Arial"/>
              </a:rPr>
              <a:t> people, it’s something you do </a:t>
            </a:r>
            <a:r>
              <a:rPr b="0" i="1" lang="en-US" sz="2200" spc="-1" strike="noStrike">
                <a:solidFill>
                  <a:srgbClr val="000000"/>
                </a:solidFill>
                <a:latin typeface="Arial"/>
              </a:rPr>
              <a:t>WITH</a:t>
            </a:r>
            <a:r>
              <a:rPr b="0" lang="en-US" sz="2200" spc="-1" strike="noStrike">
                <a:solidFill>
                  <a:srgbClr val="000000"/>
                </a:solidFill>
                <a:latin typeface="Arial"/>
              </a:rPr>
              <a:t> peopl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 love about situational leadership is that I feel that rather than working for the One Minute Manager, he is working side by side with me to help me succeed.”</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37" name=""/>
          <p:cNvSpPr txBox="1"/>
          <p:nvPr/>
        </p:nvSpPr>
        <p:spPr>
          <a:xfrm>
            <a:off x="281160" y="1366920"/>
            <a:ext cx="8555040" cy="5060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trepreneur requesting leadership assistance, “I feel I have to do everything myself. I can’t count on anyone to take on some of the things that need to be don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quote hit hom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work balance discussions result in the recommendation to “delegate” mo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ever, delegating is not an automatic solution.  It’s the objective leadership style of Situational Leadership. Employees’ task’s should be monitored for progress in order to determine the appropriate leadership style to make everyone successfu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y Directing, then Coaching and then Supporting your employees, they will finally be able to effectively execute in a Delegating leadership sty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7-01-06T16:21:32Z</dcterms:modified>
  <cp:revision>24</cp:revision>
  <dc:subject/>
  <dc:title>Leading with Impact</dc:title>
</cp:coreProperties>
</file>