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09F7-5EAE-4BD4-914D-F10AC4F3B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9230-68D0-436A-A5F9-9091A0D685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73883-1430-44F1-A5EF-FF67126E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D632E-C102-4CD4-BD1E-FF7A2528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52D7B-A69A-4262-9438-ED2F0A13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F86C6-AE83-430F-9B0E-D797D4A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0CC0F-5A38-4D79-8035-8ABDC95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B0C64-BFFE-40F2-A494-FE3ED1E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86D24-D925-4F96-86EA-80A3B0E6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FC476-13DE-4324-B9C2-E42D19CB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BD970-DBFD-4ED1-AC27-A8880876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CBE95-8E0D-4829-8541-6BDC7356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3294-4A6B-4CB5-A960-9E7571D5E7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66BB8-94DB-44F6-9625-B9B4502B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C1025-BBB5-48FA-99F5-22384DF2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D4C94-4A4F-4BEB-BEF9-C30B8C4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C9EB3-E098-4C48-ADDF-F736EB08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38F2F-576B-4D7C-B3D6-7267EFDE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36298-A9AA-44CE-9E65-314BF5D2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A5645-C593-47C5-B419-227F96B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D3DF5-04D5-4BA9-B5DF-74D61104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AD165-6843-4EF8-A205-8464EAAE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99A24-DB7C-40BD-87B9-79A6BB9D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B77A-835F-4646-A52E-0A54C170483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02D01-1EA1-434A-9B42-34EF1DD8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C18E80-61C4-43CA-ADFA-FF9E1E10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71E0C1-A366-48EE-B351-FC56F691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082BAE-6BC1-4253-AE0B-15000B30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F3CF02-BC4E-414F-9EFD-C323ABEA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AEAAF1-CCDE-4E0B-8389-FFD2FC12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76036F-4D50-4624-9E62-4C8F50DA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349444-BBAF-4E1A-AC8A-981D356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DA615C-9A9A-40F0-AF8E-334AB255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4BE894-5DE5-4DFA-9F09-88B09D7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35737-083A-4949-BF3E-C6BCD44A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470E0A-7831-43B2-A89F-7D1FB1C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07A39B-2FB2-4E6C-BD4B-FE7FEC8A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38A644-DCC3-47DD-A69B-63252A79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4137B-FB11-4FEC-9313-C010E481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E3212-632F-4569-AF8F-8D07C951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661BB-16D8-4E62-AB52-2420CA3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FA334-23E8-4498-9879-71EB856F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D42EB-DA9C-4DFE-9D38-CF3970CB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463F7-42CE-429C-B850-ABE765C9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BCF1F-1C9C-4A1D-AC74-DAD2356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02F02-2E60-4890-BC76-209B52F0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70365-E279-4395-964B-FD360E8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1E5CC-3CBF-4224-AF62-6633FF4C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C742B-7903-4ED8-87D8-2D0D96B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E69C1-5649-427B-BF0E-E66B3F7C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9FB48-021A-45BD-8EC7-8BBCC3E9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B3B46-E424-4FED-B1AD-2D26689D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97BA0-C6E8-4BE4-87C5-D50F670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859B6-AD14-428E-BB86-FE3953F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E686-88D1-4BA1-B5EF-04CA0214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ADCEC-E555-4093-92D4-7661E04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E8AE-7341-4D95-BAE0-6FF585F5A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5DBD2-83F9-4772-939C-8E136919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1CFE6-3730-4586-83AF-8C31D7B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833B0-6D1A-4E36-8889-3EB1532C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6340C-24B1-4C00-A2AD-0C36E8F9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B27F1-CEE3-4112-9DE8-5D32DAA8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FCF2F-1267-4EA2-9069-4E97C181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3804F-FEDA-4432-8CAF-9D4EC3AE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A5FEA-579F-493E-8AAD-CB74FE64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C0A90-89EA-4597-AC90-5C65A06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07ED02-E149-482D-97B7-DC0ED4F5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B5FE-3D1A-4B2D-BEA4-3CC4913167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EE955-4A55-4D6C-8FE0-83C0E8DE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24C5C-C18F-44BF-90A5-9486A8B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09A30-143C-461F-B0AC-9BDCB43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53FC8-0273-400F-9E2B-CCF93C0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FB6F4-3837-4D8C-B8B0-A639F5E4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8C3AE-821F-49CF-BB4C-F6E1F1FF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51CAB-0090-48D2-9CFC-1F4B11E9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71C80-3D85-4E89-B1B3-9CC85ADA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71D0D-E673-441D-859C-1C0A238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60D95-22FE-489D-9EFD-DE33030D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7E53-712B-4622-BF49-854A884F1B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A82EC-CC94-4490-9F6F-C3C2933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902D5-4A17-41FE-96FE-C5877062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0A60E-4EEA-49E1-A0BC-E8D6F38A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10A27-9CF7-4EDC-8F75-D6CA9C7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A6A07-61D9-48DE-802E-6B6FB81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ED7E0-0630-4A51-BA5A-63345B19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B7A5B-C58B-440C-ACF6-AAE5951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228C3-ECFF-43D8-97D9-F349A3A1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4A5DA-ADEF-4CC2-848D-869B54FF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43B11-75B7-4C0D-B76F-00EB2667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3973-FA0A-45D6-9B99-E3963436D5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EECA7-9F20-4E70-9068-28C63DBB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E3B223-C04A-4950-8359-6FD6E0D6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E6294A-4446-4988-B41B-39FBF31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5470F-B846-4BED-8A56-5704C37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863CE-D23E-476B-A050-DF313E3D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EA422C-E442-4417-8A85-78356E9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9FAB64-E073-4F04-9AA0-E378CF9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460461-5567-4F99-85CD-AAB7BF58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088D8-223A-4330-B43E-2B458121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F82D0-8A66-437B-890C-7AE80B70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310D-D6D2-44FD-AA2F-72E98E6A73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D382EE-5CA0-4693-A05E-00F5A94B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1CA8F2-9B76-400F-831D-D0A96F05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F2C1D0-BA1B-427E-8416-E9062B9B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228409-AEC5-4687-9D27-30E6D138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0874CA-20F1-465B-8144-7AA18568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C8B915-DC78-492A-995B-245FF71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B3C566-254E-4EC4-9D9E-1773F05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4D779-DFBC-4048-989D-488C038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68CEC-E2E5-40B4-9AA6-8928216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9EEF2A-9401-48E1-B779-537D441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B0EF-6F73-42A7-B44A-58D39A88B4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3A482-DCCE-48A3-BE41-610B9406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ACF878-DF23-4D62-B8BB-C5048D84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233ED-3A96-4E78-858F-51F02194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41BAF-9C06-45AC-948C-D1F8C2B8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D56637-2CB6-4FBF-8F5A-427D5319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F9D68-0662-4559-84DD-75F8ACEF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CEF0A4-E6F4-4F79-AF7E-2EFC358D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C87F7-A799-4224-9069-81E8A983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78FD8-ACC1-4AE4-A045-EDF79649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D4FC42-598B-40C9-96EA-850F686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C5D5-8F3A-48F7-B06E-62899E7628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32101-0404-484A-8363-4E406906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360010-57C4-4B9B-9A4F-B95048D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DB124E-3FE8-4808-B0F1-F3D1406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2F33F5-B5F7-4DD7-9123-CA6A4433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D279C5-F0BE-416B-8F56-6B529D89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1A5A0E-40EC-4144-B183-D78AB210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497C93-715F-4087-A9B0-8086705F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90031B-AFF5-46AB-978A-D36FF161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B15C79-91F8-42AF-9CB5-D374FBB0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01C250-8C6A-47D9-816E-169687F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7844-BCF8-4DA1-8FD2-ABF05425EA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C0F050-F1DC-4205-9FE3-DA089559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7E7DD5-E1E3-4FED-9089-D251E9A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AF5698-04F5-417C-BD74-8901B9F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61D0F4-DA94-412A-AE9D-2D359E42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01066-3B16-4E86-BB72-2ABE223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B96C99-FD83-4339-A363-488CFC87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D1145A-802C-4E8F-8A2A-28B9DA83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0AE52-37E0-4AD1-B008-686F438F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A210F-82D7-4C9E-A395-C9B5E6DD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0B91C-3CDD-4BEA-8505-6220BC90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C1502-1274-4087-AD52-AA975F008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56218-65BB-4612-B566-C347C0D67D2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88A75-8DB8-41B0-ACF7-B21BC9D91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1CD53-EF05-4DD5-BBDB-B8F374DF323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80DF7-39A3-4102-87C9-29BA7F45F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FB14C-B1A2-493A-AB75-AB0BFE7530F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387C3-9177-4F34-AA1A-2B2DBD39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0D1CB-0354-415C-B2D8-C5F3206FC1C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CB8CB-30B6-47C0-B249-F16E7145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61666-B48E-4F89-A693-3E3A1F3183A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D80FE-5076-4E56-9D69-C7523C68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2A946-DC90-4E4F-BA38-AECF455E558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1F6A4-D3E2-45CA-A4D0-657142F27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0148B-3D8A-47FE-A57C-6592973BA2B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738F9-52D5-4F32-99F9-85F629D25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9B26A-B27E-4005-998B-868CCB87B67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C8177-A422-4C06-B73E-398406F0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751F0-25FE-4B1F-B3E1-4CC23D0A377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4F1A7-CC05-4881-994D-F11684B4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79007-2CB6-4B39-9294-9EF763C34CB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5989D-B170-4DF3-A6AC-7D8CCEE93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34567-CFD6-48A3-AEF6-914A55C75A2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40E1A-BE9D-445D-A987-20B2ED36E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19320" y="3478320"/>
            <a:ext cx="5854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C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322200" y="1944720"/>
            <a:ext cx="45720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ing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s in high-performance leadership drawn from endurance 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https://images-na.ssl-images-amazon.com/images/I/510fZezb6SL._SX331_BO1,204,203,200_.jpg"/>
          <p:cNvPicPr/>
          <p:nvPr/>
        </p:nvPicPr>
        <p:blipFill>
          <a:blip r:embed="rId1"/>
          <a:stretch/>
        </p:blipFill>
        <p:spPr>
          <a:xfrm>
            <a:off x="5245200" y="1263600"/>
            <a:ext cx="3359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Oval 18"/>
          <p:cNvSpPr/>
          <p:nvPr/>
        </p:nvSpPr>
        <p:spPr>
          <a:xfrm>
            <a:off x="4673520" y="2036880"/>
            <a:ext cx="3151440" cy="315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6524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fundamental habits from 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humble in you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eyes dow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arget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he drive, drive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decide, com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, Stretch, Panic, Cras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4838760" y="2201760"/>
            <a:ext cx="2833560" cy="2833920"/>
            <a:chOff x="4838760" y="2201760"/>
            <a:chExt cx="2833560" cy="2833920"/>
          </a:xfrm>
        </p:grpSpPr>
        <p:grpSp>
          <p:nvGrpSpPr>
            <p:cNvPr id="537" name="Oval 1"/>
            <p:cNvGrpSpPr/>
            <p:nvPr/>
          </p:nvGrpSpPr>
          <p:grpSpPr>
            <a:xfrm>
              <a:off x="4838760" y="2201760"/>
              <a:ext cx="2833560" cy="2833920"/>
              <a:chOff x="4838760" y="2201760"/>
              <a:chExt cx="2833560" cy="2833920"/>
            </a:xfrm>
          </p:grpSpPr>
          <p:pic>
            <p:nvPicPr>
              <p:cNvPr id="538" name="Oval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838760" y="2201760"/>
                <a:ext cx="2833560" cy="28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5286240" y="2627280"/>
                <a:ext cx="1940400" cy="19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Oval 3"/>
            <p:cNvGrpSpPr/>
            <p:nvPr/>
          </p:nvGrpSpPr>
          <p:grpSpPr>
            <a:xfrm>
              <a:off x="5252040" y="2613960"/>
              <a:ext cx="2013120" cy="2009160"/>
              <a:chOff x="5252040" y="2613960"/>
              <a:chExt cx="2013120" cy="2009160"/>
            </a:xfrm>
          </p:grpSpPr>
          <p:pic>
            <p:nvPicPr>
              <p:cNvPr id="541" name="Oval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2040" y="2613960"/>
                <a:ext cx="2013120" cy="20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5577120" y="2917440"/>
                <a:ext cx="1358640" cy="13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Oval 2"/>
            <p:cNvGrpSpPr/>
            <p:nvPr/>
          </p:nvGrpSpPr>
          <p:grpSpPr>
            <a:xfrm>
              <a:off x="5830560" y="3191400"/>
              <a:ext cx="856080" cy="854280"/>
              <a:chOff x="5830560" y="3191400"/>
              <a:chExt cx="856080" cy="854280"/>
            </a:xfrm>
          </p:grpSpPr>
          <p:pic>
            <p:nvPicPr>
              <p:cNvPr id="544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0560" y="3191400"/>
                <a:ext cx="85608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5986080" y="3325320"/>
                <a:ext cx="541440" cy="5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TextBox 4"/>
          <p:cNvSpPr/>
          <p:nvPr/>
        </p:nvSpPr>
        <p:spPr>
          <a:xfrm>
            <a:off x="7843680" y="344952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7823160" y="403056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804080" y="48052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"/>
          <p:cNvSpPr/>
          <p:nvPr/>
        </p:nvSpPr>
        <p:spPr>
          <a:xfrm>
            <a:off x="7794720" y="50324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1"/>
          <p:cNvSpPr/>
          <p:nvPr/>
        </p:nvSpPr>
        <p:spPr>
          <a:xfrm>
            <a:off x="7808760" y="4314960"/>
            <a:ext cx="14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Straight Arrow Connector 10"/>
          <p:cNvCxnSpPr/>
          <p:nvPr/>
        </p:nvCxnSpPr>
        <p:spPr>
          <a:xfrm flipH="1">
            <a:off x="6268320" y="3617640"/>
            <a:ext cx="1553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2" name="Straight Arrow Connector 14"/>
          <p:cNvCxnSpPr/>
          <p:nvPr/>
        </p:nvCxnSpPr>
        <p:spPr>
          <a:xfrm flipH="1">
            <a:off x="6283080" y="41796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3" name="Straight Arrow Connector 15"/>
          <p:cNvCxnSpPr/>
          <p:nvPr/>
        </p:nvCxnSpPr>
        <p:spPr>
          <a:xfrm flipH="1">
            <a:off x="6283080" y="46098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4" name="Straight Arrow Connector 16"/>
          <p:cNvCxnSpPr/>
          <p:nvPr/>
        </p:nvCxnSpPr>
        <p:spPr>
          <a:xfrm flipH="1">
            <a:off x="6283080" y="49734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5" name="Straight Arrow Connector 17"/>
          <p:cNvCxnSpPr/>
          <p:nvPr/>
        </p:nvCxnSpPr>
        <p:spPr>
          <a:xfrm flipH="1">
            <a:off x="6291000" y="5221080"/>
            <a:ext cx="1553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actually showed me what was possib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enefits of extraordinary pain is its ability to focus your atten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fast driving and high performance driving is analogous to leading and leading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experience, mentoring, and structur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positive change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Techn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by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7-01-05T13:12:11Z</dcterms:modified>
  <cp:revision>22</cp:revision>
  <dc:subject/>
  <dc:title>Leading with Impact </dc:title>
</cp:coreProperties>
</file>