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A625-0EA5-4AC5-864C-65867885E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93259-7048-4033-A7C0-F67E1B73427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8350CF-F046-408E-8D6D-3119CDA7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5980CF-8466-46B3-8CAC-FDE92F4E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503B2-05F3-43DD-976A-6F6F881A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BEEB5-40BF-49A4-AB0B-4E9F432C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5A9FE-3A38-4603-B032-92E57128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044A84-017F-4B4C-BD6F-6DDB0576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2F55D-5D82-4882-A944-5014A35D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85CF2-4790-4273-A6B3-F05C0E4D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625A7-34CC-40F1-A70B-BE9CFEC7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76C1D7-E301-45EA-8311-5BD9CECC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0444-6D79-4760-8CE4-987B8857396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6F4C49-4EDF-4B21-BA29-49086797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C71C53-D81E-4058-A39C-761E202D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6D3B27-2C4A-4533-BA32-0C37D86B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E3FBBD-C7A5-4148-8B77-47F2B7CC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703D3-8291-42AC-BEF2-3AE094E6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5E34D5-43A8-4D53-A46C-CBB2D8D5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930B7-6FC4-498E-B98E-9F61DD07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9EF048-A2B5-4AF7-951A-8EE4CA6F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4BFB66-A062-4257-B986-2E714186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84ACB6-4210-4CFC-B249-C5685B8E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06C8-0351-4C5C-A3EC-1A214569C57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10DE81-985E-445E-9EF8-3617B606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3ABB73-D244-4FA1-A400-F76E7998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DFE4D3-BB87-4182-BFDB-85BA8E07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C5A434-961B-4CE7-9DF7-0CBC1B94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916E6E-C271-4FFC-AC97-7E46DCCA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31B36A-FE91-45FB-A1F6-303DF595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44D41D-B99B-43DC-9F7B-89F4F843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FFB330-4510-48B5-9B5F-C6F0A4A6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271CC1-B884-48B7-9218-A95D2E0C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68281B-FF9B-439F-99C6-5311B095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EAE75-58CA-4764-A193-566AA728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99221C-AD85-42F6-8AD8-18080A8D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E14DA0-5B9A-44E8-BFA2-E0BB1C87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BF0DA1-5E30-45B9-B93F-53217DE6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A8A25E-45FA-4234-86D8-DF541511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7E61F9-558D-4774-AF00-201D7FC2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7B36D-BB66-499F-B3C5-1DAC2CF6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1303C-FF85-4EBA-A5A1-F0AA02D1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92C92-CE9C-4284-86B9-9F9EB270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4C1CE-19AF-4F04-916A-1058D1A9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037C9-0756-4208-88C0-5EE037A7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4E016-9B69-4534-B278-6F5054B4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0BA22-D0C3-402E-8D69-C63F9C95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97CCE-955F-49E5-B997-729B5F40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4A9AE8-B347-421B-8D9D-D73D884F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615597-9597-470A-BB11-B62E7916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A15E66-15D1-4E0C-AC0A-5DA1A345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0041F-0371-4BCA-966C-DE338505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DF806-C742-4B73-B2B8-E998C461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DFF5A-E135-49FC-AB7E-13C51E29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DB118-0493-4843-A0A3-892F2D31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826E3-F5F4-450E-96EA-F1C6F539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04DB-372A-476E-9642-A221DE42F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6A112-4BEF-498F-8DC9-09B8FAE1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327EC-1EDD-4DF4-940F-AB695883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84FF1-DCE7-46F6-B222-9FD1FA9C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063A1-5D0E-4D86-8D4B-9BBD6776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FC570-8253-4D07-BCD5-2487AE5D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52B9C5-8417-4276-A7C1-D8F6CF55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1F1F9E-459A-4074-BE7E-A5B0D5BC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28160B-08C9-4356-A4A2-86516537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5A5FDA-D58D-4EC5-9F30-524E4830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912B3A-A29D-4C44-AD5A-E29E02B5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DA1E-8342-4952-85B5-860C8328DD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050229-3DAD-4324-AA36-6489659B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ED1C5F-F771-44CA-BE07-146A7818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903F93-A184-4890-BA6C-37D5E4A8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B6A692-35B0-40FB-A98D-CBB47EC8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1C63AD-D3C2-4EFC-8F0B-3ED1CCA9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DBF2A7-66B9-4EA6-B840-5769AC8B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0E92F5-ECDE-40CF-8F43-49CB71FC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505C7A-C1E7-44D0-A2BD-D5A1CFC2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3A06ED-2955-4F2F-BBB5-F848F8E2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1A50E3-42A5-4E0C-A662-59463915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AA3C-6AC2-47A3-927A-22E3EE7F79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2F33AA-0A7D-4DC6-89A6-EEDA92D7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4C5623-CF0A-4E44-896F-5250FCA2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8C4498-C588-4D32-A4F8-B56012B7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B5B1D7-5C83-4D80-ADB0-F7602E88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226BA7-1AA1-4662-B335-202C55A0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906729-1FBA-492D-84DC-D2D85D26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A46E73-F2AA-4597-8850-5DA513C0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690A62-239C-48C0-8832-B9E11D6E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591079-FE16-4EB9-8462-1DFF806A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25A957-A88F-446F-B32E-864819A5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3A61-1C29-49CF-B303-BC59F694A74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1CDC42-6269-4770-B17E-487E09EA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B244C0-95EE-4C3C-89C5-1A00966E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72CEBB-0749-4995-81EB-281A4642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43A1F9-4990-4406-A3ED-592BC431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353070-78B5-410F-B665-8436C786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D46412-96B6-4F54-AB2D-F583C4B6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3E2EBF-2DF2-4EE7-A510-DB4A7C37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083B6A-CF5A-4F81-AF52-50D495CD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7D8300-50D7-4B9E-BA03-E9AE9DBA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42A0F6-B6F5-420A-AEB0-8989677D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4232-22A4-4AA3-B98A-79AFC5F6B79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C226B9-D9CA-4CC1-96F6-D9406979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758723-50D2-4678-9B3A-A06674AE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D7FE1F-9A21-4634-BE12-AB5D3654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1B74E7-0171-4FE5-BF4C-48E0FDEE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A6DCF9-9C12-4FBC-BC4B-3441937D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1E1D55-21E8-4977-992A-D43EB3E5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14544B-2596-4055-95D5-419D4359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D1BB23-A4F9-4949-8AA9-385439D5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67BBBB-03FA-4731-9A4A-62DBD421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10CF20-5D04-48AC-8FF4-9CAD7E8C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889F8-9621-4A4E-B56D-DA694647FFC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84AB9F-6424-4D53-B07E-BE48310C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41455F-9720-47FB-A34D-81567F86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195AAD-B14C-4FA0-A9B8-9A9EB5F2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52BF70-3C68-4991-8000-F9DC3BA1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CCB503-F9BB-4E7F-9C73-BF8B476B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187240-253E-4150-834D-04935592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934569-3F6A-4180-B5F4-5666A1CF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82DF74-5C00-4F34-9FBD-41FF3121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C9017E-A56B-45D3-B105-CD773B92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3EC2DE-1D65-46F3-99D6-7ED424F8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20C0B-9852-4206-A96B-D39BF846C77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E8B110-CB64-46CC-9030-8E83B2D2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E1907A-6CD5-4086-8D59-F5F3CD8B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1167D7-99F9-4A26-B1D4-A3725F3A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7FB738-24F7-409A-BE8B-4A2A01E2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D4A132-3125-4652-8A0C-925313DB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B79384-06CD-400A-8B2D-E588D37E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873954-327A-4062-A4D8-AA918990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58B5B5-2B88-4B31-8DD1-4432B7EB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23D03A-5FF8-41E2-BD42-296F5753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F3AB14-A8DE-4ECE-9059-5111FA09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B473-5EA1-4063-AF28-EE6A580817F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F0FE15-A235-47B4-BDDD-D6B25372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F8423D-8415-44B5-AABD-A01EDCBA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CD1719-B209-467C-9F67-D9E798DE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4A79C7-D979-4109-B73F-1D8A0EA5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FD4C2F-5087-4868-84DC-697C015D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1B4402-63DD-49D7-8820-FF933B3C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0C0536-38CB-4D76-B691-35F65CE3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22E500-28F4-4497-B7D5-974A521B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F8AA5-B15A-474C-BD4B-7C50C082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5B91CA-ECB8-4316-8EF4-E6AC7AF0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C28B17-FC00-4561-9CFA-F87181541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D4A7C-C119-4CA4-8CF4-B574D2C233C3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B1456-EBDA-4AFF-9133-F49805683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7EB89-EE31-426A-B878-14E8454DD99C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D54CB-8BC9-4E5E-A0E4-ABEC98D67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0650E-2E59-4B06-A35E-C8C7C7C226C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B9C47-2466-461E-8C3A-9272FFDD1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0" t="0" r="825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786602-E288-4901-967D-9E0490C1D67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47F62-30CA-442C-9B46-92C2B4254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5E66A-88FC-4852-B5D5-25C7D3A7878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E3A827-6A28-4C93-983B-1B2929BA4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B72D9E-0C0F-49F3-A581-8FEEF992967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C1561-D0F9-4E2A-B093-A7CD87B9B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52881-CD13-4CD0-A51A-CF5E212DADE3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1CDE6-56DC-4F09-98E6-FABA9F96F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005D8-DE35-47B4-B06F-867E77498476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58B38-8FB6-4BD2-B8B1-8ED72F999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DABCD-F69F-47A3-95F9-1466FD4872A3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A8FB5-55B5-41AD-A596-8BD52C263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DD6A1-76CB-4B6B-BFDB-0FE1456CA90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E7210-A383-417C-84BE-39AE6592E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9F9E0A-80E2-4790-B7BF-8EBE201E9B96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B5101-8CA2-4F74-B48E-E0CA930FC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 – (Sam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19320" y="3478320"/>
            <a:ext cx="58546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 C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"/>
          <p:cNvSpPr/>
          <p:nvPr/>
        </p:nvSpPr>
        <p:spPr>
          <a:xfrm>
            <a:off x="322200" y="1944720"/>
            <a:ext cx="45720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ing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ons in high-performance leadership drawn from endurance ra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5" descr="https://images-na.ssl-images-amazon.com/images/I/510fZezb6SL._SX331_BO1,204,203,200_.jpg"/>
          <p:cNvPicPr/>
          <p:nvPr/>
        </p:nvPicPr>
        <p:blipFill>
          <a:blip r:embed="rId1"/>
          <a:stretch/>
        </p:blipFill>
        <p:spPr>
          <a:xfrm>
            <a:off x="5245200" y="1263600"/>
            <a:ext cx="33591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Oval 18"/>
          <p:cNvSpPr/>
          <p:nvPr/>
        </p:nvSpPr>
        <p:spPr>
          <a:xfrm>
            <a:off x="4673520" y="2036880"/>
            <a:ext cx="3151440" cy="315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6524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fundamental habits from r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humble in your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your eyes down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target fix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he drive, drive th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you decide, comm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fort, Stretch, Panic, Cras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al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5"/>
          <p:cNvGrpSpPr/>
          <p:nvPr/>
        </p:nvGrpSpPr>
        <p:grpSpPr>
          <a:xfrm>
            <a:off x="4838760" y="2201760"/>
            <a:ext cx="2833560" cy="2833920"/>
            <a:chOff x="4838760" y="2201760"/>
            <a:chExt cx="2833560" cy="2833920"/>
          </a:xfrm>
        </p:grpSpPr>
        <p:grpSp>
          <p:nvGrpSpPr>
            <p:cNvPr id="537" name="Oval 1"/>
            <p:cNvGrpSpPr/>
            <p:nvPr/>
          </p:nvGrpSpPr>
          <p:grpSpPr>
            <a:xfrm>
              <a:off x="4838760" y="2201760"/>
              <a:ext cx="2833560" cy="2833920"/>
              <a:chOff x="4838760" y="2201760"/>
              <a:chExt cx="2833560" cy="2833920"/>
            </a:xfrm>
          </p:grpSpPr>
          <p:pic>
            <p:nvPicPr>
              <p:cNvPr id="538" name="Oval 1" descr=""/>
              <p:cNvPicPr/>
              <p:nvPr/>
            </p:nvPicPr>
            <p:blipFill>
              <a:blip r:embed="rId1"/>
              <a:stretch/>
            </p:blipFill>
            <p:spPr>
              <a:xfrm>
                <a:off x="4838760" y="2201760"/>
                <a:ext cx="2833560" cy="283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"/>
              <p:cNvSpPr/>
              <p:nvPr/>
            </p:nvSpPr>
            <p:spPr>
              <a:xfrm>
                <a:off x="5286240" y="2627280"/>
                <a:ext cx="1940400" cy="19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Oval 3"/>
            <p:cNvGrpSpPr/>
            <p:nvPr/>
          </p:nvGrpSpPr>
          <p:grpSpPr>
            <a:xfrm>
              <a:off x="5252040" y="2613960"/>
              <a:ext cx="2013120" cy="2009160"/>
              <a:chOff x="5252040" y="2613960"/>
              <a:chExt cx="2013120" cy="2009160"/>
            </a:xfrm>
          </p:grpSpPr>
          <p:pic>
            <p:nvPicPr>
              <p:cNvPr id="541" name="Oval 3" descr=""/>
              <p:cNvPicPr/>
              <p:nvPr/>
            </p:nvPicPr>
            <p:blipFill>
              <a:blip r:embed="rId2"/>
              <a:stretch/>
            </p:blipFill>
            <p:spPr>
              <a:xfrm>
                <a:off x="5252040" y="2613960"/>
                <a:ext cx="2013120" cy="200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"/>
              <p:cNvSpPr/>
              <p:nvPr/>
            </p:nvSpPr>
            <p:spPr>
              <a:xfrm>
                <a:off x="5577120" y="2917440"/>
                <a:ext cx="1358640" cy="13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Oval 2"/>
            <p:cNvGrpSpPr/>
            <p:nvPr/>
          </p:nvGrpSpPr>
          <p:grpSpPr>
            <a:xfrm>
              <a:off x="5830560" y="3191400"/>
              <a:ext cx="856080" cy="854280"/>
              <a:chOff x="5830560" y="3191400"/>
              <a:chExt cx="856080" cy="854280"/>
            </a:xfrm>
          </p:grpSpPr>
          <p:pic>
            <p:nvPicPr>
              <p:cNvPr id="544" name="Oval 2" descr=""/>
              <p:cNvPicPr/>
              <p:nvPr/>
            </p:nvPicPr>
            <p:blipFill>
              <a:blip r:embed="rId3"/>
              <a:stretch/>
            </p:blipFill>
            <p:spPr>
              <a:xfrm>
                <a:off x="5830560" y="3191400"/>
                <a:ext cx="856080" cy="85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>
                <a:off x="5986080" y="3325320"/>
                <a:ext cx="541440" cy="54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6" name="TextBox 4"/>
          <p:cNvSpPr/>
          <p:nvPr/>
        </p:nvSpPr>
        <p:spPr>
          <a:xfrm>
            <a:off x="7843680" y="344952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f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7"/>
          <p:cNvSpPr/>
          <p:nvPr/>
        </p:nvSpPr>
        <p:spPr>
          <a:xfrm>
            <a:off x="7823160" y="403056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8"/>
          <p:cNvSpPr/>
          <p:nvPr/>
        </p:nvSpPr>
        <p:spPr>
          <a:xfrm>
            <a:off x="7804080" y="480528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9"/>
          <p:cNvSpPr/>
          <p:nvPr/>
        </p:nvSpPr>
        <p:spPr>
          <a:xfrm>
            <a:off x="7794720" y="503244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1"/>
          <p:cNvSpPr/>
          <p:nvPr/>
        </p:nvSpPr>
        <p:spPr>
          <a:xfrm>
            <a:off x="7808760" y="4314960"/>
            <a:ext cx="145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1" name="Straight Arrow Connector 10"/>
          <p:cNvCxnSpPr/>
          <p:nvPr/>
        </p:nvCxnSpPr>
        <p:spPr>
          <a:xfrm flipH="1">
            <a:off x="6268320" y="3617640"/>
            <a:ext cx="15534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552" name="Straight Arrow Connector 14"/>
          <p:cNvCxnSpPr/>
          <p:nvPr/>
        </p:nvCxnSpPr>
        <p:spPr>
          <a:xfrm flipH="1">
            <a:off x="6283080" y="4179600"/>
            <a:ext cx="1551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553" name="Straight Arrow Connector 15"/>
          <p:cNvCxnSpPr/>
          <p:nvPr/>
        </p:nvCxnSpPr>
        <p:spPr>
          <a:xfrm flipH="1">
            <a:off x="6283080" y="4609800"/>
            <a:ext cx="1551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554" name="Straight Arrow Connector 16"/>
          <p:cNvCxnSpPr/>
          <p:nvPr/>
        </p:nvCxnSpPr>
        <p:spPr>
          <a:xfrm flipH="1">
            <a:off x="6283080" y="4973400"/>
            <a:ext cx="1551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555" name="Straight Arrow Connector 17"/>
          <p:cNvCxnSpPr/>
          <p:nvPr/>
        </p:nvCxnSpPr>
        <p:spPr>
          <a:xfrm flipH="1">
            <a:off x="6291000" y="5221080"/>
            <a:ext cx="15530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actually showed me what was possibl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benefits of extraordinary pain is its ability to focus your atten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fast driving and high performance driving is analogous to leading and leading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experience, mentoring, and structure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 positive change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Technic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ance by Al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Trish Mooney</cp:lastModifiedBy>
  <cp:lastPrinted>2011-06-13T12:29:39Z</cp:lastPrinted>
  <dcterms:modified xsi:type="dcterms:W3CDTF">2017-01-05T13:12:11Z</dcterms:modified>
  <cp:revision>22</cp:revision>
  <dc:subject/>
  <dc:title>Leading with Impact </dc:title>
</cp:coreProperties>
</file>