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86BC-B8D6-4B76-9B8D-0DBD42415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B635-4FC8-4FA3-9AD3-1D10CFD98F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A6E9D-9249-4CD7-BF39-7F6F7D71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6FABB-25A9-422A-9D8F-DF4F8C8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8CD3-02A5-4118-B735-A26A8136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577A3-A2B9-4E6D-B0F9-1C7D34CA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02F4A-3486-4F0D-A0D8-DB5535A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CB391-64FE-4AE1-BBEB-BA57664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F981A-5064-4081-9A1C-E8DE518C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2C414-6126-4701-8DC4-FBB4C17D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E2640-FD96-44CE-8C07-E1AC3F9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294CA-FBD9-4E20-9E8E-A2238847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562C-5181-4748-A68C-46A6101A19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37888-D47B-4932-BABD-560E6F8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62E07-CA23-429D-B17C-57F99B4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4450B-5745-4073-BF43-B707742B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A1975-C4C2-42D1-B40B-0B5AF458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D0C63-A942-46B2-940B-84EAE24B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56446-9355-4A52-B1A5-64D260A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64F8D-732E-44CD-A489-D4EA19D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148D5-3272-43D4-8252-B41DC51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573D2-497F-4799-9C7B-05C88D4E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3222F-ED00-40F6-9431-23FD6CEE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4349-3E2B-4E2D-A285-74642832BF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44F3F-A6C7-4C74-A84A-776545E4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20C6D-ECC6-478A-9CCF-45DDD817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469D9F-3674-478B-8277-6617195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D350AD-38AF-4F41-9870-75FD824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741DDC-4EC8-4A27-8B74-433C83A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E9F2C9-21BF-4C72-A48B-72BA44F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9393C4-04BC-403A-B5C3-7C6D44EF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A45E1B-FBE3-4D6B-ACF8-2FDCFD5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E07F76-F32A-4AA9-A612-6AF8446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26ED4-B67F-4CEA-B12A-1FF5AB7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CC708-6021-42DA-9238-42C84D82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60175D-AED2-4B7E-A5D1-6C4B462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B4968A-0951-48B3-AC52-7EF555DC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B59031-343A-4BEF-B0C9-DAED412A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C953C-F8D3-4A76-A994-0BBF92F3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9362A-C546-4B09-840A-DC1341D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9BF0A-234F-4D86-8F63-CC49EAB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BD172-35AA-4DCB-BABE-C56BB1B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A1A13-B1D1-4BC8-AA2E-83F32875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7AA22-645F-4016-873F-79C07547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BEDD0-F096-42A8-AD10-17B8561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8888D-B7D5-40DF-9D5F-55751DD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ABE3C-BFAD-4242-870C-D73477B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AB234-DC3E-4F30-8B76-7973152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5DC48-41BB-4B08-B64D-C1C078D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B56C8-44A2-4BC5-BD35-23F986ED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7549C-9CB9-4154-A0F5-24EBA84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9FE1E-A70D-4B65-876C-888C46D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61C77-12B4-4E7D-AC9B-68CFBEC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ABDC-8F91-4937-B97A-4B327F13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42DD-BDC4-44C7-8E70-8E04B30F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1E74-6DF4-401E-AA62-7FAE528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C0DB-C91B-4163-9CB8-D620E0187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0CF0-19E7-4EE3-BE07-DEB68964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E7834-B3D8-4030-B535-896D5F7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726F6-AA4B-4EFF-AD70-CF41FF5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DF1C0-0C08-47B1-9194-A69667D8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BEBE0-08DF-4AE2-B8E2-78D70004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5B4F0-F415-45E9-99EA-744DA39A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A1DF8-21A2-40C1-B2CF-B86ED137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EC42A-6F49-40D1-A0B8-A2D1F232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5723E-46D1-4AC5-93DA-0C243176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B74C0-2A12-462C-9D89-8D22A6D2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BE5A-F48A-4DC2-9939-465DB4F8F8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56B07-987A-4960-AE2D-0701815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3343F-DAEB-417B-A2E0-A61C46F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DE70D-3E78-4A2C-AD4F-F72E148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0115A-3E04-47F2-A869-BF2929A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2D1A16-8479-4567-89D3-7671190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EEC11-3F88-48DE-935F-5FBA9E7D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03EBD-A28A-479A-8A8A-20F2EBDC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2BF49-E169-4D0D-927D-42FF2C83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1474E-5245-49AF-BFEF-18580BF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7460C-7539-4520-B42C-596D25F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5CE6-8B16-4722-A93C-2981808F33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AD055-AF0A-45A8-B3A7-80228EA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229C3-8BA0-4D85-BDC5-F11641A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9D36A-F91F-4FFF-AC9E-41BD765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58F93-2245-48E3-BAB8-6E37D04D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7206B-B4B8-47D5-A7DB-FA3F3D3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711FC-798F-4CC0-9195-62BE225A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53DC7-8035-41DC-A47F-8EF0D450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D47D0-E8CD-46B0-A415-3333A7F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466B0-ED57-4E10-8571-69751CD5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5A738-CDC4-4CBF-9564-EA1069CC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D1E5-5600-4F9E-8EB5-810C705BC7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549FD4-6C4B-493C-9F3A-5BD7BE4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28E9A-43EC-417F-8E35-49A2A98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F670B-9446-4DAB-BF94-2DA2510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B42EB-D6C7-4400-BE6F-43FC235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9D1C4-9E2B-4551-8110-26BBE61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FF4C8-BCAA-4506-9F5F-694254B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DF4E9B-6493-4540-9696-43F54C0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83912F-CABB-4579-9B29-A67204C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FC3A4-B67F-47C0-BED4-B52DC0FC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256E4-5416-4059-870B-625552C6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60F7-19D4-4E22-9336-50F85A45C6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0F238-D654-41CB-82A0-50215BF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3B634-7A6E-46EA-B214-C4DE928E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CB505-45F6-4A67-9EF6-F45103B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B4F5D-D300-4AF4-BDEF-D83097AD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8242C-1269-4839-9CC5-4FBED37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96704A-DA21-4A64-8CAC-78CB3D20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495BF-7234-451B-9675-15CB798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FF66B-E7CD-49A2-94EA-0ED56DB0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08E63-90EC-437A-BCE2-B1B91F9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A8D90-9C58-4BC0-AEF8-F38EB3FA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6449-43F4-484C-BDA6-3334A8CFE6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C08CF-DE8F-4830-8FC9-7CFBF723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E092B7-723F-4EB3-87AC-B4506B94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4D631-AF8E-4B38-8DEF-DEE12ADC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280925-FB31-4398-899E-BC9604BC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216AE-A596-45F7-BD7F-8963E464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F8AB1-5213-45AF-B3F7-EA4557C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536CAB-CBAF-4526-9B67-222D72D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68D801-7CEF-42CB-A777-2F522EF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342EE-248B-4E9B-9169-643631E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80D341-CC3F-4FDE-B421-4765D40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A697-3CC0-4F6E-923A-B07DC90114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79FF04-CCB1-47AE-BF27-EFBBD01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BE7C8-14FE-4477-8D99-0843258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0F9186-E47B-4836-9D37-1316C10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917AB1-6C2E-4AE4-8D51-3527DF7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F9780-EC28-4A0B-A6C4-3CEDC10F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EC6938-A25F-4EAE-9884-828D8639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62F051-EAD6-4B7D-B778-CE8C094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264EA-7699-4E24-98B5-70CFEDB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20251-9172-41E3-B7CD-1B4C40A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D752D-ACF1-4D98-B03D-8BDC791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3BAF-E279-4D8D-9415-399416F5ED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658F3E-6A0B-4347-B540-60073E6E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47EEA-3B7D-4B02-9806-A7E3FB4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F10578-8AF1-46FF-8812-F85BB88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4729F-229A-4DE5-A0E4-3B5AA86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ED21B-18EE-4EBC-A43E-76403B57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78A03A-1A38-47C9-BE0C-A7DC8E4F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661CE-A4F9-446F-9F36-5DD1F1E0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E501A-67E8-4F66-9756-2F7EAFA0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58B82-D361-4F72-B5A3-FBF89C6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D4DDB-DEDC-4941-90B0-39242DC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B8D5B-BC6D-4595-9093-FECEA38C9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4EC5A-73E0-43CE-8BAB-CC386044F3D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A915C-7E01-475C-B80B-37DFB66BD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EC6D6-8F68-44F1-B0A9-1871730D725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7A005-405A-46A6-9CB6-52E080632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C1F2A-999A-42DF-8190-9831EE092F0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BC769-0005-4267-8D3B-4DEAF67C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691F3-A16F-497F-87CF-BD75CE7FE28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5FC08-911C-4F4D-B7CF-C73C2FBB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35F78-0016-4CC6-BE8B-9A65BD745A07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57B45-4C83-4C50-B420-523C111A2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850BE-DFB7-4ECB-AFC1-AE879268786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8AE83-B03A-4831-81EC-8DE376B0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DE9FE-2772-4C9B-963B-7B0715DFAFB6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54053-3ABB-4A3A-9516-446F8BD5D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456DA-9F3C-42DE-9A82-ECEC167503E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1C8E3-5356-44C4-A032-516818374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BFF88-6487-47C5-8E58-05DFF1443EEF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2D775-B9D5-4831-835A-91E30CDFC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4478D-687E-488E-8EC1-327A44E96DB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0FC67-41E4-4003-BFB3-10AF913B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C5DBA-0038-48CB-85D3-3D2D1D0C139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4A2D6-8C2C-4FF0-A835-49BC94DE6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Book Review – (Sam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19320" y="3478320"/>
            <a:ext cx="5854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C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322200" y="1944720"/>
            <a:ext cx="45720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s in high-performance leadership drawn from endurance 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https://images-na.ssl-images-amazon.com/images/I/510fZezb6SL._SX331_BO1,204,203,200_.jpg"/>
          <p:cNvPicPr/>
          <p:nvPr/>
        </p:nvPicPr>
        <p:blipFill>
          <a:blip r:embed="rId1"/>
          <a:stretch/>
        </p:blipFill>
        <p:spPr>
          <a:xfrm>
            <a:off x="5245200" y="1263600"/>
            <a:ext cx="3359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Oval 18"/>
          <p:cNvSpPr/>
          <p:nvPr/>
        </p:nvSpPr>
        <p:spPr>
          <a:xfrm>
            <a:off x="4673520" y="2036880"/>
            <a:ext cx="3151440" cy="315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6524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fundamental habits from 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humble in you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your eyes dow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target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he drive, drive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decide, com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, Stretch, Panic, Cra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4838760" y="2201760"/>
            <a:ext cx="2833560" cy="2833920"/>
            <a:chOff x="4838760" y="2201760"/>
            <a:chExt cx="2833560" cy="2833920"/>
          </a:xfrm>
        </p:grpSpPr>
        <p:grpSp>
          <p:nvGrpSpPr>
            <p:cNvPr id="537" name="Oval 1"/>
            <p:cNvGrpSpPr/>
            <p:nvPr/>
          </p:nvGrpSpPr>
          <p:grpSpPr>
            <a:xfrm>
              <a:off x="4838760" y="2201760"/>
              <a:ext cx="2833560" cy="2833920"/>
              <a:chOff x="4838760" y="2201760"/>
              <a:chExt cx="2833560" cy="2833920"/>
            </a:xfrm>
          </p:grpSpPr>
          <p:pic>
            <p:nvPicPr>
              <p:cNvPr id="538" name="Oval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838760" y="2201760"/>
                <a:ext cx="2833560" cy="28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5286240" y="2627280"/>
                <a:ext cx="1940400" cy="19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Oval 3"/>
            <p:cNvGrpSpPr/>
            <p:nvPr/>
          </p:nvGrpSpPr>
          <p:grpSpPr>
            <a:xfrm>
              <a:off x="5252040" y="2613960"/>
              <a:ext cx="2013120" cy="2009160"/>
              <a:chOff x="5252040" y="2613960"/>
              <a:chExt cx="2013120" cy="2009160"/>
            </a:xfrm>
          </p:grpSpPr>
          <p:pic>
            <p:nvPicPr>
              <p:cNvPr id="541" name="Ova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2040" y="2613960"/>
                <a:ext cx="2013120" cy="20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5577120" y="2917440"/>
                <a:ext cx="1358640" cy="13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Oval 2"/>
            <p:cNvGrpSpPr/>
            <p:nvPr/>
          </p:nvGrpSpPr>
          <p:grpSpPr>
            <a:xfrm>
              <a:off x="5830560" y="3191400"/>
              <a:ext cx="856080" cy="854280"/>
              <a:chOff x="5830560" y="3191400"/>
              <a:chExt cx="856080" cy="854280"/>
            </a:xfrm>
          </p:grpSpPr>
          <p:pic>
            <p:nvPicPr>
              <p:cNvPr id="544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0560" y="3191400"/>
                <a:ext cx="85608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5986080" y="3325320"/>
                <a:ext cx="541440" cy="5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Box 4"/>
          <p:cNvSpPr/>
          <p:nvPr/>
        </p:nvSpPr>
        <p:spPr>
          <a:xfrm>
            <a:off x="7843680" y="344952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7823160" y="403056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04080" y="48052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7794720" y="50324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7808760" y="431496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Straight Arrow Connector 10"/>
          <p:cNvCxnSpPr/>
          <p:nvPr/>
        </p:nvCxnSpPr>
        <p:spPr>
          <a:xfrm flipH="1">
            <a:off x="6268320" y="3617640"/>
            <a:ext cx="1553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2" name="Straight Arrow Connector 14"/>
          <p:cNvCxnSpPr/>
          <p:nvPr/>
        </p:nvCxnSpPr>
        <p:spPr>
          <a:xfrm flipH="1">
            <a:off x="6283080" y="41796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3" name="Straight Arrow Connector 15"/>
          <p:cNvCxnSpPr/>
          <p:nvPr/>
        </p:nvCxnSpPr>
        <p:spPr>
          <a:xfrm flipH="1">
            <a:off x="6283080" y="46098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4" name="Straight Arrow Connector 16"/>
          <p:cNvCxnSpPr/>
          <p:nvPr/>
        </p:nvCxnSpPr>
        <p:spPr>
          <a:xfrm flipH="1">
            <a:off x="6283080" y="4973400"/>
            <a:ext cx="155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555" name="Straight Arrow Connector 17"/>
          <p:cNvCxnSpPr/>
          <p:nvPr/>
        </p:nvCxnSpPr>
        <p:spPr>
          <a:xfrm flipH="1">
            <a:off x="6291000" y="5221080"/>
            <a:ext cx="15530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ctually showed me what was possib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enefits of extraordinary pain is its ability to focus your atten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fast driving and high performance driving is analogous to leading and leading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from experience, mentoring, and structu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positive change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by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2:11Z</dcterms:modified>
  <cp:revision>22</cp:revision>
  <dc:subject/>
  <dc:title>Leading with Impact </dc:title>
</cp:coreProperties>
</file>