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7CC2-F2CA-47A9-BCED-C30156EF2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7B9A-7B0D-456C-93CA-CE6A6DBF06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6A8A-D3AF-44BF-82EC-F97131BC580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295B-6FB4-4E1A-A415-FA305402B4E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12AA-761F-4299-B1D6-336203CB6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C9E5-8299-4E6A-B57A-30B78863F9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0C39-94BC-40EA-B93F-5F909C76E7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5DC0-6CF7-4806-BD75-9F48228388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11DB-7E58-4140-BA5B-18BC4554AD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213D-5994-4E5C-8031-04221B17BB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CDD6-C772-4D81-B21B-8E21251163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AEA0-47C8-4C40-AC7E-9C43D493EBC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464832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724280"/>
            <a:ext cx="146376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544760" y="472428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5360" y="730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821720" y="128520"/>
            <a:ext cx="1120680" cy="111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128520" y="157320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7997760" y="1444680"/>
            <a:ext cx="114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80880" y="606888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600200" y="4800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ing Teams</a:t>
            </a:r>
            <a:endParaRPr b="0" i="1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High Leverage Behaviors</a:t>
            </a:r>
            <a:br>
              <a:rPr sz="4000"/>
            </a:b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Losada: Flourishing Teams</a:t>
            </a:r>
            <a:endParaRPr b="0" i="1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itive vs.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ositive: support, appreciation, encour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egative: disapproval, sarcasm, cynic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quiry vs 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nquiry: questions to explore others’ thin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dvocacy: championing my own 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ther vs 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ther: refer to another person, group,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lf: refer to self, this group this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Ratios – Not Quantities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8" name="Content Placeholder 3" descr="Screen Shot 2014-09-03 at 11.06.34 AM.png"/>
          <p:cNvPicPr/>
          <p:nvPr/>
        </p:nvPicPr>
        <p:blipFill>
          <a:blip r:embed="rId1"/>
          <a:srcRect l="0" t="-16613" r="0" b="-1661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Destroying Behaviors </a:t>
            </a:r>
            <a:br>
              <a:rPr sz="4400"/>
            </a:b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reating a damaging environment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271440" y="1389240"/>
            <a:ext cx="8618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Holding Back/Holding in</a:t>
            </a:r>
            <a:r>
              <a:rPr b="1" lang="en-GB" sz="1500" spc="-1" strike="noStrike">
                <a:solidFill>
                  <a:srgbClr val="00928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contributing because something/someone hurt you. Your energy is held in, you are physically present but your true energy is ab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Blaming/Accusative Tone-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being constructive. You are here to find someone to beat up verbally, the tone of your voice is signalling it is someone else’s faul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missive/Diminishing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ople are speaking, but you are not attending to them. When you do respond it is to minimize or diminish the significance of what was sai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Fightback not feedback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felt attacked or punished rather than given constructive feedback. You decide to attack back and an aggressive spiral develops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Gotchya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having an open conversation, you are selectively listening and drawing in the other person to a place where there can be only one conclusion, yours! You win, they los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ompensation/Displacemen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- Someone or something annoyed you, but rather than address the issue, you compensate or offset the feeling by doing something el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ynicism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ather than constructively disagree, you use exaggeration, negative amplification</a:t>
            </a: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and apparent humour to divert away from the point being m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couraging feedback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- You block feedback and punish those who try to give it, you are not interested in the perceptions of others, you project superiority which may be masking anxie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7924680" y="6095880"/>
          <a:ext cx="9414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6095880"/>
                    <a:ext cx="9414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18"/>
          <p:cNvSpPr/>
          <p:nvPr/>
        </p:nvSpPr>
        <p:spPr>
          <a:xfrm>
            <a:off x="103320" y="6400800"/>
            <a:ext cx="28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Building Behaviors 6+2</a:t>
            </a:r>
            <a:br>
              <a:rPr sz="4400"/>
            </a:b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Creating a flourishing environment</a:t>
            </a: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262080" y="1523880"/>
            <a:ext cx="8618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tive Listen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ps me really understand your position, and makes you feel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Open Ques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courages you to share thoughts, ideas and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mmarisi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ables us to have the same understanding of th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ppor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hows I appreciate you and your contribution – allows me to build o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hallen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how I constructively disagree with you and how I can help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larify or Contra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me to know exactly what I will do, why I am doing it and how my efforts fit in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Time Ou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ps the action so we can re-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ew and Feedbac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us to continuously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0" y="6324480"/>
            <a:ext cx="27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8199360" y="6259680"/>
          <a:ext cx="94140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9360" y="6259680"/>
                    <a:ext cx="9414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Personal Energy Managemen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33520" y="1600200"/>
            <a:ext cx="823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your partner to discu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old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new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ultimate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first training mission (physical, mental, emotional spiritual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id you pick this to be your first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esearch have you gathered to help you understand this mission more full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ituals have you put in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progress have you mad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ve others notic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has it impacted your leadership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18:49:19Z</dcterms:created>
  <dc:creator>Trish Mooney</dc:creator>
  <dc:description/>
  <dc:language>en-US</dc:language>
  <cp:lastModifiedBy>Claire Meany</cp:lastModifiedBy>
  <dcterms:modified xsi:type="dcterms:W3CDTF">2016-06-04T12:53:10Z</dcterms:modified>
  <cp:revision>11</cp:revision>
  <dc:subject/>
  <dc:title>WELCOME TO....</dc:title>
</cp:coreProperties>
</file>