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5819F-024E-401E-8A38-BBFF00D047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8A79D-644D-4857-86BD-D8F0566619E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6592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7428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6592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7428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8C477-990B-4B0D-89F4-71B79EFDCC4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592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428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592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428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DDCF9-47BE-4E3E-90F3-DF22B8CB048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26592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7428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26592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07428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6592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7428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6592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7428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6592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7428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6592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7428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2529A-D28A-4988-A34B-2BA267BE8D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6592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7428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6592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7428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C3062-4B94-436A-B15C-E866841980A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6592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7428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6592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7428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E5A1D-52B0-4037-A96B-7E6F6BFEF1D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6592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7428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6592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7428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CA132-4EF1-475F-AA0F-45B417771F3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0DA3E-6BD4-4BE8-9DCE-E4CDA5E3876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6592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7428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6592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7428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CC790-662E-44B4-9A39-600D1BA3461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6592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7428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6592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7428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B5485-7564-4D50-9265-FA02354B462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6592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7428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6592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7428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ED6DA-7BF3-45D5-946C-883ACC1266E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6592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7428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6592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7428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88a1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c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ffc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88a1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9"/>
          <p:cNvSpPr/>
          <p:nvPr/>
        </p:nvSpPr>
        <p:spPr>
          <a:xfrm>
            <a:off x="0" y="464832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0"/>
          <p:cNvSpPr/>
          <p:nvPr/>
        </p:nvSpPr>
        <p:spPr>
          <a:xfrm>
            <a:off x="0" y="4724280"/>
            <a:ext cx="1463760" cy="7128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1"/>
          <p:cNvSpPr/>
          <p:nvPr/>
        </p:nvSpPr>
        <p:spPr>
          <a:xfrm>
            <a:off x="1544760" y="4724280"/>
            <a:ext cx="7599240" cy="7128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c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ffc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88a1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c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ffc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88a1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c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ffc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88a1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2" descr=""/>
          <p:cNvPicPr/>
          <p:nvPr/>
        </p:nvPicPr>
        <p:blipFill>
          <a:blip r:embed="rId2"/>
          <a:stretch/>
        </p:blipFill>
        <p:spPr>
          <a:xfrm>
            <a:off x="225360" y="73080"/>
            <a:ext cx="1225440" cy="1225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" descr=""/>
          <p:cNvPicPr/>
          <p:nvPr/>
        </p:nvPicPr>
        <p:blipFill>
          <a:blip r:embed="rId3"/>
          <a:stretch/>
        </p:blipFill>
        <p:spPr>
          <a:xfrm>
            <a:off x="7821720" y="128520"/>
            <a:ext cx="1120680" cy="1114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4"/>
          <a:stretch/>
        </p:blipFill>
        <p:spPr>
          <a:xfrm>
            <a:off x="380880" y="6019920"/>
            <a:ext cx="1430280" cy="728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c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ffc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88a1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c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ffc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88a1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2" descr=""/>
          <p:cNvPicPr/>
          <p:nvPr/>
        </p:nvPicPr>
        <p:blipFill>
          <a:blip r:embed="rId2"/>
          <a:stretch/>
        </p:blipFill>
        <p:spPr>
          <a:xfrm>
            <a:off x="128520" y="1573200"/>
            <a:ext cx="1041480" cy="1041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3" descr=""/>
          <p:cNvPicPr/>
          <p:nvPr/>
        </p:nvPicPr>
        <p:blipFill>
          <a:blip r:embed="rId3"/>
          <a:stretch/>
        </p:blipFill>
        <p:spPr>
          <a:xfrm>
            <a:off x="7997760" y="1444680"/>
            <a:ext cx="1146240" cy="1146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380880" y="6068880"/>
            <a:ext cx="1430280" cy="7286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c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ffc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88a1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c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ffc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88a1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c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ffc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88a1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c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ffc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88a1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c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ffc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88a1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c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ffc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1600200" y="54860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title"/>
          </p:nvPr>
        </p:nvSpPr>
        <p:spPr>
          <a:xfrm>
            <a:off x="1600200" y="48002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Leading Teams</a:t>
            </a:r>
            <a:endParaRPr b="0" i="1" lang="en-US" sz="2800" spc="-1" strike="noStrike">
              <a:solidFill>
                <a:srgbClr val="646b86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1560240" y="-360"/>
            <a:ext cx="758340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46b86"/>
                </a:solidFill>
                <a:latin typeface="Arial"/>
              </a:rPr>
              <a:t>High Leverage Behaviors</a:t>
            </a:r>
            <a:br>
              <a:rPr sz="4000"/>
            </a:br>
            <a:r>
              <a:rPr b="0" i="1" lang="en-US" sz="4000" spc="-1" strike="noStrike">
                <a:solidFill>
                  <a:srgbClr val="646b86"/>
                </a:solidFill>
                <a:latin typeface="Arial"/>
              </a:rPr>
              <a:t>Losada: Flourishing Teams</a:t>
            </a:r>
            <a:endParaRPr b="0" i="1" lang="en-US" sz="40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16" name="Content Placeholder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ositive vs. Nega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ositive: support, appreciation, encourage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Negative: disapproval, sarcasm, cynicis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Inquiry vs Advoca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nquiry: questions to explore others’ think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Advocacy: championing my own view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Other vs Sel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Other: refer to another person, group, compan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lf: refer to self, this group this compan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b86"/>
                </a:solidFill>
                <a:latin typeface="Arial"/>
              </a:rPr>
              <a:t>Ratios – Not Quantities</a:t>
            </a: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pic>
        <p:nvPicPr>
          <p:cNvPr id="518" name="Content Placeholder 3" descr="Screen Shot 2014-09-03 at 11.06.34 AM.png"/>
          <p:cNvPicPr/>
          <p:nvPr/>
        </p:nvPicPr>
        <p:blipFill>
          <a:blip r:embed="rId1"/>
          <a:srcRect l="0" t="-16613" r="0" b="-16613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b86"/>
                </a:solidFill>
                <a:latin typeface="Arial"/>
              </a:rPr>
              <a:t>Value Destroying Behaviors </a:t>
            </a:r>
            <a:br>
              <a:rPr sz="4400"/>
            </a:br>
            <a:r>
              <a:rPr b="0" i="1" lang="ja-JP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Creating a damaging environment</a:t>
            </a:r>
            <a:r>
              <a:rPr b="0" i="1" lang="ja-JP" sz="3200" spc="-1" strike="noStrike">
                <a:solidFill>
                  <a:srgbClr val="ff0000"/>
                </a:solidFill>
                <a:latin typeface="Arial"/>
              </a:rPr>
              <a:t>”</a:t>
            </a:r>
            <a:endParaRPr b="0" i="1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20" name="Rectangle 8"/>
          <p:cNvSpPr/>
          <p:nvPr/>
        </p:nvSpPr>
        <p:spPr>
          <a:xfrm>
            <a:off x="271440" y="1389240"/>
            <a:ext cx="8618400" cy="60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80880" indent="-380880">
              <a:spcBef>
                <a:spcPts val="524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6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0000"/>
                </a:solidFill>
                <a:latin typeface="Arial"/>
              </a:rPr>
              <a:t>Holding Back/Holding in</a:t>
            </a:r>
            <a:r>
              <a:rPr b="1" lang="en-GB" sz="1500" spc="-1" strike="noStrike">
                <a:solidFill>
                  <a:srgbClr val="009286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You are not contributing because something/someone hurt you. Your energy is held in, you are physically present but your true energy is abs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6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0000"/>
                </a:solidFill>
                <a:latin typeface="Arial"/>
              </a:rPr>
              <a:t>Blaming/Accusative Tone-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You are not being constructive. You are here to find someone to beat up verbally, the tone of your voice is signalling it is someone else’s faul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6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0000"/>
                </a:solidFill>
                <a:latin typeface="Arial"/>
              </a:rPr>
              <a:t>Dismissive/Diminishing -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People are speaking, but you are not attending to them. When you do respond it is to minimize or diminish the significance of what was sai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6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0000"/>
                </a:solidFill>
                <a:latin typeface="Arial"/>
              </a:rPr>
              <a:t>Fightback not feedback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You felt attacked or punished rather than given constructive feedback. You decide to attack back and an aggressive spiral develops.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6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0000"/>
                </a:solidFill>
                <a:latin typeface="Arial"/>
              </a:rPr>
              <a:t>Gotchya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You are not having an open conversation, you are selectively listening and drawing in the other person to a place where there can be only one conclusion, yours! You win, they lose!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6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0000"/>
                </a:solidFill>
                <a:latin typeface="Arial"/>
              </a:rPr>
              <a:t>Compensation/Displacement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- Someone or something annoyed you, but rather than address the issue, you compensate or offset the feeling by doing something els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6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0000"/>
                </a:solidFill>
                <a:latin typeface="Arial"/>
              </a:rPr>
              <a:t>Cynicism -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Rather than constructively disagree, you use exaggeration, negative amplification</a:t>
            </a:r>
            <a:r>
              <a:rPr b="1" lang="en-GB" sz="1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and apparent humour to divert away from the point being mad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6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0000"/>
                </a:solidFill>
                <a:latin typeface="Arial"/>
              </a:rPr>
              <a:t>Discouraging feedback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- You block feedback and punish those who try to give it, you are not interested in the perceptions of others, you project superiority which may be masking anxiet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1" name="Object 2"/>
          <p:cNvGraphicFramePr/>
          <p:nvPr/>
        </p:nvGraphicFramePr>
        <p:xfrm>
          <a:off x="7924680" y="6095880"/>
          <a:ext cx="941400" cy="5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4680" y="6095880"/>
                    <a:ext cx="94140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3" name="Rectangle 18"/>
          <p:cNvSpPr/>
          <p:nvPr/>
        </p:nvSpPr>
        <p:spPr>
          <a:xfrm>
            <a:off x="103320" y="6400800"/>
            <a:ext cx="286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mic Sans MS"/>
              </a:rPr>
              <a:t>www.mobilizingteams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b86"/>
                </a:solidFill>
                <a:latin typeface="Arial"/>
              </a:rPr>
              <a:t>Value Building Behaviors 6+2</a:t>
            </a:r>
            <a:br>
              <a:rPr sz="4400"/>
            </a:br>
            <a:r>
              <a:rPr b="0" i="1" lang="ja-JP" sz="3200" spc="-1" strike="noStrike">
                <a:solidFill>
                  <a:srgbClr val="008000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008000"/>
                </a:solidFill>
                <a:latin typeface="Arial"/>
              </a:rPr>
              <a:t>Creating a flourishing environment</a:t>
            </a:r>
            <a:r>
              <a:rPr b="0" i="1" lang="ja-JP" sz="3200" spc="-1" strike="noStrike">
                <a:solidFill>
                  <a:srgbClr val="008000"/>
                </a:solidFill>
                <a:latin typeface="Arial"/>
              </a:rPr>
              <a:t>”</a:t>
            </a:r>
            <a:endParaRPr b="0" i="1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25" name="Rectangle 8"/>
          <p:cNvSpPr/>
          <p:nvPr/>
        </p:nvSpPr>
        <p:spPr>
          <a:xfrm>
            <a:off x="262080" y="1523880"/>
            <a:ext cx="861840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Active Listening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elps me really understand your position, and makes you feel signific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Open Questions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courages you to share thoughts, ideas and feel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Summarising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enables us to have the same understanding of the sit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Suppor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shows I appreciate you and your contribution – allows me to build on your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Challeng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is how I constructively disagree with you and how I can help improve our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Clarify or Contract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ables me to know exactly what I will do, why I am doing it and how my efforts fit in with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Time Out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ops the action so we can re-fo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Review and Feedback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ables us to continuously improve our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13"/>
          <p:cNvSpPr/>
          <p:nvPr/>
        </p:nvSpPr>
        <p:spPr>
          <a:xfrm>
            <a:off x="0" y="6324480"/>
            <a:ext cx="278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mic Sans MS"/>
              </a:rPr>
              <a:t>www.mobilizingteams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7" name="Object 2"/>
          <p:cNvGraphicFramePr/>
          <p:nvPr/>
        </p:nvGraphicFramePr>
        <p:xfrm>
          <a:off x="8199360" y="6259680"/>
          <a:ext cx="941400" cy="59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99360" y="6259680"/>
                    <a:ext cx="941400" cy="59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b86"/>
                </a:solidFill>
                <a:latin typeface="Arial"/>
              </a:rPr>
              <a:t>Personal Energy Management</a:t>
            </a: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533520" y="1600200"/>
            <a:ext cx="8232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ffc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t with your partner to discu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Your old story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Your new story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hat is your ultimate mission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hat is your first training mission (physical, mental, emotional spiritual)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hy did you pick this to be your first mission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hat research have you gathered to help you understand this mission more fully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hat rituals have you put in pla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hat progress have you made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hat have others noticed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ow has it impacted your leadership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4T18:49:19Z</dcterms:created>
  <dc:creator>Trish Mooney</dc:creator>
  <dc:description/>
  <dc:language>en-US</dc:language>
  <cp:lastModifiedBy>Claire Meany</cp:lastModifiedBy>
  <dcterms:modified xsi:type="dcterms:W3CDTF">2016-06-04T12:53:10Z</dcterms:modified>
  <cp:revision>11</cp:revision>
  <dc:subject/>
  <dc:title>WELCOME TO....</dc:title>
</cp:coreProperties>
</file>