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A5F7C6-278F-40F7-AF76-C419233581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C5571E-AF01-476B-A36A-2DADD4E2F29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8E0021F-1B80-44A2-9021-526AE92C26B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D5F5C56-E2BB-439D-A821-82692F1A793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B672FCB-A248-4C7D-BB18-82889928AFE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A8A182C-A084-47CB-96B9-6D04F3DC72D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43FADE3-BBDF-475B-A637-3033DBA8556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B7167FF-60D8-477B-9C76-5D2CBB619DE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13D77D7-0E4E-47DD-940C-44058648089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7978B75-E76B-4A57-8433-3A9F2C8392B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B6FFA0D-12EA-4784-8EE1-D381E7B50F1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7FB0990-FC8B-4BA7-9F98-10A9FFC7DFE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D4ECC4-56DB-4E9B-87AC-63535B31323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1B23583-55BE-4DAB-872D-076E9D0641F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F1A81B9-DB1D-4687-8FEB-6A8F1D64DAB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BE35DAD-F9E8-468B-B423-EF106593362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2870971-CE0E-4F82-871B-75C3BBDB39F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506DCE6-86F3-4AA1-BCC5-4A232550620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DBD9FB2-E561-4922-BEF8-02D751D47CC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A9FB7F5-07FD-4798-B846-DF8CE92F818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B3787BC-3ED2-4CE9-89BD-AB393CB07BB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D47AD89-68FA-4611-894B-C0AF85CF2B7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768CC9AF-A70D-4AC8-924F-A034B8DA176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FE3EDA-9856-4164-8CCB-575EA0835E2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2AF88823-518D-4464-8ACA-450A5EC673C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26C2D7A-7F81-4AB8-8F4E-58947A1B2B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E6E0390-6E56-4F36-ADB6-FEDFED78AF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0EFB33F-09BE-4169-B886-BE915C40CC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EE9B7A8-EBA6-4600-8C77-632A26AC51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0D9D701-9631-4826-93C6-59A1CD8A9F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42FF2FA-A6DD-4315-82E2-F1074DD3DE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9C9581A-14CB-4898-BF7F-06F5F81565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3B03C57-101E-4705-81C6-3254A1FECE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06D5445-5DAD-4E21-A66D-019D108E71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C6D14DA-9282-4819-82E1-167F85CDCE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32F45FF-ED06-4907-857D-296A8C9C3F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717A528-12C3-4491-8B43-0B8BADBEF6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6D9DB150-76A5-4AF0-8B0C-5EC6ACA367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E10FC477-0580-4618-B943-76EC87D982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462052E-7DF4-45A6-8B2E-0F24015C80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559D79E-7625-4699-86E0-622B7A01A0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0657C39-AD8A-4AF1-BBA6-6737E394F9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2A304BA-0EC1-439F-8D8B-5B69A2115F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3E87185-A494-4DE9-8100-57478026FC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FB77FAF-0804-4628-803D-3438D5BBA5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12BB5D-0E58-48AB-AFBE-F60A6FCBDE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CB06C45-14FD-4CAC-8CBC-99EAE46981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5E318B7-C8EC-4519-A773-E92AF5A8D2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15D4B98-F85E-4F8B-9ADD-058247CC44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203D950-494D-4584-8D16-984C663E72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BE77796-F77E-4573-B9E0-76AB6F86D4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9631C9-6CEC-4603-AFEC-A1B7BB9AE1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171A208-154F-4996-811A-4FC3255DAC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4E25442-1B08-4F5C-A403-F994A8C3E0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C839289-FB4E-46CF-8CC1-C1F4AF1162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F89FD9-0F00-40C0-A0F2-8F143189A6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26799-24E7-48BC-AE97-FEA01BE2BB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E7A395-7EB3-4E87-8EC3-7E4FAE3865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9AD01E-F0B4-42EF-AC02-49B75CC089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E71FE2D-CCAA-4473-991A-2F063862A9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4692F1C-C7FC-4D20-9E05-287C73F54F8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99F7051-9AF5-44AE-A154-1708B0BF09F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CDDDAFB-FE97-4D34-B252-49942C6DC85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7402CB7-3B35-496A-ADFB-380A66F5EC4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62CD240-93F4-40CF-85E1-0A35497DAAA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1C1F5B0-B27E-4B6C-8DCB-6275C072F93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9B47CED-CAD5-452D-92FA-1B87BB437B5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85CF6-6666-4AB5-8012-1D1784ABED8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34FDACE-B6CC-40D9-BA21-A0CCB6CBEBE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57E4E4C-2576-49C2-AC9F-DF10BD0AFCE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28FA4D0-90FC-4D07-A761-4DE2B68D8A1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61DE9B7-0993-4316-BA43-5338839F180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707444A-D9BE-4C3F-967D-8C0FF079C01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6777287-FA57-44A6-B3DF-3A90331053B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C077CF8-7750-4C99-8ABA-20933B71131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A56F53E-E1BF-4668-9DB4-5F0679FC5F4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47E6058-991F-4A92-B7C0-D9BF2DB12CA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8CC08C4-FBAD-4556-ACFA-E5A28273C77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E67293-0291-459B-8477-7EEFEA6A583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85C3637-7284-489E-B33E-BB3FFF4044D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C3C0379-9798-4E02-9F63-5110AF0517F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FFD36BA-85E0-4263-9A04-CED50A505CD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CAAB4C3-D8C9-4B26-8C6A-46D1EF198EC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8A44311-F6D5-40DA-BA97-DFFC13A0FC9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5DBA848-6441-41A5-B5E7-A53E5F3D014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2C94C75-37D4-42CD-9630-20257E73AFD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C9BED3D-0D99-4E2F-9853-7706D54ECC2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F6C99C3-1D7B-46D5-97F3-34F859983A0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B7DE989-2BB7-4FB4-A455-06F07CE3FCA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ADAB3628-3161-4055-9985-B5D06EFED6A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7274E19-D4E0-4BCF-AC4C-2A2BF313E21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8F8EDB3-469D-48BB-9FB9-CB092898C62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14AA91A-6305-4D80-8B20-2633F50F8EF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19BC4DF-4DB6-4E05-83DB-00C62BA5A19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4C05E1E-B113-42AD-841C-141C1E9A90B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D482141-A12B-4817-B5DA-1C617B589EE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B67DAEC-C76F-47FC-B021-EF181B1953D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3DD69C5-5F60-44C8-AF6E-00EDA938931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BA34C2C-6556-4C24-B469-1EF57471704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02DEE19-7392-4C65-8C4D-5E701D81336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3586240-AD2C-44D6-A051-D4880712F58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353C290-8F65-403E-9B91-CDB1859FE74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9E98D62-DD7C-43B2-AAB7-9E973057CB9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221EB9F-87D3-46FB-BE87-48573F4AA97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96442DC-0C92-43C4-85E0-7FAA7DD38CC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00FCB96-CBA7-48F5-A00B-B54EB36E2CE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2548A0E-BA37-488D-BFD3-43C261CE78F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6042124-78BD-430C-9984-463C0CCB07A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0034D29-4315-4A10-93E7-BD01F72BC53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662099F-4212-4CB0-A550-2BE8D2E87D4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B7C198D-A45D-4B56-8267-F5B4FA60009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C08BAC-42B3-4AF6-82BA-DE44C70F548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37216FF-9BCB-4691-B9E0-361871B97E7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57B8BA6-5943-440D-80DD-399A079582D7}"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6426BEC-1AC7-4A72-8AAD-6E2E5B62DBE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62A894A-B18A-4104-B000-F7C90963525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C887707-9B84-4B74-B9F3-7B711237A89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2F69A13-36AE-4384-81A4-3EF1791AF0E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10F41E6-D1D9-46FD-9DE2-375B7400C76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6488104-1803-4DC6-998E-44C8EB812B6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71BFAB5-A44E-4D5B-BD9B-08A1B53ED8C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7CB5390-4442-4056-B6F0-978E6F12041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8EAFA1-E574-4520-8252-7E478D3D7C4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44433A7-40C9-4A17-BFE3-6F5CC50FB67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41EED67-9277-4E7D-A19A-0853AC1529B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816DD0C-B07F-4D4D-BDA0-B94D959153C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028EF49-40D7-4BB0-A618-00662AD148F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F9FE480-3960-4126-A057-C384170C426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AF477CF-8CE3-4B8E-8AE5-D378307DB28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CAE8C0C-5DA9-406E-B449-CAAAB2B7047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4B429A7-1192-4696-B7F7-C8EFD0CD0C9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2E49EBC-66EC-4BCE-A9A7-581E057E1D1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0FED579-B5AD-4BC5-8E5F-52EA6301290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BEB746-2C7A-4F14-B312-87BD6B8A424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6B1D11D-61FB-45AD-B08C-41023C46763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2B3D9C5-FBD4-413F-B2B7-B6E1B1C2526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673BD42-5F6C-45EF-8B83-3469018D0C4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B640CE9-6E3D-42F4-923C-BE07E3931C0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CE4E87F-FB32-4359-8C42-9C4E93C58D5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C68E764-BCC2-4B09-8E65-7C055B32F37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32925E5-FAA9-44F6-87D8-1FE4AB11547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9161F98-F989-426B-A394-D58964919B9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AB52D4D-09E4-41C7-A382-4B222E6A6A7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A839C25-EA1A-491E-B39B-82D4C887E1F5}"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EB6B7B-F31D-4B09-9FAB-AC5347D574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E0BE1B-D483-40EB-BB13-14B246BE70F4}"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E9A108-063C-41CE-B3D8-507E3AC4F0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58C24-DA87-42BF-86F7-222708BDF9DD}"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54718-E1C3-4BD9-87DD-CE00E43DA4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F24C6-1CA1-47C3-B2B4-BECC550383CE}"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CD6F42-8D5A-47A5-8F5B-B01F0E55B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1DCD33-7B60-4CE8-B824-6C30B2FDA6A6}"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EFFBC-2D45-455D-BBD9-515FCE6498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889D3-82E0-498B-851C-FF28FA618C31}"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B187D-8FBD-49E2-AF1C-C7A0FB31E3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555CA-42DD-4508-8751-C6162D341EC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C0F96-E7C1-4541-AE40-A13A28F38F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540D2F-5BEE-4D21-9485-EF02D2518F24}"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A344F6-BD07-4D7B-809A-5A4C1CD9E0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0D643D-1258-400F-970B-D17803B3F645}"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8C0B1D-152B-46FC-ADDD-544E66F2C6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46B32C-A1CC-4CBF-91C4-D41159357F51}"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4D31DF-5EDE-46D7-94AB-2FC6D53BEE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B62157-D916-4566-920A-DB82E8AD259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6F6E3F-F241-4E38-A96D-D32AFF4462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1A856A-0FC9-48B1-A080-5CDE5BA10828}"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5178F4-3AC3-42E1-A127-BA19514DB0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3</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Soos</a:t>
            </a:r>
            <a:endParaRPr b="0" lang="en-US" sz="28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Book Review</a:t>
            </a:r>
            <a:endParaRPr b="0" lang="en-US" sz="3200" spc="-1" strike="noStrike">
              <a:solidFill>
                <a:srgbClr val="000000"/>
              </a:solidFill>
              <a:latin typeface="Arial"/>
            </a:endParaRPr>
          </a:p>
        </p:txBody>
      </p:sp>
      <p:sp>
        <p:nvSpPr>
          <p:cNvPr id="53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Three Signs of a Miserable Jo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Patrick Lencioni</a:t>
            </a:r>
            <a:endParaRPr b="0" lang="en-US" sz="2800" spc="-1" strike="noStrike">
              <a:solidFill>
                <a:srgbClr val="000000"/>
              </a:solidFill>
              <a:latin typeface="Arial"/>
            </a:endParaRPr>
          </a:p>
        </p:txBody>
      </p:sp>
      <p:pic>
        <p:nvPicPr>
          <p:cNvPr id="531" name="Picture 8" descr="The Three Signs of a Miserable Job"/>
          <p:cNvPicPr/>
          <p:nvPr/>
        </p:nvPicPr>
        <p:blipFill>
          <a:blip r:embed="rId1"/>
          <a:stretch/>
        </p:blipFill>
        <p:spPr>
          <a:xfrm>
            <a:off x="4794120" y="1149480"/>
            <a:ext cx="3187800" cy="496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Messages from this Book (1)</a:t>
            </a:r>
            <a:endParaRPr b="0" lang="en-US" sz="3200" spc="-1" strike="noStrike">
              <a:solidFill>
                <a:srgbClr val="000000"/>
              </a:solidFill>
              <a:latin typeface="Arial"/>
            </a:endParaRPr>
          </a:p>
        </p:txBody>
      </p:sp>
      <p:sp>
        <p:nvSpPr>
          <p:cNvPr id="53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iserable job is not the same as a bad job</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d:  low pay, physically demanding, long commut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erable:  dread going to, can’t wait to leave, saps your energy (even when not busy),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erable jobs are everyw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ing miserable has nothing to do with the actual work a job invol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of misery – loss of productivity and added stress at h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Messages from this Book (2)</a:t>
            </a:r>
            <a:endParaRPr b="0" lang="en-US" sz="3200" spc="-1" strike="noStrike">
              <a:solidFill>
                <a:srgbClr val="000000"/>
              </a:solidFill>
              <a:latin typeface="Arial"/>
            </a:endParaRPr>
          </a:p>
        </p:txBody>
      </p:sp>
      <p:sp>
        <p:nvSpPr>
          <p:cNvPr id="535" name=""/>
          <p:cNvSpPr txBox="1"/>
          <p:nvPr/>
        </p:nvSpPr>
        <p:spPr>
          <a:xfrm>
            <a:off x="457200" y="3600000"/>
            <a:ext cx="8229600" cy="29545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nymity:  people cannot be fulfilled in their work if they are not known.  People who see themselves as invisible cannot love their job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relevance:  everyone needs to know their job matters to someone.  Employees need to see the connection between work and the satisfaction of another person.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asurement:  employees need to be able to gauge their progress and level of contribution for themselves.  Need a tangible means to measure success or failure. </a:t>
            </a:r>
            <a:endParaRPr b="0" lang="en-US" sz="2000" spc="-1" strike="noStrike">
              <a:solidFill>
                <a:srgbClr val="000000"/>
              </a:solidFill>
              <a:latin typeface="Arial"/>
            </a:endParaRPr>
          </a:p>
        </p:txBody>
      </p:sp>
      <p:sp>
        <p:nvSpPr>
          <p:cNvPr id="536" name="Isosceles Triangle 3"/>
          <p:cNvSpPr/>
          <p:nvPr/>
        </p:nvSpPr>
        <p:spPr>
          <a:xfrm>
            <a:off x="2905200" y="871560"/>
            <a:ext cx="3179520" cy="2144520"/>
          </a:xfrm>
          <a:prstGeom prst="triangle">
            <a:avLst>
              <a:gd name="adj" fmla="val 50000"/>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7" name="TextBox 4"/>
          <p:cNvSpPr/>
          <p:nvPr/>
        </p:nvSpPr>
        <p:spPr>
          <a:xfrm>
            <a:off x="3854520" y="2000160"/>
            <a:ext cx="176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ob Misery</a:t>
            </a:r>
            <a:endParaRPr b="0" lang="en-US" sz="1800" spc="-1" strike="noStrike">
              <a:solidFill>
                <a:srgbClr val="000000"/>
              </a:solidFill>
              <a:latin typeface="Arial"/>
            </a:endParaRPr>
          </a:p>
        </p:txBody>
      </p:sp>
      <p:sp>
        <p:nvSpPr>
          <p:cNvPr id="538" name="TextBox 5"/>
          <p:cNvSpPr/>
          <p:nvPr/>
        </p:nvSpPr>
        <p:spPr>
          <a:xfrm rot="18514800">
            <a:off x="2811240" y="1611000"/>
            <a:ext cx="131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rrelevance</a:t>
            </a:r>
            <a:endParaRPr b="0" lang="en-US" sz="1800" spc="-1" strike="noStrike">
              <a:solidFill>
                <a:srgbClr val="000000"/>
              </a:solidFill>
              <a:latin typeface="Arial"/>
            </a:endParaRPr>
          </a:p>
        </p:txBody>
      </p:sp>
      <p:sp>
        <p:nvSpPr>
          <p:cNvPr id="539" name="TextBox 6"/>
          <p:cNvSpPr/>
          <p:nvPr/>
        </p:nvSpPr>
        <p:spPr>
          <a:xfrm rot="3130200">
            <a:off x="4578840" y="1630080"/>
            <a:ext cx="189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mmeasurement</a:t>
            </a:r>
            <a:endParaRPr b="0" lang="en-US" sz="1800" spc="-1" strike="noStrike">
              <a:solidFill>
                <a:srgbClr val="000000"/>
              </a:solidFill>
              <a:latin typeface="Arial"/>
            </a:endParaRPr>
          </a:p>
        </p:txBody>
      </p:sp>
      <p:sp>
        <p:nvSpPr>
          <p:cNvPr id="540" name="TextBox 7"/>
          <p:cNvSpPr/>
          <p:nvPr/>
        </p:nvSpPr>
        <p:spPr>
          <a:xfrm>
            <a:off x="3860640" y="3008160"/>
            <a:ext cx="127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nonym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4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Sunday Blues are those awful feelings of dread and depression that many people get toward the end of their weekend as they contemplate going back to work the next 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marketing executive can be miserable making a quarter of a million dollars a year while the waitress who serves her lunch derives meaning and satisfaction from her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eople need to be reminded more often than they need to be instru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his Book Meant To Me</a:t>
            </a:r>
            <a:endParaRPr b="0" lang="en-US" sz="3200" spc="-1" strike="noStrike">
              <a:solidFill>
                <a:srgbClr val="000000"/>
              </a:solidFill>
              <a:latin typeface="Arial"/>
            </a:endParaRPr>
          </a:p>
        </p:txBody>
      </p:sp>
      <p:sp>
        <p:nvSpPr>
          <p:cNvPr id="544" name=""/>
          <p:cNvSpPr txBox="1"/>
          <p:nvPr/>
        </p:nvSpPr>
        <p:spPr>
          <a:xfrm>
            <a:off x="457200" y="1728720"/>
            <a:ext cx="8229600" cy="4073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 Your Stor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arly years….ug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was almost out of here…actively looking for work in ‘9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chance, fell into a new position that really suited me in ’96.  Addressed all three axis from a job satisfaction standpoi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me on the road to being here toda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lass largely focuses on leadership, cannot overlook the importance of manag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leaders to be successful, they need good managers that embrace the principals I have describ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John.Soos1</cp:lastModifiedBy>
  <cp:lastPrinted>2011-06-13T12:29:39Z</cp:lastPrinted>
  <dcterms:modified xsi:type="dcterms:W3CDTF">2013-08-16T20:27:43Z</dcterms:modified>
  <cp:revision>29</cp:revision>
  <dc:subject/>
  <dc:title>Leading with Impact </dc:title>
</cp:coreProperties>
</file>