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2139-3D9C-48CE-B0C3-BC16D9FB7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BA729-9368-49F7-B266-91F1985CEE6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674397-1240-4CBD-AD88-C0DF5976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22CCC0-D0EB-4197-877B-EB2AEB39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DE2E93-0A07-4C22-8D4E-79CEC09A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2B0793-ECBB-4C4F-AECF-9B603BB5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8E28D5-197D-425D-A5FB-E299AC8E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D96D95-B43A-4B37-8628-B3207E3C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4457A2-9D73-442B-A995-19F9F52C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A593F1-C151-4CA1-92ED-6DB653A4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E1B1DD-D9C4-41B9-A6A5-459974AC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5DBF52-88E4-47EA-9CA6-FBC2300E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C472-3997-4E5D-83C9-77D668CEF25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727795-D191-4816-9525-66DBAEF5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F7DD03-1986-4592-91CF-4F10205E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DCA22F-8E9C-4B81-B990-70E6BB36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526CB5-70A6-4CB9-90F5-D980858B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8D255E-76BC-4E0B-A88D-4AC37BDE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A2B2DF-1CCC-4508-B966-B4EA4C66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9BAF8B-E178-4C90-AA4D-50FDCEA3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ACF2E6-4B8D-45B7-9F40-812444C3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AE4C94-7A14-4845-B82D-D7AF8AF7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CB0545-0846-4600-AE7E-45AC5D2E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55BD5-C3C1-4D7D-91A4-4AC532A3796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E39CBD-9678-4361-94F5-B0E77C6C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738F70-52A6-4650-8BF3-B6B212D0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0ED88C-5C96-40D7-90D5-D71C3231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F47CC7-A216-499E-AF7E-814F7307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5428D6-EA34-4173-9AAF-67CE8DAE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36506B-57E6-48D6-92F7-402F2F60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616D94-9C32-45A1-9E09-7265F5BD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04BAF8-DEEF-47F0-A01F-26E9F710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BDFD7B-0505-45C5-A3E8-6E8684B3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2C8C95-7D2B-4BFA-87D2-C8F4AD2B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C4339-A575-48FC-83A7-4B2D93E7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17E158-2733-438C-9302-626694F1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06570A-9E55-495E-8322-0B301B2A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1773B9-4B88-4F8A-889B-5872AEA9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F59133-BBB6-4D82-A220-BFBCDC61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360F08-C6AB-4384-83CD-D9D58C1A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FC1300-9050-49C6-A83B-DBD0376C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090CD5-E3F1-4415-AB19-0E73A12A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F8EB9D-810F-4995-8E1F-F4545002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071D49-4DDD-4135-B131-38492FF1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2020C9-8F4F-488F-9FF0-CE627C6B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6B145-E8DB-42D5-BBEB-674647D3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9B4BA9-770C-49B3-B5DD-D0FD5DBE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9CC81B-DDD4-4314-8934-996CB7D9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0818FB-1D89-41AC-9A4F-9E4EE83E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DEC88D-E1E9-4558-8194-9A384D76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17599E-0199-4208-8B12-A3FC9403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3804C-794D-4132-BF93-4A7A8B1A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6C0C3-F36B-4CE6-BFA9-EACF6BB4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20BD8-FDF4-4BCD-A1E4-D622FD14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0F356-0079-4150-A0AC-B8FACB22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0EEA9-3520-4745-8637-7CF36932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ECCC0-B072-40EA-A215-9DB96325EB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78693-CD33-4877-B83F-60E9823F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34174-8029-40EF-967A-61ADDCD3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0607D-150A-4DB1-BAE8-7098C93E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973C9-C3F5-4128-8D96-D424A313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86508-E4BB-4DB3-B87C-908A3354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38ED36-9851-46CB-AE05-4FC50FF2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570973-65AB-43B5-96BD-5F36EA71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240139-A0FE-4760-99BC-0360F8B0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00B3A1-52EB-4E4C-9000-2BFF4D98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FE5226-C602-4A7F-A105-59F0BA8E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E27B3-CDF6-4133-B719-223DE4DBB6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312E35-F634-4F15-B977-12A3F295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8808B0-DAB4-4E81-87C0-DA4841D9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A4890A-58EC-46FA-BA64-ED02F1B4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D062AE-4439-497E-B3B5-46E960B6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263906-450C-4DE1-9367-57E1ADCE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EEA9B5-59D7-4848-8728-400F92E0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8632FD-3D2B-4EE7-9327-8B09497A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EECC1D-2767-4B63-BADF-1A8D8C37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B76A95-88B8-46E1-8170-F8A081CF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F6E2D7-A386-454D-AF12-2202131A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CBE2B-08B0-4079-91A1-9256C2FFD5B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A002AE-494A-471B-9A89-CB432430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34B6C6-7300-44F3-999B-5E93EEC5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5CB6BB-BB33-4382-A3C7-18AE28BF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25F187-89E8-42D4-8FC0-30EC029B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B42A15-9004-4192-A14A-20A0994B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DBFFAD-6C28-4E26-81DB-3A157E7F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7F7192-FC30-463D-A720-BF616A45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8B7093-EA7E-49F7-B322-3C14E2EE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4C7599-5866-48B4-A6DD-B1EF9CE5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51FEF1-8916-4EBE-9496-048A05F8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3A458-1A45-4A1C-946C-B583F350B70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AB1038-2F55-486B-AE03-8AC91CA9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A54AAB-E8A1-4620-A6D2-D17FFE1D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8106E4-D0C0-4301-A136-1AD32F76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150B85-5395-4626-AFCC-16BA5DC3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0C0F41-9F97-4D94-AE00-BE7A18BD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73D8E5-B55A-4A22-AFD4-A3BA3062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F11AEE-E7AD-48C0-80C6-4575BD29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3E3626-72EB-4B60-9B05-A0E2B171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6FD036-C008-4BAD-8C2F-0773448E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8D0350-2A81-41F9-A256-56603265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42D5B-D51B-4526-B45C-DAB411321FB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C30B32-AAF7-4F05-AE97-DA499CF8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BF5C5D-49E7-48D8-97F9-A9B06D34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02F92B-AEBE-4F57-BBA5-AECC4D56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71D9AC-4854-43AA-978D-7CC17176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0EFE84-5203-4E12-9E4B-FA3F5B98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3D46CE-13EE-48F0-97DE-1FC078E4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730164-B111-4F82-BCD9-7D0F216E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50EA23-5509-483C-BCC9-3101AE5E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30E9C5-4D7C-48F8-BFDC-81931394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5D5517-F0FC-4AE3-9CA8-E10D82B4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79612-A478-4504-B9B3-58AE119EC9B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0FE2DE-4CE4-4833-A18D-B25CAC50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A848BE-9F24-4CE8-A5C5-7E5ABE5B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20AA50-5DEE-449C-BE3B-8B5F1284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DD0F4C-07A4-480B-9319-22287768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EE1753-6E1F-481E-938B-CFEFDD0C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533DCB-F4F2-49A7-8E4A-93EB194D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FB83C3-CAB7-4515-A37F-C4752C2A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A45284-EB98-4AB1-8054-671D7C4A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7FCD81-4A0D-4BCC-9192-B22B4EA3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49F2B7-7D08-4FEF-954E-6D8F6307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BC76B-5BBE-456B-860A-638754F17E9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4F6008-89FF-4933-9611-34661326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0BC7E5-E02C-4FCF-ADD6-FDA0A842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A59C41-4BA1-4A64-BA3A-A4FD44DD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8C2266-53F1-44B9-B5AC-D3E9C191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0DA881-6935-4897-B7AE-7B1F981D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D564EC-21AE-4576-B3C2-0D064DEA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84D714-B691-428E-9FB8-73F53042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C358D9-F174-40D0-AFFB-3014D834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CC71FA-7FB1-4D74-8903-050C9182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4D09E7-68D6-4B49-98BE-7C8926CE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9B297-A7BE-4B12-9213-B9A12583CD8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71E942-9057-4F92-82DA-7C510402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952748-F112-4294-9F49-75198B62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72A62D-ACAA-4A1C-89D4-8F8F480B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8183D5-9ABC-4D23-8116-10E96E02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27047B-5CE6-4762-8563-857C1838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D985C4-F01B-49E1-908F-A63F7087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524FE1-386B-4E1F-8376-5C0AB39B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E1EF1A-0F3E-4012-B72B-BE6430D6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6E21DD-7B57-430D-8934-57CC5258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7A4219-E496-41A2-AE62-B577DBF9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CE9B0C-3962-4910-A5FE-9A76BD0AC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C77B01-53BF-4E44-BE52-391FBE052A32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0BD86-7E81-46EF-9180-500892741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6AEBC-33A6-4D03-8E0E-0659165DF8D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78526-9A2C-43C3-9288-DDCBD7367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05667C-BE4C-40D7-AB27-F494C4ECB21D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C879E-9B3C-49BF-B899-CC51BDC2E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2" t="0" r="826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6C052-AD54-4D83-AA20-FBDC8C0EC5B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98889-12FE-4E9C-930C-52A4C201A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68AAF1-4AF3-45A6-8FAF-1915255392F4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817E93-E7AE-4E9C-8BA0-ADD77CA47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A69C33-5D78-4852-8905-1B5DEE91F804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BD80D1-55C6-47A9-AF2F-13D019D70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04B80-FA46-4CE0-8023-5E13DDC79E0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C13A81-FCD0-4950-91EC-5DD07BF03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49A48-E451-493B-879E-387E7DB3D98A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41AA1-121C-4A3B-8A2F-D4DFDD132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14ADB6-16E6-4278-B834-CD4C313F80F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33D00D-AB85-4CBA-8088-870282AA8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56C1C5-213B-465E-BF68-A34BA2471C46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C65BDD-4445-4F78-81A4-6F998236A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476F13-39CE-4765-A767-9EF96D064D9B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71BEC9-7791-4B88-87CC-2BEDAB7CA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G Senior Leadership Cohort Program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Book Review – (Sam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actice of Adaptive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s:  Ron Heifetz and Marty Lin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Content Placeholder 6" descr="41FMIpGQe+L._SL500_AA300_.jpg"/>
          <p:cNvPicPr/>
          <p:nvPr/>
        </p:nvPicPr>
        <p:blipFill>
          <a:blip r:embed="rId1"/>
          <a:srcRect l="0" t="-6022" r="0" b="-602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I Would Like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Your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2:32:45Z</dcterms:created>
  <dc:creator>Trish Mooney</dc:creator>
  <dc:description/>
  <dc:language>en-US</dc:language>
  <cp:lastModifiedBy>Trish Mooney</cp:lastModifiedBy>
  <cp:lastPrinted>2011-06-13T12:29:39Z</cp:lastPrinted>
  <dcterms:modified xsi:type="dcterms:W3CDTF">2013-06-11T15:17:06Z</dcterms:modified>
  <cp:revision>13</cp:revision>
  <dc:subject/>
  <dc:title>Leading with Impact </dc:title>
</cp:coreProperties>
</file>