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6"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4022280" y="-360"/>
            <a:ext cx="3078360" cy="469800"/>
          </a:xfrm>
          <a:prstGeom prst="rect">
            <a:avLst/>
          </a:prstGeom>
          <a:noFill/>
          <a:ln w="0">
            <a:noFill/>
          </a:ln>
        </p:spPr>
        <p:txBody>
          <a:bodyPr lIns="94320" rIns="94320" tIns="47160" bIns="4716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19FE6-4824-4787-9A8E-F9709FB364B5}"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C89F7-83B8-4E65-9FA3-E5C99496B5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204920" y="704880"/>
            <a:ext cx="4692600" cy="3519360"/>
          </a:xfrm>
          <a:prstGeom prst="rect">
            <a:avLst/>
          </a:prstGeom>
          <a:ln w="0">
            <a:noFill/>
          </a:ln>
        </p:spPr>
      </p:sp>
      <p:sp>
        <p:nvSpPr>
          <p:cNvPr id="54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2C424-E31A-496C-8F23-AAC0B9854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204920" y="704880"/>
            <a:ext cx="4692600" cy="3519360"/>
          </a:xfrm>
          <a:prstGeom prst="rect">
            <a:avLst/>
          </a:prstGeom>
          <a:ln w="0">
            <a:noFill/>
          </a:ln>
        </p:spPr>
      </p:sp>
      <p:sp>
        <p:nvSpPr>
          <p:cNvPr id="54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Calibri"/>
              </a:rPr>
              <a:t>Authors define what a legacy is, what a legacy means to a leader, and things that influence your legacy.  No leader defines their legacy.  It’s done by the people they lead (constituents).   Broken into four sections: Significance, Relationships, Aspirations, Courage.</a:t>
            </a:r>
            <a:endParaRPr b="0" lang="en-US" sz="1200" spc="-1" strike="noStrike">
              <a:solidFill>
                <a:srgbClr val="000000"/>
              </a:solidFill>
              <a:latin typeface="Calibri"/>
            </a:endParaRPr>
          </a:p>
          <a:p>
            <a:pPr indent="0">
              <a:spcBef>
                <a:spcPts val="451"/>
              </a:spcBef>
              <a:buNone/>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200" spc="-1" strike="noStrike">
              <a:solidFill>
                <a:srgbClr val="000000"/>
              </a:solidFill>
              <a:latin typeface="Calibri"/>
            </a:endParaRPr>
          </a:p>
        </p:txBody>
      </p:sp>
      <p:sp>
        <p:nvSpPr>
          <p:cNvPr id="55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EB38D-21B3-49F3-9A66-C2F258EB1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204920" y="704880"/>
            <a:ext cx="4692600" cy="3519360"/>
          </a:xfrm>
          <a:prstGeom prst="rect">
            <a:avLst/>
          </a:prstGeom>
          <a:ln w="0">
            <a:noFill/>
          </a:ln>
        </p:spPr>
      </p:sp>
      <p:sp>
        <p:nvSpPr>
          <p:cNvPr id="55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ignificance </a:t>
            </a:r>
            <a:r>
              <a:rPr b="0" lang="en-US" sz="1200" spc="-1" strike="noStrike">
                <a:solidFill>
                  <a:srgbClr val="000000"/>
                </a:solidFill>
                <a:latin typeface="Calibri"/>
              </a:rPr>
              <a:t>– care for the people we lead.  Serve as well as lead (earn commitment). Constituent - Loyalty is earned when needs are met (dedication, energy, initiative, empowerment). Be a teacher (best way to learn).  It’s what people say that is part of the legacy, comes out in what you have taught them.  Loving critics (ask for feedback).  You are the most important person (role model, dictate the ethical behavior).  No one is an assumption (recognize hard work, don’t take for gra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lationships</a:t>
            </a:r>
            <a:r>
              <a:rPr b="0" lang="en-US" sz="1200" spc="-1" strike="noStrike">
                <a:solidFill>
                  <a:srgbClr val="000000"/>
                </a:solidFill>
                <a:latin typeface="Calibri"/>
              </a:rPr>
              <a:t> – must engage others.  It is personal (example of knowing who is leading you, going to socials or dinner). Should want to be liked (love them for the way they make you feel). Conflict is OK (focus on the purpose not the person).  Trust, trust, trust and empowerment (personal responsi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spirations </a:t>
            </a:r>
            <a:r>
              <a:rPr b="0" lang="en-US" sz="1200" spc="-1" strike="noStrike">
                <a:solidFill>
                  <a:srgbClr val="000000"/>
                </a:solidFill>
                <a:latin typeface="Calibri"/>
              </a:rPr>
              <a:t>-  The difference. Similar to knowing who’s leading you (What do you stand for).  Know what motivates you (the difference you want to make).  Clarify your values and matched by deeds. Forward looking (hostage to the present).  Doesn’t have to be you (shared vision, how do constituents fit in the picture). Articulating the people’s vision. Leaders are also followers (focus on the destination). Leadership is learned. Liberate the leader in everyone (Trustline/MADD example) driven by the need to make a diffe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urage</a:t>
            </a:r>
            <a:r>
              <a:rPr b="0" lang="en-US" sz="1200" spc="-1" strike="noStrike">
                <a:solidFill>
                  <a:srgbClr val="000000"/>
                </a:solidFill>
                <a:latin typeface="Calibri"/>
              </a:rPr>
              <a:t> – taking the initiative when it matters, when our values are challenged. Everyone has moments of courage (overcome fear).  Can’t plan but can choose. Three aspects: Adversities, Fears, Suffering (risk). Rosa Parks moments: challenge to your beliefs.  Bring out the best in people.  Failure is always an option. </a:t>
            </a:r>
            <a:endParaRPr b="0" lang="en-US" sz="1200" spc="-1" strike="noStrike">
              <a:solidFill>
                <a:srgbClr val="000000"/>
              </a:solidFill>
              <a:latin typeface="Calibri"/>
            </a:endParaRPr>
          </a:p>
        </p:txBody>
      </p:sp>
      <p:sp>
        <p:nvSpPr>
          <p:cNvPr id="55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F2731-B7B0-435D-856D-B021EBF1D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204920" y="704880"/>
            <a:ext cx="4692600" cy="3519360"/>
          </a:xfrm>
          <a:prstGeom prst="rect">
            <a:avLst/>
          </a:prstGeom>
          <a:ln w="0">
            <a:noFill/>
          </a:ln>
        </p:spPr>
      </p:sp>
      <p:sp>
        <p:nvSpPr>
          <p:cNvPr id="55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ed by Bob what do I want as my lega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lieved that I didn’t necessarily define my legacy but didn’t how to leave the type of legacy I w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on the difference and the people.</a:t>
            </a:r>
            <a:endParaRPr b="0" lang="en-US" sz="1200" spc="-1" strike="noStrike">
              <a:solidFill>
                <a:srgbClr val="000000"/>
              </a:solidFill>
              <a:latin typeface="Calibri"/>
            </a:endParaRPr>
          </a:p>
        </p:txBody>
      </p:sp>
      <p:sp>
        <p:nvSpPr>
          <p:cNvPr id="55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B8591-B661-46A0-9377-D1B0C5E93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3E02F-A764-4363-B3F4-109B06E65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7F69B-57C3-4676-8A7A-936E88CF87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4C19521-8C06-4158-BE31-8E45DBF639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4029C35-2EB9-492F-829E-C739492E6E1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D6C0FD8-6F98-46E2-8B34-BB453FABCA1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8CF839-9ED8-4398-A379-1D0A1178541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007A34-7170-47CB-9409-2BAD40B7684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1896C0-26E1-4389-A487-283A9DC858C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610B4EB-B1DD-4B47-8217-3C6192C8EE5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93EFAAD-E3BA-457F-9965-4AACB254163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A2B08DB-1427-4240-86CC-4A194B9D989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C7CD1AF-9A8D-4715-9A16-B652EF1CE49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D735B-98B5-4837-8532-919067F46D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8A3BAD0-83B3-4C40-A2B2-3AD070AB21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1849545-6437-4004-9F49-2079D6CC5A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6B820B-4A07-497E-8410-39AA20EB9A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9DA933F-ED7A-417E-94F9-D14EEB2E99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34982EF-AA41-43EE-BAC4-A839BFBA74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2F2B4FF-97F3-4731-BDEC-577A9AA7CC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BC293DF-8FE2-4181-A9DE-9D5F4DE6C3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0D20A68-58EA-4B48-BA44-6D089F8661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7F48D0E-565B-4388-8031-505E86E1334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88F5C94-FC11-40D3-985F-C315832CD8A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D684C-CB5D-4298-B629-4FED84919C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0A756FC-E069-4B1D-99F5-55742631C7E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F8D389F-EA73-4F3E-9B11-E0354BACDE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72C146B-B6DF-4A40-A790-8DD5A6A995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2D8E6CC-05C0-4CD7-808A-805B8C6EAD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6F48FD1-08D0-43EA-ADE1-DF089D9807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ADF1921-3F35-4788-9E8B-69C42E40E4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C98E537-A4DC-48BB-8959-687D454925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D54A22C-4C2C-405C-9DD9-3C029654D0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C9E5800-B5F1-4935-8E15-C7E02E4813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D08AC48-EE36-4ED6-9372-B8A3C38197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58553E-12A6-43F9-9167-986DC89D3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A214827-EEC8-465B-8375-55EE07E835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9986B3E-0351-415E-932B-4D94A22C55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7AD4B89-40E2-4A40-888F-92B6C253D8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19E4156-CD0B-4BF6-8E9A-62612627DA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035E199-88C2-4A32-A5F4-1616D69B26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71C50D1-AFE3-419E-B6F1-99D5BD1A2C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F39AB6E-9977-48DB-AB17-D69BE72017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BA6F1EE-E21B-495D-A47D-A50DB314A0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511674E-8396-422F-923A-CBFED0EA9C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7F76768-7DC3-4C6D-BFE0-4B7DC500F6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C168FA-B449-4D88-93B7-74C0054F8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B200EB-86F4-4FFE-9F25-59A4E8A23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3FA617B-2897-4A64-921C-DB6CFAEAF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55A504B-36B0-4A5D-95D7-D760326D41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9F379C4-248D-42AB-8DFA-3E53762A8B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69D4B4B-F286-4E51-9157-FE23B5ED6A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FF5622-73AE-46F9-986E-D586D928E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BBD3EE-6AB1-4E33-994E-C8F22BA04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BBF3B5-A0D5-4B60-AE09-C5A7BB10E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20E2D3-23C2-4843-A5FE-DCF4130DE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5D4C5C-CA85-472F-A908-1A590FACA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1AD2-5327-4E1F-8AE2-DB621DDEC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FAD344-1550-4161-BEAE-9B5F93CAEC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8E1C81-DB02-4019-9252-E9F8FA616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69228F-BBCB-47CF-B1CD-4CFE7EF59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A8A2BEB-C3B0-448F-921F-FD3C52D14DB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968B06-90DC-4334-BF75-53871F3EA3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2517DC-6C84-4704-9776-E70EACC695A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D01DF51-D40E-4E4C-BA82-7C02519A68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560EF7-4882-46FB-A121-D1E1621B90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22D59EC-30E4-4F18-9C3F-71E4B664EA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427E9D-08EB-4C82-8B7E-AF3D462B3D4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BFDA-41A6-47F9-B4EA-AAE7FC7959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B173F7-604D-4073-8FD2-12BB469F15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7F9E14-1590-4DD9-B274-5A227CB8BC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070205-9FDF-438B-979C-0EA109239B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AB626E-5576-4326-9596-B8831A72D8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25040D9-1632-4B16-B4CD-014585ECF6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149CAB-261E-4390-BC2B-313E74CED0B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2CDFCEA-D81F-4F1C-A621-56CEDE8DA48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D0E9C55-C946-40E7-ABEE-8F7CC21DB95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C54BC7-8F3B-4E83-950B-D3D2724484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EF1E92-2148-4B00-9D08-309BB4AF1A1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9E289-D5E8-4CB1-8851-168C9D27A0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69A7DD0-8982-4062-8043-0F532BFA90D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3344EF-2286-4FF9-826E-E418E76C168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31F3039-9082-438D-BB2B-FB546260D1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FB3357-66C9-4279-9074-ED41871BF2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AEDF32-C139-4C47-B1CC-8CBC975DD0C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5FD7626-7FEE-48E8-A6F1-0D1800E944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0838BF0-494C-497F-A267-F17063A1CB8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39404D5-3EED-4DB8-AB38-25021A2E416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0E9C2AF-B3CF-4C6F-98F2-86243773D6A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246F12B-1356-4BA1-B4CC-1C209AA5E5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23B35881-654B-43A7-ADBB-08C317EBAD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1CF0F58-3ADC-454C-BBB8-D47BA1E7F3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3B0FF2C-A328-40D3-B026-BC74ECD01B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C3DE89E-3D82-45FE-81B6-EB26FA7324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A049955-8E19-4C15-B5BD-F7BD132480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8942F57-AF85-4934-A64B-2B08D36E96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7915FDF-29FF-4304-875E-C8242CC8F6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2A5495-5D92-4B62-BBE3-57B24B0A3C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2CAEFB-4C0C-49EE-9D5B-C65194891A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862E17-DD3D-443C-9A5A-601D1FF66B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D55E902-37EA-4032-949E-A1794A74A24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25E296-81D3-4BA4-8D6C-92A3A87201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A522707-CE91-4333-88E9-A9C14BAE825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5BA5246-F78C-4B58-B4B8-D47064CE0A8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6CEE43E-1579-4EC8-A582-6DEDF1CF563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BDFBD2C-54CA-400C-A7E3-425A10B6C44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606930-4407-4EDC-958E-52B8A5D469D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099919D-760D-4496-8F42-93D73F977E0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779961E-9AFE-4A88-ADA5-2868D1570BF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2F2114-D1C3-42B0-AF41-ABEB5D77C5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46062F-44AC-49CD-BC87-0DC893E1EEA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4590A2-F735-4537-A0AF-367533A2463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94268-70D1-4AD9-A0E1-E5FCAF794B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F11BF8-350D-4536-BB3B-11BBAB5B7E5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0EFCE47-7E49-4770-875A-627C0C1E4C7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ECD1A18-2286-4EFE-A1E4-2C89A5A1F8C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9559574-DB83-4C6D-8EFE-827512C257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34A7818-9D29-42B2-9A3D-C46C3B5391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125C53-FAF4-4B5B-BB3D-1B81289B53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FD1F1DB-FD61-4D29-867D-6E1C397195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843B07-04D8-432B-9903-A69321CE0DC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58DDFD4-EDF8-4CE2-840C-D21A21E8EA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DB56B5-EDA1-4437-BED1-02DC15BB6A3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BD7B8-A61E-493B-A0CF-DAAF70866B6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1408A4A-C22C-4517-AE31-09D901F72B5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13FA94-2629-48FE-97C7-66DD3990CA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5B688BB-CBBC-414F-AC96-2F8BE6FCA5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946CE15-99D8-46A4-B0A4-C42C4FDCE8A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854BAA6-95B2-44C1-BB86-1FF4669245C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84963F8-F070-4257-9638-0ED9169CD8C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19EFC00-0FE1-474E-AA8A-6AB44AB01C9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7D146E-7B78-4AE1-BA48-3CD6977AFD2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600A1FC-B47B-49A5-A041-BCF13E8577F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91DF95-A615-4108-89C3-8A1BEB7008B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F23E3-58BF-4E96-8315-2EB779CFE7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AC4E31E-ECB2-4132-883A-37308B576EC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BAFCE35-90A2-4AE8-A99A-770119720CE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22A1B53-367C-496A-82A4-FB18BA00FD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D784C0-451A-4174-94DB-4054E9480B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30E31B0-B030-416C-B51A-1D16B86A9B9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6FEE230-7B29-47A2-9D2C-4C1BEC27DC8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590AB1F-1D08-45A5-A49A-5538B24EA07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EA90BCF-E1CE-44B3-AE8A-2306362E566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535B5A5-9911-4038-B52B-E6FE40682F3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BA4BA37-ABA1-4051-8CB6-18FE4485CD6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6E77D-5C8A-46B9-8724-D2ACB7DB2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C0F10-5C3A-47B6-9960-9B17E0FA72E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8C3D7-83A0-4832-A970-1610C6220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70296-F321-46F0-952F-4343FB0C13F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67F8C-309A-4579-BE2E-9D527E1A4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43E9D-FF4B-4119-A938-FEE43C884AF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6879F-B7A9-497C-A114-DBEE6173F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D9355-9768-493A-8354-4E40901A46C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E34AE-B07B-43F8-B316-80C035D4F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83DBA-D63E-420D-8B1D-AA8243E7973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5F6B9-E2B9-4D3B-AC9B-B80FFC15B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96D60-ED6E-48A1-8388-280E5908DFA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19C58-9FB9-4CF8-AF12-78A6A6287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FC199-5540-44DF-94BA-35CD344CAC5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3111B-AB3D-4D77-9F43-74E6E1D77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FDE2C-E465-4920-AAB3-96F9690C65F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7978D-E5BC-4CF6-8182-8DE4EE2BD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7F5ED-1354-48FE-B5AD-8927114C523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7313E-91EA-499F-AA1B-25D39CCE6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9FB6F-35F7-4B9F-B6FC-65A988829F0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E4B17-5E8A-4B01-B08C-737A3E669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3B32C-9FE4-49A8-A311-BDB18B60680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72DC3-0237-4F74-87F2-00AA47BAF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3</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 Busala</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5 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ader’s Legac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James M. Kouzes &amp; Barry Z. Posner</a:t>
            </a:r>
            <a:endParaRPr b="0" lang="en-US" sz="2800" spc="-1" strike="noStrike">
              <a:solidFill>
                <a:srgbClr val="000000"/>
              </a:solidFill>
              <a:latin typeface="Arial"/>
            </a:endParaRPr>
          </a:p>
        </p:txBody>
      </p:sp>
      <p:pic>
        <p:nvPicPr>
          <p:cNvPr id="538" name="Picture 5" descr="C:\Users\Marc\Desktop\41e2A+WE6ML.jpg"/>
          <p:cNvPicPr/>
          <p:nvPr/>
        </p:nvPicPr>
        <p:blipFill>
          <a:blip r:embed="rId1"/>
          <a:stretch/>
        </p:blipFill>
        <p:spPr>
          <a:xfrm>
            <a:off x="5664240" y="1811160"/>
            <a:ext cx="253692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legacy will be defined by focusing on the difference you make and on the people you l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204840" y="1312920"/>
            <a:ext cx="878688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ce</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t how big a campfire you built, but how well you kept others warm,…”</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don’t love someone because of who they are.  You love them for how they make you feel.”</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irations</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eople commit to causes, not plans.”</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lure is always an option.”</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457200" y="1380600"/>
            <a:ext cx="8229600" cy="45262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y legacy?</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ed who determines my legacy.</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what difference I want to make and the people that help me make that difference.</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i="1" lang="en-US" sz="3200" spc="-1" strike="noStrike">
                <a:solidFill>
                  <a:srgbClr val="000000"/>
                </a:solidFill>
                <a:latin typeface="Arial"/>
              </a:rPr>
              <a:t>leave the campsite a little better than you foun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Marc</cp:lastModifiedBy>
  <cp:lastPrinted>2013-09-06T02:02:50Z</cp:lastPrinted>
  <dcterms:modified xsi:type="dcterms:W3CDTF">2013-09-06T10:18:42Z</dcterms:modified>
  <cp:revision>37</cp:revision>
  <dc:subject/>
  <dc:title>Leading with Impact</dc:title>
</cp:coreProperties>
</file>