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349A-D2BB-496F-91D2-53A36994B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17CD-E9FF-4770-B563-B12F4A282D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9FB18-4978-423A-9B55-B014DFBE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8E849-828A-4E42-8454-EDB56437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88B57-F5B1-40D4-BE9F-FC1FB70C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6EF88-90EB-47D0-8892-1D568E64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2FAD6-0B26-4247-AFCE-0CF3AB3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EEF88-E778-4DC3-B429-FC427511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D847B-ECCD-4E9B-91AC-91633FA7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B8C7E-C0C0-4208-B0CB-E9F9097B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3BCF7-1C93-428D-BA50-F99AF083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9CEB6-C56F-4A69-9538-986B6EB3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F5A6-EC82-442F-B9E9-8BD006A5F37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69A4E-D81E-43B7-9E55-08423CE1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86F26-095D-44F1-B3A1-5483ADB2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A542C-E618-4318-B100-7063331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9A229-12AC-4900-B8A1-4BAF58D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D5FC5-FA58-4E52-B29A-8513FFD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9A699-2424-46F0-838E-2BFACA7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4B21B-3E96-494E-BDB6-8146AB27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C7C8A-50DB-42CB-8E3A-7765256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7C122-5D39-4485-B100-ECC293A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C5483-4EAE-4DF4-95C0-BFE9223B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E8A9-0114-4E70-A12C-32E06B6DC01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5985E-8EF2-4B38-94A0-72386896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9A73AF-4E24-4343-8D1E-1D74D1D1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8F76C4-8DF3-4627-8934-7913F8E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B96DE9-0498-4997-AC58-E5E8C9FD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472430-A1F8-4BF8-B9FB-B4D955BC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12E02E-F3A3-4B39-BB3E-D21E4F9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8B4FEC-5DAF-4090-88C1-CCB37B17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50F2D7-5CAF-4B7F-AFF1-BEF529F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073EAA-175A-40C0-91A3-49929762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507FF2-FCC5-48D5-B6D5-6447C4C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40FDA-7AE8-4E79-8CDA-8ABC0E29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D68D71-2A44-4DA4-B5E2-28FFF4A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3E3B5C-DE3F-469A-AF52-C66DA010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6D3305-5DAA-4FF0-859E-E32C710E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B371B-2266-4D0F-8CF7-43C73DED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213DE-F7DB-4DFA-A16B-0E92464F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7FBAC-F677-4182-8F1F-9C25E130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A9E30-6B27-406E-8797-F3710DA1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84F4E-5A52-4CC1-BB03-E354A51A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89ACB-FE2C-4DD1-AD30-E1D3C245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31D60-C843-4418-9F84-B66F306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06783-1B06-4A41-AC72-0723AFC5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6004E-AB66-491D-BFE7-9BC6218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BCC6A-3A67-4C9D-938D-0ECEC13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4F75E-80E0-4E06-B71B-EC1C148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8E0FC-DBF5-41C8-932A-5775DF19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9FD25-78D6-46D4-B053-F7319014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ADCCC-10BA-459B-BB1C-6D81EE8A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64450-0D5C-4CAB-A55C-7706AAA3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8E6F2-E94A-4F6F-A716-0715BE31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6FB90-5C9E-4BDF-BB28-94147660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85077-071C-4BE9-B726-DB8AEE5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C9BB-3F9E-4E24-885C-2E8E4CE70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F29B9-FCBC-43DE-B8D9-0287B10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B9174-66C9-4196-AB35-9254109A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40F90-C302-46F8-ADAF-F58A9707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F1CCE-3074-46D5-AE6A-BAF728C5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BD5C6-2C8E-4548-9DC6-6F763C0E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29250-2C58-4757-8682-3A1B021C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81F63-BACF-45D7-A0A9-9F533D29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FC0F9-40A3-48BD-9424-CF8E93D1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42E14-E991-4A06-ABA5-B792263F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F0B8D-5678-4389-95B9-F64429EA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489B-355D-4856-AE3A-6429A02159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66FCF-AA25-4E61-81FB-75B4207B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2D891-03D6-4AD0-93AB-DF132B6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09660-CEB5-4649-BF0F-D2BAA81B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F2B8D-5CA3-4F14-B66A-A3F0C58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D7A6F-A330-4283-BA84-EFFB14AD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22181-26B1-46E8-8822-E2752C0C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9F16D-2BFC-407F-8283-6B07B335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9B166-D9F6-4E94-839A-4CDF6574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26951-638C-4375-8288-1CD6D83B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AAD22-5455-44B3-B87A-7EA4755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F129-9521-4F25-8D4E-9903A80228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4639A-193C-451B-9DD3-504E247A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5A7FE-CEBE-4BC4-ADD3-D3FA172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123D0-1E23-4D44-8382-04C138BA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11736-4497-4F61-B7F5-0398194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1309E-ADD1-4A29-A36E-C5F8319D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2085F-19D8-4FE0-AF0B-6334756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D9AA3-256A-4073-9AD0-8A3C2CB0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44311-D9BC-4201-8715-C767F890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44DDC-8B01-485F-8412-5C472ACD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ADA30-E072-4F7F-9D1A-F9C544F7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1AE6-23F0-4892-BA5B-FD6FEC1018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9457B-616D-4359-9B52-DE9C95EB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E6BB23-AA9F-4D0E-A009-2B2EF220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DCAA3F-D90F-4D5C-9F92-47C58F53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1E034-E783-484C-B361-3D72E18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FC13B-F657-4F0E-8516-ACEFB15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8ED950-16A4-40D4-BE9F-C4FA9621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5F9A6-33D1-40BF-A133-35F0C72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9D624D-EA76-4266-93E8-FA75C9B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4EA258-35CF-42AC-A07F-5B5E06A2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E71B2F-7784-4C90-9015-D7D74452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6BF1-332D-4B48-A9AD-55FD33AD24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4FDD26-761D-44BB-A5A4-85A53FF5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760E24-98D7-402A-B177-F0009BB1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DAEB2-BDB5-4C98-BCC5-F2B83FF9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D2C28-FDC2-474B-8AC0-33146CBE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3A0347-C89B-4225-A6B7-83711A6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8680C-D0BC-401E-84AF-9CD75E3A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3D373-9E51-459E-B771-9727F4AF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90525-5DFB-455E-AC34-EFFFF0B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66029-2862-4336-9B39-13F318B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319F43-BC40-441E-BA61-89AFC49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F84C-E4BD-4D13-A6AC-E3B882C43A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09640-9927-4908-8B18-DFD92322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1E796-5BA8-44B0-ADA9-95094590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CA233-5166-412A-BDFC-DC764175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CB504-4C91-407A-A051-93ED2DE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F21438-2198-4361-97D8-96AE6023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F38BC-A240-43CC-BDB3-2053F6C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5967F0-C981-436A-9DA5-C0D32BC6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A78A2F-85B1-424C-B8B7-274038F0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6FC0C3-3C9F-4168-A8F5-EA8154D9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DA01A-71EE-4DC5-B1B0-EE10A5E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6686-9AF7-4BC0-A0DE-6C8985210E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DF4D90-1CFE-465B-BC07-95400C11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6070F4-9A23-49AB-A2C6-AF3E8CF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DFEF2C-6F4D-4990-83EF-D7B73420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1EB6DD-5723-4DAE-B443-35387776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7DC091-3A4D-457D-A32F-C3EFFB81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6E3E2F-7B1A-4B19-A20D-99FB18BD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0792D5-29F2-4B3C-BCC5-67F869E5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DD1F4C-5CA4-4439-9CFC-65D0F0C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510A9A-62C5-43FB-A6EA-E3F4DB35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7B6E6-6F64-4536-929D-FB8D9481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369F-C32E-4031-A9FC-B4C8927529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C4579E-9900-451E-9D0C-ACC733EC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034933-CAFD-4FC6-B552-D424001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DE9E76-119C-4CFC-BDCD-FFE2507B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784C9-D8E5-4D98-9F44-4ACC7D51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D1B770-8626-4651-98B5-9FF9240F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F7F416-4542-4E5F-9031-AEACD715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C2F8D2-200B-4AE9-A839-8A33FF6C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7C7B0-062F-4453-B7A6-4C7A07D8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26945-0415-41FD-AEFF-08237BF0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740CA-5265-4C12-BBCA-14D1E6D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E8238-68F2-4FE9-B3C0-3ED7D75C5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5D309-6192-4846-9F21-87F86958DC5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C6792-674E-4487-8AC4-2A592A5D5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DB3F1-4D76-4B7E-B546-6FE0C9EE02D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681C0-A7C0-43DC-AA1E-B88C2465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A27E4-9007-4288-A84E-F670AA6F967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6F930-58F8-4C37-9539-F57AFD6C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2F38B-F298-4EC1-BA76-3924F70CD56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2E5DF-3067-4199-BEB4-3A2114AD9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A0825-3BED-4AAA-960F-40BFFF2E23F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98B6D-F968-4235-87D5-8549B4D53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D442A-AA55-4E23-A594-E4A9A775450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67DD2-B862-43C4-A713-F7B4C45D5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F44D7-9356-4E4D-9624-A73482156D1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C7230-98EC-4B4C-A43F-0742D563D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BDB9D-8F8C-4215-A875-2B40D9838C1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DE7AB-37CD-4CB4-86AA-97E7F7FDC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43AC9-2575-493E-AD0A-67659C26E17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F373D-C80E-4E9D-AF32-E3EF67077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B29A6-B816-4EB1-B785-0AFABD1B9AF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A408D-CBF4-42D0-B607-78AEF03FD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C1399-807E-410F-BBF9-8618A108CE5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13D4F-A646-4619-8DBD-E0E3209AD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lie A. Ethe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’s Search for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Viktor E. Frank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word:  Harold S. Kush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http://ecx.images-amazon.com/images/I/41C2r7-HbkL._SY346_PJlook-inside-v2,TopRight,1,0_SH20_.jpg"/>
          <p:cNvPicPr/>
          <p:nvPr/>
        </p:nvPicPr>
        <p:blipFill>
          <a:blip r:embed="rId1"/>
          <a:stretch/>
        </p:blipFill>
        <p:spPr>
          <a:xfrm>
            <a:off x="5730840" y="1320840"/>
            <a:ext cx="2674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of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 is a great source of strength during tough times and/or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ources of mea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ork (doing something signific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ove (caring for another per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urage during difficult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ho has a Why to live for can bear almost any H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task for any person is to find meaning in his or her lif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me like a seal upon thy heart, love is as strong as dea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3186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inspiring book…the technique logo-therapy, credited by the author of establishing is a great technique for the leader and the 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provoking…the emotional abuse one person will impose on another for self-pre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ffirm why the work we do is so important…then and now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neslie.a.etheridge</cp:lastModifiedBy>
  <cp:lastPrinted>2011-06-13T12:29:39Z</cp:lastPrinted>
  <dcterms:modified xsi:type="dcterms:W3CDTF">2013-11-14T15:43:53Z</dcterms:modified>
  <cp:revision>45</cp:revision>
  <dc:subject/>
  <dc:title>Leading with Impact </dc:title>
</cp:coreProperties>
</file>