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522D4-AD93-443C-A67B-0A97DC79DC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4187F-C2CB-47A2-BC0A-5AAF86DFE6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8120E-6B26-4833-B672-85CFBAAF76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5569A3-FD4B-47EB-9353-D0E9AC09F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C265E-9872-43F9-9FF1-AF3218333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3F17C-8651-4766-BCE0-414E98864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EA27B-4B6D-49E2-BB53-9A7C744486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38CDA-2D2B-400C-BE83-F5BAEDF61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4A03F-5B89-4D39-8EA8-AC96975C7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1C4DD-E5F8-47DA-BE16-815782DE84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0F76F-C2AE-4975-B347-9D24E9B68D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D40175-4A02-4690-8F5F-A0C263167E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C9075E-863C-4569-A68D-AA8BE90548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EE181-AD83-484A-A241-5C9823FDE6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6FB62B-9A21-4123-A796-5C7AD62A7E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5D12B4-54CA-4875-AFA0-80EC7129E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343758-4571-4D97-AF07-57680CC4F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39C94-7F40-4172-918A-45F68E425D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93147-8C00-40F1-A2BD-8CD1B1D39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1BAF6-725D-457D-97CF-34A4F7B9A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85841-951F-4C1B-8F67-796291137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6D0B41-5781-4C15-A784-BC1236641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77B6D0-0912-4BAC-8388-1425A6DEFF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B3A55-CDC7-498D-911E-BE6895696B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1E09A8-3145-427B-BBC8-C2D93D3A65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646967-00B5-4F82-84D0-C582794A4A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C306D8-5509-449C-807D-D8B35171D7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688983-0A8D-4674-9D35-50C1A29A01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D7D291-C85E-4670-B5CB-A04C1E4477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1FDA64-1127-40E9-AB6B-08938BA153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5FC672-FE1A-4D47-AE2D-B11C518337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46E666-2588-4356-BA2E-0976A3FC86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957DC1-502F-43CC-A2D5-019995C662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C3DA80-6E4A-41E2-A7E3-D28F61A0D3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53E6-C44E-42B8-AE3F-BBE8BB52EC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187D70-E5B5-4126-9755-62634F4389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B88D80-4DDE-419F-A593-068D0E39FF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001190-530C-48F7-9430-9783ADEBCC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E98300-055C-43A2-B2EE-E58DDA5669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B4E2BE-6993-45F3-8094-7A5F03BF5A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9A410F-E6B9-4CDC-B3E4-9EED014630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6EB297-C253-41EC-955C-7DEEB7242E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660C34-A23A-4C18-96BB-0334F917E8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505EBC-9681-402F-B18C-A13D802772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BA4663-AD41-4E65-BC63-AFF7D9EE8B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CC5A-8B99-406B-9457-ED198C59FBA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4D4556-615A-4A7A-8E0A-7A35E8B415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7D025B-ADB4-4CEC-868D-A7BC712BD6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2260E3-6B24-442D-A733-0882CC81FD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21DF21-FE68-446C-833D-691757097A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2A17E4-889E-44EF-84CC-AB19528480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BBCC07-45A5-429C-9E7B-3D92537AE4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ED7D25-7917-476F-AEF3-394E2D1E6F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E2BA53-F474-474C-B0D6-57CCF297FC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EA158F-E383-4281-A742-C486C1171D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C34758-C395-4182-A53F-0EC0D0B92B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978A-413B-4D25-9DE6-5392ED7E88B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A513FB-31DC-415E-99F4-530B0F06EA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53091C-4BAC-4561-A55A-7EC45D9D35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E56B63-A7F6-44DE-9678-C94551A553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D77941-0868-4C7E-9CA0-9AA794263B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0B2111-1BEA-4283-B730-918504A2B0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2282B2-E33A-4228-939B-FE489CD3EA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B70BB4-1729-4996-9B3C-0D0CE86E34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15EC46F-A7B6-4C7C-87B8-1E44678FCC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7E7987-B1EE-4A06-95DC-22577E6518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6A7847-A33B-450A-9A98-C23DA69F7E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8D893-5B44-4627-9CA5-1F4E39C0AF1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D58D42-E06D-495B-8D28-53CCB9E0BA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56FF94-7188-4F5A-B62B-CB8F10900C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C504EE-C792-4977-94C6-73BA44F136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CAC1F4-CFBF-45F3-88DC-3A5BCC9C11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E03E66-0D5E-4E2B-A483-601D4D4AD1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6BD7C5-519F-457D-8F20-6969FBDA36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3F21B9-8E7E-450D-8BA3-9B58DFBB51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AB2DE1-8F90-48BB-BD99-BDD5D0C2A2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F235DA-BB39-48B2-AE22-BD94676FE3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B3F7D4D-9E6F-43A2-A2BD-F64D370C78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F5850-0B8C-4DD8-AE20-0BD32CE4C9C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6073DD6-ADA8-4791-9079-3BDF67D803B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BD28931-F346-43F5-A2CF-A40B6D2694C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9A79B14-3872-4017-95E1-99CF08C50D4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0D539E4-33B8-4D44-9DE8-0CB1921BE6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0F47457-4ADE-42BE-95EA-C82EAF7D76A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098D771-D248-42D4-AF77-343EB077350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3E30F90-B068-42B5-B66B-CBE3ACCD882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FD0A42A-397F-4EEE-A9AA-426A9DBCF09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1CC536D-737F-4F70-9C6B-8FC746F684C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747D979-75CC-4884-96ED-2F1401857D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87EB-00C8-4A68-9A8D-05404001F97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912142A-1D3D-43C2-A48F-E295E9748F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0124-AB54-4AF7-9C12-8B536EBD18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C73AD-491F-4FD3-8014-B4E902AE4C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8FCE-ABFC-4464-BC36-CD58D0245F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DA13-CEE2-4C2E-A097-814BD40C7C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6D16-42DA-42DA-8C00-422B20EE2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994CD-6A35-4FBD-BCED-AA186DC9D2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F03E2-007B-4B95-9CC2-DE5867359F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58254-08BA-4E58-9D1A-FD43419DF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B9A58-15C6-4AF1-B882-3B1B933DB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B6A79-3397-4F95-AE68-834A90081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7ABA7-9D8A-45AC-8F6E-3FF5CC67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53736-770A-49A1-8E31-EAD833E3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0B85-D562-4242-B6AA-E7966A91A2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CCB5F-CAB9-4605-950C-EA012458A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E3337-9FCA-4E88-A6EE-4C039556E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0C04-5DFC-41EF-809C-540B69E17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37672-F19A-4FC0-8D6B-1DF2AE759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DE629-772F-49C0-A240-7C845A665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1A07A-B4D8-4DD0-BFDC-124F2E5B3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89770-4FCC-42AC-9911-D78502573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676701-8F1B-4C75-9450-B4C89F084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FA4FB-7F38-4E09-BAFD-587E3365A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9444C-2C10-4556-82B8-1A90CAD50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C74DB-77B1-4999-8A48-40F24AD898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650D9-1A93-4B81-ACC2-AAEE54386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EB876-922F-48A3-B390-1DAC1E30F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FAABA-295E-49C0-8707-FA62292B5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770D9-071A-40B0-9BCE-D49E91309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26C88-0F60-4894-A1DB-356A01081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679B5-5EA9-4C46-8523-2737F8C24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50FB9-4826-465D-87CF-B03556B7B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142D0-BC26-4385-9685-BB73FFCA31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329E0-9FD4-4559-9CBB-92BFFC3B7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63AF47-D1C7-47F0-B747-1CBD1E90B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CF79B58-789B-4F7E-BF95-84D07394A0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F8133-4CAD-4631-9FC0-07A4C607A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FCDAC-C9C3-4E14-9F0C-552F7A6FD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AD620-B53A-448D-A9D8-803DE053D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85762-2B20-4EF0-8681-44220CF33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69276-2877-4B2E-B9E0-48F6A28E8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4F582-A149-484B-8CC7-0AD76D9E2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0500E-095F-4652-BA4A-41AA772DE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E9345-DE9F-41DF-A740-8A6215949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F4DBE-CE76-48D7-B6E8-9708DA4D0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B2F715-F4F3-4CE4-8095-EBBF6F368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C4A12E8-D55A-4964-A763-5B826BB8CE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4D557-9300-4379-BE5A-D63CF15AB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5BFE11-AFB2-4DC9-A365-171972AE4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6AE0D-4C2B-4C89-BC76-6F0D62870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C83D0-2872-43BE-ACEE-FEA0EAE7D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3AB13-0596-4079-B065-693E9BDA0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4D171-33A6-474D-97E8-1BFC9F08E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A08CF-6C23-4FB8-94D5-F04343CED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D868F-62A8-4360-B5A8-1CD9C0727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41055-89BA-4CF3-B10E-9A209B656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2416A-C5B2-4A82-A23E-0A591EA7A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20E5D-B6E4-4545-918F-ACCE81BE10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39D14-B20E-417B-B38E-0481F87C4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A4BAAF-30B0-4E96-90EC-944540168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CD9C34-1E0A-4A78-B767-A3A4D6E42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870047-E496-4070-B346-96C5A95B64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C3C13-4186-4E44-A89D-4C1627EEB9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E8280-8D4E-4C0C-8A4E-7F7C763780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F2F48-A97D-450A-880D-50BF34A32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0ED035-B434-4030-881F-DC464494A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976E1-AC8E-44FE-9D76-BA4EBA8B7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6D7A2-4CA2-45D9-A568-5DDA709F9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73C0D-DFC9-401C-AC17-7F21CDC0D66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0313E-2F1F-4EF1-9DC8-B89E7AE89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C4DCA-CB25-47DE-BE76-47631EBD0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20F51-429E-40FF-B9E3-AD4ED0AB90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CEBEFB-E01E-4E3C-8DA0-0E4A751E3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61A79C-0E0F-4E91-82BA-EC4785BDEF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28D1C9-0C74-407A-9556-02C1BECD9C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EB7FB-2686-4BA0-9F5C-0A00836E3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9FC1B-7265-4C01-AF1C-D11725674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D89EF-E391-483D-A007-DB49A6655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E5EF0E-E959-4107-AB17-35A01E15A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2C108-9952-467F-9586-240B178B19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9F952-ACAD-4E05-A66D-51D1C39A8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1C73B-DA89-4E32-84BB-30FE90074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DE75F-CA42-4BFA-AE69-744D75127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CACBB-DE9F-4DA8-BC1B-1BF968E38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004AE-5B2D-44AB-84B5-471653818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396FC-359A-41BB-B87F-DE97ACEEF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07CB6-B3AA-42D3-A493-E4434A71B7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DDD737-E7F4-479E-9121-4A8DA7AE9E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71D52-3928-42DC-8014-9E8C4C3AB0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5BF46-69AA-4AA4-9B66-A8DEDF616A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18FE-DB81-4B9A-A6ED-F71333AA5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9192-AAC2-43ED-B5DC-41ADEE1E2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3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E5DF-494D-47D4-97A3-CAC56E631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7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7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C718-5021-4825-B856-192F30D08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2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2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2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A147-7CBE-4BBC-B47B-DD05BA52E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6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6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6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98BA-B65A-43AA-88F1-9084407C9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Line 7"/>
          <p:cNvSpPr/>
          <p:nvPr/>
        </p:nvSpPr>
        <p:spPr>
          <a:xfrm>
            <a:off x="304920" y="304920"/>
            <a:ext cx="0" cy="594360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8"/>
          <p:cNvSpPr/>
          <p:nvPr/>
        </p:nvSpPr>
        <p:spPr>
          <a:xfrm>
            <a:off x="304920" y="304920"/>
            <a:ext cx="8458200" cy="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3" name="PlaceHolder 3"/>
          <p:cNvSpPr>
            <a:spLocks noGrp="1"/>
          </p:cNvSpPr>
          <p:nvPr>
            <p:ph type="ftr" idx="40"/>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614" name="PlaceHolder 4"/>
          <p:cNvSpPr>
            <a:spLocks noGrp="1"/>
          </p:cNvSpPr>
          <p:nvPr>
            <p:ph type="sldNum" idx="41"/>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96B1-3C03-4EAC-8C09-4075BB7E84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2"/>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45" name="PlaceHolder 4"/>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0EC4-B3D2-4ACA-A277-C15953EDBA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8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0FFB-E3F6-4801-A2F0-D89C6EE3D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2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2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2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615A-F291-4714-AB27-1E1E80252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9BF6-F4D6-4D80-8F62-E269A42AC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1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D60A-072E-476F-83EB-97289E77D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5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5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8E08-5648-4564-94BD-9944A0CDB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6A62-2264-4094-9937-33B416801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4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4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4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6C34-4865-4CCB-9807-1FF4EB703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904760" y="1220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M 360 Competencies</a:t>
            </a:r>
            <a:endParaRPr b="0" lang="en-US" sz="3600" spc="-1" strike="noStrike">
              <a:solidFill>
                <a:srgbClr val="000000"/>
              </a:solidFill>
              <a:latin typeface="Arial"/>
            </a:endParaRPr>
          </a:p>
        </p:txBody>
      </p:sp>
      <p:sp>
        <p:nvSpPr>
          <p:cNvPr id="652" name=""/>
          <p:cNvSpPr txBox="1"/>
          <p:nvPr/>
        </p:nvSpPr>
        <p:spPr>
          <a:xfrm>
            <a:off x="457200" y="1646280"/>
            <a:ext cx="8229600" cy="452592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BUILDING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es and fosters team commitment, spirit, pride, and trust.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cooperation and motivates team members to accomplish group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y is demonstrated by consistently:</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eating an atmosphere of cooperation among team memb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piring pride and team spirit among team memb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ablishing teams when appropriate.</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ing teams of appropriate size and structure to accomplish work goal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suing that the roles of team members are clearly defined.</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legating authority to team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904760" y="12204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M 360 Competencies</a:t>
            </a:r>
            <a:endParaRPr b="0" lang="en-US" sz="3600" spc="-1" strike="noStrike">
              <a:solidFill>
                <a:srgbClr val="000000"/>
              </a:solidFill>
              <a:latin typeface="Arial"/>
            </a:endParaRPr>
          </a:p>
        </p:txBody>
      </p:sp>
      <p:sp>
        <p:nvSpPr>
          <p:cNvPr id="654" name=""/>
          <p:cNvSpPr txBox="1"/>
          <p:nvPr/>
        </p:nvSpPr>
        <p:spPr>
          <a:xfrm>
            <a:off x="457200" y="1569960"/>
            <a:ext cx="8229600" cy="452592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COALITIONS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is core qualification involves the ability to build coalitions internally and with other Federal agencies, State and local governments, nonprofit and private sector organizations, foreign governments, or international organizations to achieve common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 Develops networks and builds alliances; collaborates across boundaries to build strategic relationships and achieve common goals.</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y is demonstrated by consistently:</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couraging a collaboration across organization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ing a network of constituents, stakeholders, and decision-maker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eloping professional relationships with colleagues inside and outside of the organization.</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9:31:28Z</dcterms:created>
  <dc:creator>Beverly Obenchain</dc:creator>
  <dc:description/>
  <dc:language>en-US</dc:language>
  <cp:lastModifiedBy>Claire  Meany</cp:lastModifiedBy>
  <cp:lastPrinted>2009-02-23T23:02:36Z</cp:lastPrinted>
  <dcterms:modified xsi:type="dcterms:W3CDTF">2013-06-11T11:14:31Z</dcterms:modified>
  <cp:revision>79</cp:revision>
  <dc:subject/>
  <dc:title>PowerPoint Presentation</dc:title>
</cp:coreProperties>
</file>