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74C0-A02B-4075-8F00-1C2E306C2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2227-C9A3-42B6-A5D3-BE16AFE1921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4C2D3-FD56-4759-BCE7-7B6E007F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12FB9-D1C8-4EB4-8A57-88DDF216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A75B0-4350-4CA7-A19D-9CDEAE2F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5C554-8B96-4D55-B366-D7CD6009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8A30C-946A-450E-9D22-055F90A0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A7942-6CB0-4BFC-B9E8-9659B0CF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72B10-3BA7-4D10-B13B-32F97BEA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B08DA-5CE5-4A62-BB56-26D2A86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2F038-E828-415E-B84F-7D4F6552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D94D3-9E87-4036-9FFC-0849764A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0459-C747-41A5-9F8E-44A7EB16B2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216DA-BCB2-49F5-A445-0089E86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FFE12-D28C-477B-9DC4-B1063CCC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F43FC-65E6-4098-A4F1-2AD78CDA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861E0-1149-4D12-83C8-D06055C0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DB9CE-1998-4BA2-9DFC-6AF2D5D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15FB3-B74A-4BC7-B04C-CD342A1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9AFFD-2954-437E-A939-D2B71811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A70C1-5CC3-4E95-8DBC-4C3CC43B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4BDEB-38D4-4876-A52E-EE49C941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15092-FA3F-46DF-82EC-76CB7865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92D6-E9D3-4144-B423-BAFE2A0FF7E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F650C-2D2E-44BB-A27F-4D8E2533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45AECF-A215-4B5E-8FC7-FBCABF0A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601162-5757-4A75-AC64-032E5387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B3C360-1BBD-4196-B755-9F400996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D7B48-AE50-43A0-A630-918A2BC3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9CDC45-F125-4611-A6C2-593D38FF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7F8884-3452-4816-9189-11699D75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6272A6-C0EA-4886-B1D7-081B3BEB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7B2D74-BA63-4F86-A640-82F623DE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857EF1-9BEB-4DFB-80E2-3ED1687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BC195-EB3A-4A5A-BDFD-5634DB9B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61AAFB-1B84-4F95-A249-68D0D03B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75A41C-2031-46E7-B3BA-103BE003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04CA77-EF70-403B-AF11-71A3C1C9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E9720-E3EE-4AF1-9598-F3E05019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B652E-423C-478E-B20E-C12398E0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1AF1E-FB77-40DD-AAAA-59A9FD0E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7BB4C-B615-41EF-B5C0-7A03F94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A9FD9-7D9F-4246-AC9B-40A18CC9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AE757-0135-49CE-A871-A0FA811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1B714-6B69-417B-ACF9-A9CB2347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C49C2-3842-488A-812B-F45A234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D3E94-2E1C-4A66-8084-56A14C07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708E3-B573-4206-A947-E4A8814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45B5E-CF53-4C34-B8EC-1D63A8C8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6D3DB-AD9E-46B0-8B25-05787976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B96CC-A3CE-42BF-9707-45EE2185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DEE0B-6F83-4670-83EE-AC3C09FC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FFEA3-3CA6-4191-8756-E35B030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FEB04-A154-4366-971C-2CA20E9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4C5AD-F881-4784-9692-B8BB581C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1D01E-8B2E-465F-929C-B58E82D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D79F-4199-480F-9A77-D56FDF545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4A7BC-A8CE-4546-BA94-7EB9653F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27EE4-75D0-494B-AB53-0BA6CE92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560F8-FD9A-4FAF-8E32-4C681D66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0277B-151D-4582-A52C-61728D4D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0F83C-5EB4-4203-8207-78C56987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80B48-F19C-4C11-B3CD-7FAE2E40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1C4AD-2CA2-4CE2-9D0C-275DE6AB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0F12A-348E-4545-BBC8-A802C114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AACB0-2B26-4206-824A-5F71608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62B83-1A6E-4FE5-B7C8-5C7195E2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52E9-76C7-4517-9C9C-769AE8D153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89C3A-1FA5-4385-8C31-C09DDA6F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C64B5-E010-4FE6-9B8D-37F296BA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91187-92CF-412A-B1C3-A3AB6DA6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CAB88-2206-4286-8A4A-104E06F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AFD04-7D94-4E8E-BBF5-FACF938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E23D3-5FDA-482B-A89F-FDA0F6A4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D82DF-A809-4A6E-A481-5FF13C85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3E196-0667-4DE5-AF6D-25C3F7CE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1714EB-07E4-4082-A419-F57E07A6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AF2A6-77BB-4D63-80D0-ADF7ED82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2F53-DF8A-43F6-953F-5ABB7392F4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F7278-C904-4BD4-B5E7-92A50615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CACD7-A255-4964-B2EF-DDAB973D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B9798F-F14B-4F4B-B9C0-D0CF4175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C6ABC-3D98-4953-B078-8142441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C5846-A3B6-4B62-A14E-4A05FE7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66089-C89A-4068-97E8-BD2DB816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58A63-4C71-4D3C-A23D-59217333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D5F30-AC2C-478C-A897-2B7F2979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B1AD5-6E0E-4A6E-99D8-F657EE18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9D94E1-6C00-431E-8089-7655AC33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120F-BE63-44DE-B5F0-180D6FE127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05F6F-DF8E-417E-AE33-16FBBD59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30013-AF60-4DBC-BD37-99B49DCA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E78775-59F2-41E9-98E1-9414EF80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E4F92B-3CCB-4FD3-B351-2BBBA648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6A7A73-63C7-401E-A37B-FD65E32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ECFD5C-D333-4CA1-BC6E-F265231E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CC47A-3B93-44CA-9D8F-92521E9A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07EA74-1387-450B-A6B6-43D508C5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0BF69-86C4-47BE-BA21-850D394B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BC5C18-28DC-433E-A70F-88331530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93D0-F8E3-4619-BD44-D08E0DBDA4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B7F45-A6E3-4D49-911A-D2F484C6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2FEFAD-C38F-4B19-A8E6-BFB16FDE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D9832-6EFC-46FA-B364-83B50A9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00FBE-1942-4DA6-A758-FD27AE1A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B7F714-7375-431F-A38E-C1144A5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06FDB0-AD0F-4DD3-AEBC-725E38B0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382DA-A5EA-46F5-AE8E-A5FF1D8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CB88A3-E783-4D4F-925B-1B50360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737248-3115-4D4A-89D5-65D942D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F4BD3-9518-4E01-909D-4206508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286A-FA86-4C88-B5DC-28F1A8F772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BAC9A4-B770-4D9F-95EB-34E4CE1F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88218-0D65-429C-9432-310BEE49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8538CC-CD70-4B05-B465-212D33BE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0BD5E6-0FA3-4286-BA05-759277AB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7BF4F5-890B-4452-AA56-E2BD61C5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47639E-FB2E-43F7-BDA3-69679E1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7D3A0D-4C6F-4BD8-B42B-D55100B2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BB00B0-4D82-465A-935E-EE40D2F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CC269F-08A1-4069-9D58-9F0ED3EA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B18C35-C215-4CC7-AFB4-5BC44B6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5EAB-E366-4A20-9A9A-DD5D2C212A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63D1B-71C3-4B50-9C3E-B18B483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92DD90-F1EF-4CEF-A733-918DF49B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A6CADD-EC1C-4F43-AE50-F92E4120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F00415-8299-4076-B52A-BCD0F2CC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3B249-055D-4AD3-9952-7A50E9DB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018BDA-A945-403B-8E14-E939E04A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44099E-7057-495D-8B05-039FFC8F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E8B588-2603-497F-AFB9-8722452F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C20B1C-9BE0-4A80-B663-804737D7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8EE6E9-97F7-4C8A-A207-8CE6ED0D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8192-3F5B-42C2-81A1-850E180A49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396E08-35B1-479A-BDED-D47AC06A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E55D42-53BC-4BEB-815A-2248D77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92811E-A37B-4B88-99D1-5C050ACB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E5153F-A991-4BC5-8D3B-EF0E04B1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FC167B-BFDE-4A8A-A2E6-4B5DB176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0CFC48-AACA-43EE-856E-48015D63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7AF92-6CCA-4E9F-98B8-D02E30ED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B65F7-BB9A-4C16-A843-0055CA91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280CE-ABFD-4855-A319-F1027EB5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F3CD8-24C5-43CE-BAA3-888B381E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89F09-09A7-4CDF-B23B-5633B6EB4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11E36-6A94-489A-85C0-17B32748517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53B1B-6707-4EE0-943D-C02941FE0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6849A-0A31-4DCF-A30F-94589536690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7893A-E8C3-487C-8C85-BE24093F9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BF28C-6D07-4869-A666-A083A7775AC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8FE5A-395B-4122-A039-0DF08E475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2" t="0" r="826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D422B-1957-4DC4-9C04-188CC7B6AAD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205BB-B289-4A01-8782-54DF2F58D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94505-BD15-42FF-BE38-52BDE286C78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1C2AB-21C1-4679-AF73-56F150BAC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5BC52-8EEE-406B-97B6-FEAAB2B6014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1BF90-E41C-4AB0-BDD7-118CBEF2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B05B0-5417-4B64-93B5-41C90EAE396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38DFF-EF33-44C7-876A-4A2B1F4A3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3F038-0B5D-44CA-96AC-EADAD64BE4D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A6128-7D19-450E-B8F8-ACCEF75B5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24F5C-099E-410B-BA70-DEF1076D265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642EA-0081-4C2A-8CEA-78734F54A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A5718-354C-4772-A87F-01D5E478DAD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1A282-2325-4FAB-A948-E174A28AF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6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D4F54-4DEF-4888-AB2D-21119DF8B8B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2FDCE-571E-47AB-A0D2-400F5E85A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http://www.paulillsley.com/shackleton/32.jpg"/>
          <p:cNvPicPr/>
          <p:nvPr/>
        </p:nvPicPr>
        <p:blipFill>
          <a:blip r:embed="rId1"/>
          <a:stretch/>
        </p:blipFill>
        <p:spPr>
          <a:xfrm>
            <a:off x="1893960" y="1477800"/>
            <a:ext cx="5773680" cy="493416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Core Team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523800" y="1477800"/>
            <a:ext cx="8148600" cy="1008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status differ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t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ual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Master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ice2.jpg"/>
          <p:cNvPicPr/>
          <p:nvPr/>
        </p:nvPicPr>
        <p:blipFill>
          <a:blip r:embed="rId1"/>
          <a:stretch/>
        </p:blipFill>
        <p:spPr>
          <a:xfrm>
            <a:off x="560520" y="1305000"/>
            <a:ext cx="8055000" cy="52639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4"/>
          <p:cNvSpPr/>
          <p:nvPr/>
        </p:nvSpPr>
        <p:spPr>
          <a:xfrm>
            <a:off x="479520" y="5276880"/>
            <a:ext cx="4637160" cy="1313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doses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 dis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pio’s maxim: “Build your opponent a golden bridge to retreat acro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) Lighten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midwinters_day.jpg"/>
          <p:cNvPicPr/>
          <p:nvPr/>
        </p:nvPicPr>
        <p:blipFill>
          <a:blip r:embed="rId1"/>
          <a:stretch/>
        </p:blipFill>
        <p:spPr>
          <a:xfrm>
            <a:off x="5154480" y="1704960"/>
            <a:ext cx="3873600" cy="373536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484200" y="6051600"/>
            <a:ext cx="815004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brate, la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http://www.paulillsley.com/shackleton/22.jpg"/>
          <p:cNvPicPr/>
          <p:nvPr/>
        </p:nvPicPr>
        <p:blipFill>
          <a:blip r:embed="rId2"/>
          <a:stretch/>
        </p:blipFill>
        <p:spPr>
          <a:xfrm>
            <a:off x="92160" y="1704960"/>
            <a:ext cx="50623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LaunchingTheJamesCaird2.jpg"/>
          <p:cNvPicPr/>
          <p:nvPr/>
        </p:nvPicPr>
        <p:blipFill>
          <a:blip r:embed="rId1"/>
          <a:stretch/>
        </p:blipFill>
        <p:spPr>
          <a:xfrm>
            <a:off x="428760" y="1333440"/>
            <a:ext cx="8427960" cy="52005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582480" y="5718240"/>
            <a:ext cx="8150400" cy="703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ake unnecessary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isk is justified, don’t hes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) Tenacious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6" descr="elephant isle hut.jpg"/>
          <p:cNvPicPr/>
          <p:nvPr/>
        </p:nvPicPr>
        <p:blipFill>
          <a:blip r:embed="rId1"/>
          <a:stretch/>
        </p:blipFill>
        <p:spPr>
          <a:xfrm>
            <a:off x="138240" y="1389240"/>
            <a:ext cx="8891640" cy="5176800"/>
          </a:xfrm>
          <a:prstGeom prst="rect">
            <a:avLst/>
          </a:prstGeom>
          <a:ln w="0">
            <a:noFill/>
          </a:ln>
        </p:spPr>
      </p:pic>
      <p:sp>
        <p:nvSpPr>
          <p:cNvPr id="573" name="TextBox 4"/>
          <p:cNvSpPr/>
          <p:nvPr/>
        </p:nvSpPr>
        <p:spPr>
          <a:xfrm>
            <a:off x="582480" y="6051600"/>
            <a:ext cx="81504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give up – there is always another mo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512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examples make the message easy to inter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ordinary things can be accomplished under impossible conditions with limit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cuses, no g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50920" y="1679040"/>
            <a:ext cx="4302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ing at the 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:  Dennis N.T. Perkin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Margret P. Holtman, Paul R. Kessler and Catherine McCa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http://vialogue.files.wordpress.com/2012/01/screen-shot-2012-01-20-at-8-57-52-pm.png"/>
          <p:cNvPicPr/>
          <p:nvPr/>
        </p:nvPicPr>
        <p:blipFill>
          <a:blip r:embed="rId1"/>
          <a:stretch/>
        </p:blipFill>
        <p:spPr>
          <a:xfrm>
            <a:off x="4879800" y="841320"/>
            <a:ext cx="378468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can make an extraordinary difference, literally between life an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behaviors can be practiced and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are of your team, and remember that include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54080" y="1338120"/>
            <a:ext cx="437040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n: to be the first to cross the Ant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ed South Georgia 5 Dec 1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men (18 explorers, 10 ship cre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 trapped in ice pack18 Jan 19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 abandoned 27 Oct 1915 (-15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lifeboats 9 Apr 1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Landed on Elephant Island 15 April 1916 (100 m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Caird departed 24 April 19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Landed in 10 May 1916 South Georgia (800 m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rossed South Georgia on foot, arrived at station 21 May 1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22 rescued 30 Aug 1916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em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hackleton_Endurance_Aurora_map2.png"/>
          <p:cNvPicPr/>
          <p:nvPr/>
        </p:nvPicPr>
        <p:blipFill>
          <a:blip r:embed="rId1"/>
          <a:stretch/>
        </p:blipFill>
        <p:spPr>
          <a:xfrm>
            <a:off x="4368960" y="887400"/>
            <a:ext cx="4660920" cy="57276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"/>
          <p:cNvSpPr/>
          <p:nvPr/>
        </p:nvSpPr>
        <p:spPr>
          <a:xfrm>
            <a:off x="142920" y="1992240"/>
            <a:ext cx="237960" cy="2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142920" y="1382760"/>
            <a:ext cx="237960" cy="250920"/>
          </a:xfrm>
          <a:prstGeom prst="rect">
            <a:avLst/>
          </a:prstGeom>
          <a:solidFill>
            <a:srgbClr val="00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142920" y="2644920"/>
            <a:ext cx="237960" cy="2505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42920" y="2982960"/>
            <a:ext cx="237960" cy="250920"/>
          </a:xfrm>
          <a:prstGeom prst="rect">
            <a:avLst/>
          </a:prstGeom>
          <a:solidFill>
            <a:srgbClr val="00b05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142920" y="4233960"/>
            <a:ext cx="237960" cy="250560"/>
          </a:xfrm>
          <a:prstGeom prst="rect">
            <a:avLst/>
          </a:prstGeom>
          <a:solidFill>
            <a:srgbClr val="3043f8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Vision and Quick Vi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dudley_docker_Elephant_isle.jpg"/>
          <p:cNvPicPr/>
          <p:nvPr/>
        </p:nvPicPr>
        <p:blipFill>
          <a:blip r:embed="rId1"/>
          <a:stretch/>
        </p:blipFill>
        <p:spPr>
          <a:xfrm>
            <a:off x="800280" y="1270080"/>
            <a:ext cx="7737120" cy="5280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4"/>
          <p:cNvSpPr/>
          <p:nvPr/>
        </p:nvSpPr>
        <p:spPr>
          <a:xfrm>
            <a:off x="582480" y="6051600"/>
            <a:ext cx="81504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the ultimate goal, but focus energy on short term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Symbolism and Personal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582480" y="6051600"/>
            <a:ext cx="81504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visible memorable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ice_clearing.jpg"/>
          <p:cNvPicPr/>
          <p:nvPr/>
        </p:nvPicPr>
        <p:blipFill>
          <a:blip r:embed="rId1"/>
          <a:stretch/>
        </p:blipFill>
        <p:spPr>
          <a:xfrm>
            <a:off x="2657520" y="857160"/>
            <a:ext cx="54007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Optimism and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7" descr="endurance3.jpg"/>
          <p:cNvPicPr/>
          <p:nvPr/>
        </p:nvPicPr>
        <p:blipFill>
          <a:blip r:embed="rId1"/>
          <a:stretch/>
        </p:blipFill>
        <p:spPr>
          <a:xfrm>
            <a:off x="12600" y="1544760"/>
            <a:ext cx="4997520" cy="3747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endurance_done.jpg"/>
          <p:cNvPicPr/>
          <p:nvPr/>
        </p:nvPicPr>
        <p:blipFill>
          <a:blip r:embed="rId2"/>
          <a:stretch/>
        </p:blipFill>
        <p:spPr>
          <a:xfrm>
            <a:off x="4057560" y="1544760"/>
            <a:ext cx="5056200" cy="37479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582480" y="5226120"/>
            <a:ext cx="8150400" cy="1313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f sto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 fact, but keep the spirit of future opportunity a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fear until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me tough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JC_pull.jpg"/>
          <p:cNvPicPr/>
          <p:nvPr/>
        </p:nvPicPr>
        <p:blipFill>
          <a:blip r:embed="rId1"/>
          <a:stretch/>
        </p:blipFill>
        <p:spPr>
          <a:xfrm>
            <a:off x="887400" y="1292400"/>
            <a:ext cx="7273800" cy="527184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St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582480" y="5811840"/>
            <a:ext cx="8150400" cy="703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care of yourself – you are part of the foun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Team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team3.jpg"/>
          <p:cNvPicPr/>
          <p:nvPr/>
        </p:nvPicPr>
        <p:blipFill>
          <a:blip r:embed="rId1"/>
          <a:stretch/>
        </p:blipFill>
        <p:spPr>
          <a:xfrm>
            <a:off x="1017720" y="1290600"/>
            <a:ext cx="7280280" cy="5226120"/>
          </a:xfrm>
          <a:prstGeom prst="rect">
            <a:avLst/>
          </a:prstGeom>
          <a:ln w="0">
            <a:noFill/>
          </a:ln>
        </p:spPr>
      </p:pic>
      <p:sp>
        <p:nvSpPr>
          <p:cNvPr id="557" name="TextBox 4"/>
          <p:cNvSpPr/>
          <p:nvPr/>
        </p:nvSpPr>
        <p:spPr>
          <a:xfrm>
            <a:off x="582480" y="5880240"/>
            <a:ext cx="8150400" cy="703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or die togeth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harmony = waste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william.benard1</cp:lastModifiedBy>
  <cp:lastPrinted>2011-06-13T12:29:39Z</cp:lastPrinted>
  <dcterms:modified xsi:type="dcterms:W3CDTF">2013-10-22T13:41:00Z</dcterms:modified>
  <cp:revision>87</cp:revision>
  <dc:subject/>
  <dc:title>Leading with Impact</dc:title>
</cp:coreProperties>
</file>