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0C2-AD3F-45E7-BE6F-713368F3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98D-EF29-4B1D-81F2-C297447E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EC2-4CC1-40C9-8783-9E7E70AB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062-F989-4C30-998A-C3976AA7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438-C009-4930-A87E-A4C3F31C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69D-94D0-4065-88BD-8064B671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5BD-0D7C-4B18-955E-832B593A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40F-A5F6-47AE-B0EA-D957B026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9E4-71B0-4B21-9BC4-3CBE0B91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F74-AB62-47E9-8E93-E3A190EA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3CE-30F8-460F-856F-E8EC07E3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393-3799-460C-948B-798FFE5F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49F9-3E3A-4D8C-A159-0BA89CCC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304920" y="501480"/>
            <a:ext cx="6248160" cy="81392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4:11:54Z</dcterms:created>
  <dc:creator>sandy.foote</dc:creator>
  <dc:description/>
  <dc:language>en-US</dc:language>
  <cp:lastModifiedBy>Dewey, Cynthia M.</cp:lastModifiedBy>
  <cp:lastPrinted>2011-09-27T15:03:43Z</cp:lastPrinted>
  <dcterms:modified xsi:type="dcterms:W3CDTF">2011-09-27T15:22:13Z</dcterms:modified>
  <cp:revision>2</cp:revision>
  <dc:subject/>
  <dc:title>Slide 1</dc:title>
</cp:coreProperties>
</file>