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E69-243E-4DBC-950C-3A74DAC9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3C4-6524-476D-9116-D0B3B203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7E8E-F24D-473D-82F1-60E1771D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71F-E9FC-4856-BB39-29F483B0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206E-7D12-4E2F-AF4A-525B450E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CEB8-63F2-4F64-A370-807F3E0B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560-0C80-41D6-88C7-957D5E04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6C8-6394-412E-8043-114F7EC7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713-9255-49C6-B785-D4645F62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61BA-37E0-42BB-81AF-A3D6018B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8FFE-F8A0-4F55-B55F-D6748567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A733-307A-4102-A00F-469042104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628-CAF3-48DF-9495-C9111BC9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B770-81F7-459F-82EB-5908AFFE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5D2E-1778-4468-A76A-03D32FF8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999F-97D9-4C0A-9FDE-97DA5D8B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06C-1EED-4506-B9B8-FD84E377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C46-6C48-41E6-A6D8-C7240981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586-18EA-4882-8046-BC165974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9F5E-1AB3-4B08-87A2-9C798071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432-9537-44C2-8534-1C5E6B25D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DF83-EFE0-4B1F-9725-EEEAA5A4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00B-6D40-4CAA-92DE-31AAD4DB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39F4-2B60-42ED-9AEC-C349FBF2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146-AEBD-4F73-88B3-3D9A1BEB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CB2-3AC0-4A68-9687-6AF41296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6D0-453A-4D04-A7E8-28085CFA8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D31-2E32-4CBF-8FD3-F2DF37C1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614-4670-4DDE-A7F6-09C748DE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AE1-76C8-490D-8DDF-75C20FF6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8688-0B54-42C6-9595-33B3C41B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AB4C-DD85-4BC9-8D93-D79A1348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9168-3467-481F-BEDC-EA50BDE3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6579-AEA8-4F8F-ABFC-16B00173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6DC-2779-4592-961B-395E1F11A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A380-2A92-4C0F-B91A-AF59E545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0A0-C223-4D01-9EBB-4EE21E62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C7-322A-47C5-9295-EC37C908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C1D-7437-4B85-8F80-CE664947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8EB-23D0-4FC2-A5CB-B57E74C8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2743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B77-D256-4EC5-954E-C4ADAB60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E21-6C7B-4534-9EC9-2363D62A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B88-8F10-4291-BADA-AC7F350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85E-B4C4-404A-9CE3-5D0054D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2743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C70-BE68-4231-937C-40CBC448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3F3-3532-463A-92D5-5A958EC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CE5-F108-4799-B97A-89BFEE6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B9C-71A9-460B-8FF6-73EFC8D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228600"/>
            <a:ext cx="9144000" cy="121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2" marL="11430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3" marL="16002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4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5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6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EC6-D45A-49B1-8474-DF4D0101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EC_logo"/>
          <p:cNvPicPr/>
          <p:nvPr/>
        </p:nvPicPr>
        <p:blipFill>
          <a:blip r:embed="rId2"/>
          <a:stretch/>
        </p:blipFill>
        <p:spPr>
          <a:xfrm>
            <a:off x="5638680" y="3745080"/>
            <a:ext cx="2819520" cy="836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2" marL="11430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3" marL="16002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4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5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6" marL="2057400" indent="-22860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Bliss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648"/>
                </a:solidFill>
                <a:latin typeface="Bliss Medium"/>
              </a:rPr>
              <a:t>Conflict Dynamics Profile</a:t>
            </a:r>
            <a:r>
              <a:rPr b="0" lang="en-US" sz="2800" spc="-1" strike="noStrike" baseline="50000">
                <a:solidFill>
                  <a:srgbClr val="222648"/>
                </a:solidFill>
                <a:latin typeface="Bliss Medium"/>
              </a:rPr>
              <a:t>®</a:t>
            </a:r>
            <a:r>
              <a:rPr b="0" lang="en-US" sz="4400" spc="-1" strike="noStrike">
                <a:solidFill>
                  <a:srgbClr val="222648"/>
                </a:solidFill>
                <a:latin typeface="Bliss Medium"/>
              </a:rPr>
              <a:t>  (CDP)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EngraversGothic BT"/>
              </a:rPr>
              <a:t>assessing conflict behavior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mbo"/>
              </a:rPr>
              <a:t>The Center for Conflict Dynamics</a:t>
            </a:r>
            <a:endParaRPr b="0" lang="en-US" sz="2000" spc="-1" strike="noStrike">
              <a:solidFill>
                <a:srgbClr val="000000"/>
              </a:solidFill>
              <a:latin typeface="Bliss Medium"/>
            </a:endParaRPr>
          </a:p>
          <a:p>
            <a:pPr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 Medium"/>
            </a:endParaRPr>
          </a:p>
          <a:p>
            <a:pPr indent="0" algn="r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liss Medium"/>
            </a:endParaRPr>
          </a:p>
          <a:p>
            <a:pPr indent="0" algn="r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liss Medium"/>
            </a:endParaRPr>
          </a:p>
          <a:p>
            <a:pPr indent="0" algn="r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embo"/>
              </a:rPr>
              <a:t>2008©Eckerd College</a:t>
            </a:r>
            <a:endParaRPr b="0" lang="en-US" sz="7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 Medium"/>
              </a:rPr>
              <a:t>Active and Passive Responses to Conflict</a:t>
            </a:r>
            <a:endParaRPr b="0" lang="en-US" sz="4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222648"/>
                </a:solidFill>
                <a:latin typeface="Bliss Medium"/>
              </a:rPr>
              <a:t>     </a:t>
            </a:r>
            <a:r>
              <a:rPr b="1" i="1" lang="en-US" sz="2600" spc="-1" strike="noStrike">
                <a:solidFill>
                  <a:srgbClr val="222648"/>
                </a:solidFill>
                <a:latin typeface="Bliss Medium"/>
              </a:rPr>
              <a:t>Research has further demonstrated the usefulness of classifying conflict-related responses into two additional categories.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Behaviors which involve overt responses, taking action, or making an effort.  Outcome can be either constructive or destructive.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Passive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Behaviors which involve withholding a response, not taking action, or not making an effort.  Outcome can be either constructive or destructive.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57200" y="175248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32" name="AutoShape 5"/>
          <p:cNvSpPr/>
          <p:nvPr/>
        </p:nvSpPr>
        <p:spPr>
          <a:xfrm rot="10800000">
            <a:off x="8534520" y="17521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onflict Response Categorie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71600" y="2514600"/>
          <a:ext cx="7315200" cy="3524400"/>
        </p:xfrm>
        <a:graphic>
          <a:graphicData uri="http://schemas.openxmlformats.org/drawingml/2006/table">
            <a:tbl>
              <a:tblPr/>
              <a:tblGrid>
                <a:gridCol w="3537000"/>
                <a:gridCol w="3778200"/>
              </a:tblGrid>
              <a:tr h="1827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Perspective Ta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Creating Sol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Expressing Emo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Reach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2648"/>
                      </a:solidFill>
                    </a:lnL>
                    <a:lnR w="5760">
                      <a:solidFill>
                        <a:srgbClr val="222648"/>
                      </a:solidFill>
                    </a:lnR>
                    <a:lnT w="5760">
                      <a:solidFill>
                        <a:srgbClr val="222648"/>
                      </a:solidFill>
                    </a:lnT>
                    <a:lnB w="5760">
                      <a:solidFill>
                        <a:srgbClr val="222648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Winning at All Co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Displaying Ang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Demeaning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Retalia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2648"/>
                      </a:solidFill>
                    </a:lnL>
                    <a:lnR w="5760">
                      <a:solidFill>
                        <a:srgbClr val="222648"/>
                      </a:solidFill>
                    </a:lnR>
                    <a:lnT w="5760">
                      <a:solidFill>
                        <a:srgbClr val="222648"/>
                      </a:solidFill>
                    </a:lnT>
                    <a:lnB w="5760">
                      <a:solidFill>
                        <a:srgbClr val="222648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Reflective Thin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Delay Respo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Adap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2648"/>
                      </a:solidFill>
                    </a:lnL>
                    <a:lnR w="5760">
                      <a:solidFill>
                        <a:srgbClr val="222648"/>
                      </a:solidFill>
                    </a:lnR>
                    <a:lnT w="5760">
                      <a:solidFill>
                        <a:srgbClr val="222648"/>
                      </a:solidFill>
                    </a:lnT>
                    <a:lnB w="5760">
                      <a:solidFill>
                        <a:srgbClr val="222648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Avoi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Yiel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Hiding Emo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liss Medium"/>
                        </a:rPr>
                        <a:t>Self Critic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Blis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2648"/>
                      </a:solidFill>
                    </a:lnL>
                    <a:lnR w="5760">
                      <a:solidFill>
                        <a:srgbClr val="222648"/>
                      </a:solidFill>
                    </a:lnR>
                    <a:lnT w="5760">
                      <a:solidFill>
                        <a:srgbClr val="222648"/>
                      </a:solidFill>
                    </a:lnT>
                    <a:lnB w="5760">
                      <a:solidFill>
                        <a:srgbClr val="22264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66"/>
          <p:cNvSpPr/>
          <p:nvPr/>
        </p:nvSpPr>
        <p:spPr>
          <a:xfrm>
            <a:off x="1219320" y="1828800"/>
            <a:ext cx="7543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onstructive</a:t>
            </a: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Destructiv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36" name="Text Box 92"/>
          <p:cNvSpPr/>
          <p:nvPr/>
        </p:nvSpPr>
        <p:spPr>
          <a:xfrm rot="16200000">
            <a:off x="-2094120" y="2932560"/>
            <a:ext cx="5867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Passive       Activ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228600" y="380520"/>
            <a:ext cx="8610480" cy="6324840"/>
            <a:chOff x="228600" y="380520"/>
            <a:chExt cx="8610480" cy="6324840"/>
          </a:xfrm>
        </p:grpSpPr>
        <p:pic>
          <p:nvPicPr>
            <p:cNvPr id="138" name="Picture 3" descr="~max0005"/>
            <p:cNvPicPr/>
            <p:nvPr/>
          </p:nvPicPr>
          <p:blipFill>
            <a:blip r:embed="rId1"/>
            <a:stretch/>
          </p:blipFill>
          <p:spPr>
            <a:xfrm rot="10800000">
              <a:off x="1600200" y="380520"/>
              <a:ext cx="5943600" cy="63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4"/>
            <p:cNvSpPr/>
            <p:nvPr/>
          </p:nvSpPr>
          <p:spPr>
            <a:xfrm>
              <a:off x="1752480" y="531720"/>
              <a:ext cx="31114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000000"/>
                </a:buClr>
                <a:buFont typeface="Blis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1789200" y="5927760"/>
              <a:ext cx="3111480" cy="62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000000"/>
                </a:buClr>
                <a:buFont typeface="Blis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28600" y="380880"/>
              <a:ext cx="1600200" cy="624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000000"/>
                </a:buClr>
                <a:buFont typeface="Blis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7238880" y="380880"/>
              <a:ext cx="1600200" cy="624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000000"/>
                </a:buClr>
                <a:buFont typeface="Bliss Mediu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Bliss Medium"/>
              </a:rPr>
              <a:t>ACTIVE CONSTRUCTIVE RESPONS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Perspective Taking (PT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Imagines what the other person is thinking and feeling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Tries to understand how things look from that person’s perspective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Creating Solutions (CS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Attempts to generate creative solutions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Brainstorms with the other person to create new ideas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Expressing Emotions (EE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Talks honestly and directly to the other pers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Directly communicates his/her feelings at the time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Reaching Out (RO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Tries to repair the emotional damage caused by the conflict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Makes the first move to get the communication started agai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Bliss Medium"/>
              </a:rPr>
              <a:t>PASSIVE CONSTRUCTIVE RESPONSES</a:t>
            </a: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6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Reflective Thinking (RT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Analyzes the situation to determine the best course of action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Reflects on the best way to proceed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6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Delay Responding (DR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Delays responding until the situation has settled down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Lets things calm down before proceeding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marL="329040" indent="0">
              <a:lnSpc>
                <a:spcPct val="6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Bliss Medium"/>
              </a:rPr>
              <a:t>Adapting (AD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Tries to stay flexible and optimistic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Tries to just make the best of the situation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liss Medium"/>
              </a:rPr>
              <a:t>ACTIVE DESTRUCTIVE RESPONSES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Winning at All Costs (WI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Argues vigorously for his/her own positi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Tries to win at all costs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Displaying Anger (DA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Raises his/her own voice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Uses harsh, angry words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 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Demeaning Other (DO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Rolls his/her eyes when the other person speaks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Is sarcastic towards that pers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Retaliating (RE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Tries to get eve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Passively obstructs the other pers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CDP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liss Medium"/>
              </a:rPr>
              <a:t>PASSIVE DESTRUCTIVE RESPONSES</a:t>
            </a: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7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Avoiding (AV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Acts distant and aloof toward that pers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Keeps as much distance as possible from that person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7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Yielding (YL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Lets the other person have his/her way in order to avoid further conflict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Gives in to the other person just to make life easier all the way round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7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Sample Item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Hiding Emotions (HE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Hides his/her true feelings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Feels upset but doesn’t show it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Bliss Medium"/>
              </a:rPr>
              <a:t>Self-Criticizing (SC)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Is critical of himself/herself for not handling the conflict better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</a:rPr>
              <a:t>Replays the incident over and over in his/her mind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Any situation in which people have </a:t>
            </a:r>
            <a:r>
              <a:rPr b="1" i="1" lang="en-US" sz="2600" spc="-1" strike="noStrike">
                <a:solidFill>
                  <a:srgbClr val="000000"/>
                </a:solidFill>
                <a:latin typeface="Bliss Medium"/>
              </a:rPr>
              <a:t>apparently</a:t>
            </a:r>
            <a:r>
              <a:rPr b="1" lang="en-US" sz="2600" spc="-1" strike="noStrike">
                <a:solidFill>
                  <a:srgbClr val="000000"/>
                </a:solidFill>
                <a:latin typeface="Bliss Medium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incompatible goals, interests, principles or feeling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95" name="Picture 9" descr="j0262053"/>
          <p:cNvPicPr/>
          <p:nvPr/>
        </p:nvPicPr>
        <p:blipFill>
          <a:blip r:embed="rId2"/>
          <a:stretch/>
        </p:blipFill>
        <p:spPr>
          <a:xfrm>
            <a:off x="4267080" y="3429000"/>
            <a:ext cx="3357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Responses to Conflic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liss Medium"/>
              </a:rPr>
              <a:t>BEFOR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When an unpleasant conflict with another person is just beginning,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When another person seriously provokes me during a conflict,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Responses to Conflic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liss Medium"/>
              </a:rPr>
              <a:t>DURING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When I am having a conflict with someone,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During a tense conflict with another person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 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Responses to Conflic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liss Medium"/>
              </a:rPr>
              <a:t>AFTER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When a conflict has been going on for some time,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After an intense conflict with someone has ended, I …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Hot Button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ompleted only by the individual, and not by boss, peers, or direct reports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36 items tapping the 9 situations/people causing the greatest degree of irritation to the individual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Unreliable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Overly analytical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Unappreciative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Aloof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Micro-managing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Self-centered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Abrasive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 •  Untrustworthy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Hostile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liss Medium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 Medium"/>
              </a:rPr>
              <a:t>Organizational Perspective on Conflict</a:t>
            </a:r>
            <a:endParaRPr b="0" lang="en-US" sz="4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Completed by self, boss, peers and direct report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15 items tapping the degree to which each of the responses to conflict have a negative effect on careers within this particular organization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In your organization, which of the following responses to conflict have the most negative effect on a person’s career?”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Expressing anger, raising your voice, and using harsh angry words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eedback report cover from CDP-360 enhanced June 2008"/>
          <p:cNvPicPr/>
          <p:nvPr/>
        </p:nvPicPr>
        <p:blipFill>
          <a:blip r:embed="rId1"/>
          <a:stretch/>
        </p:blipFill>
        <p:spPr>
          <a:xfrm>
            <a:off x="2666880" y="1066680"/>
            <a:ext cx="370224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70" name="Picture 6" descr="Feedback report bottom"/>
          <p:cNvPicPr/>
          <p:nvPr/>
        </p:nvPicPr>
        <p:blipFill>
          <a:blip r:embed="rId1"/>
          <a:stretch/>
        </p:blipFill>
        <p:spPr>
          <a:xfrm>
            <a:off x="838080" y="2819520"/>
            <a:ext cx="71326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73" name="Picture 6" descr="Constructive response from CDP-360 enhanced June 2008-2"/>
          <p:cNvPicPr/>
          <p:nvPr/>
        </p:nvPicPr>
        <p:blipFill>
          <a:blip r:embed="rId1"/>
          <a:stretch/>
        </p:blipFill>
        <p:spPr>
          <a:xfrm>
            <a:off x="2286000" y="1066680"/>
            <a:ext cx="412272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76" name="Picture 6" descr="Act-Cons"/>
          <p:cNvPicPr/>
          <p:nvPr/>
        </p:nvPicPr>
        <p:blipFill>
          <a:blip r:embed="rId1"/>
          <a:stretch/>
        </p:blipFill>
        <p:spPr>
          <a:xfrm>
            <a:off x="1147680" y="1046160"/>
            <a:ext cx="684864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79" name="Picture 4" descr="Destructive response from CDP-360 enhanced June 2008-4"/>
          <p:cNvPicPr/>
          <p:nvPr/>
        </p:nvPicPr>
        <p:blipFill>
          <a:blip r:embed="rId1"/>
          <a:stretch/>
        </p:blipFill>
        <p:spPr>
          <a:xfrm>
            <a:off x="2362320" y="1143000"/>
            <a:ext cx="4016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Approach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spcAft>
                <a:spcPts val="1624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o focus explicitly on specific behavioral responses to conflict, and how they might be changed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spcAft>
                <a:spcPts val="1624"/>
              </a:spcAft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o examine the way conflicts unfold over time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spcAft>
                <a:spcPts val="1624"/>
              </a:spcAft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o start with the assumption that conflict is inevitable; it cannot, nor should it, be completely avoided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spcAft>
                <a:spcPts val="1624"/>
              </a:spcAft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he goal of successful conflict management is not its elimination, but to reduce its harmful effects and maximize its useful on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82" name="Picture 4" descr="Active des response from CDP-360 enhanced June 2008-5"/>
          <p:cNvPicPr/>
          <p:nvPr/>
        </p:nvPicPr>
        <p:blipFill>
          <a:blip r:embed="rId1"/>
          <a:stretch/>
        </p:blipFill>
        <p:spPr>
          <a:xfrm>
            <a:off x="1096920" y="1111320"/>
            <a:ext cx="695016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85" name="Picture 4" descr="Boss peer feedback from CDP-360 enhanced June 2008-6"/>
          <p:cNvPicPr/>
          <p:nvPr/>
        </p:nvPicPr>
        <p:blipFill>
          <a:blip r:embed="rId1"/>
          <a:stretch/>
        </p:blipFill>
        <p:spPr>
          <a:xfrm>
            <a:off x="1325520" y="1523880"/>
            <a:ext cx="6492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88" name="Picture 4" descr="Discrepancy profile from CDP-360 enhanced June 2008-7"/>
          <p:cNvPicPr/>
          <p:nvPr/>
        </p:nvPicPr>
        <p:blipFill>
          <a:blip r:embed="rId1"/>
          <a:stretch/>
        </p:blipFill>
        <p:spPr>
          <a:xfrm>
            <a:off x="1676520" y="914400"/>
            <a:ext cx="529740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91" name="Picture 4" descr="dynamic conflic seq combined from CDP-360 enhanced June 2008-9"/>
          <p:cNvPicPr/>
          <p:nvPr/>
        </p:nvPicPr>
        <p:blipFill>
          <a:blip r:embed="rId1"/>
          <a:stretch/>
        </p:blipFill>
        <p:spPr>
          <a:xfrm>
            <a:off x="1827360" y="1523880"/>
            <a:ext cx="47638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94" name="Picture 4" descr="Organizational perspective on conflict from CDP-360 enhanced June 2008-10"/>
          <p:cNvPicPr/>
          <p:nvPr/>
        </p:nvPicPr>
        <p:blipFill>
          <a:blip r:embed="rId1"/>
          <a:stretch/>
        </p:blipFill>
        <p:spPr>
          <a:xfrm>
            <a:off x="2057400" y="1447920"/>
            <a:ext cx="484020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197" name="Picture 4" descr="Hot buttons from CDP-360 enhanced June 2008-11"/>
          <p:cNvPicPr/>
          <p:nvPr/>
        </p:nvPicPr>
        <p:blipFill>
          <a:blip r:embed="rId1"/>
          <a:stretch/>
        </p:blipFill>
        <p:spPr>
          <a:xfrm>
            <a:off x="1981080" y="1143000"/>
            <a:ext cx="47214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pic>
        <p:nvPicPr>
          <p:cNvPr id="200" name="Picture 4" descr="Developmental feedback  from CDP-360 enhanced June 2008-13"/>
          <p:cNvPicPr/>
          <p:nvPr/>
        </p:nvPicPr>
        <p:blipFill>
          <a:blip r:embed="rId1"/>
          <a:stretch/>
        </p:blipFill>
        <p:spPr>
          <a:xfrm>
            <a:off x="1184400" y="1362240"/>
            <a:ext cx="677520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ognitive Conflict (Task-Oriented)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ocuses on ideas, not personalities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an occur during times of creativity and productivity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Affect is neutral, or positiv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Unrelated, or positively related, to group functioning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Affective Conflict (Personal)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Focuses on people, not ideas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an occur at any tim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Affect is negative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Negatively related to group functioning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iss Medium"/>
              </a:rPr>
              <a:t>Can escalate rapidly</a:t>
            </a: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Path of Conflict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grpSp>
        <p:nvGrpSpPr>
          <p:cNvPr id="103" name="Organization Chart 6"/>
          <p:cNvGrpSpPr/>
          <p:nvPr/>
        </p:nvGrpSpPr>
        <p:grpSpPr>
          <a:xfrm>
            <a:off x="-38160" y="609480"/>
            <a:ext cx="9106920" cy="6134400"/>
            <a:chOff x="-38160" y="609480"/>
            <a:chExt cx="9106920" cy="6134400"/>
          </a:xfrm>
        </p:grpSpPr>
        <p:sp>
          <p:nvSpPr>
            <p:cNvPr id="104" name="AutoShape 5"/>
            <p:cNvSpPr/>
            <p:nvPr/>
          </p:nvSpPr>
          <p:spPr>
            <a:xfrm>
              <a:off x="-38160" y="609480"/>
              <a:ext cx="9106920" cy="61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>
              <a:off x="6390000" y="5395320"/>
              <a:ext cx="4680" cy="79560"/>
            </a:xfrm>
            <a:prstGeom prst="straightConnector1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10" idx="2"/>
            </p:cNvCxnSpPr>
            <p:nvPr/>
          </p:nvCxnSpPr>
          <p:spPr>
            <a:xfrm flipV="1">
              <a:off x="2639880" y="5395320"/>
              <a:ext cx="3960" cy="79560"/>
            </a:xfrm>
            <a:prstGeom prst="straightConnector1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11" name="_s1030"/>
            <p:cNvCxnSpPr>
              <a:stCxn id="107" idx="0"/>
              <a:endCxn id="112" idx="2"/>
            </p:cNvCxnSpPr>
            <p:nvPr/>
          </p:nvCxnSpPr>
          <p:spPr>
            <a:xfrm flipV="1">
              <a:off x="6390000" y="3304800"/>
              <a:ext cx="4680" cy="98640"/>
            </a:xfrm>
            <a:prstGeom prst="straightConnector1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13" name="_s1031"/>
            <p:cNvCxnSpPr>
              <a:stCxn id="110" idx="0"/>
              <a:endCxn id="114" idx="2"/>
            </p:cNvCxnSpPr>
            <p:nvPr/>
          </p:nvCxnSpPr>
          <p:spPr>
            <a:xfrm flipV="1">
              <a:off x="2639880" y="3304800"/>
              <a:ext cx="3960" cy="98640"/>
            </a:xfrm>
            <a:prstGeom prst="straightConnector1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15" name="_s1032"/>
            <p:cNvCxnSpPr>
              <a:stCxn id="112" idx="0"/>
              <a:endCxn id="116" idx="2"/>
            </p:cNvCxnSpPr>
            <p:nvPr/>
          </p:nvCxnSpPr>
          <p:spPr>
            <a:xfrm flipV="1" rot="16200000">
              <a:off x="5411520" y="1582560"/>
              <a:ext cx="84240" cy="1874160"/>
            </a:xfrm>
            <a:prstGeom prst="bentConnector3">
              <a:avLst>
                <a:gd name="adj1" fmla="val 58369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17" name="_s1033"/>
            <p:cNvCxnSpPr>
              <a:stCxn id="114" idx="0"/>
              <a:endCxn id="116" idx="2"/>
            </p:cNvCxnSpPr>
            <p:nvPr/>
          </p:nvCxnSpPr>
          <p:spPr>
            <a:xfrm flipH="1" flipV="1" rot="5400000">
              <a:off x="3536280" y="1581120"/>
              <a:ext cx="84240" cy="1877400"/>
            </a:xfrm>
            <a:prstGeom prst="bentConnector3">
              <a:avLst>
                <a:gd name="adj1" fmla="val 58369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18" name="_s1034"/>
            <p:cNvCxnSpPr>
              <a:stCxn id="116" idx="0"/>
              <a:endCxn id="119" idx="2"/>
            </p:cNvCxnSpPr>
            <p:nvPr/>
          </p:nvCxnSpPr>
          <p:spPr>
            <a:xfrm flipV="1" rot="16200000">
              <a:off x="4482360" y="2052360"/>
              <a:ext cx="65160" cy="3960"/>
            </a:xfrm>
            <a:prstGeom prst="bentConnector3">
              <a:avLst>
                <a:gd name="adj1" fmla="val 53333"/>
              </a:avLst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119" name="_s1035"/>
            <p:cNvSpPr/>
            <p:nvPr/>
          </p:nvSpPr>
          <p:spPr>
            <a:xfrm>
              <a:off x="1999080" y="1631520"/>
              <a:ext cx="5028840" cy="37080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liss Medium"/>
                </a:rPr>
                <a:t>Precipitating Event and/or Hot Buttons</a:t>
              </a:r>
              <a:endParaRPr b="0" lang="en-US" sz="24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16" name="_s1036"/>
            <p:cNvSpPr/>
            <p:nvPr/>
          </p:nvSpPr>
          <p:spPr>
            <a:xfrm>
              <a:off x="2907720" y="2101320"/>
              <a:ext cx="3214440" cy="36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liss Medium"/>
                </a:rPr>
                <a:t>Initiate Conflict</a:t>
              </a:r>
              <a:endParaRPr b="0" lang="en-US" sz="24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14" name="_s1037"/>
            <p:cNvSpPr/>
            <p:nvPr/>
          </p:nvSpPr>
          <p:spPr>
            <a:xfrm>
              <a:off x="1031040" y="2562120"/>
              <a:ext cx="3213720" cy="74304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liss Medium"/>
                </a:rPr>
                <a:t>Constructive Respons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Bembo"/>
                </a:rPr>
                <a:t>Behaviors which keep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Bembo"/>
                </a:rPr>
                <a:t>conflict to a minimum</a:t>
              </a:r>
              <a:endParaRPr b="0" lang="en-US" sz="18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4781160" y="2562120"/>
              <a:ext cx="3214440" cy="74304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liss Medium"/>
                </a:rPr>
                <a:t>Destructive Respons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Bliss Mediu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Bembo"/>
                </a:rPr>
                <a:t>Behaviors which escalat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Bembo"/>
                </a:rPr>
                <a:t>or prolong conflict</a:t>
              </a:r>
              <a:endParaRPr b="0" lang="en-US" sz="18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10" name="_s1039"/>
            <p:cNvSpPr/>
            <p:nvPr/>
          </p:nvSpPr>
          <p:spPr>
            <a:xfrm>
              <a:off x="1031040" y="3404160"/>
              <a:ext cx="3213720" cy="199188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liss Medium"/>
                </a:rPr>
                <a:t>Task-Focused Conflict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liss Medium"/>
                </a:rPr>
                <a:t>(Cognitive)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Focus on task 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problem solving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Positive effect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Tension decreases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Group functioning improves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07" name="_s1040"/>
            <p:cNvSpPr/>
            <p:nvPr/>
          </p:nvSpPr>
          <p:spPr>
            <a:xfrm>
              <a:off x="4781160" y="3404160"/>
              <a:ext cx="3214440" cy="199188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liss Medium"/>
                </a:rPr>
                <a:t>Person-Focused Conflict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liss Medium"/>
                </a:rPr>
                <a:t>(Affective)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Focused on personal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Negative emotions (anger,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frustration)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Tension increases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Bemb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mbo"/>
                </a:rPr>
                <a:t>Group functioning decreases</a:t>
              </a:r>
              <a:endParaRPr b="0" lang="en-US" sz="16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09" name="_s1041"/>
            <p:cNvSpPr/>
            <p:nvPr/>
          </p:nvSpPr>
          <p:spPr>
            <a:xfrm>
              <a:off x="1031040" y="5495040"/>
              <a:ext cx="3213720" cy="40248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liss Medium"/>
                </a:rPr>
                <a:t>CONFLICT DE-ESCALATES</a:t>
              </a:r>
              <a:endParaRPr b="0" lang="en-US" sz="2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4781160" y="5495040"/>
              <a:ext cx="3214440" cy="40248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liss Medium"/>
                </a:rPr>
                <a:t>CONFLICT ESCALATES</a:t>
              </a:r>
              <a:endParaRPr b="0" lang="en-US" sz="2000" spc="-1" strike="noStrike">
                <a:solidFill>
                  <a:srgbClr val="000000"/>
                </a:solidFill>
                <a:latin typeface="Blis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 Medium"/>
              </a:rPr>
              <a:t>CDP Hot Buttons</a:t>
            </a:r>
            <a:endParaRPr b="0" lang="en-US" sz="4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222648"/>
                </a:solidFill>
                <a:latin typeface="Bliss Medium"/>
              </a:rPr>
              <a:t>     </a:t>
            </a:r>
            <a:r>
              <a:rPr b="1" i="1" lang="en-US" sz="2600" spc="-1" strike="noStrike">
                <a:solidFill>
                  <a:srgbClr val="222648"/>
                </a:solidFill>
                <a:latin typeface="Bliss Medium"/>
              </a:rPr>
              <a:t>People or situations which may irritate you enough to provoke conflict by producing destructive respons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189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18960" indent="-31896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he “hotter” the hot button, the more likely it is to produce: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lvl="1" marL="690840" indent="-26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Strong negative emotions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690840" indent="-26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Feelings of personal provocation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690840" indent="-26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Automatic and impulsive responding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  <a:p>
            <a:pPr lvl="1" marL="690840" indent="-265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Blis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 Medium"/>
              </a:rPr>
              <a:t>Increased tension</a:t>
            </a:r>
            <a:endParaRPr b="0" lang="en-US" sz="24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160020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Blis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33520" y="18288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4" name="AutoShape 6"/>
          <p:cNvSpPr/>
          <p:nvPr/>
        </p:nvSpPr>
        <p:spPr>
          <a:xfrm rot="10800000">
            <a:off x="8457840" y="182844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 Medium"/>
              </a:rPr>
              <a:t>Typical Outcomes of Constructive Responses</a:t>
            </a:r>
            <a:endParaRPr b="0" lang="en-US" sz="4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Win-win solution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Open &amp; honest communication of feeling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Both parties’ needs are met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Non-judgmental action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Not sticking adamantly to one position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Actively resolving conflict (not allowing conflict to continue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houghtful responses (not impulsive)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eam performance improv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 Medium"/>
              </a:rPr>
              <a:t>Typical Outcomes of Destructive Responses</a:t>
            </a:r>
            <a:endParaRPr b="0" lang="en-US" sz="4000" spc="-1" strike="noStrike">
              <a:solidFill>
                <a:srgbClr val="000000"/>
              </a:solidFill>
              <a:latin typeface="Blis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Feelings of anger and frustration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Judgmental action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Getting even and keeping score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Other party does not have needs met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Closed channels of communication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Refusing to deal with issu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Decreased self-confidence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asks not completed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liss Medium"/>
              </a:rPr>
              <a:t>Team performance decreases</a:t>
            </a:r>
            <a:endParaRPr b="0" lang="en-US" sz="2600" spc="-1" strike="noStrike">
              <a:solidFill>
                <a:srgbClr val="000000"/>
              </a:solidFill>
              <a:latin typeface="Bliss Mediu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8:12:57Z</dcterms:created>
  <dc:creator>kuhna</dc:creator>
  <dc:description/>
  <dc:language>en-US</dc:language>
  <cp:lastModifiedBy>Trish Mooney</cp:lastModifiedBy>
  <cp:lastPrinted>2008-07-30T18:36:13Z</cp:lastPrinted>
  <dcterms:modified xsi:type="dcterms:W3CDTF">2013-08-28T12:59:20Z</dcterms:modified>
  <cp:revision>65</cp:revision>
  <dc:subject/>
  <dc:title>Slide 1</dc:title>
</cp:coreProperties>
</file>