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22948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57464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84472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57464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84472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40160" y="0"/>
            <a:ext cx="6603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2948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2948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7464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4472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57464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84472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40160" y="0"/>
            <a:ext cx="6603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2948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Header1(4515 FOR ECBC PPT)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7"/>
          <p:cNvSpPr/>
          <p:nvPr/>
        </p:nvSpPr>
        <p:spPr>
          <a:xfrm>
            <a:off x="0" y="838080"/>
            <a:ext cx="380988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ad6e"/>
              </a:gs>
            </a:gsLst>
            <a:lin ang="10800000"/>
          </a:gradFill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Rectangle 28"/>
          <p:cNvSpPr/>
          <p:nvPr/>
        </p:nvSpPr>
        <p:spPr>
          <a:xfrm>
            <a:off x="5334120" y="6713640"/>
            <a:ext cx="3809880" cy="144360"/>
          </a:xfrm>
          <a:prstGeom prst="rect">
            <a:avLst/>
          </a:prstGeom>
          <a:gradFill rotWithShape="0">
            <a:gsLst>
              <a:gs pos="0">
                <a:srgbClr val="bbad6e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304920" y="152280"/>
            <a:ext cx="2235240" cy="11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4" descr="graphic bar for ECBC copy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2786040" cy="1790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PG Senior Leadership Cohort Program 2013 - 14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ae7a"/>
                </a:solidFill>
                <a:latin typeface="Arial Black"/>
              </a:rPr>
              <a:t>Community Based Project Mid Session 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cae7a"/>
                </a:solidFill>
                <a:latin typeface="Arial Black"/>
              </a:rPr>
              <a:t>Aberdeen Proving Ground (AP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 Summar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0840" y="1334880"/>
            <a:ext cx="875052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V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Go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 Summar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391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mplishments so f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adership Lear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5760" y="1353960"/>
            <a:ext cx="814068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ing My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Leading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Leading In The Broader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23:13:38Z</dcterms:created>
  <dc:creator>Trish Mooney</dc:creator>
  <dc:description/>
  <dc:language>en-US</dc:language>
  <cp:lastModifiedBy>Claire Meany</cp:lastModifiedBy>
  <dcterms:modified xsi:type="dcterms:W3CDTF">2013-09-09T11:28:26Z</dcterms:modified>
  <cp:revision>16</cp:revision>
  <dc:subject/>
  <dc:title>Kick off Meeting- March 28, 2012</dc:title>
</cp:coreProperties>
</file>