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03E7-DA5B-4C0A-8EDD-7ABD0AC47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EC8F-E3B4-49E3-B9AC-C265035906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2D9A0-5CE8-4C8C-8CEF-5112C87F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DFDB-43F2-4344-BF18-B9412AA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69BDA-16D3-4AAA-B51F-EF21011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AEEDB-A2D8-4F06-AC63-2848F02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D7FED-02BC-4581-AA4F-DCE3AF8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060B7-C0ED-4D28-84C6-EAB5E9D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E339F-3D06-4705-9075-4D3EA9C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875A1-44FF-4ABC-8E75-E2CC8B4D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928B4-D047-4367-8E97-59A9C1E1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CE9B2-734F-4B1E-B819-A8210DF2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EA9E-5CEB-4781-9B9E-2DEF29B05C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8DEE5-66B1-4B95-8387-2423D4D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649E2-411A-43B5-BC5C-B5D1B8D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436E3-E3F0-4E41-B6C7-0CC516A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D7D83-9D38-4A8D-A2DC-9FB8235F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8C70E-6441-4A4F-A8F5-C1AB5DE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BCA89-935E-4801-B60E-77EE5A1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05945-CA5D-4416-B723-70F7EFF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FE59B-E7CE-47B5-A65B-D29D397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BFB4C-AEFB-48A5-8B54-8757B6F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01505-F7A3-4720-A334-67D119F6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AFB5-8D90-4E0A-A78E-C82A021E62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EE89A-149D-472C-9B32-2E6C533E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0EEA16-5E3B-4214-A966-86AA85D8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4E8FD3-0C16-4BF9-92E4-403CB15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F73E02-214F-4303-BA2B-D27EB3B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872041-EF49-4B4E-9659-AA745DF6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CD5D30-5DE0-4216-BF48-7122E26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816F24-3DDC-485A-98A8-4FEED259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766AA8-70D2-4FED-8882-52295C1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55B7C0-9DAB-4566-9269-A7351A2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A27E53-315B-46BA-8D76-0B658A4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543D4-0290-4355-92F4-265AD9B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1988B8-0B90-4780-9940-06BCAD7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708887-B487-4F1F-86A8-65F229B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C846A7-42E2-45CF-ADCF-A59CD11F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948E1-4E9C-4D73-8A51-BF72BC3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F9F12-FC7E-4FAF-A265-487C9B6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306AD-DA24-493F-895D-CAA275B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07911-934E-4295-9B54-0EDB51D6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834E0-8076-40F5-AF44-D3F4AA1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C4254-48E5-4284-AFC1-B71D850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524E3-4445-424E-BBD0-3021487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5B428-CDB2-4211-A489-D3C5934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18A69-0190-48B4-9533-CDA397A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FB3A7-6273-4CCA-84C4-7AC9B0A1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5C0A-1F5F-4ED4-BE4E-5154FDFC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CE495-8D66-4E95-8D08-DA16CD94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07497-0174-47FB-A778-73ED24FD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3294-5A81-4E00-AB67-8E0BC38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DAD59-9C39-42E4-8317-4B6BD38E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A3DD8-1F2F-46D5-816F-463E79B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34E31-264F-463F-8C8F-62D2C9D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44427-236A-4CB3-AD71-739BBB2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C0D0-B727-42F3-9DD5-E279A3A7C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F3B8-F678-402B-A0EB-C17A697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7FB7B-D12E-4768-92B8-CA09602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FB380-7542-450E-BB83-C92F289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C47C3-C606-4091-8556-D7BEDBFF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66AA3-80F4-43C5-A19E-DC12A89A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7F04F-BA39-4736-A25B-C889E123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A5F1C-3879-46FD-9700-E39255B4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0EC0D-F8A1-47B3-B963-5192003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389AC-4FA0-4346-89A5-CAE3973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DAB17-EC92-43A5-A7D1-EACA411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C647-896A-4B40-9999-1DF2BB3FDC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2FA0F-C7D3-425D-AF57-D10BFD3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88291-4DF2-4376-A826-8C45CC4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6B450-6C77-4BB4-A2C4-91C78106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B2E5C-7DAE-473D-B08A-7FB916A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3A3CD-C98E-403E-8701-7742ACF6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F06A4-2CC1-419C-A1F6-560362CA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D9ACB-392E-45E9-B57D-3A76FE41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1DFBD-BCA5-442B-AB4E-72133E3A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A9765-6143-4F8B-B46B-C89899B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3D63B-49E3-4325-9726-B22A82EE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CD9E-F7E5-4732-B193-6FD0FA34A6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D4C3D-063F-47FD-AB2C-C13EED02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47A5F-DBFC-4203-BA86-F4C6F6E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F8884-7232-4A66-BE22-193E498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C51C2-79ED-47FB-972B-2855FAEE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FA8A7-F867-45E2-9F0B-CCC2E3E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20DB0-26F6-4094-AFED-21B3E05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52370-B036-4741-A778-DAC0B4B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DEC7C-72C8-46F8-936B-A71920FA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7C149-9774-43FB-8173-E8634BCA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89A50-1A05-4671-875B-400CBC18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E09A-FDAC-41DF-BD60-2503B46957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ED17E-3B34-4566-9D4B-23F817C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8CD64-AF1C-4687-9D4A-958D764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750BD-D7BB-4BDD-837B-2E871EB9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C8C8D-B567-47A6-80BE-FB6AF6D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1E4FE-CACB-4AF8-804E-CF54489C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B84AF-18F5-4EA6-80E8-7D937A6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AE7A1-6C55-46F8-8EFE-131A0C9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70141-6866-43E0-9FB2-BF36544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EBB78-A2A0-49E5-9AC8-7EEFC79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57007-F593-4B06-827D-0C831942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5E60-6AB2-4973-B6C1-5B2C114569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D3EF7A-807C-4F4D-B2D4-D2D289C3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314E3F-7216-4AFF-BC60-D2FE7C1D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96BE0-ED96-4A63-A2CC-3091DCEE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58B26-284B-4FF3-96A5-7008DF5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047BA-9561-45E4-A1C3-371D9CD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68D32-0F9E-42A6-8484-621044D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757FC-2D91-4D2A-9003-91FA1D8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585E8-11C2-4BF7-8028-8C60D33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C91BBF-4B0E-46F1-8CE8-B8999D5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A8925-613E-482B-A688-0014D0B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F849-A8AB-4171-BA11-E31293A6BA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A8E32-FEC1-4C5A-8865-5C243968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3A05E-4E47-400A-84B5-9A2B079F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E1E67-F64C-4EED-8574-37065A3C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1B1BAE-9E8B-443E-B08B-26C325F4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1711A4-E7E5-4E4D-A68C-EDA61CA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D11556-7C8B-4C30-8A79-785BCB5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C0794-66AE-44D7-9F0D-2A9F899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7B98EF-0D9E-4A82-9E23-06E2B867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73AACA-A411-4DF0-A6E9-05267B34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08A9C-A0F3-46CB-83FA-B86B2E6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57F4-652F-45BC-8F02-6C01B59F3B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9A32D-1FDF-4536-B3C5-7DBF207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E4303-B2ED-4FD2-95A6-E1424B2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25B0D-5453-4CAE-94DD-0E73D1E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A965D-2328-4D18-BB44-0800D2F3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A81B4-E547-4FD3-9A53-07AE14B1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3EF8E1-46A0-4142-97C0-1451F64C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103E7-CBBE-4327-BDAD-29B7D85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16800-9502-4C6F-8B39-561288F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D6B2B-372B-422B-960D-D575E2B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723571-99C6-4DF6-8CA7-6B5D468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767E-940D-4665-AFC0-29C11CAB65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36665C-65BC-46D5-842B-BCA30A1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6EADA-F875-4069-986E-178036A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1C54D-43B4-4E54-B4E5-ACC1941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82254-7521-401F-8DDD-AF7E4FF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8D0EF-E1EE-4C3D-B06A-AF93D10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6426D2-790E-45C0-BBC5-16E602FD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922F1-B1ED-4919-956D-F559CFE6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4C70B-4523-423D-A9EA-181ED2AE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D6C3F-179A-4C28-80D4-A9CABFF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9985E-3673-4C8B-8E19-0055643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A7A1F-233F-4709-B27E-3284E466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2AC21-3D9A-49A5-8A4F-ED2ADE61674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914A4-86B3-49EA-B9EF-11F8F3A81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F56D2-FD4B-445C-8D96-5B2E54D6AA2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F7D1C-2A8F-4EB0-9B47-5971CFC43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FE578-980E-4788-AD2C-E695E509C2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AE83B-CCA7-4A14-AF91-BA35C879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11158-EEB2-49DC-8AD6-FDB0A7168C5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F534F-C408-4A2F-A41B-E68DBDD0D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52E64-4F84-4E48-A35E-781C2B81E49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BF646-287B-4F23-8C0A-D3B37F1DF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24CFB-D44E-45AE-8A52-0FDA21556D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454C0-B898-4A5C-900B-6680F5383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3F04C-2DAE-4E21-B9F1-710B718D4C7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9EC79-8C82-40A0-811F-B3AD7B11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A6DFA-8E59-4539-BF45-7574064D32E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5D71-BC6D-4A69-91D5-74F7F739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0C600-C7D0-415E-AE50-E4967F0534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215F5-6D9C-4EF3-8D6E-3B0D38E77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26DC3-8C97-4A0B-BD2A-0B05EEEE21B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0F13B-7E68-4697-AF52-05F93561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B54B3-C614-42BB-B44A-A9E983930CD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CE3BD-5C68-4BF3-83A3-A74088137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s and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Spencer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C:\Users\brian.debiase\Desktop\PV.jpg"/>
          <p:cNvPicPr/>
          <p:nvPr/>
        </p:nvPicPr>
        <p:blipFill>
          <a:blip r:embed="rId1"/>
          <a:stretch/>
        </p:blipFill>
        <p:spPr>
          <a:xfrm>
            <a:off x="5591160" y="2214720"/>
            <a:ext cx="21528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Sensibl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in a situation—Not fear or what I wish to happ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when you need to change—company compla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your perspective-view of the mou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hings differently-Is there an opport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 of the mountain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ill be peaks and valley but you choose you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 Path out of the Valley appears when you chose to see things differently"--Story and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 Most common reason you stay in a valley too long is fear, masquerading as comfort” –Complac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hat is the truth in this situation? How can we use the good that's hidden in the bad time“—Remain 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 reality , of course, was that we needed to change. But they didn't see this, because their arrogance had made them complacen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ook, along with The Power of Story, allows one to look at things from a different per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accept a situation and then move on with a 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follows the guidance from these books, one can use every experience to grow as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brian.debiase</cp:lastModifiedBy>
  <cp:lastPrinted>2011-06-13T12:29:39Z</cp:lastPrinted>
  <dcterms:modified xsi:type="dcterms:W3CDTF">2013-11-20T22:18:39Z</dcterms:modified>
  <cp:revision>23</cp:revision>
  <dc:subject/>
  <dc:title>Leading with Impact</dc:title>
</cp:coreProperties>
</file>