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4A78F-02DC-4B6B-8386-63527FAA71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5C7A1-98E1-4766-AFFE-F85107B36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DAF56-75AE-4086-A249-3CF84DD37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8140-BB57-48B8-8506-0323904DE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2967-56E5-4A42-8DEA-1972777745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B97EE-1182-4A72-88B4-64291789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22C12-2C05-4115-BFD5-0EC48BC1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4FE3D-5E70-4EE2-B007-82DB117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3D575-B87C-409C-BBA2-3B8C8CA7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45C44-4C21-441C-B59F-D83F46B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B9632-9409-406F-B90D-B295531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12931-55D1-4572-8C16-7DBBA274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468B5-D851-4042-9AB0-4A0E3FFA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20FA4-93E4-4A3E-8A9A-51923DDE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35E4A-5DE3-44F3-8B04-EEE7837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7231-F69A-4CA3-B25A-5BA05B9576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E5730-E241-42D0-A6FE-774A7E33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BCE06-FA31-4F2B-ABBE-78F76242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47BCF-69DC-4C1F-B0BA-E446C67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24EBD-86DD-4403-B6F2-77199CB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34E37-FCBC-4A98-A8A2-7FF17FD2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7D51B-EAC6-4456-A521-C1C1848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A068E-C835-4B0B-A810-6A36485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DDAB8-F504-4A14-9CC9-1F6844C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584FD-C98A-4835-939D-689F7C6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DEDC8-EC14-413E-8FBB-26078646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2C8D-78C4-4B4B-8EED-03EE7ECFFA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B947C-3705-436F-AD91-F1D9F934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9891BA-8BE0-4815-9B37-1D8725DE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E2149B-6367-41AB-B403-0288ED88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E0F507-1B52-4C03-A631-5F4341A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9DF5CD-7466-4898-88F3-DD15C3E8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5C6506-AA0B-4874-A88E-A4C397B9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795CA6-2FE0-4F71-815A-6E2938C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74D11E-17E6-4262-BC12-4582573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9DA26-0B5A-4431-AC6A-CF49EB5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B2F808-B2DF-4CE9-8FA8-98B414A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C39A3-CCB2-4846-844E-03CB24C6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79C4B9-33AC-4F5A-981C-DEEFE462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E20997-7CDC-4FEC-ACAD-20B5BC07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1C6AB4-CAE8-4FD3-96D5-000672EC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F04FC-1B04-44B8-9884-7977F63A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B448E-4890-445D-8E29-7D3D892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14EF4-C937-460B-9180-7D805735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6CDFC-F813-437A-B65B-EE1DC467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9BA60-E049-4F53-BF51-0613724D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483F2-A821-4429-9469-2C2D7A5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2860B-AA65-416F-A46F-A15A118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5BDF5-13AD-42E8-81F2-269F04B8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C5550-3CB4-4065-BC69-AE80AC09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D4501-80E8-44F4-8962-8698114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65454-E40D-465B-BACE-FBEC3DC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C62D4-784D-4D7B-BE7D-49E17756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C9BAC-552D-4775-8BC2-3835B846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AE8B6-F3E8-4995-910E-FEF3365A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FC9BB-0771-4214-82D6-E124B12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B4D93-6648-48A8-9947-B79D7C1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460F-D15C-496E-B977-8384B32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5E721-C300-4440-907E-C847577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F6DD-ED29-4B82-B865-8E94EE5B7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0746-7ED6-405C-ADE9-0E1CBF4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09C81-50E5-49F2-9578-810506AD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A42D-46D8-4427-B6F7-3D3D0CF6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7B91E-2609-40AD-9ECB-70B20EF4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A09AE-A3EC-41FB-B66F-870F060A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AE20C-DC75-428E-88B1-09ED9AA4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33EAA-0495-4618-9133-FB5999A5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621B8-00B2-4D18-A1D2-F68E7A0F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DCED5-DA5A-4012-BFFD-0AC420C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CAB55-CA13-45BD-A546-6886F36B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1545-75D7-4A4B-8AFC-019AACA0D6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C43DB-51FD-4EB2-92E7-D14F64E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40A97-9F2C-49D9-94DB-409F475A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A229E-E33D-4CCB-8219-A6E278F3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614E3-8AAE-4806-83F8-E291C8E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090434-236C-4A02-8863-E2CA1977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80994-9C20-4050-8D4D-1B7B5030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A4A61-DEF9-49B8-8776-694AB68E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282ED-4616-4D9A-A4D2-D6F0D27C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A241C-6CD5-4316-BF1A-4C3AA04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9947D-4C1A-4D83-9F2C-50ACA54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3031-F304-444B-8B9E-128FBA4047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B5E9C-71F5-45A0-9C52-B2A7628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8A2E2-0D00-4F72-B1FC-35D3AC0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DC598-41C6-4AA9-983F-17B2FCA8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E74C1-0E42-401A-973E-9856124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C668B-0C9D-4855-89A7-2461647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56E3F-0FC2-4699-A8DF-0C10855B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53524-77D6-45A6-9DAA-CEC9359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46B32-DDFA-4414-B72C-32D81452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8BCFA-E894-4D5C-BD85-9225F729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F7CFB-14C1-49B6-ADA8-8A2A1B60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F373-F7D2-4568-B99E-97EFF87BDD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01EF9-D6DF-4F97-ABC5-32EF1265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8A8F1-9C15-4899-B6E1-D9FEADD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26C910-2551-4A53-823C-E7DF458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B487E-822C-4F1B-B927-8B5ADC4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74A1F-432F-4708-8391-F6C3F10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9F0DB-4E13-41D8-9305-CD3A456C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9E84D-5D32-4D7B-9BC0-3A6EFC5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D09CB-B167-480C-B83C-BB942BC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CF1F9-D60A-412B-97F7-AC980B6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628F95-0FC0-4872-A8AC-240D3333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2640-FF6E-40C8-AAFF-A6E055E38D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400EFE-9B80-493F-A865-A38C1F2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749FF-AA71-46BC-9CB6-1082B216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7F09E-F606-4302-A116-820C9CBA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1479F-E2C3-429F-8CC0-1FA9B15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ACA07-4BC3-41B7-82B2-FCC54F2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D628DD-58C1-4068-BADD-745CC198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227299-0B52-4F1D-863F-70BEE41D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1CD87-A784-42B6-9F47-60E6553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88A02D-AB4B-485C-956D-CC18EB6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8DEDE-A84A-47D3-B156-3D19F3A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82D1-B4AB-4C40-860C-FE2D2379C7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4D70F7-7AB5-4F17-A81B-51A38C2C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399DA-6371-4C45-9B24-5B3105FD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A3A64-6551-4D06-A48A-A6520F50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C29A35-DCDA-482D-AFC8-3C7B8E6E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63857-4938-4E69-A84C-4FBAFE1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54532-9294-4F7D-BC63-BC562890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62782D-ECD8-49C5-9549-7BAD0086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CC185-61E4-4464-82CA-F463B26C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E7B131-4363-428F-80A0-514A38E4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69F60E-04FB-41C3-A44B-5508FD5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ADBB-5E4E-44CC-9604-25BC2D4D71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A5DDB-1D9E-4B4D-B2A6-6C72A92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6F3249-8F5E-40FA-BF29-9DD5E90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C6B15-36F2-4A1E-AA6F-9F6E5AE0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91C52F-F0C2-471D-A74D-207293FA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2A3004-9869-4293-AF80-323655D9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FEDFC6-8F84-4DAE-87E0-B04CE8DD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56DC64-54E9-48DA-BD5B-B0DF3A26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F24698-58C5-4414-8982-00100589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4F5BB-672A-4C3B-840F-119A31FA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32A03-8211-4522-90C6-DDD70F6A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BA83-880D-4846-927B-B52E6AE558C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937A40-91ED-404B-B259-A7864192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A25579-7508-4DD1-9B5F-C164D40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6DC15-3FCE-43C2-A1FB-2C0A855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F043C6-9178-41AA-82F8-991669F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B65D3-2074-4964-92B8-1177222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A12076-D170-413B-8A8C-40D1212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2A749-DAC5-4191-BA11-C25038CF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98172-2381-435A-A56C-5770669E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15C39-957A-419E-97BC-8652AE3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E5BBD-FDBF-48D2-AECF-6257EA0A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29EAD-61FD-41FA-AA6B-7EF23858E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ADB25-417C-4FF4-B00A-D57AB3A62D9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274B7-7704-41A4-AE93-9216B8C3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E363D-4B95-4463-A95E-ED7917B438B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E9184-50C2-431E-AD84-04A3DA2E4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686F4-ADB9-4060-BE3C-792E74D39CF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1F3D7-B7C8-41E4-9350-864FE3808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90803-206B-483C-8354-DCA8576AB26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CB6CF-F199-4172-ABC8-4D458C12D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33B49-EFA9-45C5-9261-525AEC17AF9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980A2-1B86-441A-B3D2-A7817163C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EF11A-FA6C-44CD-9255-492BAD666BB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58016-36B3-43B4-84A1-138F7D47F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5857E-37D9-4C82-A373-B1B5C9AF82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7203A-9331-41C3-A62A-5A3E989D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8BDB6-CD05-41CD-8F73-90DEFBC542C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B60A0-F116-4144-8A61-6EC35426B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0A5B4-1BB9-48D4-B627-A900FBD457D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E604B-CD76-4B21-B938-856A178C7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9DEC3-D4E4-44C0-A1DC-441F9BD7704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2CB76-9BF0-4CF4-87D2-93746ED7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1F288-08C4-4911-856C-8E391B02C37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9D950-EC9B-4DBB-98B4-A2BCF8316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DiMa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n is said to have his peculiar ambition.  I have no other so great as that of being truly esteemed of my fellow men, by rendering myself worthy of their esteem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use divided against itself cannot st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may be slow, but he is a not a man to turn back on his wor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rick Dou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hether a st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tter how strong or nasty, there will be moments of brightness and awesom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incoln showed, having a sense of purpose gives me a strong inner strength to handle the storms and help me make results, not exc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of Ri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Doris Kearns Good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itical Genius of Abraham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ngst the 900 pages of history and politics are woven the threads that create  a canvas of the man, his life, personality and as I will focus on, leadership 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his cabinet with many of his biggest rivals because of his ability to attract the best men of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impress upon them his own purpose, perception and resolution at every 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up po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work hard to educate 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ecades of political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fetime of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rate, small town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public o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ilitar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tendency to consider all sides of a troubled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 to ref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rely on info from on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uccessful at predict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8232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 sense of timing and its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drew himself from nominations so party could 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, emancipation proclamation took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inet 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fficer 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ment consistently displayed uncommon magnanimity toward those who oppos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raceful los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dn’t hold remorse or gru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dn’t let petty jealousies ge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ordinary sense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uld assess people very accu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de decisions based on good for country, not self or personal fa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richard.d.dimauro</cp:lastModifiedBy>
  <cp:lastPrinted>2011-06-13T12:29:39Z</cp:lastPrinted>
  <dcterms:modified xsi:type="dcterms:W3CDTF">2014-02-24T16:15:44Z</dcterms:modified>
  <cp:revision>46</cp:revision>
  <dc:subject/>
  <dc:title>Leading with Impact </dc:title>
</cp:coreProperties>
</file>