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37558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3922200"/>
            <a:ext cx="37558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2948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229480" y="392220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574640" y="129528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844720" y="129528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392220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574640" y="392220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2844720" y="392220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560" y="1295280"/>
            <a:ext cx="3755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3755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832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229480" y="1295280"/>
            <a:ext cx="1832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40160" y="0"/>
            <a:ext cx="6603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229480" y="1295280"/>
            <a:ext cx="1832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295280"/>
            <a:ext cx="3755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832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22948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29480" y="392220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22948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37558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37558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560" y="3922200"/>
            <a:ext cx="37558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2948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229480" y="392220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74640" y="129528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44720" y="129528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560" y="392220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574640" y="392220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2844720" y="3922200"/>
            <a:ext cx="120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3755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832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229480" y="1295280"/>
            <a:ext cx="1832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40160" y="0"/>
            <a:ext cx="6603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229480" y="1295280"/>
            <a:ext cx="1832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832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22948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29480" y="392220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29480" y="1295280"/>
            <a:ext cx="18327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375588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Header1(4515 FOR ECBC PPT)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7"/>
          <p:cNvSpPr/>
          <p:nvPr/>
        </p:nvSpPr>
        <p:spPr>
          <a:xfrm>
            <a:off x="0" y="838080"/>
            <a:ext cx="380988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ad6e"/>
              </a:gs>
            </a:gsLst>
            <a:lin ang="10800000"/>
          </a:gradFill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04560" y="1295280"/>
            <a:ext cx="3755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Rectangle 28"/>
          <p:cNvSpPr/>
          <p:nvPr/>
        </p:nvSpPr>
        <p:spPr>
          <a:xfrm>
            <a:off x="5334120" y="6713640"/>
            <a:ext cx="3809880" cy="144360"/>
          </a:xfrm>
          <a:prstGeom prst="rect">
            <a:avLst/>
          </a:prstGeom>
          <a:gradFill rotWithShape="0">
            <a:gsLst>
              <a:gs pos="0">
                <a:srgbClr val="bbad6e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304920" y="152280"/>
            <a:ext cx="2235240" cy="114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4" descr="graphic bar for ECBC copy"/>
          <p:cNvPicPr/>
          <p:nvPr/>
        </p:nvPicPr>
        <p:blipFill>
          <a:blip r:embed="rId2"/>
          <a:stretch/>
        </p:blipFill>
        <p:spPr>
          <a:xfrm>
            <a:off x="0" y="1828800"/>
            <a:ext cx="9144000" cy="2666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2786040" cy="1790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560" y="1295280"/>
            <a:ext cx="3755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hpinstitute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apg@transformationstrategies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KICK OFF MEETING- MARCH 28, 2012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80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G Senior Leadership Coh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ohort 5 – 2013-201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eadership Reflect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9640" y="1639800"/>
            <a:ext cx="804240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s and opportunities I fac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s and opportunities facing my organization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s and opportunities facing APG both internally and externally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next career step … in 5 years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is in mind, goals I want to se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munity Based Projec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44200" y="1533600"/>
            <a:ext cx="84740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mportant strategic issues are facing APG these days that would merit the attention of the cohort learning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with your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 on your top 1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on index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at Makes a Cohort Wor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6320" y="129528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attendance - On time, all the time to cohort sessions, coaching sessions, and project team meetings – max 3 days of excused absences to graduat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all assig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engaged – fully participate in all cohort activities - coaching, community-based projects, class sessions, organization vi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plugged during sessions – use cell phones, blackberries at breaks – better yet let your team handle things while you’re awa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53840" y="-360"/>
            <a:ext cx="65898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e-Work for Session I –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elcome Letter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560" y="1295280"/>
            <a:ext cx="8116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receive an email with instructions on how to complete the DiSC Personal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article –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aching Smart People to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adership on the Line – Part One, Chapters 1 an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Personal Energy Management Assessment, Go to </a:t>
            </a:r>
            <a:r>
              <a:rPr b="0" lang="en-US" sz="2800" spc="-1" strike="noStrike" u="sng">
                <a:solidFill>
                  <a:srgbClr val="8b001d"/>
                </a:solidFill>
                <a:uFillTx/>
                <a:latin typeface="Arial"/>
                <a:hlinkClick r:id="rId1"/>
              </a:rPr>
              <a:t>www.hpinstitu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Reflection Hand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6 hou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gram Dat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560" y="1503360"/>
            <a:ext cx="8264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I – April 29, 30 May 1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II – May 29 – 31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III – June 25 -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IV – Sept 4 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V – October 22 – 24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VI – November 19 -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VII – January 14 -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VIII – February 19 –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ys 1 &amp; 2 8:00 – 4:30; Day 3 is 8:00-12:00 + individual coaching in aftern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Sessions 1 &amp; 5 are three full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*May 29 – 7am-8pm extended day - mandatory attend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gram Logist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560" y="1828800"/>
            <a:ext cx="847404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ess –  Business Ca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 – Mission Training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fast/Coffee – MTF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ch – Subway, Burger King, BYOL!, offer suggestions to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Doc Shelf—Landing Pag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6" name="Picture 4" descr="Screen shot 2013-03-15 at 11.11.20 AM.png"/>
          <p:cNvPicPr/>
          <p:nvPr/>
        </p:nvPicPr>
        <p:blipFill>
          <a:blip r:embed="rId1"/>
          <a:stretch/>
        </p:blipFill>
        <p:spPr>
          <a:xfrm>
            <a:off x="720720" y="1241280"/>
            <a:ext cx="7702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Doc Shelf—Folders Pag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8" name="Picture 2" descr="Docshelf C5 Folders Page.jpg"/>
          <p:cNvPicPr/>
          <p:nvPr/>
        </p:nvPicPr>
        <p:blipFill>
          <a:blip r:embed="rId1"/>
          <a:stretch/>
        </p:blipFill>
        <p:spPr>
          <a:xfrm>
            <a:off x="392040" y="1122480"/>
            <a:ext cx="835992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Doc Shelf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0" name="Content Placeholder 3" descr="ScrShtDocshelfMonth.pdf"/>
          <p:cNvPicPr/>
          <p:nvPr/>
        </p:nvPicPr>
        <p:blipFill>
          <a:blip r:embed="rId1"/>
          <a:srcRect l="-30043" t="0" r="-3004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37920" y="1641600"/>
            <a:ext cx="6723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come and Intro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Purpose &amp;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Learning Philoso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ng Action Learning/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ership Ref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akes a Cohor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I –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Support/Log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/Closing Com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hort “Dashboard”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2" name="Picture 3" descr="Assignment Tracker.jpg"/>
          <p:cNvPicPr/>
          <p:nvPr/>
        </p:nvPicPr>
        <p:blipFill>
          <a:blip r:embed="rId1"/>
          <a:stretch/>
        </p:blipFill>
        <p:spPr>
          <a:xfrm>
            <a:off x="228600" y="1419120"/>
            <a:ext cx="868680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hort “Dashboard”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4" name="Picture 3" descr="Screen shot 2013-03-15 at 11.15.19 AM.png"/>
          <p:cNvPicPr/>
          <p:nvPr/>
        </p:nvPicPr>
        <p:blipFill>
          <a:blip r:embed="rId1"/>
          <a:stretch/>
        </p:blipFill>
        <p:spPr>
          <a:xfrm>
            <a:off x="149400" y="1427040"/>
            <a:ext cx="884520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BP Team Updat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6" name="Picture 3" descr="Screen shot 2013-03-15 at 11.15.34 AM.png"/>
          <p:cNvPicPr/>
          <p:nvPr/>
        </p:nvPicPr>
        <p:blipFill>
          <a:blip r:embed="rId1"/>
          <a:stretch/>
        </p:blipFill>
        <p:spPr>
          <a:xfrm>
            <a:off x="506520" y="1177920"/>
            <a:ext cx="81309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ignmen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ease begin file name with your last name – ie: SmithPEM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d to </a:t>
            </a:r>
            <a:r>
              <a:rPr b="0" lang="en-US" sz="2400" spc="-1" strike="noStrike" u="sng">
                <a:solidFill>
                  <a:srgbClr val="8b001d"/>
                </a:solidFill>
                <a:uFillTx/>
                <a:latin typeface="Arial"/>
                <a:ea typeface="ＭＳ Ｐゴシック"/>
                <a:hlinkClick r:id="rId1"/>
              </a:rPr>
              <a:t>apg@transformationstrategi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 assignments to Claire and your c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gram Rol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87480" y="1541520"/>
            <a:ext cx="8337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ve Champ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r. Gary Martin, SES, Deputy to the Commander CE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s. Suzanne Milchling, SES, EC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ulty – Subject matter experts for each se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S Involvement – Program Champions, Guest Speakers and Community Based Project Spo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nthia Dewey, OPM Program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ire Meany – Cohort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ia Layton – Program Over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ul DeBenedictis – Alumni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gram Purpos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urney to your next level of mastery in leader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your leadership capacity while working on the jo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through real projects, real issues, real exper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 new ideas, concepts and tools into your leadership practice and make them ha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990720" y="15228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00160" y="0"/>
            <a:ext cx="6243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pected Outcom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56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your leadership capability, turning knowledge into action for greater impact in your 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 strategic thinking abilities by engaging important challenges facing APG through community based pro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bench strength at APG for current and future leadership roles and SES pos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 self-sustaining leadership learning community capable of working across organizational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expanded social networks and enhance awareness of the various capabilities, resources and facilities at APG to increase collaboration and innovation across the 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gram Building Block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219320" y="3505320"/>
            <a:ext cx="6629400" cy="990360"/>
          </a:xfrm>
          <a:prstGeom prst="rect">
            <a:avLst/>
          </a:prstGeom>
          <a:solidFill>
            <a:srgbClr val="c2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2895480" y="2590920"/>
            <a:ext cx="49532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343400" y="1600200"/>
            <a:ext cx="3505320" cy="990720"/>
          </a:xfrm>
          <a:prstGeom prst="rect">
            <a:avLst/>
          </a:prstGeom>
          <a:solidFill>
            <a:srgbClr val="3043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295280" y="37339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vidual Leadership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971800" y="2819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4419720" y="18288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ding 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1219320" y="4876920"/>
            <a:ext cx="6629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1066680" y="5105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6248520" y="5105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ruary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earning Philosoph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63600" y="1295280"/>
            <a:ext cx="8316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NSTRUCTIONAL APPROACH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Macintosh HD:Users:trishmooney:Documents:A-TSI Operations:Movies Folder:Karate Kid Clips:Karate Kid ClipsAPG.mov" descr="/Users/transformationstrategies/Desktop/Movie Clips/TSI Clips/APG Karate Kid Clip.mov"/>
          <p:cNvPicPr/>
          <p:nvPr/>
        </p:nvPicPr>
        <p:blipFill>
          <a:blip r:embed="rId1"/>
          <a:stretch/>
        </p:blipFill>
        <p:spPr>
          <a:xfrm>
            <a:off x="382680" y="1195560"/>
            <a:ext cx="849456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672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40160" y="0"/>
            <a:ext cx="660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gram Componen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96400" y="147168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hort Sessions – Activities and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ive Dialogue and Personal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ership Log or Jou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ments: Various Instruments &amp; Exec Assessment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ve Coaching - Individual and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Based Projects (CB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the-Desk Projects (OTD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Energy Management (P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graphy/Leadership Rea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s and 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Visits: AWC, Gettysburg Battle Field, APG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ion papers and Final Leadership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0CD7E-3B94-41DC-8A71-7CE52218D20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6:12:07Z</dcterms:created>
  <dc:creator>Trish Mooney</dc:creator>
  <dc:description/>
  <dc:language>en-US</dc:language>
  <cp:lastModifiedBy>Trish Mooney</cp:lastModifiedBy>
  <dcterms:modified xsi:type="dcterms:W3CDTF">2013-04-04T09:40:26Z</dcterms:modified>
  <cp:revision>17</cp:revision>
  <dc:subject/>
  <dc:title>Kick off Meeting- March 28, 2012</dc:title>
</cp:coreProperties>
</file>