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8E1C-4E52-469F-B3E4-F78B3F68A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9AD9-2DAE-4A3E-B149-EEB71659CD3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8948F-5A23-4A1D-A462-B6319FB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6EEF0-1136-4DE1-B0E0-BC01F4CE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A3384-658A-4F5B-AE30-6C573447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F575B-FE7A-47E2-B7F9-750B0B37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CF361-6288-4EA3-8C4C-BDBA71F5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28DA1-8649-4B3F-A957-7172B577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708C1-ADCF-4727-B14F-71816B3B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004F0-9CF4-4333-99CE-689CDCBF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D9652-771C-42E0-88FD-80B78282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19E8F-57FD-45A6-BD86-481983A9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2A9C-D35E-4E81-92EA-1142C51307F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BBC73-7E32-4D03-9863-6D3026E2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486AF-8CA4-48D7-88A5-36A2D9BE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B0917-9F64-47F7-8916-65784E06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6E37A-342E-4319-8880-F9B09352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BAF54-9D63-4F9C-A409-E9224394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5D182-F949-4DCF-85FC-77775BD2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DD93A-F650-4660-BF5F-5AA4976D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293ED-491C-4405-B9D4-05D355E4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60BDE-8FDE-41C5-83DD-F3FEB44E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0266E-E955-4E5F-BCC6-83D7EF3B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CC33-0AD0-4800-AF24-81F9AF8F302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B71C4-3331-483E-AF36-8C323202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4ADC75-1AE0-4033-A9BA-FD60A1E2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20D92C-7C84-4584-9001-0DE3F920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26A238-FCA0-4422-991C-3A8D1062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6D3A43-A9EB-4EC1-AC53-98178A7C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6D74A1-A8B2-4BC9-B3DA-5EBBF38A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738163-CA3D-4218-888D-B6017FC2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7F21E4-E3C8-47C4-BD43-A3680B6B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F30596-450C-4A67-A897-3E606AB0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536AD3-6F26-4C26-A24A-7BDE25A3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F901D-D10B-4A3C-9E95-C13FD4AC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9137F2-A84B-45A8-93E1-AD0E438A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1E090A-28A4-4EC8-BABE-69272D6F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096976-37DC-496D-ACAB-D9F1F14C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3593D-B3A8-43E3-B374-702A5800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3225D-3DAB-4079-8CBC-A825FC93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2F9F7-A9AF-4CDA-AF85-8618FCB2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1895D-6D31-4F39-9735-97E0882A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6CEC5-F98C-4006-AE88-02ECE944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76AD7-F45D-40AB-AF74-4AA8A965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80346-3494-46E0-9462-9D363AA9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48D71-F3DE-43B6-83F5-46F77DAD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AC661-137A-4F64-B22A-6637725F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2E362-001F-464B-9B04-7BDCBC09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33389-531F-48F5-99F0-D233529D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E7AA0-8FF0-4A6D-90EF-65F15020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C91BE-8E99-4481-8182-50580BE3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374F7-7CDB-46E8-95EC-B26B2071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80043-44E6-477A-8325-17B3A33B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1BC17-F580-4968-A210-81AC929D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B7D50-2297-4A33-A398-11369919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715CD-40C9-4F2F-8A92-CE8A6D68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AF4C-1E40-4E9B-A0D2-F2BD1BC2B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F521F-1D15-4E68-B1EC-71897315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3F746-B9C1-4C9B-A208-BA03E33A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A5490-9D88-4580-B1BC-A5C1BD67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A515F-15BA-4B67-A614-2C2B6040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85132-C7C7-4381-8BEC-45BEC77E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2EB06-13F8-4677-910D-D7FD5D10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FA3B2D-A670-41BE-8AF9-26A3E365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F318C-6D31-420F-A171-B2D9A275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7CCF8-B9B3-4445-9E66-CB3B501E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DAC48C-5A3D-4F6C-85F4-77A79566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4810-6C4D-469E-A2B4-B9C99765C8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02C2D-F865-41FD-A592-ABE45764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D91EF-CC9B-44B2-86C9-98380226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01B649-DB60-410C-9157-627FA2EB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C454AD-9195-4BAA-A80E-97BAF473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DBD13E-53C3-4C88-9516-8968067F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FCFD8-530A-45F2-9DE3-D182A608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4D88FD-63BD-492D-A919-E38B9F8B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9DEFE-6C0A-4DAC-95AC-4263F487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4230B-D008-494B-9717-43AC89C5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77D9A-1F9A-456D-BF24-D6387C84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156C-2F53-40E5-BE1E-AFA1F9DCDE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C4B630-CE7E-467F-86C4-A56AF1EC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38675-3F2F-4832-A385-8116BC73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6FB45-9075-47D3-9C44-1760D9E1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F583F-E324-4F1E-936C-3C10A2CC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073E4-D3D1-4DFB-B049-5CF4F25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5E104-AB8E-4CD1-A6EE-EBAFC48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25C22-192E-47E7-B98A-9C8F7FF3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F6010-B59D-4A29-95C2-972F3CEF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43A6D-C010-4D8D-A948-3683DC5C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FFC97D-9948-48F4-9315-2CBE38E1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551C-0F0F-44F6-AAEC-E91F42C66E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8B55B5-A549-4AFD-9D29-D6D0C01D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07CB86-765E-41D4-BDB0-0758DA2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82D24B-07A7-44A2-AC72-B2FE4D3D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27E945-8445-465D-BC6C-B24DD48B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88CB93-CBFB-4795-BC3A-4631B48D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0BF3DA-1453-4293-B1FB-68B2D558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638BD0-3B3E-4F93-A3B7-FB1812A9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516ADF-8572-46EC-8258-51CD8D5D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7545B9-D660-46D8-B04D-D62DA43C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4D2214-75AE-43B0-9282-1629E683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4C64-7CE3-45E3-9BCB-F81D5BE9DE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71A6BC-8A52-4E8F-940F-6FF757C1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499900-A5AF-4B80-8EAD-6A9E113C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412AD1-9EBD-4593-839F-F776A36B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E3893D-4C45-4626-9027-4A2164B0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ACE3A3-40FA-4B7E-A3AC-272B405D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C425C3-760E-437B-A9D2-8C7CF589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6B9583-7A3A-4E45-BFAB-A8FCDEBB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7E6E8B-3B55-4FFF-8687-377D6669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82E4AA-AB45-4CFD-947E-C8F21572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81618D-26BA-453C-9839-CEAC587F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368F-A57C-4DBD-B787-A56E9548FBD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05D906-E977-414A-A34E-6C1BE221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41221D-FB8B-46E9-9C88-C158989B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F2DEDD-575C-44B6-A21F-844E9624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50D6B8-8288-4360-883F-8E04B6A8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B2BD5C-399C-42E4-83D7-112B9CF5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72F1EF-48ED-4591-BB69-B270144C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182798-7E39-4B5B-A1CA-6A6F17EB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CCCE07-6183-46C7-920D-4281C390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90D920-CBA9-4896-9ACD-C49E626F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853C21-3727-48DD-8616-551AFD3D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9A52-4270-4752-8585-37206C19572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7A6687-6E8A-4191-9A9D-CD5477E4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4D6AE9-213D-4CCE-8B2C-667C05BC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A10C85-4547-47D8-8D9F-ADA8FC48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FB278B-CFD8-4967-B1CF-639FE677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C2C431-A15A-4740-BA82-3A825DD6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5CE8CB-306B-465B-8397-083F1932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7A480E-835B-46A9-8004-771902AA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A16500-1CC1-4CEE-BBFD-CAF6F455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416195-5457-4599-B084-7C132E18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75F882-5476-47EA-9FAA-75445375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BE5A-624A-409A-963C-077AB6B9652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810B15-4441-4C6A-A758-87FA0341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9D86E3-B578-462E-91C5-5AC1EC0C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083D69-D2B7-4F84-868B-361145AC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F914D9-EFC4-4EE9-9A49-0B6DABD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8F84A6-C645-4459-9E70-66746E5A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CB82A2-E360-47EA-AE58-3E7FFB9C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5C38AD-41AF-47E4-AC1B-3A28B0A8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6D00C-F36E-433A-871C-0F6D4492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6666E-74A4-4AC8-A9E8-C0F2B0EA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012D5-DED0-4C15-85DD-BD0DBAB9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773AD-CF59-44A9-9DE2-15A4A5F00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A4F1C-EAC3-4C7C-AFAE-7702920BC68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5C9AE-386F-429A-88F6-B184FD839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AB80E-A015-46EC-99AD-D8DA92FDF3C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5877D-3435-418A-891F-31EAE24D3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CEEAC-EC48-4256-92FC-9D69B4500D6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A4FA4-16F1-4060-8E64-8F1E9BE93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5FD5A-69F9-4756-A0DB-6D4AAA954D4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CFA56-6568-4AA0-8202-699E9A1DC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7EB7F-1022-45BE-8D01-5E7C0553343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57EA8-78E3-477F-BC17-02D59519E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F11A6-4A7C-48B9-B09A-14F1AFD00B1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FDFF6-F5D1-452C-BF45-F81B55E48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87064-5C0E-4436-A598-7A6E1642725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4400C-8936-4087-A4B3-BA9513FF6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0BB7B-55B7-496A-990E-1281DE9062A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CC457-F596-4778-A88F-73850EF1D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A37BF-080A-4B7C-85F8-E382ACE4102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C4A83-D457-48DE-B887-A56886E89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34E59-B05E-45E0-9CF8-72058E99BA6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01CC8-C1BC-4A3B-82F9-6B3E9DE62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80D7F-F6C7-49F4-B70B-472CB77B8A5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5FA81-3865-4034-B7E8-3F381AD5C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and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C Marshall, Soldier-Statesman of the American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Mark A. Sto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http://ts2.mm.bing.net/th?id=H.4710785809517669&amp;w=112&amp;h=174&amp;c=7&amp;rs=1&amp;url=http%3a%2f%2fnl.wikipedia.org%2fwiki%2fGeorge_C._Marshall&amp;pid=1.7"/>
          <p:cNvPicPr/>
          <p:nvPr/>
        </p:nvPicPr>
        <p:blipFill>
          <a:blip r:embed="rId1"/>
          <a:stretch/>
        </p:blipFill>
        <p:spPr>
          <a:xfrm>
            <a:off x="5310360" y="1844640"/>
            <a:ext cx="32162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36240" y="1519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Marshall is an Excellent Role Model for a Strategic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Staff of the Army during WW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y of State (Marshall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y of Defense during Korean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l’s career parallels rise of the US as a worl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envision future requirements and prepare f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urage – Speaking truth to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personal assessments of military leaders were highly reg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l’s most pressing task during the early months of the war was to win presidential approval of an expansion of the regular arm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l’s extraordinary influence with Congress was the result of a host of factors.  He later noted three of them: his lack of “ulterior motive”, the beginning of congressional trust in his judgment, and, most important, the fact that his advocacy of certain measures could remove partisan label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“little black book” of officer’s names with notations became one of the most feared items in the army, and he lost many frien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of being almost universally respected for competence and integrity really appealed to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l’s insistence on keeping regular office hours, even during the height of World War II, is a stark contrast to the culture of incredibly long work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personal role in building up the military three times (WW I, WW II and Korea) is an amazing example of persistence and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ability to transfer relatively easily into Secretary of State after more than 40 years in the Army demonstrates adap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john.mcfassel</cp:lastModifiedBy>
  <cp:lastPrinted>2011-06-13T12:29:39Z</cp:lastPrinted>
  <dcterms:modified xsi:type="dcterms:W3CDTF">2014-01-10T17:54:50Z</dcterms:modified>
  <cp:revision>20</cp:revision>
  <dc:subject/>
  <dc:title>Leading with Impact</dc:title>
</cp:coreProperties>
</file>