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5B692A-18AD-41C8-9684-E53C9AB124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F4DD90-1089-4AD6-BDD3-6CD1106A650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B17C3F0-A792-46D2-9EC1-31D1492CB44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6DF6035-A889-4360-A0F7-63C70F7B1BA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20C7932-96E0-4767-8390-49CDD349E38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15EE2FB-18EA-4E95-9D63-6678AB0EE49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94F422C-E23B-4B22-A779-3BF03558CEF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5F34EFE-B964-437A-909B-8601CCFC146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89D1295-E717-4EE0-9944-F7E65D63557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95BF4087-AAF7-4305-ABDF-3BD8906264EF}"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01C96EF-7694-455A-B8C2-4CBD433E0D22}"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EBC5FDD6-9767-4DAB-BBB9-88BD99F15E8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664F92-D213-482C-AFDA-0DE46AA7739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D6A0CA1-683E-469D-97F5-9414B2ECAEA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407A462-E23D-45AC-9427-14620732930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1D0D562-D357-4E48-B612-D5C57B8D687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617C7E4-6730-40AB-AA56-8FA5F44466D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889D3BB-0CE2-496C-B749-8FCAA2EF611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853001C-6195-4910-835C-914A49ED859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454C1D9-CEB6-499B-8287-0CF2FEB99D3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46272A8-21F9-4A03-B35C-C0F4EEACEA5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51081C6-CBD1-4C2D-A492-EA4F543314D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00DE7B63-E7FC-420F-B3C9-F535C8A4D5F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0F764B-9904-44A1-8377-3DC31D2968A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7D2C3E57-DB87-4EE7-AFEA-17C38E05E68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C33DDB59-FB0C-486E-83FD-2B2D4081981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834CF64-D5B2-4C35-9C39-0223E152D3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97DAB6E-1CD7-445C-8F0F-3F54EDDB57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3B7C5D8-0472-425F-B596-5B5CED0875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9D3AE96-315C-45D2-9F7C-059A89AB97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CE59316-20A4-4C41-85BF-8C4423B300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E3F5F9B-E59F-4426-B9E8-7E781021DA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56E3536-AC9E-4ABC-AC9E-9790E0CBB0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05EE1F6-7A98-40BD-A9E3-55F1891FB6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8401750-A36D-431E-A4C0-E0A3C6A911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BA01DC0-9588-4D0B-85B9-D9159C82C2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131766F3-8982-482B-A5D4-3BB51A1E441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40135D27-6A7F-4BE9-AD35-6AF0C9B52B0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DB47F2B2-9FB4-49CA-B0FA-379D45A4797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4D5C44BF-5258-46E7-949D-06E83E1B49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4EA63BB-9BF1-4628-B472-28CAF729F8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3166FA0-7A38-4A76-A443-2904523CB0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1B2FF06-EA4C-46E6-8D05-FA2AD591D0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C4911D6-335B-4AFF-B14A-EA97A02EB0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635C4AD-4767-4767-B1B3-37146444AC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D50102D-5394-4540-B64F-9F598B3AD8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DA54EBE-60ED-41E2-BE05-D25932BA29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9423799-408B-4307-B558-EA159FC4D4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30E54F0-5D0C-44D4-9519-DD0788A555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35931045-C777-43E5-A732-D81D2C17AC2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22A78A1A-4EE2-4279-A868-308F0B7F101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64A459E-F4A9-4598-8D74-238FADA5C4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317EC44-C24B-409D-9523-8D282063E0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5794397-3A00-4C91-AF68-9B0596852B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00BC959-F8DE-44D3-A3B1-949E5D3114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0BA85A5-AE70-4803-852D-AD5E222BBE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A32C7-B0DB-4C83-8FFD-3E0118F237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BA6B559-F78C-4B58-A563-268C40CE75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090A5EE-1D09-4BE2-AE8D-6A2CD549A9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C045EAA-3557-4AEA-9CA5-B140EF9CFE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E145F2F-DE0E-4207-AC28-31AF3CA6432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2C9EB29-5BCD-4087-BFC8-305C9AFD196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01F00A2-671E-47B0-90DC-85A71D02034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C5CAF0D-8BCF-4B35-B8E3-F4403E4F307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3BA8D29-6CF1-4F31-BBC7-D966D7857C8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0CBF775-6150-4794-9AD2-F762D6D4D57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3B2572A-4E28-4071-BACF-11899CA98B6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6ABEB-632A-4CD8-8857-DA36771FE2C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9EC3F47-1B50-4EB9-AD68-58AC9B03F76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B48FB7E-56E7-4B01-938C-E7F0F7FC9F4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9474EAF-6942-4FB4-B573-6A0A78412CF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18DC598-31A6-47AB-A19D-7C7A2CA7A0F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E0ADE01-4DAB-4019-877A-7E53CE732CE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3CDC093-5116-445A-98A5-FE437248727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7E9DF12-2558-47A0-AFB0-20D7880EA92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7BB74EE-D498-4634-B44C-88089D5CCD7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1B8A58E-FC0E-45A6-90DE-9119EBAEE76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973F364-EDE0-4C9C-BCB8-D2A18593DF5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F908C1-4307-4606-B492-FF2EFD41DD1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9599DCB-1100-43F2-9899-47D47375B85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744A3AD-7AB1-4685-83B1-4A701B023FD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394B6E2-F7FD-44F8-A918-D807F8B1D5B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1CE2488-B2F7-4F06-BEE8-A84B24DD00F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5713060-FA8B-4CD6-B31E-EDA3972CDB8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C210184-A591-4221-9CE2-C73A4AE595C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57606FA-813E-40AC-BA10-1256486EFC6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3E72FF3-3BB6-4266-9052-4DAB1B848E89}"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2D62650-FB8B-46FA-A3DF-14912A93E1F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980B1F1-68AB-43E3-84A2-0D744500BD1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A4AFAE95-B063-4426-A52B-26002539C2B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286CC36-95A9-41D3-A96B-05E0C549132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D5CECDA-20BA-4CEA-9FF5-2BB4574C0D1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724A215-8C9B-4C7E-A3D2-E6D002566A1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E1510CB-3D7E-44D8-A260-7556AAE3FC2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A73A469-9F0F-466A-A164-2C917C3CDD9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01D79C7-BAEB-465B-AF23-1FD057EC586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56EB810-2AED-4265-84D5-6C7D915B8DC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BA973F2-E7CE-4226-B14E-149BF9533E6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7464D95-C997-4841-9491-4D74903382F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5FA5235-5300-43C7-8761-46BE1010D3D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9844A5C-B5B9-4F0E-8D53-EE1F0B3CABD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5C63339-1C49-45B9-B194-DDD7203069E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C0015FE-FB22-4AE7-8405-331B04C43A1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FCB2E91-EDBB-4A50-A8DD-A82E7056BE9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3C5F201-4B36-4FCE-ABB5-4B4A5DD55E6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EAF1A23-C122-4443-B515-B50CFD92BCF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72F7F60-C897-4F0B-A0E7-1650864FD0C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773696B-2E61-4F8E-A3FA-8199983E186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2DBCC91-C043-4DB6-952A-9CAE146F778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4138F8C-BAFD-418F-A1CF-D032DDB6D2B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F379152-5660-459A-83C7-3C1686D480C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B8A718-4AF5-4449-A145-C2BCD4C9927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62BD2F9-781D-45E3-BA76-2F5D8A83213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F319B66-3A19-483E-A8A2-D22DD486718E}"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3C6963C-905D-4AB8-9245-8FB778857404}"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5CD33E2-AB7F-43D7-A047-066F0BDDD34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C5CD36E-790B-400C-A2FA-D6CEDD260DD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AECFBDC-81C5-4DC2-A666-A09E4ABAD34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740E2AE-F835-46F2-94F3-CBEF977B618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10E3F5D-A07A-49FA-8024-E538BBC1877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9561299-56E4-4547-B9BB-F3BC547552C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5060B57-A993-4983-BBB8-101F8B51FFB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C10700-2170-4ACD-B615-8360C7871D9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F7F8DDD-DB1A-4F34-BF9D-726C78D8BCB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DAFF8DD-823C-4041-948C-CB48D29386D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C49B521-BF23-44CD-B6B5-80BDAAFD838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47A37DA-2801-40EA-91C1-4711C5796EA3}"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38CE792D-7E7A-4824-B69E-A262C9E5603C}"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3D88679A-4115-4B0C-AC5C-180CCCD82129}"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02E9282-E2D9-44B7-BDD8-D15BCB668F5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D077617-AC1B-4FF1-B08C-C36E7394646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4FE2C38-5257-4555-9E96-1197846BB86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F173F5E-3E94-40D5-9074-FC5C41FF7FC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AE3147-9B50-452C-97CE-EC83FD33FE7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A51C10B-D02E-448B-B26D-7983021A894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F93FF3E-6251-4377-88A3-1A89EFA71E4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BB545C1-51D2-48CF-938C-A47AE3B47E7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30C6066-0BE4-4B66-A735-876C7FE358E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9BB403C-738A-4EA0-989B-830ACB015DA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A27A53B0-49D0-4D45-B07C-A167A554CE0F}"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A226F86-5EC4-4200-97E9-6A207D68DB50}"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03707C20-6A71-4DA1-97DD-3F53C85B02A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E421024-94E2-462D-8E27-B6ADABBC0DA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5183FF2-32AE-459F-A65C-2019D19F0091}"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5DC014-68B6-47D9-A3A2-0E3CA80AC5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732B92-FC34-4B4B-93FD-A801580E890B}"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12134D-74C1-43D0-BF97-BAC953529A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4F68EF-7394-4FBD-A270-A4FA8B2AFC95}"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60716C-15A9-4CC0-9933-0E5354C43F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889A3E-5756-4526-A7A0-09FF7F4555D1}"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569ADE-FF13-433B-BFFA-C0C5D8A739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62FB5E-A6D0-4E8B-BBF4-086D62D86E1F}"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BCC3E7-1ED4-470D-BB43-E637965BF0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673FAB-B3F3-4CC2-9DBF-25001ADD8C8C}"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084FDD-660B-4057-BAD6-13152E1B96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1E50E8-C561-4237-950F-F774F7F52AEB}"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5EEDFB-7805-45DD-9711-5C79873683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02954B-BC37-4A9D-9449-290B2776EC00}"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459305-0A11-49F1-9781-9F1C80F7BA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6FD643-2F51-46AB-86F1-00A1584AD29A}"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30DC19-8600-4BD1-B2A0-C77B09A9FD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6687AE-E941-4DE5-8B30-909F629612BD}"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58648B-8192-4D1B-8B15-6A3A6239A0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F6935A-3F7C-41FA-AA44-0E48E1580507}"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603139-ADA1-4915-9216-D94517CC3D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6078E0-6D2A-4B30-8482-1E3A5AD326B0}"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E46C12-60CD-4EFE-93BA-752DC8B0B3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3</a:t>
            </a:r>
            <a:endParaRPr b="0" lang="en-US" sz="2800" spc="-1" strike="noStrike">
              <a:solidFill>
                <a:srgbClr val="000000"/>
              </a:solidFill>
              <a:latin typeface="Arial"/>
            </a:endParaRPr>
          </a:p>
        </p:txBody>
      </p:sp>
      <p:sp>
        <p:nvSpPr>
          <p:cNvPr id="526"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Presentation</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nathan G. Reiner</a:t>
            </a:r>
            <a:endParaRPr b="0" lang="en-US" sz="2400" spc="-1" strike="noStrike">
              <a:solidFill>
                <a:srgbClr val="000000"/>
              </a:solidFill>
              <a:latin typeface="Arial"/>
            </a:endParaRPr>
          </a:p>
        </p:txBody>
      </p:sp>
      <p:pic>
        <p:nvPicPr>
          <p:cNvPr id="527" name="Picture 4" descr="OPM Seal"/>
          <p:cNvPicPr/>
          <p:nvPr/>
        </p:nvPicPr>
        <p:blipFill>
          <a:blip r:embed="rId1"/>
          <a:stretch/>
        </p:blipFill>
        <p:spPr>
          <a:xfrm>
            <a:off x="3886200" y="3276720"/>
            <a:ext cx="1371600" cy="1371600"/>
          </a:xfrm>
          <a:prstGeom prst="rect">
            <a:avLst/>
          </a:prstGeom>
          <a:ln w="0">
            <a:noFill/>
          </a:ln>
        </p:spPr>
      </p:pic>
      <p:sp>
        <p:nvSpPr>
          <p:cNvPr id="528"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a:t>
            </a:r>
            <a:endParaRPr b="0" lang="en-US" sz="2800" spc="-1" strike="noStrike">
              <a:solidFill>
                <a:srgbClr val="000000"/>
              </a:solidFill>
              <a:latin typeface="Arial"/>
            </a:endParaRPr>
          </a:p>
        </p:txBody>
      </p:sp>
      <p:sp>
        <p:nvSpPr>
          <p:cNvPr id="530" name=""/>
          <p:cNvSpPr txBox="1"/>
          <p:nvPr/>
        </p:nvSpPr>
        <p:spPr>
          <a:xfrm>
            <a:off x="306000" y="1600200"/>
            <a:ext cx="472932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The Only Way to Win”</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a:t>
            </a:r>
            <a:endParaRPr b="0" lang="en-US" sz="2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m Loehr</a:t>
            </a:r>
            <a:endParaRPr b="0" lang="en-US" sz="2400" spc="-1" strike="noStrike">
              <a:solidFill>
                <a:srgbClr val="000000"/>
              </a:solidFill>
              <a:latin typeface="Arial"/>
            </a:endParaRPr>
          </a:p>
        </p:txBody>
      </p:sp>
      <p:pic>
        <p:nvPicPr>
          <p:cNvPr id="531" name="Picture 6" descr="http://cached.imagescaler.hbpl.co.uk/resize/scaleWidth/456/?sURL=http://offlinehbpl.hbpl.co.uk/News/NST/CC22768C-F843-992C-200EB3B821476870.jpg"/>
          <p:cNvPicPr/>
          <p:nvPr/>
        </p:nvPicPr>
        <p:blipFill>
          <a:blip r:embed="rId1"/>
          <a:stretch/>
        </p:blipFill>
        <p:spPr>
          <a:xfrm>
            <a:off x="5408640" y="1176480"/>
            <a:ext cx="3255840" cy="4949640"/>
          </a:xfrm>
          <a:prstGeom prst="rect">
            <a:avLst/>
          </a:prstGeom>
          <a:ln w="38160">
            <a:solidFill>
              <a:srgbClr val="a3a3e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33" name=""/>
          <p:cNvSpPr txBox="1"/>
          <p:nvPr/>
        </p:nvSpPr>
        <p:spPr>
          <a:xfrm>
            <a:off x="231480" y="1600200"/>
            <a:ext cx="87598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only enduring path to achievement fulfillment at work and in life is making sure character trumps all other consideration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ture always holds more </a:t>
            </a:r>
            <a:r>
              <a:rPr b="0" i="1" lang="en-US" sz="2400" spc="-1" strike="noStrike">
                <a:solidFill>
                  <a:srgbClr val="000000"/>
                </a:solidFill>
                <a:latin typeface="Arial"/>
              </a:rPr>
              <a:t>promise</a:t>
            </a:r>
            <a:r>
              <a:rPr b="0" lang="en-US" sz="2400" spc="-1" strike="noStrike">
                <a:solidFill>
                  <a:srgbClr val="000000"/>
                </a:solidFill>
                <a:latin typeface="Arial"/>
              </a:rPr>
              <a:t> of joy and fulfillment than the pre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sing Extrinsic Achievement is a trap…</a:t>
            </a:r>
            <a:endParaRPr b="0" lang="en-US" sz="24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cious Cycle: </a:t>
            </a:r>
            <a:endParaRPr b="0" lang="en-US" sz="1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rsuit &gt; Achievement &gt; Dissatisfaction &gt; More pursuit to chase away dissatisfa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35" name=""/>
          <p:cNvSpPr txBox="1"/>
          <p:nvPr/>
        </p:nvSpPr>
        <p:spPr>
          <a:xfrm>
            <a:off x="457200" y="1377720"/>
            <a:ext cx="8229600" cy="47480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Research has shown that rewarding employees for achieving narrow goals such as exact production quantities may encourage them to neglect other areas, take undesirable ends to justify the means’ risk, or...  engage in more unethical behavior than they would otherwise.”</a:t>
            </a:r>
            <a:endParaRPr b="0" lang="en-US" sz="1800" spc="-1" strike="noStrike">
              <a:solidFill>
                <a:srgbClr val="000000"/>
              </a:solidFill>
              <a:latin typeface="Arial"/>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y self-esteem, high or low, that is contingent on something beyond ones control breaks easily.”</a:t>
            </a:r>
            <a:endParaRPr b="0" lang="en-US" sz="1800" spc="-1" strike="noStrike">
              <a:solidFill>
                <a:srgbClr val="000000"/>
              </a:solidFill>
              <a:latin typeface="Arial"/>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ddiction to achievement has a physiological, neurochemical basis, as real and compelling as addiction to drugs, food, gambling, sex, etc.  The craving/short-term pleasure cycle is roughly the same.”</a:t>
            </a:r>
            <a:endParaRPr b="0" lang="en-US" sz="1800" spc="-1" strike="noStrike">
              <a:solidFill>
                <a:srgbClr val="000000"/>
              </a:solidFill>
              <a:latin typeface="Arial"/>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mething approaching a consensus has emerged about what </a:t>
            </a:r>
            <a:r>
              <a:rPr b="0" i="1" lang="en-US" sz="1800" spc="-1" strike="noStrike">
                <a:solidFill>
                  <a:srgbClr val="000000"/>
                </a:solidFill>
                <a:latin typeface="Arial"/>
              </a:rPr>
              <a:t>generally</a:t>
            </a:r>
            <a:r>
              <a:rPr b="0" lang="en-US" sz="1800" spc="-1" strike="noStrike">
                <a:solidFill>
                  <a:srgbClr val="000000"/>
                </a:solidFill>
                <a:latin typeface="Arial"/>
              </a:rPr>
              <a:t> makes, or keeps people happy: connection to others, close relationships, positive relationships, rich spiritual commitment and meaning, marriage, having personal control, being extroverted, generosity, being helpfu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457200" y="1388880"/>
            <a:ext cx="8229600" cy="50576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key to happiness has little to do with external circumstances (10% or less).  The key to happiness and fulfillment is intrinsic, and that is always within one’s reach because it is always inside you.”</a:t>
            </a:r>
            <a:endParaRPr b="0" lang="en-US" sz="1800" spc="-1" strike="noStrike">
              <a:solidFill>
                <a:srgbClr val="000000"/>
              </a:solidFill>
              <a:latin typeface="Arial"/>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nd as the level of competition goes up, a 1998 survey showed, the level of moral reasoning and behavior goes down.”</a:t>
            </a:r>
            <a:endParaRPr b="0" lang="en-US" sz="1800" spc="-1" strike="noStrike">
              <a:solidFill>
                <a:srgbClr val="000000"/>
              </a:solidFill>
              <a:latin typeface="Arial"/>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f the addiction of achievement never gets satisfied, then doesn’t it follow that the rat race never ends?”</a:t>
            </a:r>
            <a:endParaRPr b="0" lang="en-US" sz="1800" spc="-1" strike="noStrike">
              <a:solidFill>
                <a:srgbClr val="000000"/>
              </a:solidFill>
              <a:latin typeface="Arial"/>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ithout achievement, neither meaningful challenge nor accountability is possible and there is insufficient stress exposure to stimulate growth.’</a:t>
            </a:r>
            <a:endParaRPr b="0" lang="en-US" sz="1800" spc="-1" strike="noStrike">
              <a:solidFill>
                <a:srgbClr val="000000"/>
              </a:solidFill>
              <a:latin typeface="Arial"/>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 we want most for ourselves and our children, as we have learned, comes from intrinsic, not extrinsic, pursuits.  Thus, if happiness, stable self-esteem, and inner peace are intrinsically driven, why don’t we encourage those we influence to dream accordingly? …of things that would make them more fulfilled, and are within their control and eminently achievable?</a:t>
            </a:r>
            <a:endParaRPr b="0" lang="en-US" sz="1800" spc="-1" strike="noStrike">
              <a:solidFill>
                <a:srgbClr val="000000"/>
              </a:solidFill>
              <a:latin typeface="Arial"/>
            </a:endParaRPr>
          </a:p>
        </p:txBody>
      </p:sp>
      <p:sp>
        <p:nvSpPr>
          <p:cNvPr id="537"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3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Your Story:</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book made me re-examine my career aspirations in terms of how they will affect my work/home life balance and ultimate happiness.  I need to reconsider what types of achievements I choose to pursue, and why I am pursing them – I need to be able to find happiness in the pursuit, the day-to-day, not the end stat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my first child on the way, this book provided valuable insight into how parents and society may be mistakenly teaching children to focus on extrinsic pursuits with the promise of happiness rather than intrinsically driven goals which are what truly bring a person fulfill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Jonathan.G.Reiner</cp:lastModifiedBy>
  <cp:lastPrinted>2011-06-13T12:29:39Z</cp:lastPrinted>
  <dcterms:modified xsi:type="dcterms:W3CDTF">2014-01-07T15:53:53Z</dcterms:modified>
  <cp:revision>33</cp:revision>
  <dc:subject/>
  <dc:title>Leading with Impact</dc:title>
</cp:coreProperties>
</file>