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F7087-1BCC-49ED-AFD7-B9E64211A187}"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FCCA4-0CB3-4643-80DF-A0459507F15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162B5-A309-4301-8182-3478C9C3E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EB0C3-1364-4317-86ED-25FA55E0E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C7F47-790E-466E-81E6-591F22D451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0895C-EC09-43B1-9A93-1A80D59B5B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958B13B-897E-4A37-810A-3D94F5C0E4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A7940D1-B31A-4BFB-82FB-3BC9C53C087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C5E5B4E-BF41-42A4-9922-5CED6230042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6EB940-BE96-4BA7-AFE8-C5CA6FE86E3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D91A17B-FAFD-40B8-8241-B8AA75B435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83AC0ED-2E60-44B2-8007-DAB67807D0B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79D0860-F11C-45F5-910B-FC2CCB15F8F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0431EA5-CA69-4451-B9BE-C54F9659500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C18F98C-5DE2-49C6-8E23-95986201E4C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E5E8DD6-75F5-4B6E-B989-25E8D6B3DF7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1EFCA2-EB0F-410D-8837-14FAFFEB76F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64A3B4D-4A82-4A66-B528-859B6A847BF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C3B79FB-ECA6-42AB-B9D9-D2CE66AF9CA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19EFAFE-0F56-4C52-9E2D-E96E5E745C3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4000278-162C-409B-B997-E55C52B0642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035CFDD-AF50-4D9D-A5CB-1C015300992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33EA070-9165-4B5F-A8DB-F14A453973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38786CC-CCC2-416E-A935-BCB1C5EB08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670BAB8-152D-497D-8750-E48C05CD23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6BE2930-1BA9-482D-B900-E025D99402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D7A5B0D-FE38-43E2-BA2F-6F5E4B5A8AD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9AF487-D5E9-4456-A970-E40CCBF48B7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7266798-6A06-4036-BD1D-167DC3CBC4F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8DB1F82-1F73-45DF-9253-B673EE23E9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83160BF-B8E0-4E47-A46F-EB0E73B0D8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6216898-FD0C-4618-9F32-DE733C4BCA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BBCB3FD-8002-471C-A322-C0F9086088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3DC03CC-2C8D-4FEE-ABD5-031B4D9B23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86B2107-9D56-4788-BB36-8327565426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7F565BB-486D-4AB9-9302-A9B20FBF76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002C0EF-5A14-4BAB-B4E8-FB862CE307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4C76473-98E7-4E6C-9A5A-462907C07B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BC4750-58B9-40F1-A310-E7532F1AC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C89CDF9-FCBF-47B3-95F7-6F8B992111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E705809-BE22-492A-9AF6-2CBFAA703F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50D1020-2882-411F-B881-13F46D5E09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453EFAA-A15C-46D3-B9A9-08434BB282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476B84B-D383-4A6D-8736-71301C11AA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1CC1C50-A5BA-4ECA-821B-2D450E2F78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F83FE1D-C7F8-4BEE-9B87-788B5B99B5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E1FFDDB-C52E-4898-BE33-CBC19FB459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12C09AB-7610-4205-8149-3B580846E0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A1F8A6D-E118-4ABE-BD57-5FD55D06ED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E8D905-D4EE-4A2E-9C1B-97DC034C6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C8A5CA2-0E05-4C66-8F4B-752CC391C1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B7D8B83-50FC-48B8-9AFC-001DD368DF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222DFE2-E5C8-433D-9814-D7E16C0443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072A94D-2EAB-4717-A6C9-8DA6799CB3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91F27ED-45A4-4135-9530-C5F4510891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3DFD32-09F7-4CAB-91CD-5C53FE544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97BD02-F327-4B36-9507-2305148C7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B21454-6C8C-4C16-82C7-B55748014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FDEB00-EFCB-4D4C-B871-5BBEFF307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3B7F6F-50B0-48D9-8BD3-5E0585F2B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3B8C4-365F-4816-99B7-C17AAD9A9A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EF0F98-BDF9-4F9B-86C3-03C9AA514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FA05B4-A16D-49E9-8621-D924B9C67F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917E3C-089F-48BA-B8F6-E05C9BEED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321F83-584A-4104-A620-AF1E4FCADD3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522D87-F5B6-432C-B4B5-4DB2DDC044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612AEF4-39F1-45AB-B018-3E7581E733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54B4AE-0323-4780-80EE-C710EA374A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B6CD29-9442-4410-BDEF-54AB8D2847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D48028F-B0AE-42BA-9341-BC690C4B02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4B28640-5D54-4D9F-B5E5-9B8F3FC047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8C40-F32B-462A-9295-26B04F1F202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E0FFBC-3FF8-45F9-AD9C-6D2BA050EA7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D9954B-2609-4A5E-AD54-1AB4106CAE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24B5811-3F3A-403F-B78E-6AF0D3BF9A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1162C6-3C48-4AD6-9AB4-A1DF4F1FAF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C0D933D-6E82-4413-8BAF-4CCF02A0CCD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F65B167-177F-4A0E-9C06-5F965D92B51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8680AB4-589E-45A8-8C53-92BE1B5895E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3BFBC2B-F008-4933-AF35-71C474E91FA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48BC3FA-F79D-431B-88EC-0861D1C50F2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C35C901-E513-429F-BD36-695F4C28780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08BED-EF1F-4981-A6CC-79BB678344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B935F8E-D446-444B-B526-1C2D06B45A6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12E75AE-2345-4ED9-BA6C-020CE9EA7FB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64121DF-5065-4E0A-A1F9-43C91FCDCE3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03EC27-814A-4F62-A0E0-1FD828AA55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EEA7CBF-822F-4F78-B0AF-0619113A70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BE9B43C-E6B3-40B3-8656-37EE9762D06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FD59F43-06F8-445A-8E07-4EC8A52F749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FDBF943-4402-43E5-96E6-0E8C1688C80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FE631B9-4E45-4381-8ED2-76270D9711A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DE041B3-59E2-41E1-A35F-C852644BAB5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207E752B-7D6A-44BE-B5D3-68726CBFE10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E99B86D-CE36-4AEC-80B7-8A0B53F0F67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031E4A-7650-4A8E-BC29-BE81EC2692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767F989-ABFC-428A-89B7-0A2EE79B61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C0FFD3E-3A45-4448-9DDA-13150EEF27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99CC058-6794-4038-A00D-334BD754C0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C75897E-9FA8-4169-B0D5-7BED72239D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3C98DD3-BBF9-4FF8-92FF-95FD04E515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80A03A3-1F08-45CC-9486-F2EC217461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4605842-CC50-4C45-B412-BD88F6577C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E5ED337-99A1-4DDF-A217-14E81CC6854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078CC03-B0DE-4B6A-9782-F2716C9C4C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164B3ED-6ADC-4346-916C-DE49425E243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9E2E14C-C1FD-404F-813C-26B6D397356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D3973E9-C8F5-4AA4-ACB2-CF3727CC3EB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BCDEBBF-E4AA-430B-B569-20E1A805716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AE4170D-9A33-40F5-B214-057119AA27E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5EC1FDB-F1A5-4A60-9E10-AD9DA26879C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54775F4-29B7-46F4-9567-2593EC83937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F2322C-8177-457A-A4B0-C88E378C175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9DB0102-7BC5-4E48-8AD2-BABD10FF6B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AC35F8-F0C6-40A8-82C1-529A593BF87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80D97-FAB0-4EA2-8748-7E5146E0D45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5A46E88-1835-453E-8E8B-3B4D2D1AFD0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79B213A-37F7-4B15-8B25-1ED5D587149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31F4360-B82B-47F0-B8FA-12638917EAA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0BA9024-903A-4ED7-930A-26760C55C82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1D7973-1EE7-4B64-B11C-0906F7EF390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1C9004B-5E6E-4AEF-BC68-9F4C7F727EA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CC06B6A-1D68-4B18-88BF-C58E1B490E1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673C436-6CAF-4957-9E1F-FD7078855E9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48B1FAA-4F79-4EA9-B338-BA15D8F1233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82256D3-C5A3-442E-96E1-99FA927A367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73A7E-2594-4A06-8FBA-A698424083C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C16B4C8-AAE1-4055-BFBE-8EB45F0963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E371CF5-77B8-446A-952C-342D4FBDCD7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6D43932-16D5-4D2E-AD79-23E251A2AC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DBE2A24-742C-4096-B5D7-83694E26343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EFB79AE-0500-4CB8-AB44-2923C700D94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41D37B9-07ED-49F3-A788-94771ACC374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E41CC95-7C45-4669-B32C-0238FF7C7DB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85A9DE4-8DB2-488C-84B5-99B9B31EDD6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CE2170D-48AF-4597-8110-AD959E69FBC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47B0AD4-FF77-4034-BD8D-C9CB9859138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01B2F-AE3D-42FB-AA27-B1E6E50852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76051DA-1C62-4669-84B5-A6296725078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ACF6506-64A1-4BFA-9616-F683747222B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1083DD4-CF23-4BF9-9D8B-09CBB312311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9B894FB-FE5A-42B2-9575-58BF55AA88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B870045-57EA-409E-B865-3174186FE5F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FA9B441-E2FF-474F-B908-DA5CB32C96B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4EC0DEB-9A5C-48BA-8FBD-65A7A04BD8B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90E00D8-BCF0-42B2-A567-A147725504B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407076D-F9AD-4352-805F-216C373740E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E87EAF7-0943-431B-9B5A-8508B27F587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6BE8D-AE1D-4C7D-B43A-BA41CBEEC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7BD7E-A040-4397-A6D6-5534F2FF19B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EA1AC-B664-4A78-90D7-4053F92B4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8C574-5883-46A9-81C5-78815D3A52A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1619A-4873-4DB9-A8AD-E3CEAB3F2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118BE-E82B-4EA5-966C-5F796BB30CA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B91C9-EC07-4E84-8FD3-4298662537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ACC81-6F11-40A0-9A47-B59C38627B3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5D0C5-1B51-4C85-BBB8-70663CD78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2731A-CCB5-4636-B6A6-281C18751ED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F8B09-62AC-4BD0-B50B-7F5563CC6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18EB7-F51B-4AF7-AF30-269BA0FFBAF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17446-0CC6-4740-BD27-E62748A89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937FA-A904-4E7A-9741-6FB2A535C9E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58991-B366-4D08-83C2-DDBBA2D64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56FD4-8FEA-4F6A-A028-A4797908AD9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77BA1-EE2F-4E1E-85CA-A0F0591AE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F67A4-09D2-4AD6-BB12-8F25B6BEA38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0B6A9-6F64-4F70-8DB3-5C727421B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255FF-A29F-4786-82B6-AE8DEE8050B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8B9AB-2B62-4A7B-A638-3A6A24C14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591F8-2029-49B8-8E89-E57830F5E6E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2DAB2-0715-47DD-A5F1-2E2CBEC19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arrell McCarthy, PHR</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s An A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Max De Pree</a:t>
            </a:r>
            <a:endParaRPr b="0" lang="en-US" sz="2800" spc="-1" strike="noStrike">
              <a:solidFill>
                <a:srgbClr val="000000"/>
              </a:solidFill>
              <a:latin typeface="Arial"/>
            </a:endParaRPr>
          </a:p>
        </p:txBody>
      </p:sp>
      <p:pic>
        <p:nvPicPr>
          <p:cNvPr id="538" name="Picture 6" descr="http://vialogue.files.wordpress.com/2005/09/leadership-is-an-art.jpg"/>
          <p:cNvPicPr/>
          <p:nvPr/>
        </p:nvPicPr>
        <p:blipFill>
          <a:blip r:embed="rId1"/>
          <a:stretch/>
        </p:blipFill>
        <p:spPr>
          <a:xfrm>
            <a:off x="4811760" y="1333440"/>
            <a:ext cx="3822480" cy="479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0" y="1306080"/>
            <a:ext cx="9144000" cy="5272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ue leader is a listen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and appreciate diversit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ive leaders encourage contrary opinions; an important source of vita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hip is an art, something to be learned over time, not simply by reading boo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 processes and systems; lead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0" y="1306080"/>
            <a:ext cx="9144000" cy="5319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needs of the team are best met when we meet the needs of individual perso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company or institution can amount to anything without the people who make it what it i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be a leader means, especially, having the opportunity to make a meaningful difference in the lives of those who permit leaders to lead.“</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has the right and the duty to influence decision making and to understand the results. Participative management guarantees that decisions will not be arbitrary, secret, or closed to questioning. Participative management is not democratic. Having a say differs from having a vo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People are the heart and spirit of all that counts.”</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4" name=""/>
          <p:cNvSpPr txBox="1"/>
          <p:nvPr/>
        </p:nvSpPr>
        <p:spPr>
          <a:xfrm>
            <a:off x="0" y="1341360"/>
            <a:ext cx="9144000" cy="5213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ive leaders understand that people are the most important resource. Without people, there is no organiza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ive leaders are open to new learn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hip is difficult. If it were easy, anyone could do i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hip requires (full) acceptance and respect of diversity of opin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Darrell McCarthy</cp:lastModifiedBy>
  <cp:lastPrinted>2011-06-13T12:29:39Z</cp:lastPrinted>
  <dcterms:modified xsi:type="dcterms:W3CDTF">2013-11-21T00:40:28Z</dcterms:modified>
  <cp:revision>18</cp:revision>
  <dc:subject/>
  <dc:title>Leading with Impact </dc:title>
</cp:coreProperties>
</file>