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75F7-62B3-41A7-8A2B-80048722C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FD93-62A5-4F85-9BC2-F777C65761E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98BAC-B211-4316-B756-15ADD3E2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10BDE-1CE2-44DE-A345-FC47D291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F8C52-5571-4D03-8939-6D6E6D9B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FB835-DE9F-4956-865D-DD8DE732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A3D56-7F91-4643-940A-04038B08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94304-E5B0-47A8-9168-B0CDCC70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A18AD-DDA3-4D82-856F-057C3228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90D9B-1553-4ED6-9C14-DBED2D9D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F14B6-731C-43AB-ACE4-D54C4FE3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0E578-E1FA-49B7-AB05-A34ECA05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744A-92B4-4EBE-9A97-F5BC6C37B5B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5BF4F-F8D6-4747-99A2-B56110B2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90C50-40E6-4D1B-9464-FE0BE061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10254-E6BC-4D0D-9078-E18237E2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8302A-7C54-40DC-92F1-2F3FC714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8D2E4-C092-4A79-B9A0-16080FEC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9E7D3-4431-4D26-B797-AE187079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7F315-4D23-42A6-9A07-3149F81B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36CCB-44E4-4B0E-825F-3201587F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9C845-CC51-44B9-B83E-6601AAE9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B7439-51A0-410B-AEA0-4A403FA4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70FD-4597-4BA2-9126-F7E10A12F20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03DE5-9A2D-41B3-B71C-0091D4A8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594F07-1D88-4173-BEC5-8A0F1B53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F6A0BD-BAB8-4C7F-AB29-5B1D228F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55C8B1-E78C-426E-9B8F-FCF4E4F0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8DF455-C580-4370-87B7-43F9768F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2E8657-0771-4BF3-868E-7C853964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110460-275E-48C8-ABFE-87099CBF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70ED8D-B069-4278-B2F6-1C92A1D5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35CE24-0385-4CDB-BED4-40310D0C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2CF2B8-9186-4AB3-9DFC-5D800B1B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EFED0-BB13-4532-8D34-908A14BC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B3F31A-B5CC-48BA-8E7A-D215874D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4573B8-D325-46E6-87DD-8E4F7C70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940251-8242-4995-86C0-FB62A67F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180E3-927D-4C79-AB66-D1D8F940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BE604-0B2E-4BFB-AD04-CE0A0232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85E23-BCD4-4F83-9770-E819C895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CB352-C118-45C1-A80A-38CA9AD5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25DBE-FAFD-42DE-A6D8-53443942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C2FB0-E833-4726-B63B-2B20924D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3BDC9-8500-406D-B93E-EF09DAFC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FF555-A4B5-4828-8190-64807B43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10D85-5D1B-4C63-A7D0-DD7DC053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0AA9C-5294-41F5-A825-0E6821A9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0CF07-0CC3-47A0-9DE2-9A063F02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26405-169D-4624-9665-E10D8F98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8D351-AA6F-4919-B399-8FEA7368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026AF-B0F4-47FA-9950-7F53FAE6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C5586-2604-4BBD-B649-D1404880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00EFF-0CF3-4D8A-BDCB-FEA09FB6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82543-C1E7-4247-B071-EF07C729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F115F-1B53-4111-99D6-D047AE77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576D-0428-4906-83CB-BA68C83A1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ABD5F-2361-4BE1-B41D-9D9603FB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47EE3-6FCE-4815-8A03-C16F2993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8BA8D-B679-4FE6-9572-45D023C6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0BB0E-9876-484A-B84B-AB8E1981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D135E-1455-4A62-AD47-0E20FFCC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61D8B9-7C18-4FEE-A2AC-1FD91D92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86BAA3-9B4C-4741-9E89-CE201FAC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D514C8-6159-4F97-9FE6-8741AB4D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8FC23-766D-47EA-845C-24F461A0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8D3EFD-6E66-49CB-AB73-B5F81149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4B1C-45CB-4C9C-91C3-80C832F422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FAEB55-80E5-403B-BFDD-80CBA49F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F930B-10A9-4521-A5B0-0CAA808B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CC3FC2-9B04-4DB4-BFCC-D81D9DE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E4843-CB8F-4BB8-A30D-0960FFB0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579227-E044-4609-BB1D-70F3531D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3E27E-7E26-4EC2-A253-1775C0BA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A03CFA-230B-42D0-B13F-1F76EF5E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B34085-2A76-46D2-ABCB-F31823DC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984043-D5B2-4CAF-9DEC-0E48740F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6929A-E838-466E-A7E0-1477D9F9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C14D-E78D-4A4B-B00C-900F2C32D9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ED78F8-FF23-404D-8D00-5D12D2F5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708DF3-EE33-4F9E-820F-697FB569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22F3AD-6402-40E5-895C-B29E5DD3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A5B8E-88A4-43E4-AC3D-19D3B929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F07B8D-46A4-4C70-981D-AD1ABFED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2BD385-13C1-43FB-A4B1-166A6B49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5B0DF-5182-4437-8C97-E1F7ACFD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E2A30-5016-421F-B418-D8FA8AEF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7F763-C491-4FB7-A928-585FE975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B7BCFC-E39E-4138-86B6-60FDC47E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27F2-3F99-46F7-A3CE-6D24AD2CE94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F2B51B-B446-45D6-B14B-CA962489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E3822E-ED84-4A9C-96B7-7BDFAED9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2C680B-A188-4270-846B-324A053A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4C3EA6-141B-42AF-A986-5FA3E8F8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9B40C8-E3A2-4F2F-95D4-54201D85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D7B8D1-0504-460B-B374-054A7DCC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34AAD2-6B94-4602-9E2F-D3BB6E4B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6F811E-DBAB-46E8-8C4D-887012B1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46F940-E7BB-493E-8F7D-F097910A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E3AA60-2DA9-4ABB-830B-DD6A408D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7A97-CC3E-4A38-B989-3BAE5B8BEC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17095C-6668-4449-82E2-51AF4EE8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304F55-98AD-4415-A52E-6994668A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8DE3EF-9D79-41DE-B248-A3E02CB6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3BEFCF-BBAF-494F-8D23-602078B6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E8915E-62A2-4399-A5A0-D5D29D8C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C3FBE5-4E36-4D78-99E2-BD861276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82C295-3677-4A64-9F2D-880E2EC2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AB2822-C68C-4E3E-929B-DDB30C9D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1DC262-E5D2-43F8-951D-4D49D641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40C6D3-C30C-4A2D-8BC5-72D112AF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3888-70D0-49E9-9084-1EE8054FA5B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1014E2-0133-41C2-88CF-8AA30A58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F060AB-89CD-478D-AD2B-A3F95A8C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BD9A05-BA14-46E8-976D-608254F1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11806C-66F3-4FD9-AF01-EFDF0C9F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728424-BA4E-40AF-BBEF-36B5ADA0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714226-66BA-4BDA-9B75-C191C535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54BCE3-42AD-4E16-8878-2EA90D5B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D03782-4B82-4BF5-97CD-FAEB1EEF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4070F4-5D50-4A8D-B219-3D2AEC3D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692F15-AE52-4CD5-8B7D-CDF11F8E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164F-37DE-4F1E-936E-FE5EB510AF1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44E9AB-80E8-4DB5-A912-2EF01ED3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6DFF8D-F4D6-4F0D-AC4D-432C78D1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DC9686-F44B-4285-85CE-55A491E5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1CEDD7-F066-4271-9E01-81B1EEFC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5AF1D3-4B76-414F-9620-23D18DFD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7756A0-2012-4EF3-816C-D2B3ED91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D91252-DDEB-4746-852C-C0EB6678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DFD70E-BD12-42EB-8C20-9CA3DED9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716143-C769-495A-B050-8BA2C213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08D3C6-4DD2-44D0-8379-06AFD01A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5D75-057A-4D72-A83B-EE6D54F6F22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BF2504-42D4-4B27-B0AB-10EC3EB4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7FF354-F922-4B0A-A659-C0970061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22A478-3C85-4F80-840C-E7BE77B1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FB04F6-A5DB-46F4-A69F-F99264B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14E302-F3DC-4B87-9A1B-ABDA5FC8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411352-19CF-441B-AE1C-B707ADF6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4BF82B-389D-47B3-963C-AFADCD13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36410-7CF1-4543-9619-B06C395B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D3DB6-4E1C-40CF-9D39-2B1145B7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01C0E-D98A-4F3D-B9CF-CB93FE75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DE31E-A698-415B-AF75-E7FB0838F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A6E9D-CE1C-46EC-B6BA-23C9B73C2E8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33ABF-1D1E-4B44-AEC6-FE2D7B2E1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228A0-6171-4B81-B17A-C0A0924E595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6B864-03CC-4BFA-829A-9ED76BB7E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2CB8E-9E44-4103-88CA-77A226639BB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67C23-8CF1-4480-BC6C-7D4E57C0B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1C2F6-2807-4250-875F-D3B691B5DE8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E4437-640D-47AC-B10C-9E6F21555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060EE-477A-4026-9977-679E2B3A7B5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D2FAE-A4D6-4D05-92A3-6E12AB3AF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F6B29-2F91-466B-9054-5F1B74D2EB7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43865-0D25-42D1-974F-3EF9A1D87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E9B4C-66E5-451F-AA01-6A1E88B9C24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5A5FE-4FCE-4F7F-85DD-14B7EA044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D3136-9C2E-4AFF-A30D-ECEEF3AEA5E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D3D4D-A200-42BF-8AC3-1F4576F03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B1AD2-C992-47EF-B80F-4BF13D58A6C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890B8-BAC8-4A36-B5BE-46254FC75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3F09C-306F-4BF3-9C08-437E5EEE6FE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D82A7-B4C2-4A54-B48A-1B7368F04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9B29C-839A-45A8-A171-EA4FF56904E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6780D-D92C-412C-8D82-F40DAF384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– (S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cial Conversations: Tools for Talking When the Stakes are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ry Patt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eph Gre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McMil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Switz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"/>
          <p:cNvPicPr/>
          <p:nvPr/>
        </p:nvPicPr>
        <p:blipFill>
          <a:blip r:embed="rId1"/>
          <a:stretch/>
        </p:blipFill>
        <p:spPr>
          <a:xfrm>
            <a:off x="5264280" y="1281240"/>
            <a:ext cx="31683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cial conversation - Stakes are high, opinions vary and emotions run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what you really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to Silence or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the story - Separate fact from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– Share your path, ask for other’s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the importance of crucial conversations, we often back away from them because we fear we’ll make matters wor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matters most, we do our wor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designed wrong.  Emotions don’t prepare us to converse effective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39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impact to me - natural tendency is to avoid or do poorly in crucial conversation.  The adrenaline dump negatively impacts ability to logically engage in conver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of making the conversation safe fits very well.  I now watch and see quickly when someone is reacting to the conversation being unsafe – when they are turning to silence or violence.  Usually able to “dial it back” when I see t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trategies to help when the line has been crossed – apologize, contrast, work to establish mutual purp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loyd.russell.william</cp:lastModifiedBy>
  <cp:lastPrinted>2011-06-13T12:29:39Z</cp:lastPrinted>
  <dcterms:modified xsi:type="dcterms:W3CDTF">2013-09-03T20:15:50Z</dcterms:modified>
  <cp:revision>30</cp:revision>
  <dc:subject/>
  <dc:title>Leading with Impact </dc:title>
</cp:coreProperties>
</file>