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8B84-770D-492A-A9C2-DFAEC29A3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78216-5D6A-4DE6-BA64-440B44326EB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E9A81-64D1-4B9D-83E7-607035C4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39550D-ECE7-4899-AD55-ADBA6B35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CE46F-4F0F-4CF6-A5B1-2A5E7812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6445F-010C-45B3-AF5B-B1B0BAD9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01CD57-E1C5-4B7D-A774-3BC54B60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D82251-8FF6-482B-B6B7-511382B9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579B07-0165-41D5-89AB-3CCBC18E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6574A-21F8-438E-9F65-EA84172C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56DBC4-B439-4F65-9A0E-63E32624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D287E-5185-43FA-AEAD-139F1AAE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2504-F60D-4E43-A2B5-B89200B82AF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3E7DA-8D09-47D8-B4CD-6CC3C733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67F5CC-50F8-4527-BAAA-37850742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5E12E-99B4-4284-84E2-5B93E8EB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1AE73-C142-410A-BEF2-805F09B1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DC8772-E7CF-40DD-8444-294855F0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36C6E-EAC6-4CDF-8F86-B41FBDBF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5B70A-60A3-46CD-A6F2-77EE6C3F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D9813-8DC5-4BF6-92F1-1405A830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1F9B2B-5020-48E2-AF25-4C741B95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3A054-10AB-4A92-B9E9-D89D8590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EB84-F084-4FB8-B69A-08B8BB79081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4F44E1-753C-4C53-8E5D-E5219596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54B989-46D7-4A5F-BC2E-EF6E1584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C85389-83E6-4286-9AB7-B5B499BB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F81AFF-392F-4F43-B66F-D3033E5B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C081D7-F938-4320-95EE-1D4E74AB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1146F4-2B77-429C-A5F0-CB67F242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747F02-A5CC-4325-BFA1-63CA8E41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62C9E4-EE70-4E1D-9A18-BAF30D46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838F73-CC3E-42BF-B9AC-556C7EA6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72EA03-54D5-4345-917E-3AE4BB6B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3AC02-9119-41A3-BE13-4B30C64C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02B19B-B128-47D1-8493-44720D34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6583BE-E6CA-45F9-901B-C8657113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C002E9-F2EB-4CEE-9F6D-23142DCA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74FBB-0FFB-4B22-BBA7-2B1C2A3A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DA91CF-A4CD-439E-BF94-8E6CB0BC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20511E-875A-445A-9205-A71C16C0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DD3D50-5BA9-4B1C-ADFB-EF1E38AF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72EE0E-30E0-43BF-A909-1E5C5810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D6ED67-D1A7-4B65-A1CF-FC772AE5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B6321B-1C6A-42D8-9EBF-093A69BA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BAAD2-90EC-4762-8AC9-68902F36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4D76C-1A83-41F3-AA77-D6FFFBF7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86599-41C0-43AE-A682-58417A67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C4E3E8-DB3A-4C7B-9306-5EC361E9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9119A-298B-4245-B9AB-DEF2E3AD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B5FD7-755F-4F7D-B318-07C53F86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12FC9-7470-4FDB-A3DC-290F12BA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5A74F-FC50-4D6E-98C1-6DAEB00F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B7A53-B569-4139-A1F5-78E7F475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A39EC-CD30-46E9-9399-54833A5F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5919A-C691-4A19-AD58-1D3E9048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E588A-42FD-4D53-98FD-72DCEC002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57C25-E02D-4FB1-A718-9387D688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ADCB1-A4D0-4296-AC9A-5FA9FAE6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32B08-3003-4023-8DDE-270E19A3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C566A-BE8D-425F-B986-CB3BE874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BCE72-8EC5-4A0B-B9B7-BE593EE6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A2B097-FE7B-4B39-A677-8F3E9750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C4C274-2CB4-40CC-BABB-BCB74B1B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471CEC-8AF2-4495-9D1D-B361F548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C7A7D7-39F1-4300-A3C2-4306F1C1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433D7D-2592-4672-B07D-1E227315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C8C5A-B9AA-41A4-B7FC-2F70ABE63E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CC09FE-D467-4627-898B-68DAD57F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187211-6F84-413C-829C-FD8B744A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B85169-BBB5-42BF-858C-124A8A01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0E2E46-4289-4232-A46E-B6BCD69A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749500-0CCE-418F-8F93-0F53DDBC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E1F037-A1C3-4D7B-89BF-D1A3BDA1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342804-2F77-40C9-8214-5B8594AC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1D96F4-2B79-4D46-85E7-3F8A4A6B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7740AB-E557-4565-B23E-C3E3FB01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2F066C-AC94-4D92-9D4D-43023621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93F2C-B7A3-4018-8E7D-F1C38A8A18A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83132A-4BC6-4C1D-8EFE-D17F5FD6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0DEA91-DF7E-4E07-A928-93AB682D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90581A-C2E0-45B8-A65F-662D9A70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5D16DE-8FE1-4818-A1CA-863ADF99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3BFFB0-1581-4916-BADC-44C98A6B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DEE2F4-0BB0-4C1E-8A2E-D0EEB0F8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63F569-4449-411B-A6F6-C69D5684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1AF469-DCCC-4D0B-8A40-B44A3407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5E8714-47D4-46BE-A7B7-E4A7720E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4EC8EE-CB4C-478C-9FC3-7C41593B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1A4C-8C00-4CB1-A90A-F8FEAA62487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64DC44-7DD4-404C-9320-0E1BF5D2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773E1A-FF5D-4D43-950F-70F67EA9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F7D1CF-26E4-4977-A539-40668FAF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7D9CD6-4DD7-4187-BE4E-47F44EEE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E354D4-BD61-4631-806D-D0663333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3788B9-9124-4F65-8366-952F83AE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4504AD-21C7-4246-AA91-B0C2A080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ED4DC4-AF4E-4B6F-8143-9CA2D995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0D1810-33DC-47C9-8C12-590DD2B7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917EB5-911E-42EF-A013-56511E46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1D80-7F86-4C89-BBAD-CA372C04626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7AC0B4-728F-42BD-B3EE-607F8C0A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B1E839-70DF-4EA2-92ED-5FD031B2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71ABE8-2EDA-4E5C-A703-ED921A38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7A1D10-5A16-4C4D-AF3C-622D40B9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C90D61-5DFB-4CE5-B063-48A1E1A6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3F24FF-4684-4B23-97F9-F18EEE1A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E317CB-5C27-4FDA-BBC1-C85CD44F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FAE81F-B265-4935-AE2F-BF55AF4C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670F1F-818A-4475-B49A-52D4E5AF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97168C-E4E5-4F38-960D-B671BF3D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4E4E-7289-4126-A0E2-024E87BEBB3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58B368-0D04-4218-8D92-776A6D62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7C1344-FD4B-4872-B665-0BE34FE6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B55D6A-87D6-410E-9A7F-04B1F9F3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198C06-5C25-4A92-A357-9875B212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859351-D312-4C41-9808-87FCBDC5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8C679D-6060-4512-8D0F-B01E8A53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EBA19B-F43C-4B42-9EF8-869F7415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8B7AF5-8492-4BF3-8235-DC4C814C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1DF497-3D2F-40CA-AED6-BE6E9923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5D6E98-7A4C-42B3-A631-52DC8E54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1CBD-88BA-4AE2-B443-5A0E424576F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12B252-1CEB-441B-AE76-C97BE6BD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D86CF9-D7F7-4217-993C-E2AEB016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68F1F2-119F-4BB7-A085-6A35F3D9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E86C8A-5D07-4257-B66C-F0CE3F6B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680B88-B113-4654-BACC-0736259F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37D93C-5171-4CB8-BD2C-EB43DE89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54D407-DAE8-4A65-99A0-2D4EAEEC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7DE7EA-96B2-4BB8-8FC2-8B8570AD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BFF0C2-8A8C-4591-A0BD-A0727752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987456-E0E2-4247-AB8B-CFB6A6AB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9235-3E22-455D-8AFA-DF15D12D558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0AE81D-1AF6-4ABA-8B4A-2EDC1383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7DC099-A6AA-4FDF-8F0B-EC369FB2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8E6B8A-29EA-4587-A438-BF1F6AF3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0F8047-7C77-4525-BD87-5E4ACD55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E6725F-D8AA-471F-86AF-F92CC6D3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EC4502-9B10-4D9C-91F2-33A1000E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C3D214-11F4-4459-8460-62FCB74E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3F7BD-0DC4-4C8A-B804-503059E4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4BC1D-1EFA-4AC3-80B8-B8095D39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B44B7-26AF-4A03-AEB6-9C49CA83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FDF79-177A-45A0-A8D5-BDEC08F65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A27CC-6914-4B2B-BDE4-06A146E6F70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8468B-D7C5-4E4A-9439-8755DB9A4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07BB5-37F4-4EEC-A83D-730DC05D595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92258A-7985-4D32-B823-E427EBBB1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27A5D-AC9A-46BB-BDB7-0B44A925BD2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84D32-0A6C-41A4-B13F-EABDB376E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E609C-6395-4120-8AA6-35D50DBA8F0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9E1C1-70A2-47B9-8175-B38841108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B2A62-CE67-4CD9-8B59-54B599D1021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CADE7-6891-4C97-B545-FE85E47E4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793AD-A8C5-48E3-BCBB-E68D3C76CAC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8334E9-41A1-438D-A5CD-633F748A8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F7A35-3942-4257-9AEC-4FE79E42147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E9EC1-57F5-40D8-AE85-892CFCB39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7334B-D93E-4B24-86CD-D69B32ABC47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E88713-862A-4FC1-A04F-F174D208A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88030-E5B0-48D4-855B-D75339C94C2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391BD-7476-4ADC-84AF-F6BC7CB1C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777EC-4FD8-48BE-8EB1-130C3280F98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9A820-B927-4A3E-8CB1-E6B2BAEA2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7C76A-A516-4928-AFE5-04FF29378C4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F6B9B-1344-4916-8590-B9A30DA40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vin M. Cog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:   Jim Kouzes and Barry Pos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Content Placeholder 5" descr="BookCover.jpg"/>
          <p:cNvPicPr/>
          <p:nvPr/>
        </p:nvPicPr>
        <p:blipFill>
          <a:blip r:embed="rId1"/>
          <a:stretch/>
        </p:blipFill>
        <p:spPr>
          <a:xfrm>
            <a:off x="5295960" y="1455840"/>
            <a:ext cx="3112920" cy="46702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6" descr="KouzesPosner2011.jpg"/>
          <p:cNvPicPr/>
          <p:nvPr/>
        </p:nvPicPr>
        <p:blipFill>
          <a:blip r:embed="rId2"/>
          <a:stretch/>
        </p:blipFill>
        <p:spPr>
          <a:xfrm>
            <a:off x="942840" y="3724200"/>
            <a:ext cx="32972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hip is a relationship between those who aspire to lead and those who choose to follo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hoose to follow a leader not because of a leader’s authority, but because a leader lives up to the expectations constituents h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our top characteristics of admired leaders around the wor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 Lo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i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four characteristics together for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di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the foundation of leade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of building and sustaining credibility requires six discipl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 your 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ciate constitu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irm share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a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 h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 is the new normal, and uncertainty makes building and sustaining credibility even more imperativ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ssive focus on a discipline for the sake of perfecting the method thwarts the purpose and prevents the intended res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nd sustaining credibility ultimately means being a perpetual learner, with all the turmoil, stress, pain and excitement that invo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ewing credibility is a continuous human struggle, and the ultimate leadership strug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Your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subordinate, manager and acquisition leader, credibility is key in just about every relationship and inte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leadership assigns responsibility and leeway based on trust and credibil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direct reports and peers work to support me because they choose to based on mutual trust, competence, and ch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Your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n acquisition leader, credibility is essential with a myriad of stakeholders in order to reach decisions and achieve funding to support my acquisition pri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ing credibility require constant communications, careful and thoughtful adjustments, and continual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kevin.m.coggins</cp:lastModifiedBy>
  <cp:lastPrinted>2011-06-13T12:29:39Z</cp:lastPrinted>
  <dcterms:modified xsi:type="dcterms:W3CDTF">2013-09-04T05:21:33Z</dcterms:modified>
  <cp:revision>30</cp:revision>
  <dc:subject/>
  <dc:title>Leading with Impact</dc:title>
</cp:coreProperties>
</file>