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8DCF1B-D5D4-4657-9619-35F0CF6B62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C2D6E-DB1A-47FD-B10C-3C4A70580B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1BE5FE6-607C-4E47-8AB5-B7DF1582DFD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BDB0CE9-B807-474C-9FE2-8DEB19C698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AB0F8B7-263B-4EE6-8470-89325C6A428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7A56A01-774E-4332-8E40-03E3EA04DE5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207B8FE-A800-4818-8165-E3B8B35C7D1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5D2C01F-1C83-4C9C-B315-9A6ABD0FF34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38FB4F0-E3A4-44A6-A4B8-71F1273A810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2DD8358-7031-4116-8AA4-FDA0703191F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D035EBF-59B3-4CE7-B153-BAF47EC5794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3F5DF55-C3D9-4FD7-B261-C93EF8E5F1F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AE997-DBE4-4AA2-AAB1-3F9DF1198A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32B12FA-C099-4D83-9381-EABB4431223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D3D5913-01E3-453A-951F-1E56FB913EF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86D73D8-4ED9-457D-ABC6-C013B631242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FAC018F-376E-4168-B7FA-97FB45E85F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6CA9BE5-7EA3-4194-85EC-88E02445ADC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4A2E9CE-5DFD-4789-8A5E-B179D59B4F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618D994-2AB3-42EB-91D7-03FC5416A26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61C02A7-13D7-4DFE-92A0-173F3C82AF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F3286FC-58D8-43D3-BFE5-D2F817F138C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A568C1A-C0E6-4749-8D63-4675D94C56B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02837-A48F-49A7-98F6-D2846836726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395FA80-19EF-4FC5-BF0B-0B846ABF226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2ADF40A-FCB9-45DB-803C-10C3CAD136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217EF58-9942-41D7-905C-8BC60DCD7E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64C105B-5E95-4A26-9C79-3D7F96AB56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D2D72C1-66F9-4786-BD40-093E4B981F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055A9AB-F9EE-4614-AEAA-739DB2A653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FDA08BF-CDA6-4AB3-B46C-F600F86CD3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E9A5847-ECE8-4C1B-A196-615888A4B9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0B67A3C-1754-4C59-90C3-146F9B161E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F6CA61B-92C8-4328-9BAC-3F49550780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21B40A1-F93E-4D85-9FF9-BF7AB6C76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BE39D8C-68B1-4108-8B6A-D7CC27901E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C06425B-DF28-429D-BBEC-7A2FE707B8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6B3DD93-EAF8-4FBB-9478-27B55F7977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E202865-C458-4DF2-A6E2-FB5C3B9234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518546C-F7C4-40EE-8225-4F8ED996B1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F89DE55-7C81-4378-8D71-61A11C4FCE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BAE96C8-2239-4D3B-8427-AC5A33DA6C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08A7B10-C979-4709-A9E6-A9321A55B5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D584A2B-9F92-4E36-AEFF-52A88C091E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56BA9CE-F5E4-41FF-940D-0EEC5475C6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252098-D69C-4E47-BBC8-78D3F4A28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D8FE72D-02CA-4AC8-8011-6B5B115031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8D9C730-3F7F-42BD-86E4-64A57507CD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2ECFAC2-1FD4-4630-8A38-4C774158E7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5ADD4D4-94C0-4B5F-A7AF-9BF38D67BA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CD02021-3497-4537-B5E8-9AAB6CD363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3CEF18-AF13-42BE-8DF2-5F26A91E1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F1D993-EB7B-4E21-A621-D0CC3D0D8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FD713B-8E6B-4393-9AF5-020EBCAA2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A4AA66-5580-443A-ACE6-0F56FE704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5C735D-850F-4E91-9417-6F02BB761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48C6B-C69F-423D-83F6-BEC3BE5771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78DB99-CA9E-439F-AE99-FBE01F7543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EBB214-5F45-424F-9545-9B8F2C8C3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FABC7E-50D9-467F-91C5-6DD40DD82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082F482-A5A9-4663-8151-A770B65DA8D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A793706-C8C9-47A1-8CDD-6178162F45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26AD62C-0738-451B-A783-055B789737C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E8EC69-E258-4CEE-823C-438836A12F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12728B-4858-4083-8743-E951F53C6BE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476523F-F81C-4AF4-A34B-BC68A16CD7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BFBA0CB-943C-47B6-A7D4-EA6796B090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1BCCA-2267-4543-B9A2-465A7C2E73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183D84-72B3-4FA5-9BCE-122EF83C58C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4785AD-E9B9-48C8-A40F-C98C8D4500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049E8C-3D05-46F2-ABF3-7A02A2EFD8F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06836A-AA38-469E-8956-F616BC079B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9D35EEF-F141-48E7-B6AF-B12E4F042E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EAC81E4-8D65-4DBB-9689-435675C5577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C0E7D17-52FC-4536-A288-41B8155E1BA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EBE1657-49DB-409D-A68B-39B966710AA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39BBBB7-7FAA-41EE-8F13-217D3D2906F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18C36BE-FD7B-4AB9-810B-91FBF5A584F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C824D-092F-4B96-948E-DA5311F356D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A32E11C-835E-4F52-B03A-A99B23D0E1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DCA90BC-34AE-418B-8331-5DCD5C14532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F4BB8F6-3D04-48BB-8F39-7EC304CE45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B1E6C38-DFF6-402C-A05E-3C7EB6C21EC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135FC0-1AC3-4765-9D14-3668CE40094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5EB1E42-03D0-48E0-9B8B-BE7F73B08D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F301A61-82C8-4ADB-BAEE-3373F2030BB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F63BA61-9265-4553-A294-11D48E6EAED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55551EE-D3A9-4B25-A4EE-62356CE203D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EA3E1A8-C282-4AE4-84A1-A4B18D4A760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0A9E3C7-3BC7-49DB-80C3-FF30D6F1F1D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26677A-2F60-4873-9C04-53A21E291D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2D168EE-AD7F-4561-8CAC-B84088FBAC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4CC90CF-AB54-4E1D-A976-9967909C2C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B8961E5-800E-4FAF-BE01-30B7FB2C90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ED0E93C-D562-4A6D-BD6A-0A12EDC241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85F3A45-87A0-4914-A987-B151F1D521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40370BC-BB03-4D19-8328-B86EBB7472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9AE27BF-75C1-479F-9D16-40C5C0835B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4EB1CF1-E3E7-4E99-B04C-8691931A1D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A90CAEC-9599-441B-BC71-439D2E5A5A0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DE177B-E53E-4663-BC4D-DE9D5DAFA21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F29BAF8-F3EA-4032-A0C3-BD23B8D0540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86F731A-A417-4788-BF00-89691E1DBCA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1221190-B650-4DF4-B35D-FDBE324A7C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CA23ACF-BCAE-4EE5-86D7-9AE41E90C3B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EBF6264-5F15-4263-B615-F496F93AA4F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17D72AA-7580-451B-ACD3-78764A325E6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DAC2CF4-11D7-479E-8D3F-D1F64506B69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87AF3F-4CC2-4E01-8AE0-5781DC3CC0F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85CAC3F-5B24-40E2-B88A-885C4512814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6316B15-C9F8-4FD6-9B33-FB8B285CF03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94BF5-0E68-4B1F-AD82-795EB466334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B378713-8256-4C0D-AFF8-764B0F84090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B982314-48D6-467C-974F-89C705AA9B2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5E16B27-C9EB-4F6B-940F-A6CFE93CF52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6F8032E-ED0B-41DD-9B16-0174AED7D3E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7757E8F-56AC-48B7-A296-B799981DF20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92767F7-0AB2-416D-8B9C-807D5F9DF2E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B7ADF0-EA46-4769-A2CB-3AE087883D3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361344C-3EC1-40C3-932A-CF4E6361CF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770FEF7-6656-4B14-8453-FCEBDA79386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27C1CD-408A-499C-849F-03C06B8B25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A69B2-2ACA-42C3-96D6-4B5FC28A70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6AC3DB5-6B1B-474E-AEA6-FBD5CCAE7F5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A98FA03-887E-4B83-8116-B6343DDB94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1FAAF9B-6767-4B1F-8F8F-1EFFE2E835E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0FD2A09-4EF4-47FA-95EA-EBFFEE3C72F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CB97C82-8EEA-4CD9-996B-A1C64FE853A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C309DBD-F906-4D67-A2FB-FE3F1A8F8EC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FD1A90E-34D6-45BB-B934-AD6BF801865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0F9B9B3-B35A-49F4-9B67-6ED6C68F9A9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6C26BD6-890F-4AAA-8F68-9C6317EC357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68A7637-7083-4A82-839F-7C20AB5F05F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5F082-E75E-4488-A0C1-2F46A45100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18852EA-593E-46D2-8782-542D10D1018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767D6C9-8B30-4CB9-9404-624E0D8A390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AFF665-5F22-499A-ADF9-926491CEABA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6DF3D0-6FF1-4321-AFA2-360F0582122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EC6890D-1DA8-443F-AA45-FB07F7F6A36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F2695D9-CD37-4F62-AAB5-9B0DF41CE13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0D063F3-0E76-4095-83A7-DB26E946E03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BBDB075-5B63-405B-8EDB-B0EB5AD9872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034EE58-241F-484B-AD87-C07F2569F5E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63908BC-700B-41ED-A2AC-CEADCD13A8C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4DA96-503D-40D8-ACF1-6F9888277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3FE4C-0DE1-4644-A319-98937711D5C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6E441-59B6-4A59-B66A-E412C447A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773BA-17B9-40E4-8D46-90584125ADF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9589F-DC5C-4595-8355-03A3DF482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94B29-CB8C-49BD-BD72-9AB8E67305A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6BC05-C112-4C78-9F5D-A1CAEE65E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097BB-8044-423F-A069-1165240BB16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0CD15-6FDA-4352-9FC0-71F098946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95B29-2297-4C06-890E-F9CD7BE13B7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1B1EE-4DA2-4FC5-88BC-55336FF15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AC5B1-D01A-4A66-ACDE-87AEC5FF9AA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67A22-7E86-4DB3-9F67-9674012FB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6A8AD-2CEF-4AF3-9AE7-1C12B529C56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4DBA5-519F-42B8-A25F-F8C6A2D70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95E8A-F2F5-48C4-9389-4688C54A318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83737-6DD8-4106-A076-0B9DB5A91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0501F-367C-4B8A-BDC3-5C905259307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C74D0-AD02-4FB0-A139-A4A8C62A0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1F9EF-C378-40E6-BFC0-214C152E99D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7302A-325E-43D5-B747-116ED19C76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23ACA-BA30-477A-8020-113C675FA1F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5036F-0A68-451E-97A2-83B6FA195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Sroczynsk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January 2014</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ssages from this Book</a:t>
            </a:r>
            <a:endParaRPr b="0" lang="en-US" sz="3200" spc="-1" strike="noStrike">
              <a:solidFill>
                <a:srgbClr val="000000"/>
              </a:solidFill>
              <a:latin typeface="Arial"/>
            </a:endParaRPr>
          </a:p>
        </p:txBody>
      </p:sp>
      <p:sp>
        <p:nvSpPr>
          <p:cNvPr id="549" name=""/>
          <p:cNvSpPr txBox="1"/>
          <p:nvPr/>
        </p:nvSpPr>
        <p:spPr>
          <a:xfrm>
            <a:off x="457200" y="153936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d Positively, Cohesive Te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 each o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in unfiltered confli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 to team decisions and courses of a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each other accountable for team go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chieving collective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51" name=""/>
          <p:cNvSpPr txBox="1"/>
          <p:nvPr/>
        </p:nvSpPr>
        <p:spPr>
          <a:xfrm>
            <a:off x="457200" y="136692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Your Story:</a:t>
            </a:r>
            <a:endParaRPr b="0" lang="en-US" sz="32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ble” format of this book makes it easy to read and digest, and its style is engaging</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building is more difficult than we imagine, but if done well can have great positive impact.</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pyramid construct may sound quirky at first, I have experienced various grades of dysfunction in team settings, and the basis of trust really does turn out to be indicative of effective teamwork.  The pyramid ladder flows logically either positively or negatively from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ve Dysfunctions            of a Team:                A Leadership F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Patrick Lencioni</a:t>
            </a:r>
            <a:endParaRPr b="0" lang="en-US" sz="2800" spc="-1" strike="noStrike">
              <a:solidFill>
                <a:srgbClr val="000000"/>
              </a:solidFill>
              <a:latin typeface="Arial"/>
            </a:endParaRPr>
          </a:p>
        </p:txBody>
      </p:sp>
      <p:pic>
        <p:nvPicPr>
          <p:cNvPr id="531" name="Picture 6" descr="http://ecx.images-amazon.com/images/I/71cl8TgcovL.jpg"/>
          <p:cNvPicPr/>
          <p:nvPr/>
        </p:nvPicPr>
        <p:blipFill>
          <a:blip r:embed="rId1"/>
          <a:srcRect l="7273" t="5714" r="7273" b="5714"/>
          <a:stretch/>
        </p:blipFill>
        <p:spPr>
          <a:xfrm>
            <a:off x="4218120" y="892080"/>
            <a:ext cx="4298760" cy="566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ise of the Book</a:t>
            </a:r>
            <a:endParaRPr b="0" lang="en-US" sz="3200" spc="-1" strike="noStrike">
              <a:solidFill>
                <a:srgbClr val="000000"/>
              </a:solidFill>
              <a:latin typeface="Arial"/>
            </a:endParaRPr>
          </a:p>
        </p:txBody>
      </p:sp>
      <p:sp>
        <p:nvSpPr>
          <p:cNvPr id="533" name=""/>
          <p:cNvSpPr txBox="1"/>
          <p:nvPr/>
        </p:nvSpPr>
        <p:spPr>
          <a:xfrm>
            <a:off x="457200" y="13986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Not finance.  Not strategy.  Not technology.  It is teamwork that remains the ultimate competitive advantage, both because it is so powerful and so rare. … The fact remains that teams, because they are made up of imperfect human beings, are inherently dysfunction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none of this is rocket science.  In fact, it will seem remarkably simple on paper.  The trick is putting it into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5" descr="http://www.primarygoals.org/Diagrams/images/FiveDysfunctions.jpg"/>
          <p:cNvPicPr/>
          <p:nvPr/>
        </p:nvPicPr>
        <p:blipFill>
          <a:blip r:embed="rId1"/>
          <a:srcRect l="0" t="12881" r="0" b="-1400"/>
          <a:stretch/>
        </p:blipFill>
        <p:spPr>
          <a:xfrm>
            <a:off x="2593800" y="1488960"/>
            <a:ext cx="6480360" cy="5029200"/>
          </a:xfrm>
          <a:prstGeom prst="rect">
            <a:avLst/>
          </a:prstGeom>
          <a:ln w="0">
            <a:noFill/>
          </a:ln>
        </p:spPr>
      </p:pic>
      <p:sp>
        <p:nvSpPr>
          <p:cNvPr id="53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mise of the Book</a:t>
            </a:r>
            <a:endParaRPr b="0" lang="en-US" sz="3600" spc="-1" strike="noStrike">
              <a:solidFill>
                <a:srgbClr val="000000"/>
              </a:solidFill>
              <a:latin typeface="Arial"/>
            </a:endParaRPr>
          </a:p>
        </p:txBody>
      </p:sp>
      <p:sp>
        <p:nvSpPr>
          <p:cNvPr id="536" name=""/>
          <p:cNvSpPr txBox="1"/>
          <p:nvPr/>
        </p:nvSpPr>
        <p:spPr>
          <a:xfrm>
            <a:off x="44280" y="1328760"/>
            <a:ext cx="410544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eamwork deteriorates if      these progressive dysfunctions are allowed to thriv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Goals can be met when these correlative positive            traits exist and      build on each       other</a:t>
            </a:r>
            <a:endParaRPr b="0" lang="en-US" sz="2800" spc="-1" strike="noStrike">
              <a:solidFill>
                <a:srgbClr val="000000"/>
              </a:solidFill>
              <a:latin typeface="Arial"/>
            </a:endParaRPr>
          </a:p>
        </p:txBody>
      </p:sp>
      <p:sp>
        <p:nvSpPr>
          <p:cNvPr id="537" name="TextBox 1"/>
          <p:cNvSpPr/>
          <p:nvPr/>
        </p:nvSpPr>
        <p:spPr>
          <a:xfrm>
            <a:off x="4219560" y="1044720"/>
            <a:ext cx="237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TEAM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ssages and Quotes</a:t>
            </a:r>
            <a:endParaRPr b="0" lang="en-US" sz="3200" spc="-1" strike="noStrike">
              <a:solidFill>
                <a:srgbClr val="000000"/>
              </a:solidFill>
              <a:latin typeface="Arial"/>
            </a:endParaRPr>
          </a:p>
        </p:txBody>
      </p:sp>
      <p:sp>
        <p:nvSpPr>
          <p:cNvPr id="539" name=""/>
          <p:cNvSpPr txBox="1"/>
          <p:nvPr/>
        </p:nvSpPr>
        <p:spPr>
          <a:xfrm>
            <a:off x="457200" y="1500120"/>
            <a:ext cx="8229600" cy="45259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bsence of Trust</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willingness to be vulnerable in a group</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open and honest dialog</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willing to discuss mistakes and weaknesse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Great teams do not hold back with one another … They are unafraid to air their dirty laundry.  They admit their mistakes, their weaknesses, and their concerns without fear of repri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ssages from this Book</a:t>
            </a:r>
            <a:endParaRPr b="0" lang="en-US" sz="3200" spc="-1" strike="noStrike">
              <a:solidFill>
                <a:srgbClr val="000000"/>
              </a:solidFill>
              <a:latin typeface="Arial"/>
            </a:endParaRPr>
          </a:p>
        </p:txBody>
      </p:sp>
      <p:sp>
        <p:nvSpPr>
          <p:cNvPr id="541" name=""/>
          <p:cNvSpPr txBox="1"/>
          <p:nvPr/>
        </p:nvSpPr>
        <p:spPr>
          <a:xfrm>
            <a:off x="457200" y="150012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ear of Conflic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ing trust, real, unfiltered and passionate debate is not possibl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veiled discussions, passive sarcasm, and guarded comments, not effective argumen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we don’t trust one another, then we aren’t going to engage in open, constructive, ideological conflict.  And we’ll just continue to preserve a sense of artificial harmon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ssages from this Book</a:t>
            </a:r>
            <a:endParaRPr b="0" lang="en-US" sz="3200" spc="-1" strike="noStrike">
              <a:solidFill>
                <a:srgbClr val="000000"/>
              </a:solidFill>
              <a:latin typeface="Arial"/>
            </a:endParaRPr>
          </a:p>
        </p:txBody>
      </p:sp>
      <p:sp>
        <p:nvSpPr>
          <p:cNvPr id="543" name=""/>
          <p:cNvSpPr txBox="1"/>
          <p:nvPr/>
        </p:nvSpPr>
        <p:spPr>
          <a:xfrm>
            <a:off x="457200" y="150012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ack of Commit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ing open and honest debate and dialog, real understanding, buy-in and commitment to group decisions are imposs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n people don’t unload their opinions and feel like they’ve been listened to, they won’t really get on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ssages from this Book</a:t>
            </a:r>
            <a:endParaRPr b="0" lang="en-US" sz="3200" spc="-1" strike="noStrike">
              <a:solidFill>
                <a:srgbClr val="000000"/>
              </a:solidFill>
              <a:latin typeface="Arial"/>
            </a:endParaRPr>
          </a:p>
        </p:txBody>
      </p:sp>
      <p:sp>
        <p:nvSpPr>
          <p:cNvPr id="545" name=""/>
          <p:cNvSpPr txBox="1"/>
          <p:nvPr/>
        </p:nvSpPr>
        <p:spPr>
          <a:xfrm>
            <a:off x="457200" y="14097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voidance of Account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ing real group commitment, team members do not hold each other accoun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Once we achieve clarity and buy-in, it is then that we have to hold each other accountable for what we sign up to do, for high standards of performance and behavior. … most executives hate to do it … because they want to avoid interpersonal discom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ssages from this Book</a:t>
            </a:r>
            <a:endParaRPr b="0" lang="en-US" sz="3200" spc="-1" strike="noStrike">
              <a:solidFill>
                <a:srgbClr val="000000"/>
              </a:solidFill>
              <a:latin typeface="Arial"/>
            </a:endParaRPr>
          </a:p>
        </p:txBody>
      </p:sp>
      <p:sp>
        <p:nvSpPr>
          <p:cNvPr id="547" name=""/>
          <p:cNvSpPr txBox="1"/>
          <p:nvPr/>
        </p:nvSpPr>
        <p:spPr>
          <a:xfrm>
            <a:off x="457200" y="153936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nattention to Resul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ing trust, consensus, cohesion, and accountability, team members put their individual needs above the goals of the te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en everyone is focused on results and using those to define success, it is difficult for ego to get out of h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james.sroczynski</cp:lastModifiedBy>
  <cp:lastPrinted>2011-06-13T12:29:39Z</cp:lastPrinted>
  <dcterms:modified xsi:type="dcterms:W3CDTF">2014-01-09T21:53:01Z</dcterms:modified>
  <cp:revision>26</cp:revision>
  <dc:subject/>
  <dc:title>Leading with Impact </dc:title>
</cp:coreProperties>
</file>