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AB0AD-D076-4EF1-8277-8785962EE5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BDA0E-4A3A-42C1-99BB-139DD8366C7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0ED000-B45D-4DA2-8204-69A17363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EBD832-543D-4A4C-A1B3-0C5E6C95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80B179-5892-486C-B363-599E3728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15EEFB-14EE-4EA5-BDC3-4C3F2B50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048D42-5FDC-4348-B7D5-0A2393BF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F23C90-C749-4B6E-9310-8AF29102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08BF41-DCD2-41CB-BD9A-BBB983E9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33CA55-6269-4930-8B43-0B95BF93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747243-E1AF-42F5-97E2-A2BC0970C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853956-1F05-4E4E-97B4-C716B1CCF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E8B70-BFF2-4023-9140-C29D617608E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C79677-FDB3-448D-AB05-FA742C63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F85299-D106-4A7D-8798-2E0A8AE0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B4B625-BAC0-40CF-A79F-593A83E7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8FE256-9B47-4850-83F5-7DCD9014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FCDF5D-A1C1-42D9-8A2A-17C3D5A9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7C8234-53D8-4906-9287-816FBF1D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9B36D7-3504-42C5-9F9A-9ACDE7C5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BC1CB0-6A7B-42E1-BA75-CF1AC696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4FEC41-EBAB-42BA-9BB2-DFB55DDE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24CBC3-C380-43B0-98F0-40FBAD14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56095-1B28-4AA0-8E4A-95B67BAA16E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037382-33F0-43B1-A5CF-C45E7E9B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32EEA87-0177-4198-88A1-27B3860D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55E33B0-F994-4954-BF0C-9FD4A42E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B9DCBF4-21F0-42BE-BFA0-5B4B41A6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7612C1-7CBF-4E9F-8353-44AA97EB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CDCC5DA-E51B-4752-ACC7-C76C9724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AC2CB9D-0EFF-41DE-B01B-CDBB0877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557AB58-B7CE-471B-9492-CC368B21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C56200-EF85-4CB1-9B13-E0241811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915A476-D49A-41B5-945D-2EF75040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472EC-12E7-4EE4-A928-6A532D01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58B1982-0CB3-47D7-A8E9-FCAA75F9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90B518-18C9-4D3D-8764-5BF9AB683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A5D9C90-8B4F-44B5-944C-DA0AA1D2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5C79E6-4CD4-4BEE-9A03-88A0A55B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14FBA1-CB8B-4236-B65B-3328416C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B5FC7E-54E5-430C-B6CE-A20036F9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5FBDCA-80A8-48D8-A8E8-932AF475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CE5EA1-9101-4646-8709-EC2ABF39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A08B26-C0CB-48DA-B3D7-47B5AD46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C98323-3D62-493F-87D5-E47C413C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1CBBD-0915-4124-B38B-7D7DB652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813452-4A39-4DB8-9304-6267C10B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89CD12-6F83-4268-BF73-EE24D879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AD49DE-7A67-4D01-8F08-BDFEBF6F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15A296-0DF1-492A-86D6-4492232F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A76C4F-BF36-448D-94EA-2ABED016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9F8C7-0278-4A71-A382-4215B51C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0BEA2-52AD-4974-8C81-560DF135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05149-2283-4DE6-A637-7963E609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13E83-3D1E-4DD8-B949-A5B17A05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51783-0ED3-4AFB-BAC1-B6CFAC99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17878-641E-42D2-8AE1-55FAD70946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4988D-1C5E-4FD3-91D1-228C6A7B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DEC04-6111-4123-9824-CE4184CE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81E04-F930-4BE1-8801-7828CEFB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166B8-7C95-4765-8229-AD27E7D08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8DB57-7AC3-4FC4-BB8D-EA90AA470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E56849-21EC-4F67-AD65-1F2AF9C1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780746-2A1B-4D49-9B46-2505E95D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4C935F-1B59-4832-96E3-320FCB0B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38D021-F0DD-43A1-80AB-B5AC84AF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6CA329-757E-4AC9-AF29-B06C4411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0B3FB-C0D5-4242-BDE9-FF89C6B7861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C6090B-5DE9-4F72-8D62-E1AB7853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3D6FC5-0A50-4140-A2E7-2EFB56E3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B64B1F-944F-4819-8666-5ED32EED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7135A2-A3FC-4D05-A5F6-EDA90601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A04F6D-C727-4118-A534-E73C8FCD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BC787A-A2F3-451F-B43D-493EB522A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FAEC8F-0A20-43D9-B444-BC4E01C10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7167B8-E770-439B-B02A-C80B6157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074DAA-32F3-4D59-8EAD-D9BB86B7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ACF672-37AE-4ADA-B371-8FC69D77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53917-CA1A-463E-A73A-6ED8C40855A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B2DB1E-E87E-40F2-B5F1-63207682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66908E-E922-4EDE-9BE3-697BC6D3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52CE0B-8B19-45A4-929F-A6AC2BC6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461D72-F3FC-4D9D-B308-6598A0E0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0ED4AB-36AA-439A-A954-D8386924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A19666-FDA8-4DB5-92D6-37F7CF20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DC671A-885F-400F-958E-06DE382A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879B63-822F-4378-B862-ABF7C744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D3424C-4F15-4267-BC44-F7CC1A697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99E1F4-D22E-4B78-9AED-530128B6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89A95-920A-49E2-8FFD-473775CBBAD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D54A49-473D-4885-97D1-B332EBC1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ADF368-A63F-4D13-B5C1-E3FEC144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3CF1AF-9234-4D99-808C-EEAF6A83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21B9F3-2921-434F-BDB3-73E0963F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A1A88E-2141-43A1-BB9B-2124611B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FE3D99-48EB-4A85-BDE8-B71D6E16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F6851F-1371-4B1F-B0ED-F4D50242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0F3358-C4A4-43DF-9E2C-B9032D39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88E00F-6DCD-4C68-9B8D-F6318006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4F1BB0-729C-40F5-8538-2EDD807CD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031E8-6BD5-464F-A15C-74FCFEBBAA2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DF41DB-6D73-4049-BB3F-5B8E5748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1244F1-8D2B-4824-9456-6BF8BCA2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806FB8-C1E5-4A4A-A3CE-DF454170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3060C7-AFC0-40D6-B0C2-F73961F6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654FA8-04BD-4AA4-9CC5-27D5836C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0DA4B7-F7F9-4B59-844E-C4DF35D4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D0976A-431A-4AE9-B112-099F42B4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E351D9-A175-4981-983B-9AF774F1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52BDC3-2BC1-4134-9257-77A4F392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148768-8A7B-4E2D-82E3-D6AB670F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FB039-3A97-4BAB-BE34-8D02BB42324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30CC96-D479-4108-B461-45800A2F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3DDC71-A96F-4540-8403-3070FDEC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FA8986-D536-4F2C-8560-0FCA5B5A9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FB2DAF-0F1E-4DB7-A8BF-73E70ADF6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B33E18-C115-4CF2-A0CE-9D19C6DC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C6CB43-5C26-4D99-B16A-A4053259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11699C-6FBB-4433-884B-9CA70B37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5EC7CD-719F-4E12-B0E5-7EBA965A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5C65D0-AF8C-4D93-A699-AFCD70BF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F7864B-45F1-437E-951C-A9291E2B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85B51-65FA-43C8-A609-59262FFD73D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72F8D1-341A-4854-A1CA-BA959DA8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714593-3065-436B-B0C4-CD4224D0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B6CBB3-FE35-4C2A-94DC-45FAE029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0EF58E-E795-4AF4-A8C3-EF3BA268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D39076-7442-4053-85BE-1B21726C8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779346-DF3B-4669-8447-86D79DDC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D97FAE-A7FD-43E4-89EE-93EC7D99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42BBC7-B427-42E7-839B-E4D9D5EB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716BA5-2082-4FE7-A30E-7137B2DF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9B68C7-95C2-4EE0-8458-B45B2EF7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D31B1-7A3C-4692-AC98-6567AF1DCD6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C72D48-96E2-41C5-A059-8A63BF73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015DBB-1346-4249-966F-1C6B6814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7C301F-5720-4C3D-BAD6-C1926EDC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597BA1-21DF-4B16-B27F-8109AF01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D4826F-E53F-4C2C-8EEA-CB59EA2A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F8ABA1-66ED-40BA-A236-744B4A26C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73D0A8-43D4-4354-B242-6BC5CEE07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BE437B-FCDF-4428-8489-0599DE153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8EB0AE-ADC3-4878-BC66-F0E97621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83C078-FD78-4164-AE2C-3034B62C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6EA1D7-581F-4E57-8C00-FE239AB37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D13D31-4CF9-407C-9FE3-D451F76F39D7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25F2E3-82F3-4B53-B06D-BE76A0797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655C42-07CA-4ECC-A7B3-80324B665099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BEB1E8-8714-489C-ACEB-C68E18D44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7EB68A-C326-4FC1-B41D-A1AA2F20E8EC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63BA48-4375-4584-96AA-9FC207718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MA_ppt_wDUI_front_bkgrnd"/>
          <p:cNvPicPr/>
          <p:nvPr/>
        </p:nvPicPr>
        <p:blipFill>
          <a:blip r:embed="rId2"/>
          <a:srcRect l="242" t="0" r="826" b="846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COHORT Logo by Toby Cisneros 2 16 2010"/>
          <p:cNvPicPr/>
          <p:nvPr/>
        </p:nvPicPr>
        <p:blipFill>
          <a:blip r:embed="rId3"/>
          <a:stretch/>
        </p:blipFill>
        <p:spPr>
          <a:xfrm>
            <a:off x="609480" y="457200"/>
            <a:ext cx="3733920" cy="1919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3AF0AA-73EF-4317-927A-E58D5768FEAC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6365F3-3B91-48C5-A762-7224EDB00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CAED78-F1C1-4782-8DA1-FCF89D5C3556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6CD1CF-0A49-4090-B95E-B97607A7C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B2D367-343C-48E5-BD5B-7839120B5AEF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A9B212-9D06-4E18-9BF8-0096E5118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5BADA6-2A39-4914-B8AA-35FC53572DFF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44789A-8F20-4251-837E-758C2AF8E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689616-2AB6-4F10-AC3E-F75DA333A367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BF4F97-2425-4F5D-83B3-B461A6015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E121C2-4112-44CD-823E-1247F24CACE0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ACCB41-4FF9-4A9B-A022-C61EBA0E4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45ED70-B672-4407-9576-4F6FFB068217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E3C378-AAA5-4EDD-857B-31C2FB464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B60267-9FDA-458C-AC7B-D2E69013EC44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F45B0A-19BE-4170-BC9F-5C38F500A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G Senior Leadership Cohort Program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OPM Seal"/>
          <p:cNvPicPr/>
          <p:nvPr/>
        </p:nvPicPr>
        <p:blipFill>
          <a:blip r:embed="rId1"/>
          <a:stretch/>
        </p:blipFill>
        <p:spPr>
          <a:xfrm>
            <a:off x="3886200" y="32767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7"/>
          <p:cNvSpPr/>
          <p:nvPr/>
        </p:nvSpPr>
        <p:spPr>
          <a:xfrm>
            <a:off x="105552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Book Review – (Samp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actice of Adaptive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s:  Ron Heifetz and Marty Lin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Content Placeholder 6" descr="41FMIpGQe+L._SL500_AA300_.jpg"/>
          <p:cNvPicPr/>
          <p:nvPr/>
        </p:nvPicPr>
        <p:blipFill>
          <a:blip r:embed="rId1"/>
          <a:srcRect l="0" t="-6022" r="0" b="-602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Messages from this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I Would Like To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his Book Meant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Your 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2:32:45Z</dcterms:created>
  <dc:creator>Trish Mooney</dc:creator>
  <dc:description/>
  <dc:language>en-US</dc:language>
  <cp:lastModifiedBy>Claire  Meany</cp:lastModifiedBy>
  <cp:lastPrinted>2011-06-13T12:29:39Z</cp:lastPrinted>
  <dcterms:modified xsi:type="dcterms:W3CDTF">2013-06-11T11:09:31Z</dcterms:modified>
  <cp:revision>12</cp:revision>
  <dc:subject/>
  <dc:title>Leading with Impact </dc:title>
</cp:coreProperties>
</file>