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7" name="PlaceHolder 2"/>
          <p:cNvSpPr>
            <a:spLocks noGrp="1"/>
          </p:cNvSpPr>
          <p:nvPr>
            <p:ph type="dt" idx="3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99E523-7082-4AD8-9210-0ED71120D552}"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5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5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0" name="PlaceHolder 5"/>
          <p:cNvSpPr>
            <a:spLocks noGrp="1"/>
          </p:cNvSpPr>
          <p:nvPr>
            <p:ph type="ftr" idx="3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1" name="PlaceHolder 6"/>
          <p:cNvSpPr>
            <a:spLocks noGrp="1"/>
          </p:cNvSpPr>
          <p:nvPr>
            <p:ph type="sldNum" idx="3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719845-CF80-4B38-9A3D-F5185AE08E3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3ED567-CF2A-4BD8-A088-98256780C2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646074-38A5-46AE-BB3F-EE00402C1F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rry Dobbs  - President &amp; Publisher of the Dobbs Publish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ackie Robinson – Baseball Lege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os Weston – Chairman &amp; CEO of Automatic Data Processing, Inc.</a:t>
            </a: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BF5946-3974-4172-9488-DABF2DEEC7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3535F7-0CF9-471F-844B-97007B1AC3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D4F47F-CC11-42E2-B609-93A3C60C561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0A8098B-73D3-4D17-9BE3-97C198704F9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42C454B-11AB-4083-9CA4-F450B82D67F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E5AF8C5-634D-4907-B88D-5F10CE52C95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792252B-579E-49AA-B4B3-1019CD6A7FD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DA6B2A8-2DEF-4F75-B908-6594C7D0511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86AE3A5-C7BA-4892-8B65-687869AFDB9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5FF7110-CBD1-4798-B908-DDF961BAE55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76157FB1-37F9-4F84-AB4D-B981B9343696}"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955AD386-4DA6-4039-A223-F50FC47BD71C}"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2AE35750-C834-422F-920B-06A0076B7F1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253819-B13D-4D50-A999-F15337FA104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2E3028A-2323-40A8-B77B-6A3600A77AD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8E7BF4E-2848-4208-82D5-AFF0CBF0986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FE73133-D729-4580-899A-C92890AD815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740C076-F685-4ED1-8214-957BD311F6E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03C3ACD-E94B-44D6-9D99-3CD69CC2B52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8BE7D21-618F-4929-A050-9C83DE130B9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C0D79B4-0FE6-4396-917F-226C838B069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ADDE12C-37A3-4354-BF3F-6570B2B27C2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33726F9-4F81-4675-9D64-69886D376D6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58C386B8-DB5B-4EE8-98BE-5BB153D99CC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3CAE46-7C40-4D2A-B6E6-0CF61F93F10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8CCC63CE-056F-4200-BE5C-F472C1DFB20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7B2A07F6-43E8-4F08-9995-D98B5D44E3A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2C78C4D-F5D6-4E36-92B5-7B102910F2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4C9AA6F-BB7F-4315-A51C-502F6E4D30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4C3AC41-8DE2-43DE-A40C-ACC5D663A9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CD8D90C-FA62-4054-8463-20FA4B9900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295BA9C0-FDF2-457D-9CE4-FE44DEE4F0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47CF2B2-6236-4A89-B8A1-28DFEA4E5B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FDF047E-F1B6-479A-BD2F-864F13B745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67D0513-2F7D-45B9-A12E-7BAA4E7E2E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A26792B-FEC7-4725-97C7-AFC224F003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1C71761-F4D0-44E2-BB1E-F52D687DD7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099D3741-BF08-42C5-B38B-226ACDFC033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2C332CC8-8161-43EE-BE73-EA3AAB1CAC0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434EE6BA-9B83-4254-8028-ACBE97031C7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9AFAE71-9FDF-4F00-8674-69B75DC453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2E8FEAB-6FFB-4185-B332-952FBF3998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3EBB0B2-177C-490D-8691-52F6BCBA84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B0594E4-26D8-47DC-8B33-CABF98EE9D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4CCB5AA-8119-447E-99F4-CD9C0A033F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3902DF4-9A0A-4515-B93A-1FEEC572E4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C48AF21-1B99-476F-BF90-4290CFF125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E832D3D-C70B-4E22-B321-B856B64FD2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A646AF4-9720-4F2F-8FA0-5861E03663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CA3A00D-84D7-4CA0-BF3F-17EB6DABD6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7A7B0D0C-0499-4636-A20C-650EA63349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6D75BE06-CCD2-4298-998F-06FA1E54F08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179CAEA-CE69-4812-950E-7A73381549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EADEC15-8561-4D8D-A559-0F83963690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8AF1B1D-7A33-466E-86AE-CA9BA9B99F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587F3DB-62DF-4D73-BA79-803EB1AEAA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EDDEE5-2102-4650-A2F3-3E554536B4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97590-63F4-4100-B910-F2932108C4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005DDB-0C41-4365-ABF7-5DE03EB514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8374F3-0286-49D1-843A-AAC41AE037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A2065FE-9F1E-4EF6-9B24-6546247FB4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DE10FB6-120F-4E98-BDD9-72621643FCE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B069DF1-6017-40BB-801A-D72ED1A2017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B93EFF0-6133-4A64-A4A9-04E0BCAA921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8ED2523-D1BD-4A5A-A7B1-7266C530649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3DCC9AD-B9CB-4A91-A65C-A13386A7E39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BEE4DA0-3EB5-4CF0-A7F5-C2BF6F55276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307B5B5-EDA5-4E01-A6B0-3A96A216F6D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89EC9-AD6E-4CB5-8191-F5932DB5838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8EAE20F-950C-4ABE-8F88-AB37CE6D819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6C75646-2B07-48E6-A595-EC15C3957A7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28C4AA4-32E0-4DC0-A19C-6B6DAAADF86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C124256-C17C-4380-A923-8D08C1A1414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449A7EB-F203-4CD4-AD18-43A9ED494FD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F813BA4-9A7E-44E6-8709-154D4BD1D8C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31BB583-6283-467F-B9D5-15DD80C6CF7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969AD2F-9CD1-4B19-9D4B-517DBD4F4A6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2C3BF84-AB90-40E6-A978-1213482DC27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087A500-08F9-4863-950F-36401A8DB2D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286894-6909-44AC-BF8C-5ACA2C89891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8BA4FE0-82F7-42FC-938B-3DAC2AA95AD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7D81FD2-B1F1-4827-B64B-169F8CC1584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C62D4F2-7069-452C-B2AB-CDDB1C0AE27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E74F14E-7BC8-45A3-9A30-9DB5B918F32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8218A2F-3173-4FA8-9046-DE908F2628F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8762EF4-8071-4F34-9EE9-B1BA694CD98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AB4C50A-4BFA-441F-AE67-6D1A57A797B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764B4EC-0D62-4E0A-A3ED-02B991329F2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7F04454-336F-4298-8AF4-C5DC6CCBB24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1C1D291-BF3D-478D-9D6B-993456F2DFB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C80CF89B-A987-454B-96CB-DDC7DA0B62F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6644AB9-B99B-4557-BDB4-8CE5D3A5443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7CD27A4-77FC-4518-81B8-8243F917E85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55E75BA-FE52-43FE-B1E8-8ADD56C60DB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2218E6B-A91D-49A4-8A59-1003F79D0A1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8C15918-C132-4E51-9B88-CFB49F2B8BF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CABAE35-CF5C-4850-84F2-15CB35E4E6B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7C835AB-45CD-4E2C-B0C8-05A79AFD991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AD8456F-6D79-4C34-BE55-D4F5E3C382B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94F30BF-F620-4D90-A9C0-DF4882202AB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2150080-9412-4DA8-8452-217D1FF8653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00EE8D7-5720-4CAE-8794-16A8B6EBDEC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70C4983-335F-4CC9-9E0C-3E8A0DA8B78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610A697-F3A9-4EF8-917A-F133AB713EA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27CA865-33EF-42E2-A40F-5E2ECD327DB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9F9B142-77D7-453C-9CEB-3573F74EB8E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7B4B6E9-5833-45F0-8EFA-B068EC8372B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202EB6B-856D-4B37-B4D0-6E73FAE2461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34134FC-2703-4232-82CC-21BFA2CA498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3D7F2EF-2B94-4E7A-9789-BE4D2809FD0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9D67EBB-0C77-4F73-BF95-054FF1789F0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431DE48-5429-431E-82C9-D77FA4F8839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0252F1-179F-4FC1-B0C5-3013B5F6B04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B0BDCFD-0BD2-42FA-BE41-CADF1767792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BE4D10F-2D7A-4B2A-BC58-5F07FCF9E2C3}"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34CEA3F-0137-4F91-A2E1-545C21E57048}"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EC6A5D1-5A7D-4701-806A-32F33367CD6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5C7E57E-A65E-4237-B8BA-E26DB5CBD47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F9CF6AA-238E-47BF-829F-BA28D68DDA7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8044CA0-2353-488C-9158-8C501536686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3909E33-D36C-42C6-A24A-5D272D96D54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E12DE1E-79F9-4BC9-8C3F-09464014CDF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9C0DD8B-03F4-48C5-9722-D0AF25846B8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5D4D96-1183-4DE7-8F1C-3494367E22D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1FE0FF2-8C2B-4AC3-A095-61140D6FBC1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FF80FD0-62A1-42C6-BAA5-AF5CC97BAEC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83957BD-8A85-4428-B375-8DD942580EA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683F0A2-D017-4EC9-9014-2ABADB2C8EA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0E7488A-0AB1-4B24-8E9F-07E10F44F879}"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6BC1CC1-2B17-48D0-AF10-996676ACDE9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2BA5107-2CD5-4D2A-8083-36E42E8AD77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E015601-1330-4E65-AC32-A19AC9A72D1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80F1BB4-27F5-4279-8C2A-DE602FEDB2F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A2EB6AB-0F1F-4953-B928-10804489B8F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9B3B7D-3C49-4F8F-A88B-A9F03127E81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39296EA-6212-405F-892D-2BCF9B9EFFD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C680DDE-267D-492D-877B-DF4B96DBFF9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CBA1D43-6D67-45ED-8BD3-03C223F6C9C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0033533-7003-47BC-A5E7-1FD337ADF30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C686E82-8826-4FD5-8654-74826356625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0EB5953-DBF5-4CDD-939A-34F24B5B0BFA}"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DEC4BD2-5783-4CA6-BE3B-84B20406CEB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076B7A49-CC2E-4831-B6B9-235A2DEC36B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513AC75-8224-4DEC-8D23-13D3475EAE9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4FACCA8-E75B-4D55-A66F-EBBB62ED85EB}"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B4839A-FEC9-4E96-807B-18CA4B0E21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BF1F64-CAB5-4231-8261-AE6A28EB4135}"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3CBCEA-3C86-48DA-A062-2653F8EB48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5B997A-0B63-46C7-A6D3-4C57D6F35661}"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2BCB52-C664-4BB0-8C13-197C2F1FEB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B68F70-15D5-476B-A9CF-99CF50BC09A3}"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5A8706-BC1E-4BA8-BF07-5A2E4CB432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A7807E-1DEA-4F37-982A-71D22C95964B}"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796795-94EF-4065-9906-20FA1DD2BA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5B4575-B72D-4CD2-B731-9EAE6148BF9F}"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433CC2-A17B-4974-9297-A8829C7430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7A186D-0875-467C-8E20-A34B1BDC7CE2}"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8D293E-8DD6-468F-93BB-2C69A47A5B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7BEC5B-EE4C-4C44-A438-D7C5C6B542DA}"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46967C-0590-4931-846A-CA4D5FCAEB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5B69C9-D440-4191-9190-D13CF8BB6B4C}"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BD5A55-14E7-479E-BD6D-EDC532C035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37639C-AA4F-4957-BC0F-DD2FE63A9183}"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4C1AF7-2320-4970-826B-2A4E07F18A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A3A65E-33B7-4B4A-8AFD-2DA20DA5FA37}"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F0C632-A1AC-474A-A6A5-82D4391121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DF0A63-838C-46AD-A6C1-D7CC18504364}"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88FD26-5FDA-4DB2-B0F2-428615B4A8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3</a:t>
            </a:r>
            <a:endParaRPr b="0" lang="en-US" sz="2800" spc="-1" strike="noStrike">
              <a:solidFill>
                <a:srgbClr val="000000"/>
              </a:solidFill>
              <a:latin typeface="Arial"/>
            </a:endParaRPr>
          </a:p>
        </p:txBody>
      </p:sp>
      <p:sp>
        <p:nvSpPr>
          <p:cNvPr id="533"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Present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honda Smith</a:t>
            </a:r>
            <a:endParaRPr b="0" lang="en-US" sz="3200" spc="-1" strike="noStrike">
              <a:solidFill>
                <a:srgbClr val="000000"/>
              </a:solidFill>
              <a:latin typeface="Arial"/>
            </a:endParaRPr>
          </a:p>
        </p:txBody>
      </p:sp>
      <p:pic>
        <p:nvPicPr>
          <p:cNvPr id="534" name="Picture 4" descr="OPM Seal"/>
          <p:cNvPicPr/>
          <p:nvPr/>
        </p:nvPicPr>
        <p:blipFill>
          <a:blip r:embed="rId1"/>
          <a:stretch/>
        </p:blipFill>
        <p:spPr>
          <a:xfrm>
            <a:off x="3886200" y="3276720"/>
            <a:ext cx="1371600" cy="1371600"/>
          </a:xfrm>
          <a:prstGeom prst="rect">
            <a:avLst/>
          </a:prstGeom>
          <a:ln w="0">
            <a:noFill/>
          </a:ln>
        </p:spPr>
      </p:pic>
      <p:sp>
        <p:nvSpPr>
          <p:cNvPr id="535"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 – (Sample)</a:t>
            </a:r>
            <a:endParaRPr b="0" lang="en-US" sz="2800" spc="-1" strike="noStrike">
              <a:solidFill>
                <a:srgbClr val="000000"/>
              </a:solidFill>
              <a:latin typeface="Arial"/>
            </a:endParaRPr>
          </a:p>
        </p:txBody>
      </p:sp>
      <p:sp>
        <p:nvSpPr>
          <p:cNvPr id="53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coming a Person of Influ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John C. Maxwell</a:t>
            </a:r>
            <a:endParaRPr b="0" lang="en-US" sz="2800" spc="-1" strike="noStrike">
              <a:solidFill>
                <a:srgbClr val="000000"/>
              </a:solidFill>
              <a:latin typeface="Arial"/>
            </a:endParaRPr>
          </a:p>
        </p:txBody>
      </p:sp>
      <p:pic>
        <p:nvPicPr>
          <p:cNvPr id="538" name="" descr=""/>
          <p:cNvPicPr/>
          <p:nvPr/>
        </p:nvPicPr>
        <p:blipFill>
          <a:blip r:embed="rId1"/>
          <a:stretch/>
        </p:blipFill>
        <p:spPr>
          <a:xfrm>
            <a:off x="4648320" y="1600200"/>
            <a:ext cx="4038480" cy="4525920"/>
          </a:xfrm>
          <a:prstGeom prst="rect">
            <a:avLst/>
          </a:prstGeom>
          <a:ln w="0">
            <a:noFill/>
          </a:ln>
        </p:spPr>
      </p:pic>
      <p:pic>
        <p:nvPicPr>
          <p:cNvPr id="539" name="Picture 2"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pic>
        <p:nvPicPr>
          <p:cNvPr id="541" name="Content Placeholder 11" descr=""/>
          <p:cNvPicPr/>
          <p:nvPr/>
        </p:nvPicPr>
        <p:blipFill>
          <a:blip r:embed="rId1"/>
          <a:stretch/>
        </p:blipFill>
        <p:spPr>
          <a:xfrm>
            <a:off x="96840" y="1152360"/>
            <a:ext cx="9102600" cy="5619960"/>
          </a:xfrm>
          <a:prstGeom prst="rect">
            <a:avLst/>
          </a:prstGeom>
          <a:ln w="0">
            <a:noFill/>
          </a:ln>
        </p:spPr>
      </p:pic>
      <p:grpSp>
        <p:nvGrpSpPr>
          <p:cNvPr id="542" name="Group 7"/>
          <p:cNvGrpSpPr/>
          <p:nvPr/>
        </p:nvGrpSpPr>
        <p:grpSpPr>
          <a:xfrm>
            <a:off x="2757600" y="2879640"/>
            <a:ext cx="8048520" cy="3171960"/>
            <a:chOff x="2757600" y="2879640"/>
            <a:chExt cx="8048520" cy="3171960"/>
          </a:xfrm>
        </p:grpSpPr>
        <p:sp>
          <p:nvSpPr>
            <p:cNvPr id="543" name="Rectangle 8"/>
            <p:cNvSpPr/>
            <p:nvPr/>
          </p:nvSpPr>
          <p:spPr>
            <a:xfrm>
              <a:off x="2757600" y="2879640"/>
              <a:ext cx="3628800" cy="110016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Rectangle 9"/>
            <p:cNvSpPr/>
            <p:nvPr/>
          </p:nvSpPr>
          <p:spPr>
            <a:xfrm>
              <a:off x="7177320" y="4951440"/>
              <a:ext cx="3628800" cy="1100160"/>
            </a:xfrm>
            <a:prstGeom prst="rect">
              <a:avLst/>
            </a:prstGeom>
            <a:noFill/>
            <a:ln w="0">
              <a:noFill/>
            </a:ln>
          </p:spPr>
          <p:style>
            <a:lnRef idx="0"/>
            <a:fillRef idx="0"/>
            <a:effectRef idx="0"/>
            <a:fontRef idx="minor"/>
          </p:style>
          <p:txBody>
            <a:bodyPr lIns="68760" rIns="68760" tIns="68760" bIns="68760" anchor="ctr">
              <a:noAutofit/>
            </a:bodyPr>
            <a:p>
              <a:pPr lvl="1" marL="171360" indent="-171360">
                <a:lnSpc>
                  <a:spcPct val="90000"/>
                </a:lnSpc>
                <a:spcAft>
                  <a:spcPts val="337"/>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a:p>
              <a:pPr lvl="1" marL="171360" indent="-171360">
                <a:lnSpc>
                  <a:spcPct val="90000"/>
                </a:lnSpc>
                <a:spcAft>
                  <a:spcPts val="337"/>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a:p>
              <a:pPr lvl="1" marL="171360" indent="-171360">
                <a:lnSpc>
                  <a:spcPct val="90000"/>
                </a:lnSpc>
                <a:spcAft>
                  <a:spcPts val="337"/>
                </a:spcAft>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800" spc="-1" strike="noStrike">
                  <a:solidFill>
                    <a:srgbClr val="000000"/>
                  </a:solidFill>
                  <a:latin typeface="Arial"/>
                  <a:ea typeface="ＭＳ Ｐゴシック"/>
                </a:rPr>
                <a:t>Reproduce</a:t>
              </a:r>
              <a:endParaRPr b="0" lang="en-US" sz="1800" spc="-1" strike="noStrike">
                <a:solidFill>
                  <a:srgbClr val="000000"/>
                </a:solidFill>
                <a:latin typeface="Arial"/>
              </a:endParaRPr>
            </a:p>
          </p:txBody>
        </p:sp>
      </p:grpSp>
      <p:sp>
        <p:nvSpPr>
          <p:cNvPr id="545" name="TextBox 10"/>
          <p:cNvSpPr/>
          <p:nvPr/>
        </p:nvSpPr>
        <p:spPr>
          <a:xfrm>
            <a:off x="3840120" y="861840"/>
            <a:ext cx="4363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LEVELS OF  INFLU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47" name=""/>
          <p:cNvSpPr txBox="1"/>
          <p:nvPr/>
        </p:nvSpPr>
        <p:spPr>
          <a:xfrm>
            <a:off x="0" y="1254240"/>
            <a:ext cx="9144000" cy="56037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a:t>
            </a:r>
            <a:endParaRPr b="0" lang="en-US" sz="24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grity - the quality most needed to succeed in business. It is the foundation upon which many other qualities are built, such as respect, dignity, and trust.  If the foundation of integrity is weak or fundamentally flawed, then being a person of influence becomes impossible.</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ATE</a:t>
            </a:r>
            <a:endParaRPr b="0" lang="en-US" sz="24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urture -  a nurturing influencer is a giver.  They create an environment where people can flourish.  They learn to be open-minded. Instead of thinking of themselves, they put others first. Instead of putting others in their place, they try to put themselves in others place, which is not always easy. </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ith – believing in people before they have proved themselves . To help people believe they can achieve victory, you have to put them in a position to experience small successes. When you put faith in others, you help them reach their potential.</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9" name=""/>
          <p:cNvSpPr txBox="1"/>
          <p:nvPr/>
        </p:nvSpPr>
        <p:spPr>
          <a:xfrm>
            <a:off x="0" y="1306080"/>
            <a:ext cx="9144000" cy="5551560"/>
          </a:xfrm>
          <a:prstGeom prst="rect">
            <a:avLst/>
          </a:prstGeom>
          <a:noFill/>
          <a:ln w="0">
            <a:noFill/>
          </a:ln>
        </p:spPr>
        <p:txBody>
          <a:bodyPr anchor="t">
            <a:normAutofit/>
          </a:bodyPr>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sten –  is wanting to hear. To become a good listener, you have to want to hear.  If you show people how much you care and ask questions in a nonthreatening way, you will be amazed by how much they tell you.</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derstand -  the ability to understand people is a choice.  Knowing what people need and want is the key to understanding them.  Once you understand people and believe in them,  they really can become somebody.  Find out what people want and then help them get it.  That’s what motivates them.</a:t>
            </a:r>
            <a:endParaRPr b="0" lang="en-US" sz="1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NTOR</a:t>
            </a:r>
            <a:endParaRPr b="0" lang="en-US" sz="24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large –  evaluating the potential of others. You have to be selective, because you can’t take the time to enlarge everybody, as it’s too involved a process. Try to discern what people are capable of doing, look for the spark of greatness. However, you should try to be a model of integrity to all people. Enlarging has long-term benefits.  When you enlarge people, you increase the potential of your organization. </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1" name=""/>
          <p:cNvSpPr txBox="1"/>
          <p:nvPr/>
        </p:nvSpPr>
        <p:spPr>
          <a:xfrm>
            <a:off x="0" y="1324080"/>
            <a:ext cx="9144000" cy="5533920"/>
          </a:xfrm>
          <a:prstGeom prst="rect">
            <a:avLst/>
          </a:prstGeom>
          <a:noFill/>
          <a:ln w="0">
            <a:noFill/>
          </a:ln>
        </p:spPr>
        <p:txBody>
          <a:bodyPr anchor="t">
            <a:normAutofit/>
          </a:bodyPr>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vigate – You have to help people find their way, spot icebergs, and weather the stormy seas, and you have to take the trip with them, at least until they’re on the right course and can learn to navigate on their own.</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nect –  you can connect with people and lead them only if you value them. Be positive and try to see things from the other person’s point of view.  Being open and likable is half the battle. Use the feel, felt, found approach to help them relate to you. Being genuine is the single most important factor when communicating with others.</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mpower –  seeing people’s potential, sharing your resources with them, and showing them you believe in them completely. When you empower people you’re not influencing just them; you’re influence all people they influence. Many people neglect to empower others because they are insecure. They don’t want to be replaced.  As long as you continue to grow and develop yourself, you’ll always have something to give and you won’t need to worry about being displaced. Empowering others can free you for more time for more important things in your organization.</a:t>
            </a:r>
            <a:endParaRPr b="0" lang="en-US" sz="1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3" name=""/>
          <p:cNvSpPr txBox="1"/>
          <p:nvPr/>
        </p:nvSpPr>
        <p:spPr>
          <a:xfrm>
            <a:off x="-360" y="1282320"/>
            <a:ext cx="8991720" cy="55753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TIPLY</a:t>
            </a:r>
            <a:endParaRPr b="0" lang="en-US" sz="24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produce -  teaching others to become leaders is like handing of the baton in a relay race.  If you run well and are unable to pass the baton to another runner, you lose the race.  If you run well, recruit and train other good runners, and learn to hand off the baton smoothly, you can win.  Reproducing leaders ensures a positive strong future for your organizatio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55" name=""/>
          <p:cNvSpPr txBox="1"/>
          <p:nvPr/>
        </p:nvSpPr>
        <p:spPr>
          <a:xfrm>
            <a:off x="0" y="1241280"/>
            <a:ext cx="9144000" cy="5616720"/>
          </a:xfrm>
          <a:prstGeom prst="rect">
            <a:avLst/>
          </a:prstGeom>
          <a:noFill/>
          <a:ln w="0">
            <a:noFill/>
          </a:ln>
        </p:spPr>
        <p:txBody>
          <a:bodyPr anchor="t">
            <a:normAutofit/>
          </a:bodyPr>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t>
            </a:r>
            <a:r>
              <a:rPr b="0" lang="en-US" sz="2300" spc="-1" strike="noStrike">
                <a:solidFill>
                  <a:srgbClr val="000000"/>
                </a:solidFill>
                <a:latin typeface="Arial"/>
              </a:rPr>
              <a:t>A leader is one who sees more than others see, who sees farther than others see, and who sees before others do.”</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t>
            </a:r>
            <a:r>
              <a:rPr b="0" lang="en-US" sz="2300" spc="-1" strike="noStrike">
                <a:solidFill>
                  <a:srgbClr val="000000"/>
                </a:solidFill>
                <a:latin typeface="Arial"/>
              </a:rPr>
              <a:t>A great man shares his greatness by the way he treats little men.”</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nytime you devalue people, you question God’s creation of them.”</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t>
            </a:r>
            <a:r>
              <a:rPr b="0" lang="en-US" sz="2300" spc="-1" strike="noStrike">
                <a:solidFill>
                  <a:srgbClr val="000000"/>
                </a:solidFill>
                <a:latin typeface="Arial"/>
              </a:rPr>
              <a:t>You cannot antagonize and influence at the same time.”</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reat  a man as he appears to be and you make him worse.  But treat a man as if he already were what he potentially could be, and you make him what he should be.”</a:t>
            </a:r>
            <a:endParaRPr b="0" lang="en-US" sz="23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57" name=""/>
          <p:cNvSpPr txBox="1"/>
          <p:nvPr/>
        </p:nvSpPr>
        <p:spPr>
          <a:xfrm>
            <a:off x="0" y="1282680"/>
            <a:ext cx="9144000" cy="6742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 Your Story:</a:t>
            </a:r>
            <a:endParaRPr b="0" lang="en-US" sz="32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500" spc="-1" strike="noStrike">
                <a:solidFill>
                  <a:srgbClr val="000000"/>
                </a:solidFill>
                <a:latin typeface="Arial"/>
              </a:rPr>
              <a:t>This book teaches me to:</a:t>
            </a:r>
            <a:endParaRPr b="0" lang="en-US" sz="2500" spc="-1" strike="noStrike">
              <a:solidFill>
                <a:srgbClr val="000000"/>
              </a:solidFill>
              <a:latin typeface="Arial"/>
            </a:endParaRPr>
          </a:p>
          <a:p>
            <a:pPr lvl="2" marL="1143000" indent="-228600">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velop my leadership potential, as I can’t produce what I don’t have.</a:t>
            </a:r>
            <a:endParaRPr b="0" lang="en-US" sz="2100" spc="-1" strike="noStrike">
              <a:solidFill>
                <a:srgbClr val="000000"/>
              </a:solidFill>
              <a:latin typeface="Arial"/>
            </a:endParaRPr>
          </a:p>
          <a:p>
            <a:pPr lvl="2" marL="1143000" indent="-22860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1143000" indent="-228600">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velop people to the point that they eventually surpass me in knowledge and ability.</a:t>
            </a:r>
            <a:endParaRPr b="0" lang="en-US" sz="2100" spc="-1" strike="noStrike">
              <a:solidFill>
                <a:srgbClr val="000000"/>
              </a:solidFill>
              <a:latin typeface="Arial"/>
            </a:endParaRPr>
          </a:p>
          <a:p>
            <a:pPr lvl="2" marL="1143000" indent="-22860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1143000" indent="-228600">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duce more leaders, not more followers. </a:t>
            </a:r>
            <a:endParaRPr b="0" lang="en-US" sz="2100" spc="-1" strike="noStrike">
              <a:solidFill>
                <a:srgbClr val="000000"/>
              </a:solidFill>
              <a:latin typeface="Arial"/>
            </a:endParaRPr>
          </a:p>
          <a:p>
            <a:pPr lvl="2" marL="1143000" indent="-22860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1143000" indent="-228600">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lant seeds for greater success.</a:t>
            </a:r>
            <a:endParaRPr b="0" lang="en-US" sz="2100" spc="-1" strike="noStrike">
              <a:solidFill>
                <a:srgbClr val="000000"/>
              </a:solidFill>
              <a:latin typeface="Arial"/>
            </a:endParaRPr>
          </a:p>
          <a:p>
            <a:pPr lvl="2" marL="1143000" indent="-228600">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1143000" indent="-228600">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tinue to live with integrity and passion.</a:t>
            </a:r>
            <a:endParaRPr b="0" lang="en-US" sz="2100" spc="-1" strike="noStrike">
              <a:solidFill>
                <a:srgbClr val="000000"/>
              </a:solidFill>
              <a:latin typeface="Arial"/>
            </a:endParaRPr>
          </a:p>
          <a:p>
            <a:pPr lvl="1"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rhonda.smith9</cp:lastModifiedBy>
  <cp:lastPrinted>2011-06-13T12:29:39Z</cp:lastPrinted>
  <dcterms:modified xsi:type="dcterms:W3CDTF">2013-11-17T21:21:46Z</dcterms:modified>
  <cp:revision>93</cp:revision>
  <dc:subject/>
  <dc:title>Leading with Impact</dc:title>
</cp:coreProperties>
</file>