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89A4A-5653-4D04-A1F2-D95FC6EA1B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C58CB-B3D1-4A9E-BA68-CA8541D8A48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F16ED9D-61F9-47BA-B4CF-03E3D86BBB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30DFB6E-DF3B-4628-BDFB-D9D20DC2991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D9E62BE-9EF1-466A-AB95-0B21FC54FE7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119AA64-15D0-44DD-8D1C-7DBD656551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E86A5E4-CFB4-453F-8BB9-F7DD73F74D8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B4B934-B8F8-4214-859A-F0FEB1F6017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5A0E30B-C18D-4F28-B569-B45AD83D7DF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1410679-2363-4171-B4E3-A0282F5294A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E267FCE-8BE7-4B14-99AB-BD06C523303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FDAEC47-D1CA-40D1-8AA4-2D4FAC6BF93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DD7306-D2EF-423B-BBEA-2CF794D8B97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DE1CFE6-ECF2-40A1-BE0E-C9CD925F5E4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8E3DDD8-5461-4DC0-8093-F2FF5325EDD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0492D78-71A0-452B-B395-0DA2CB5BE3E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77A9EC5-2BB2-4CC7-83CA-ABAF6004AA6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70146D6-D0F5-4A07-BC05-FA97B01F3D7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4B12133-4F2E-46CA-96A0-8E2FEBC459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26E5ACB-7648-4EA6-BA6D-352B2E841B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DEE948B-8227-479C-87F1-739ABC56C8C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809558F-3405-4599-AB42-908FF49D72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7C36B8A-9DBB-4436-9FB7-9C6AC915A28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6D47EE-42C5-4F93-A7D5-A7895684758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83383E5-81BF-49CE-8F4C-E94FE2C29FF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CBC19FC-775C-409D-96DC-C4D2AEA327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CD1E9FF-6A6B-497F-B4C6-73CB4289C2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F096B68-DC92-4B08-86AF-AB2BC816FA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5A50CE3-3C5D-4233-82C5-591696BD5A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1DB5108-F983-4B06-B2C6-F1B1404BA8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BF2E13D-F5C7-4DD0-B3EB-68C60D4018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8F232F3-0DCA-4106-8CCC-9B77E569BC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1329249-C39D-4042-82B8-FDE82C4378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5634A24-D3D9-4C8A-8D31-659714C553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30DF29-D2B6-4500-A6CE-969A07D1A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08065A4-2DEB-4E8A-BDFD-3BCE547056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4360865-747F-4483-BF67-C9D5666B50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6D315C0-5139-4B61-BF69-4309DA24F2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BB6D1D2-DEB2-4487-9F7C-3B4E87C3C8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C14100C-492D-4F36-83FA-C34CDB79CA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BFA88A0-303C-4AD5-BFE7-EC0FEF3B67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C8540C2-FB75-43FA-823C-77A939C2D7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91A0F89-BE7E-4361-81DB-593B2C1CBE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A5D37EB-4F1A-4072-B09A-A34B7392CA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02A4357-F4A0-4D64-A18F-1E6460659C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3E5F5F-D31A-427F-8E6E-5A3AE1E90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B274DAF-49A1-4F3D-8BEB-582DE9598C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7BC65CD-8A23-4FD7-9092-DB255CD89C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5A10176-CF42-4A14-8651-9412678C87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095959D-72A9-4DE9-80F4-FE88FD5A82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D573958-2066-4FBA-B571-C077C2A132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29C64F-3097-45BE-ACA6-D56CAEA56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DC42F5-9586-4048-AB19-98A0F7234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CC26E5-1649-4875-B41B-CB4907582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B21D8E-5880-4F68-A1EB-A399D2E71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A9B46D-C2FC-415E-BBF5-E150652794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A5123-DAAF-46D1-99C7-F6CD2BC5A1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5468C2-AF67-4BD0-8457-DD9316491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747B38-5C92-4E9F-A2FF-F82F076BF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B71200-16BD-404A-B5EB-F9DC6031F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83C7E3-FC20-4462-82D4-839236D1526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4BA144-4B25-44B7-A403-9C2EBDC49BB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BE7FB48-7A7E-4E03-A065-97F420F8DC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6A6E21B-F5EA-4ED4-8195-AFD3002922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11BD5F3-9FA2-4653-B5FC-5E4433D325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8FCD96-A25E-4E3A-9AF5-64B7A0E9E8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4781AF8-0BB1-4D02-8375-1048396E60C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4F38-5E05-4FBF-B172-6B925F2F78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590E9DD-420D-4432-A5FC-7FFA88DBFEE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2F55D0-3B91-4CB1-AC31-6CBEFF6C0A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BD87A71-15D2-4919-ABA8-536D9A0E10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C539A9-6611-43A6-82B2-457E8C0754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8E390D7-A733-43C1-9581-FF4FB39192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4816B5A-24B9-4FA1-8A45-AF6BED4A433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6C754F0-5DE1-45C1-B82E-873B83F0116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9D40F88-2FC2-4EB3-92E3-8D0BC39EAEA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034C4A-100C-45ED-BB62-F1B6AFF51FD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7FE9402-D3A6-4ABB-A05A-F89DCFBE168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E452B3-CEC6-4A4F-8C0C-EFCC417351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E2A5FEE-39FD-46E4-AA76-F5E0CA2EEA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BEB5F1C-95B7-4B25-8868-964744A596F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D36146E-B353-41D2-8FFF-4534A42F472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927E40C-C174-4C0C-8F5F-A6E4D9436D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1A3E32-2783-4832-A787-E99F1D9A1C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6563210-DCE9-4F7D-96A8-2680A685005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156BC77-80B0-4358-8DF3-98851BD9E8B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D599158-CD97-4707-BAC6-4E2D0D399C7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620C20E-88D3-463E-A277-E5C90D27670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5DA98B3-8683-4946-80C8-39B5637FA2F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4F0A8B12-B348-46D4-8157-633AB880819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8EA004C-3F85-45FC-8965-B88B5DADDF9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6A97AC7-3AA4-438D-93E2-270C8BC5CA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C576EDF-61BE-4E60-8592-A0F7A1F033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3137512-1C0A-487B-B854-486B0D7864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AE5FCD-3644-4827-BDBF-568AEBFF918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B4A4E47-7144-4014-B5A2-781478F978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D01AFC8-AF19-4BAE-88FA-3818686164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C48C3F-B1CC-4AD6-BAC6-642FA4D33A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431DF17-097D-473D-9CC8-FAF601235C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C455D83-EBF4-4869-B0B8-04F90882403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F39FC8-B7D2-499E-A18F-2C89CF7160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48EC9C7-0595-479C-B689-6236BA28414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90C093F-A1F8-48B6-99ED-918C277820A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3D59B90-BAC6-4BAF-9E6F-AD939F82C24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F53FA12-F75A-4FF0-BE4C-8C8CA025770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359F9DE-02B4-4410-A761-F6B8A72D284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5750EE0-8026-480B-8128-E2082E2A55D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435AB4C-497E-4E34-8C72-4C3B93D5177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944BC5-8951-4215-AEF4-C704591B1C1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948EF3E-02F2-43D1-BBD9-A7B3C41A62A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6358682-176A-423F-A000-CCC66E555EF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AF241-1B71-4330-B2A6-730EE4E70C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8ADDC2A-5330-4D45-B07D-1FAAFC6CBB7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23B9FA2-FB9C-49BD-92B2-3B49E19F328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D26794A-1A5A-4885-95BF-94235B0D5F8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844C36C-CE37-46FB-873C-4A8BEB66CAE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A81ABE-3CA0-43FB-85EF-5A380002C7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CF4CF8-F490-45B4-A821-CFAB586C651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9FE8253-7C97-491B-80E6-521FEA953BF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B01BAA5-34AD-4C57-BC35-A3E3057C95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96394F9-5AC4-42B4-87CD-7B802B75F6C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BBB008-C051-4B41-AAA4-E6B9C47F49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D8158-427A-4392-A9DA-21BF6080B8E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2B3551-3F51-45F4-9208-1FA4DB05627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08049B-4009-42D5-A0A4-8F8DFB314B0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413A4C-9E18-4501-B2B2-624E4CCE73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F88F649-FFC5-4302-8825-0C7A7515A36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7E4DFC6-53E3-45AC-A11D-6780E2B6769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3A38D4C-2F0F-4E72-BEBE-D5351AE0BC4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9F6EBF6-C647-4325-B8AA-C396BC4F09C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451D937-1C76-4469-8D1C-2DE0949DF0C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AFB7EED-9210-457E-A136-D7138E53F1D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A37D7E6-268C-4DF6-B817-6B33CC2A85C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5945E-83D7-4DA4-9EDE-5CFB3EA5674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C9364C4-9974-4CEF-8933-AFD2E8BD864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81B82B2-95D7-442C-BA57-940E338F69E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EA7965-338D-4443-A04E-706832767DA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CD090E6-780F-4EB6-BFF2-F5785DD6E1F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3DB9F7E-7130-496F-95EF-B5E1CC9A82E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DD55559-6047-4920-990C-2815EEA7164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A7DAD6A-1225-4D2B-AB45-D47768AA782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324E04C-CFB1-45EF-9F33-368BA1087A1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6CA2AC0-E04E-4213-899A-93564DE3814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9580D4B-623F-4643-8A02-02E96FE4831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262CC-98BE-444A-91FA-7719D765F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1128F-02BB-4065-A6A6-A08A32A160B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EC3C5-F099-466B-AF70-63F007EDB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75575-30AA-44F6-A201-FD24DB4D79A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F572A-E44A-4EC9-9908-A40E4330E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827E8-3596-4BBD-9953-E26066EDC0F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673AE-2673-4262-A398-E0F57A3DA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AA2DE-EFE0-43A2-8F8E-B4684AA98A1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CE628-2431-478E-BAB1-15ED0050A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D2C26-A043-462F-9912-C638148C8A6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01929-28A5-4984-BA63-1F6F175D5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65F65-9F34-467C-A68E-C4C560512B0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9B162-E698-4923-8483-962AE718E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60B52-427F-41AF-BAAB-7036161A01B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F9E0B-454A-4284-9958-C4E1A69A1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D7172-6B33-4216-99B4-AEE7ED50C0B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ECD88-98F8-4842-A237-AEC06BF88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13E3C-2A97-481F-96DA-ECF3C794519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DE450-E830-480F-81F1-92F8098B0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D6A4D-FD88-4B29-9DAE-B860243B8C5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FAB12-4C31-4BB6-914A-918F0BCA9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D9743-CB0E-4AE2-A139-DA1330BF2F0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0CA1E-B36B-4CA8-BB74-8616A0EB4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Trzeciak</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5" descr="http://i.ebayimg.com/t/NEW-Personal-Memoirs-of-U-S-Grant-Grant-Ulysses-S-McPherson-James-M-/00/$(KGrHqR,!ioE1NTGk8mKBNgvp)ghvg~~0_12.JPG"/>
          <p:cNvPicPr/>
          <p:nvPr/>
        </p:nvPicPr>
        <p:blipFill>
          <a:blip r:embed="rId1"/>
          <a:stretch/>
        </p:blipFill>
        <p:spPr>
          <a:xfrm>
            <a:off x="3112920" y="822240"/>
            <a:ext cx="5835960" cy="5837400"/>
          </a:xfrm>
          <a:prstGeom prst="rect">
            <a:avLst/>
          </a:prstGeom>
          <a:ln w="0">
            <a:noFill/>
          </a:ln>
        </p:spPr>
      </p:pic>
      <p:sp>
        <p:nvSpPr>
          <p:cNvPr id="53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1" name=""/>
          <p:cNvSpPr txBox="1"/>
          <p:nvPr/>
        </p:nvSpPr>
        <p:spPr>
          <a:xfrm>
            <a:off x="16776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ysses S. Gr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Memoi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am Ulysses Gran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by Pulitzer Prize winning historian James McPh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198000" y="1447560"/>
            <a:ext cx="8534520" cy="522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is abou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Knowing yourself, your enemy, your leaders, your followers and others that are secondarily affected by your decis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the bigger picture, the political climate and the larger objectives (winning the war not the individual batt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challeng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Grant faced the same leadership challenges that we face today: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dden agendas, political motives, insubordination</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and it’s limitations must be understood and embraced by leadershi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pons, mass transit, communication techniqu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must be clear and direct in both dire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st and empower your subordinat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ership Quotes</a:t>
            </a:r>
            <a:endParaRPr b="0" lang="en-US" sz="3600" spc="-1" strike="noStrike">
              <a:solidFill>
                <a:srgbClr val="000000"/>
              </a:solidFill>
              <a:latin typeface="Arial"/>
            </a:endParaRPr>
          </a:p>
        </p:txBody>
      </p:sp>
      <p:sp>
        <p:nvSpPr>
          <p:cNvPr id="53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ome commanders can move men to get the maximum distance out of them without fatigue, while others can exhaust them in a few days, General Worth belonged to the late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learned of the character of those I would later oppose, my appreciation for the enemy was certainly affected by this knowledg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men who wait to be selected, and not those who seek, from whom we may always expect the most efficient serv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wo commanders on the field are always one too man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was nothing left to do but go forward to a decisive victor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r. Davis (President of the Confederate States) on several occasions during the war came to the relief of the Union by means of his </a:t>
            </a:r>
            <a:r>
              <a:rPr b="0" i="1" lang="en-US" sz="2000" spc="-1" strike="noStrike">
                <a:solidFill>
                  <a:srgbClr val="000000"/>
                </a:solidFill>
                <a:latin typeface="Arial"/>
              </a:rPr>
              <a:t>superior military genius</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 was a most gallant officer, with him it was “come boys” not ”go”</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7" name=""/>
          <p:cNvSpPr txBox="1"/>
          <p:nvPr/>
        </p:nvSpPr>
        <p:spPr>
          <a:xfrm>
            <a:off x="457200" y="1265040"/>
            <a:ext cx="8229600" cy="5149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first battle as a Colonel: My trepidation as did my heart, into my throat climbed, as we neared the enemy….it later occurred to me, he was as much afraid of me as I of him. </a:t>
            </a:r>
            <a:r>
              <a:rPr b="0" i="1" lang="en-US" sz="1800" spc="-1" strike="noStrike">
                <a:solidFill>
                  <a:srgbClr val="000000"/>
                </a:solidFill>
                <a:latin typeface="Arial"/>
              </a:rPr>
              <a:t>I had never taken this view before, but it was one I never forgot afterwa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thought how little interest the men had in the results of the war and how little knowledge they had of what is was really all abou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o much credit cannot be given to the troops and commanders for the energy and fortitude they displayed over the last five day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en who have shown all the endurance and courage of Vicksburg, will always challenge the respect of an adversary, I can assure you the men will be treated with all the respect due a prisoner of w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men were soon re-clothed, well fed, and full of ammunition, cheerfulness prevail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eneral Taylor was not a conversationalist, but on paper he could put his meaning so plainly there could be no mistaking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ee’s Army is whipped; the prisoners we now take, show it, and the actions of his army show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117520" y="75960"/>
            <a:ext cx="702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General Grant’s Written Orders</a:t>
            </a:r>
            <a:endParaRPr b="0" lang="en-US" sz="2800" spc="-1" strike="noStrike">
              <a:solidFill>
                <a:srgbClr val="000000"/>
              </a:solidFill>
              <a:latin typeface="Arial"/>
            </a:endParaRPr>
          </a:p>
        </p:txBody>
      </p:sp>
      <p:sp>
        <p:nvSpPr>
          <p:cNvPr id="539" name=""/>
          <p:cNvSpPr txBox="1"/>
          <p:nvPr/>
        </p:nvSpPr>
        <p:spPr>
          <a:xfrm>
            <a:off x="456840" y="1371240"/>
            <a:ext cx="8442360" cy="518148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neral Blair: “Move at early dawn to Black River Ridge, I think you will encounter no enemy. If you do however, engage them at once”</a:t>
            </a:r>
            <a:endParaRPr b="0" lang="en-US" sz="1800" spc="-1" strike="noStrike">
              <a:solidFill>
                <a:srgbClr val="000000"/>
              </a:solidFill>
              <a:latin typeface="Arial"/>
            </a:endParaRPr>
          </a:p>
          <a:p>
            <a:pPr marL="335880" indent="-3358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neral McClernand: “Disencumber yourself of your supply trains, select an eligible position, and feel the enemy”</a:t>
            </a:r>
            <a:endParaRPr b="0" lang="en-US" sz="1800" spc="-1" strike="noStrike">
              <a:solidFill>
                <a:srgbClr val="000000"/>
              </a:solidFill>
              <a:latin typeface="Arial"/>
            </a:endParaRPr>
          </a:p>
          <a:p>
            <a:pPr marL="335880" indent="-3358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do not propose to lay down for you a plan of campaign, but simply lay down the work desired to be done and leave you free to execute. Submit to me as early as possible your plan of action”</a:t>
            </a:r>
            <a:endParaRPr b="0" lang="en-US" sz="1800" spc="-1" strike="noStrike">
              <a:solidFill>
                <a:srgbClr val="000000"/>
              </a:solidFill>
              <a:latin typeface="Arial"/>
            </a:endParaRPr>
          </a:p>
          <a:p>
            <a:pPr marL="335880" indent="-3358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mpress upon the men the importance of going through the state in an orderly manner, they should try to create as favorable an impression upon the people as possible”</a:t>
            </a:r>
            <a:endParaRPr b="0" lang="en-US" sz="1800" spc="-1" strike="noStrike">
              <a:solidFill>
                <a:srgbClr val="000000"/>
              </a:solidFill>
              <a:latin typeface="Arial"/>
            </a:endParaRPr>
          </a:p>
          <a:p>
            <a:pPr marL="335880" indent="-3358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ake advantage of knowledge gained and act promptly without waiting for orders”</a:t>
            </a:r>
            <a:endParaRPr b="0" lang="en-US" sz="1800" spc="-1" strike="noStrike">
              <a:solidFill>
                <a:srgbClr val="000000"/>
              </a:solidFill>
              <a:latin typeface="Arial"/>
            </a:endParaRPr>
          </a:p>
          <a:p>
            <a:pPr marL="335880" indent="-3358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neral Buckner, Confederate Army</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erms except an unconditional and immediate surrender can be accepted. I plan to move immediately upon your works.</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 am, sir, very respectfully, Your obedient servant</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1" name=""/>
          <p:cNvSpPr txBox="1"/>
          <p:nvPr/>
        </p:nvSpPr>
        <p:spPr>
          <a:xfrm>
            <a:off x="457200" y="1616040"/>
            <a:ext cx="8229600" cy="5137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and foremost—Leadership is about People</a:t>
            </a:r>
            <a:r>
              <a:rPr b="0" lang="en-US" sz="1800" spc="-1" strike="noStrike">
                <a:solidFill>
                  <a:srgbClr val="000000"/>
                </a:solidFill>
                <a:latin typeface="Arial"/>
              </a:rPr>
              <a:t>. Understanding them, their motives, competencies and behaviors. This includes subordinates, peers, superiors, disinterested parties, and opponents. Understanding them is the foundation for providing direction, development and discipline.</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leader of professional soldiers, officers and civilians, I must never lose sight of the respect deserved by those with whom I work. General Grant never stopped giving credit, praise and respect to those; </a:t>
            </a:r>
            <a:r>
              <a:rPr b="0" i="1" lang="en-US" sz="1800" spc="-1" strike="noStrike">
                <a:solidFill>
                  <a:srgbClr val="000000"/>
                </a:solidFill>
                <a:latin typeface="Arial"/>
              </a:rPr>
              <a:t>for or against </a:t>
            </a:r>
            <a:r>
              <a:rPr b="0" lang="en-US" sz="1800" spc="-1" strike="noStrike">
                <a:solidFill>
                  <a:srgbClr val="000000"/>
                </a:solidFill>
                <a:latin typeface="Arial"/>
              </a:rPr>
              <a:t>him. </a:t>
            </a:r>
            <a:endParaRPr b="0" lang="en-US" sz="1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ect is earned through honesty, courage, candor, competence and acceptance of responsibility. General Grant displayed these traits throughout his military career earning him the respect of his subordinates, peers, superiors and enemies. These leadership attributes never stop growing in an individual and I must continue to foster these trait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michael.trzeciak</cp:lastModifiedBy>
  <cp:lastPrinted>2011-06-13T12:29:39Z</cp:lastPrinted>
  <dcterms:modified xsi:type="dcterms:W3CDTF">2013-11-18T04:36:02Z</dcterms:modified>
  <cp:revision>42</cp:revision>
  <dc:subject/>
  <dc:title>Leading with Impact</dc:title>
</cp:coreProperties>
</file>