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FB9-ACBE-4FA2-A1EF-822A37FC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83E-FB25-4B73-A913-C43D10F2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54D-07EF-434D-9AD7-78D14442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BB5-8D3C-46D9-8B46-C423BE4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341-4336-47F5-ACBD-2E932A48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A34-C952-42DE-8F88-82A94A1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9B6-DD41-48D9-BED6-1735E32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088-250E-4C44-8C9E-FF1D1C6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E86-5C73-4C7C-A76F-ACC402E5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CC3-E85A-41B3-BE55-DDED66E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1FB-4F11-4F25-AE39-1889D14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046-2DB8-4D86-98D9-F7BEE13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C54-F3B8-4CA5-8FCD-CAD22151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w33"/>
          <p:cNvPicPr/>
          <p:nvPr/>
        </p:nvPicPr>
        <p:blipFill>
          <a:blip r:embed="rId1"/>
          <a:srcRect l="2135" t="2252" r="2135" b="3822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4"/>
          <p:cNvSpPr/>
          <p:nvPr/>
        </p:nvSpPr>
        <p:spPr>
          <a:xfrm>
            <a:off x="1557360" y="1203480"/>
            <a:ext cx="6451560" cy="5751360"/>
          </a:xfrm>
          <a:custGeom>
            <a:avLst/>
            <a:gdLst>
              <a:gd name="textAreaLeft" fmla="*/ 0 w 6451560"/>
              <a:gd name="textAreaRight" fmla="*/ 6451920 w 6451560"/>
              <a:gd name="textAreaTop" fmla="*/ 0 h 5751360"/>
              <a:gd name="textAreaBottom" fmla="*/ 5751720 h 5751360"/>
            </a:gdLst>
            <a:ahLst/>
            <a:rect l="textAreaLeft" t="textAreaTop" r="textAreaRight" b="textAreaBottom"/>
            <a:pathLst>
              <a:path w="4064" h="3623">
                <a:moveTo>
                  <a:pt x="4024" y="725"/>
                </a:moveTo>
                <a:cubicBezTo>
                  <a:pt x="4008" y="700"/>
                  <a:pt x="4001" y="674"/>
                  <a:pt x="3991" y="646"/>
                </a:cubicBezTo>
                <a:cubicBezTo>
                  <a:pt x="3996" y="605"/>
                  <a:pt x="3998" y="582"/>
                  <a:pt x="4011" y="546"/>
                </a:cubicBezTo>
                <a:cubicBezTo>
                  <a:pt x="4017" y="498"/>
                  <a:pt x="4026" y="474"/>
                  <a:pt x="4057" y="440"/>
                </a:cubicBezTo>
                <a:cubicBezTo>
                  <a:pt x="4054" y="365"/>
                  <a:pt x="4064" y="285"/>
                  <a:pt x="4011" y="228"/>
                </a:cubicBezTo>
                <a:cubicBezTo>
                  <a:pt x="3996" y="188"/>
                  <a:pt x="3971" y="189"/>
                  <a:pt x="3932" y="176"/>
                </a:cubicBezTo>
                <a:cubicBezTo>
                  <a:pt x="3919" y="172"/>
                  <a:pt x="3892" y="162"/>
                  <a:pt x="3892" y="162"/>
                </a:cubicBezTo>
                <a:cubicBezTo>
                  <a:pt x="3815" y="172"/>
                  <a:pt x="3855" y="162"/>
                  <a:pt x="3812" y="202"/>
                </a:cubicBezTo>
                <a:cubicBezTo>
                  <a:pt x="3762" y="195"/>
                  <a:pt x="3699" y="193"/>
                  <a:pt x="3653" y="169"/>
                </a:cubicBezTo>
                <a:cubicBezTo>
                  <a:pt x="3619" y="151"/>
                  <a:pt x="3611" y="114"/>
                  <a:pt x="3574" y="103"/>
                </a:cubicBezTo>
                <a:cubicBezTo>
                  <a:pt x="3540" y="67"/>
                  <a:pt x="3489" y="36"/>
                  <a:pt x="3442" y="23"/>
                </a:cubicBezTo>
                <a:cubicBezTo>
                  <a:pt x="3235" y="32"/>
                  <a:pt x="3306" y="0"/>
                  <a:pt x="3210" y="103"/>
                </a:cubicBezTo>
                <a:cubicBezTo>
                  <a:pt x="3198" y="139"/>
                  <a:pt x="3190" y="145"/>
                  <a:pt x="3170" y="176"/>
                </a:cubicBezTo>
                <a:cubicBezTo>
                  <a:pt x="3164" y="194"/>
                  <a:pt x="3149" y="221"/>
                  <a:pt x="3137" y="235"/>
                </a:cubicBezTo>
                <a:cubicBezTo>
                  <a:pt x="3132" y="241"/>
                  <a:pt x="3123" y="243"/>
                  <a:pt x="3117" y="248"/>
                </a:cubicBezTo>
                <a:cubicBezTo>
                  <a:pt x="3112" y="252"/>
                  <a:pt x="3108" y="257"/>
                  <a:pt x="3104" y="262"/>
                </a:cubicBezTo>
                <a:cubicBezTo>
                  <a:pt x="3066" y="311"/>
                  <a:pt x="3013" y="402"/>
                  <a:pt x="2952" y="420"/>
                </a:cubicBezTo>
                <a:cubicBezTo>
                  <a:pt x="2942" y="449"/>
                  <a:pt x="2920" y="464"/>
                  <a:pt x="2899" y="487"/>
                </a:cubicBezTo>
                <a:cubicBezTo>
                  <a:pt x="2892" y="507"/>
                  <a:pt x="2818" y="566"/>
                  <a:pt x="2793" y="566"/>
                </a:cubicBezTo>
                <a:cubicBezTo>
                  <a:pt x="2632" y="568"/>
                  <a:pt x="2470" y="571"/>
                  <a:pt x="2309" y="573"/>
                </a:cubicBezTo>
                <a:cubicBezTo>
                  <a:pt x="2258" y="589"/>
                  <a:pt x="2320" y="566"/>
                  <a:pt x="2276" y="593"/>
                </a:cubicBezTo>
                <a:cubicBezTo>
                  <a:pt x="2246" y="611"/>
                  <a:pt x="2203" y="615"/>
                  <a:pt x="2170" y="626"/>
                </a:cubicBezTo>
                <a:cubicBezTo>
                  <a:pt x="2150" y="656"/>
                  <a:pt x="2135" y="652"/>
                  <a:pt x="2098" y="659"/>
                </a:cubicBezTo>
                <a:cubicBezTo>
                  <a:pt x="2081" y="675"/>
                  <a:pt x="2067" y="678"/>
                  <a:pt x="2045" y="685"/>
                </a:cubicBezTo>
                <a:cubicBezTo>
                  <a:pt x="2011" y="719"/>
                  <a:pt x="2053" y="682"/>
                  <a:pt x="2012" y="705"/>
                </a:cubicBezTo>
                <a:cubicBezTo>
                  <a:pt x="1983" y="721"/>
                  <a:pt x="1986" y="748"/>
                  <a:pt x="1952" y="758"/>
                </a:cubicBezTo>
                <a:cubicBezTo>
                  <a:pt x="1926" y="775"/>
                  <a:pt x="1910" y="795"/>
                  <a:pt x="1879" y="804"/>
                </a:cubicBezTo>
                <a:cubicBezTo>
                  <a:pt x="1871" y="830"/>
                  <a:pt x="1862" y="836"/>
                  <a:pt x="1839" y="851"/>
                </a:cubicBezTo>
                <a:cubicBezTo>
                  <a:pt x="1831" y="878"/>
                  <a:pt x="1822" y="904"/>
                  <a:pt x="1813" y="930"/>
                </a:cubicBezTo>
                <a:cubicBezTo>
                  <a:pt x="1811" y="937"/>
                  <a:pt x="1812" y="946"/>
                  <a:pt x="1806" y="950"/>
                </a:cubicBezTo>
                <a:cubicBezTo>
                  <a:pt x="1788" y="962"/>
                  <a:pt x="1786" y="961"/>
                  <a:pt x="1773" y="977"/>
                </a:cubicBezTo>
                <a:cubicBezTo>
                  <a:pt x="1752" y="1003"/>
                  <a:pt x="1771" y="992"/>
                  <a:pt x="1740" y="1003"/>
                </a:cubicBezTo>
                <a:cubicBezTo>
                  <a:pt x="1724" y="1028"/>
                  <a:pt x="1698" y="1045"/>
                  <a:pt x="1674" y="1063"/>
                </a:cubicBezTo>
                <a:cubicBezTo>
                  <a:pt x="1661" y="1073"/>
                  <a:pt x="1634" y="1089"/>
                  <a:pt x="1634" y="1089"/>
                </a:cubicBezTo>
                <a:cubicBezTo>
                  <a:pt x="1615" y="1119"/>
                  <a:pt x="1582" y="1145"/>
                  <a:pt x="1548" y="1155"/>
                </a:cubicBezTo>
                <a:cubicBezTo>
                  <a:pt x="1530" y="1174"/>
                  <a:pt x="1500" y="1186"/>
                  <a:pt x="1475" y="1195"/>
                </a:cubicBezTo>
                <a:cubicBezTo>
                  <a:pt x="1452" y="1230"/>
                  <a:pt x="1465" y="1257"/>
                  <a:pt x="1429" y="1281"/>
                </a:cubicBezTo>
                <a:cubicBezTo>
                  <a:pt x="1415" y="1303"/>
                  <a:pt x="1408" y="1312"/>
                  <a:pt x="1383" y="1321"/>
                </a:cubicBezTo>
                <a:cubicBezTo>
                  <a:pt x="1373" y="1331"/>
                  <a:pt x="1367" y="1345"/>
                  <a:pt x="1356" y="1354"/>
                </a:cubicBezTo>
                <a:cubicBezTo>
                  <a:pt x="1320" y="1386"/>
                  <a:pt x="1270" y="1419"/>
                  <a:pt x="1224" y="1433"/>
                </a:cubicBezTo>
                <a:cubicBezTo>
                  <a:pt x="1208" y="1449"/>
                  <a:pt x="1118" y="1487"/>
                  <a:pt x="1091" y="1493"/>
                </a:cubicBezTo>
                <a:cubicBezTo>
                  <a:pt x="1067" y="1498"/>
                  <a:pt x="1018" y="1506"/>
                  <a:pt x="1018" y="1506"/>
                </a:cubicBezTo>
                <a:cubicBezTo>
                  <a:pt x="986" y="1496"/>
                  <a:pt x="996" y="1517"/>
                  <a:pt x="965" y="1520"/>
                </a:cubicBezTo>
                <a:cubicBezTo>
                  <a:pt x="925" y="1524"/>
                  <a:pt x="886" y="1524"/>
                  <a:pt x="846" y="1526"/>
                </a:cubicBezTo>
                <a:cubicBezTo>
                  <a:pt x="831" y="1528"/>
                  <a:pt x="814" y="1527"/>
                  <a:pt x="800" y="1533"/>
                </a:cubicBezTo>
                <a:cubicBezTo>
                  <a:pt x="793" y="1536"/>
                  <a:pt x="793" y="1548"/>
                  <a:pt x="787" y="1553"/>
                </a:cubicBezTo>
                <a:cubicBezTo>
                  <a:pt x="782" y="1557"/>
                  <a:pt x="774" y="1557"/>
                  <a:pt x="767" y="1559"/>
                </a:cubicBezTo>
                <a:cubicBezTo>
                  <a:pt x="751" y="1583"/>
                  <a:pt x="738" y="1584"/>
                  <a:pt x="714" y="1599"/>
                </a:cubicBezTo>
                <a:cubicBezTo>
                  <a:pt x="706" y="1611"/>
                  <a:pt x="694" y="1620"/>
                  <a:pt x="687" y="1632"/>
                </a:cubicBezTo>
                <a:cubicBezTo>
                  <a:pt x="665" y="1669"/>
                  <a:pt x="703" y="1638"/>
                  <a:pt x="661" y="1665"/>
                </a:cubicBezTo>
                <a:cubicBezTo>
                  <a:pt x="647" y="1686"/>
                  <a:pt x="632" y="1694"/>
                  <a:pt x="615" y="1712"/>
                </a:cubicBezTo>
                <a:cubicBezTo>
                  <a:pt x="610" y="1725"/>
                  <a:pt x="609" y="1739"/>
                  <a:pt x="601" y="1751"/>
                </a:cubicBezTo>
                <a:cubicBezTo>
                  <a:pt x="597" y="1758"/>
                  <a:pt x="592" y="1764"/>
                  <a:pt x="588" y="1771"/>
                </a:cubicBezTo>
                <a:cubicBezTo>
                  <a:pt x="582" y="1784"/>
                  <a:pt x="584" y="1800"/>
                  <a:pt x="575" y="1811"/>
                </a:cubicBezTo>
                <a:cubicBezTo>
                  <a:pt x="570" y="1817"/>
                  <a:pt x="562" y="1820"/>
                  <a:pt x="555" y="1824"/>
                </a:cubicBezTo>
                <a:cubicBezTo>
                  <a:pt x="527" y="1866"/>
                  <a:pt x="503" y="1901"/>
                  <a:pt x="469" y="1937"/>
                </a:cubicBezTo>
                <a:cubicBezTo>
                  <a:pt x="460" y="1963"/>
                  <a:pt x="451" y="1974"/>
                  <a:pt x="429" y="1990"/>
                </a:cubicBezTo>
                <a:cubicBezTo>
                  <a:pt x="415" y="2036"/>
                  <a:pt x="408" y="2099"/>
                  <a:pt x="356" y="2115"/>
                </a:cubicBezTo>
                <a:cubicBezTo>
                  <a:pt x="336" y="2130"/>
                  <a:pt x="307" y="2147"/>
                  <a:pt x="284" y="2155"/>
                </a:cubicBezTo>
                <a:cubicBezTo>
                  <a:pt x="282" y="2162"/>
                  <a:pt x="278" y="2168"/>
                  <a:pt x="277" y="2175"/>
                </a:cubicBezTo>
                <a:cubicBezTo>
                  <a:pt x="262" y="2329"/>
                  <a:pt x="306" y="2318"/>
                  <a:pt x="158" y="2327"/>
                </a:cubicBezTo>
                <a:cubicBezTo>
                  <a:pt x="154" y="2334"/>
                  <a:pt x="151" y="2342"/>
                  <a:pt x="145" y="2347"/>
                </a:cubicBezTo>
                <a:cubicBezTo>
                  <a:pt x="140" y="2351"/>
                  <a:pt x="130" y="2349"/>
                  <a:pt x="125" y="2354"/>
                </a:cubicBezTo>
                <a:cubicBezTo>
                  <a:pt x="115" y="2364"/>
                  <a:pt x="114" y="2382"/>
                  <a:pt x="105" y="2393"/>
                </a:cubicBezTo>
                <a:cubicBezTo>
                  <a:pt x="87" y="2416"/>
                  <a:pt x="66" y="2439"/>
                  <a:pt x="45" y="2460"/>
                </a:cubicBezTo>
                <a:cubicBezTo>
                  <a:pt x="39" y="2480"/>
                  <a:pt x="25" y="2519"/>
                  <a:pt x="25" y="2519"/>
                </a:cubicBezTo>
                <a:cubicBezTo>
                  <a:pt x="18" y="2563"/>
                  <a:pt x="0" y="2642"/>
                  <a:pt x="52" y="2658"/>
                </a:cubicBezTo>
                <a:cubicBezTo>
                  <a:pt x="83" y="2691"/>
                  <a:pt x="70" y="2690"/>
                  <a:pt x="125" y="2698"/>
                </a:cubicBezTo>
                <a:cubicBezTo>
                  <a:pt x="141" y="2750"/>
                  <a:pt x="254" y="2736"/>
                  <a:pt x="284" y="2738"/>
                </a:cubicBezTo>
                <a:cubicBezTo>
                  <a:pt x="295" y="2740"/>
                  <a:pt x="307" y="2740"/>
                  <a:pt x="317" y="2744"/>
                </a:cubicBezTo>
                <a:cubicBezTo>
                  <a:pt x="339" y="2753"/>
                  <a:pt x="340" y="2794"/>
                  <a:pt x="356" y="2811"/>
                </a:cubicBezTo>
                <a:cubicBezTo>
                  <a:pt x="358" y="2824"/>
                  <a:pt x="356" y="2839"/>
                  <a:pt x="363" y="2850"/>
                </a:cubicBezTo>
                <a:cubicBezTo>
                  <a:pt x="367" y="2856"/>
                  <a:pt x="378" y="2852"/>
                  <a:pt x="383" y="2857"/>
                </a:cubicBezTo>
                <a:cubicBezTo>
                  <a:pt x="394" y="2868"/>
                  <a:pt x="387" y="2890"/>
                  <a:pt x="396" y="2903"/>
                </a:cubicBezTo>
                <a:cubicBezTo>
                  <a:pt x="401" y="2910"/>
                  <a:pt x="410" y="2911"/>
                  <a:pt x="416" y="2916"/>
                </a:cubicBezTo>
                <a:cubicBezTo>
                  <a:pt x="427" y="2925"/>
                  <a:pt x="431" y="2941"/>
                  <a:pt x="442" y="2950"/>
                </a:cubicBezTo>
                <a:cubicBezTo>
                  <a:pt x="453" y="2959"/>
                  <a:pt x="469" y="2958"/>
                  <a:pt x="482" y="2963"/>
                </a:cubicBezTo>
                <a:cubicBezTo>
                  <a:pt x="531" y="2961"/>
                  <a:pt x="580" y="2965"/>
                  <a:pt x="628" y="2956"/>
                </a:cubicBezTo>
                <a:cubicBezTo>
                  <a:pt x="645" y="2953"/>
                  <a:pt x="691" y="2897"/>
                  <a:pt x="694" y="2897"/>
                </a:cubicBezTo>
                <a:cubicBezTo>
                  <a:pt x="793" y="2889"/>
                  <a:pt x="893" y="2892"/>
                  <a:pt x="992" y="2890"/>
                </a:cubicBezTo>
                <a:cubicBezTo>
                  <a:pt x="994" y="2875"/>
                  <a:pt x="987" y="2853"/>
                  <a:pt x="999" y="2844"/>
                </a:cubicBezTo>
                <a:cubicBezTo>
                  <a:pt x="1043" y="2810"/>
                  <a:pt x="1052" y="2870"/>
                  <a:pt x="1058" y="2890"/>
                </a:cubicBezTo>
                <a:cubicBezTo>
                  <a:pt x="1076" y="2886"/>
                  <a:pt x="1098" y="2890"/>
                  <a:pt x="1111" y="2877"/>
                </a:cubicBezTo>
                <a:cubicBezTo>
                  <a:pt x="1116" y="2872"/>
                  <a:pt x="1115" y="2863"/>
                  <a:pt x="1118" y="2857"/>
                </a:cubicBezTo>
                <a:cubicBezTo>
                  <a:pt x="1142" y="2813"/>
                  <a:pt x="1131" y="2821"/>
                  <a:pt x="1164" y="2811"/>
                </a:cubicBezTo>
                <a:cubicBezTo>
                  <a:pt x="1166" y="2804"/>
                  <a:pt x="1165" y="2795"/>
                  <a:pt x="1171" y="2791"/>
                </a:cubicBezTo>
                <a:cubicBezTo>
                  <a:pt x="1182" y="2783"/>
                  <a:pt x="1210" y="2777"/>
                  <a:pt x="1210" y="2777"/>
                </a:cubicBezTo>
                <a:cubicBezTo>
                  <a:pt x="1265" y="2781"/>
                  <a:pt x="1306" y="2782"/>
                  <a:pt x="1356" y="2797"/>
                </a:cubicBezTo>
                <a:cubicBezTo>
                  <a:pt x="1360" y="2802"/>
                  <a:pt x="1364" y="2808"/>
                  <a:pt x="1369" y="2811"/>
                </a:cubicBezTo>
                <a:cubicBezTo>
                  <a:pt x="1375" y="2815"/>
                  <a:pt x="1384" y="2812"/>
                  <a:pt x="1389" y="2817"/>
                </a:cubicBezTo>
                <a:cubicBezTo>
                  <a:pt x="1394" y="2822"/>
                  <a:pt x="1391" y="2832"/>
                  <a:pt x="1396" y="2837"/>
                </a:cubicBezTo>
                <a:cubicBezTo>
                  <a:pt x="1398" y="2839"/>
                  <a:pt x="1434" y="2849"/>
                  <a:pt x="1436" y="2850"/>
                </a:cubicBezTo>
                <a:cubicBezTo>
                  <a:pt x="1461" y="2877"/>
                  <a:pt x="1435" y="2857"/>
                  <a:pt x="1469" y="2857"/>
                </a:cubicBezTo>
                <a:cubicBezTo>
                  <a:pt x="1485" y="2857"/>
                  <a:pt x="1499" y="2866"/>
                  <a:pt x="1515" y="2870"/>
                </a:cubicBezTo>
                <a:cubicBezTo>
                  <a:pt x="1531" y="2894"/>
                  <a:pt x="1547" y="2896"/>
                  <a:pt x="1568" y="2916"/>
                </a:cubicBezTo>
                <a:cubicBezTo>
                  <a:pt x="1586" y="2966"/>
                  <a:pt x="1613" y="2975"/>
                  <a:pt x="1661" y="2989"/>
                </a:cubicBezTo>
                <a:cubicBezTo>
                  <a:pt x="1682" y="3011"/>
                  <a:pt x="1689" y="3002"/>
                  <a:pt x="1707" y="3029"/>
                </a:cubicBezTo>
                <a:cubicBezTo>
                  <a:pt x="1713" y="3053"/>
                  <a:pt x="1722" y="3077"/>
                  <a:pt x="1727" y="3102"/>
                </a:cubicBezTo>
                <a:cubicBezTo>
                  <a:pt x="1730" y="3115"/>
                  <a:pt x="1726" y="3130"/>
                  <a:pt x="1733" y="3142"/>
                </a:cubicBezTo>
                <a:cubicBezTo>
                  <a:pt x="1736" y="3148"/>
                  <a:pt x="1746" y="3146"/>
                  <a:pt x="1753" y="3148"/>
                </a:cubicBezTo>
                <a:cubicBezTo>
                  <a:pt x="1804" y="3146"/>
                  <a:pt x="1855" y="3146"/>
                  <a:pt x="1906" y="3142"/>
                </a:cubicBezTo>
                <a:cubicBezTo>
                  <a:pt x="1931" y="3140"/>
                  <a:pt x="1934" y="3119"/>
                  <a:pt x="1952" y="3108"/>
                </a:cubicBezTo>
                <a:cubicBezTo>
                  <a:pt x="1971" y="3097"/>
                  <a:pt x="1993" y="3095"/>
                  <a:pt x="2012" y="3082"/>
                </a:cubicBezTo>
                <a:cubicBezTo>
                  <a:pt x="2020" y="3056"/>
                  <a:pt x="2024" y="3044"/>
                  <a:pt x="2051" y="3036"/>
                </a:cubicBezTo>
                <a:cubicBezTo>
                  <a:pt x="2075" y="3038"/>
                  <a:pt x="2100" y="3036"/>
                  <a:pt x="2124" y="3042"/>
                </a:cubicBezTo>
                <a:cubicBezTo>
                  <a:pt x="2132" y="3044"/>
                  <a:pt x="2162" y="3076"/>
                  <a:pt x="2170" y="3082"/>
                </a:cubicBezTo>
                <a:cubicBezTo>
                  <a:pt x="2183" y="3120"/>
                  <a:pt x="2231" y="3169"/>
                  <a:pt x="2270" y="3181"/>
                </a:cubicBezTo>
                <a:cubicBezTo>
                  <a:pt x="2279" y="3209"/>
                  <a:pt x="2298" y="3225"/>
                  <a:pt x="2323" y="3241"/>
                </a:cubicBezTo>
                <a:cubicBezTo>
                  <a:pt x="2338" y="3293"/>
                  <a:pt x="2315" y="3234"/>
                  <a:pt x="2349" y="3267"/>
                </a:cubicBezTo>
                <a:cubicBezTo>
                  <a:pt x="2354" y="3272"/>
                  <a:pt x="2351" y="3282"/>
                  <a:pt x="2356" y="3287"/>
                </a:cubicBezTo>
                <a:cubicBezTo>
                  <a:pt x="2358" y="3289"/>
                  <a:pt x="2394" y="3299"/>
                  <a:pt x="2396" y="3300"/>
                </a:cubicBezTo>
                <a:cubicBezTo>
                  <a:pt x="2402" y="3329"/>
                  <a:pt x="2407" y="3359"/>
                  <a:pt x="2429" y="3380"/>
                </a:cubicBezTo>
                <a:cubicBezTo>
                  <a:pt x="2447" y="3623"/>
                  <a:pt x="2410" y="3481"/>
                  <a:pt x="2938" y="3453"/>
                </a:cubicBezTo>
                <a:cubicBezTo>
                  <a:pt x="2940" y="3453"/>
                  <a:pt x="2907" y="3379"/>
                  <a:pt x="2905" y="3373"/>
                </a:cubicBezTo>
                <a:cubicBezTo>
                  <a:pt x="2911" y="3345"/>
                  <a:pt x="2912" y="3321"/>
                  <a:pt x="2932" y="3300"/>
                </a:cubicBezTo>
                <a:cubicBezTo>
                  <a:pt x="2918" y="3208"/>
                  <a:pt x="2872" y="3126"/>
                  <a:pt x="2852" y="3036"/>
                </a:cubicBezTo>
                <a:cubicBezTo>
                  <a:pt x="2848" y="3019"/>
                  <a:pt x="2836" y="2946"/>
                  <a:pt x="2826" y="2936"/>
                </a:cubicBezTo>
                <a:cubicBezTo>
                  <a:pt x="2821" y="2931"/>
                  <a:pt x="2813" y="2932"/>
                  <a:pt x="2806" y="2930"/>
                </a:cubicBezTo>
                <a:cubicBezTo>
                  <a:pt x="2790" y="2913"/>
                  <a:pt x="2781" y="2899"/>
                  <a:pt x="2773" y="2877"/>
                </a:cubicBezTo>
                <a:cubicBezTo>
                  <a:pt x="2869" y="2860"/>
                  <a:pt x="2799" y="2886"/>
                  <a:pt x="2819" y="2711"/>
                </a:cubicBezTo>
                <a:cubicBezTo>
                  <a:pt x="2821" y="2697"/>
                  <a:pt x="2838" y="2690"/>
                  <a:pt x="2846" y="2678"/>
                </a:cubicBezTo>
                <a:cubicBezTo>
                  <a:pt x="2820" y="2638"/>
                  <a:pt x="2839" y="2678"/>
                  <a:pt x="2839" y="2638"/>
                </a:cubicBezTo>
                <a:cubicBezTo>
                  <a:pt x="2839" y="2619"/>
                  <a:pt x="2832" y="2602"/>
                  <a:pt x="2826" y="2585"/>
                </a:cubicBezTo>
                <a:cubicBezTo>
                  <a:pt x="2828" y="2561"/>
                  <a:pt x="2822" y="2534"/>
                  <a:pt x="2833" y="2513"/>
                </a:cubicBezTo>
                <a:cubicBezTo>
                  <a:pt x="2840" y="2501"/>
                  <a:pt x="2872" y="2499"/>
                  <a:pt x="2872" y="2499"/>
                </a:cubicBezTo>
                <a:cubicBezTo>
                  <a:pt x="2876" y="2493"/>
                  <a:pt x="2884" y="2488"/>
                  <a:pt x="2885" y="2480"/>
                </a:cubicBezTo>
                <a:cubicBezTo>
                  <a:pt x="2890" y="2449"/>
                  <a:pt x="2879" y="2415"/>
                  <a:pt x="2892" y="2387"/>
                </a:cubicBezTo>
                <a:cubicBezTo>
                  <a:pt x="2898" y="2375"/>
                  <a:pt x="2919" y="2382"/>
                  <a:pt x="2932" y="2380"/>
                </a:cubicBezTo>
                <a:cubicBezTo>
                  <a:pt x="2917" y="2325"/>
                  <a:pt x="2937" y="2274"/>
                  <a:pt x="2991" y="2254"/>
                </a:cubicBezTo>
                <a:cubicBezTo>
                  <a:pt x="2996" y="2250"/>
                  <a:pt x="2999" y="2244"/>
                  <a:pt x="3005" y="2241"/>
                </a:cubicBezTo>
                <a:cubicBezTo>
                  <a:pt x="3011" y="2238"/>
                  <a:pt x="3020" y="2240"/>
                  <a:pt x="3025" y="2235"/>
                </a:cubicBezTo>
                <a:cubicBezTo>
                  <a:pt x="3030" y="2230"/>
                  <a:pt x="3028" y="2221"/>
                  <a:pt x="3031" y="2215"/>
                </a:cubicBezTo>
                <a:cubicBezTo>
                  <a:pt x="3034" y="2209"/>
                  <a:pt x="3040" y="2206"/>
                  <a:pt x="3044" y="2201"/>
                </a:cubicBezTo>
                <a:cubicBezTo>
                  <a:pt x="3059" y="2160"/>
                  <a:pt x="3105" y="2141"/>
                  <a:pt x="3144" y="2129"/>
                </a:cubicBezTo>
                <a:cubicBezTo>
                  <a:pt x="3162" y="2110"/>
                  <a:pt x="3192" y="2098"/>
                  <a:pt x="3217" y="2089"/>
                </a:cubicBezTo>
                <a:cubicBezTo>
                  <a:pt x="3237" y="2096"/>
                  <a:pt x="3253" y="2106"/>
                  <a:pt x="3276" y="2089"/>
                </a:cubicBezTo>
                <a:cubicBezTo>
                  <a:pt x="3290" y="2079"/>
                  <a:pt x="3283" y="2053"/>
                  <a:pt x="3296" y="2043"/>
                </a:cubicBezTo>
                <a:cubicBezTo>
                  <a:pt x="3302" y="2039"/>
                  <a:pt x="3310" y="2039"/>
                  <a:pt x="3316" y="2036"/>
                </a:cubicBezTo>
                <a:cubicBezTo>
                  <a:pt x="3323" y="2032"/>
                  <a:pt x="3330" y="2028"/>
                  <a:pt x="3336" y="2023"/>
                </a:cubicBezTo>
                <a:cubicBezTo>
                  <a:pt x="3356" y="2007"/>
                  <a:pt x="3356" y="1992"/>
                  <a:pt x="3382" y="1983"/>
                </a:cubicBezTo>
                <a:cubicBezTo>
                  <a:pt x="3398" y="1958"/>
                  <a:pt x="3408" y="1958"/>
                  <a:pt x="3435" y="1950"/>
                </a:cubicBezTo>
                <a:cubicBezTo>
                  <a:pt x="3420" y="1906"/>
                  <a:pt x="3404" y="1847"/>
                  <a:pt x="3442" y="1811"/>
                </a:cubicBezTo>
                <a:cubicBezTo>
                  <a:pt x="3479" y="1836"/>
                  <a:pt x="3479" y="1809"/>
                  <a:pt x="3514" y="1798"/>
                </a:cubicBezTo>
                <a:cubicBezTo>
                  <a:pt x="3532" y="1780"/>
                  <a:pt x="3536" y="1766"/>
                  <a:pt x="3561" y="1758"/>
                </a:cubicBezTo>
                <a:cubicBezTo>
                  <a:pt x="3620" y="1720"/>
                  <a:pt x="3688" y="1708"/>
                  <a:pt x="3753" y="1685"/>
                </a:cubicBezTo>
                <a:cubicBezTo>
                  <a:pt x="3762" y="1645"/>
                  <a:pt x="3757" y="1603"/>
                  <a:pt x="3786" y="1572"/>
                </a:cubicBezTo>
                <a:cubicBezTo>
                  <a:pt x="3788" y="1561"/>
                  <a:pt x="3787" y="1549"/>
                  <a:pt x="3793" y="1539"/>
                </a:cubicBezTo>
                <a:cubicBezTo>
                  <a:pt x="3795" y="1535"/>
                  <a:pt x="3853" y="1490"/>
                  <a:pt x="3859" y="1486"/>
                </a:cubicBezTo>
                <a:cubicBezTo>
                  <a:pt x="3881" y="1473"/>
                  <a:pt x="3913" y="1474"/>
                  <a:pt x="3938" y="1467"/>
                </a:cubicBezTo>
                <a:cubicBezTo>
                  <a:pt x="3963" y="1440"/>
                  <a:pt x="3965" y="1409"/>
                  <a:pt x="3938" y="1380"/>
                </a:cubicBezTo>
                <a:cubicBezTo>
                  <a:pt x="3910" y="1297"/>
                  <a:pt x="3926" y="1355"/>
                  <a:pt x="3918" y="1202"/>
                </a:cubicBezTo>
                <a:cubicBezTo>
                  <a:pt x="3923" y="1152"/>
                  <a:pt x="3921" y="1104"/>
                  <a:pt x="3965" y="1076"/>
                </a:cubicBezTo>
                <a:cubicBezTo>
                  <a:pt x="3987" y="1042"/>
                  <a:pt x="3968" y="983"/>
                  <a:pt x="3965" y="944"/>
                </a:cubicBezTo>
                <a:cubicBezTo>
                  <a:pt x="3967" y="922"/>
                  <a:pt x="3966" y="899"/>
                  <a:pt x="3971" y="877"/>
                </a:cubicBezTo>
                <a:cubicBezTo>
                  <a:pt x="3973" y="871"/>
                  <a:pt x="3982" y="869"/>
                  <a:pt x="3985" y="864"/>
                </a:cubicBezTo>
                <a:cubicBezTo>
                  <a:pt x="4001" y="837"/>
                  <a:pt x="3993" y="808"/>
                  <a:pt x="4018" y="785"/>
                </a:cubicBezTo>
                <a:cubicBezTo>
                  <a:pt x="4010" y="721"/>
                  <a:pt x="3991" y="725"/>
                  <a:pt x="4024" y="725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835280" y="4645080"/>
            <a:ext cx="122040" cy="149040"/>
          </a:xfrm>
          <a:custGeom>
            <a:avLst/>
            <a:gdLst>
              <a:gd name="textAreaLeft" fmla="*/ 0 w 122040"/>
              <a:gd name="textAreaRight" fmla="*/ 122400 w 1220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77" h="94">
                <a:moveTo>
                  <a:pt x="62" y="47"/>
                </a:moveTo>
                <a:cubicBezTo>
                  <a:pt x="52" y="37"/>
                  <a:pt x="50" y="17"/>
                  <a:pt x="36" y="14"/>
                </a:cubicBezTo>
                <a:cubicBezTo>
                  <a:pt x="29" y="12"/>
                  <a:pt x="9" y="47"/>
                  <a:pt x="9" y="47"/>
                </a:cubicBezTo>
                <a:cubicBezTo>
                  <a:pt x="0" y="76"/>
                  <a:pt x="8" y="83"/>
                  <a:pt x="36" y="93"/>
                </a:cubicBezTo>
                <a:cubicBezTo>
                  <a:pt x="45" y="91"/>
                  <a:pt x="59" y="94"/>
                  <a:pt x="62" y="86"/>
                </a:cubicBezTo>
                <a:cubicBezTo>
                  <a:pt x="77" y="46"/>
                  <a:pt x="15" y="0"/>
                  <a:pt x="62" y="47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-577800" y="2862360"/>
            <a:ext cx="2574720" cy="366372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3663720"/>
              <a:gd name="textAreaBottom" fmla="*/ 3664080 h 3663720"/>
            </a:gdLst>
            <a:ahLst/>
            <a:rect l="textAreaLeft" t="textAreaTop" r="textAreaRight" b="textAreaBottom"/>
            <a:pathLst>
              <a:path w="1622" h="2308">
                <a:moveTo>
                  <a:pt x="1059" y="2017"/>
                </a:moveTo>
                <a:cubicBezTo>
                  <a:pt x="1061" y="2010"/>
                  <a:pt x="1065" y="2004"/>
                  <a:pt x="1066" y="1997"/>
                </a:cubicBezTo>
                <a:cubicBezTo>
                  <a:pt x="1069" y="1977"/>
                  <a:pt x="1067" y="1957"/>
                  <a:pt x="1072" y="1938"/>
                </a:cubicBezTo>
                <a:cubicBezTo>
                  <a:pt x="1075" y="1927"/>
                  <a:pt x="1140" y="1885"/>
                  <a:pt x="1158" y="1878"/>
                </a:cubicBezTo>
                <a:cubicBezTo>
                  <a:pt x="1189" y="1850"/>
                  <a:pt x="1232" y="1839"/>
                  <a:pt x="1271" y="1825"/>
                </a:cubicBezTo>
                <a:cubicBezTo>
                  <a:pt x="1278" y="1818"/>
                  <a:pt x="1286" y="1813"/>
                  <a:pt x="1291" y="1805"/>
                </a:cubicBezTo>
                <a:cubicBezTo>
                  <a:pt x="1295" y="1799"/>
                  <a:pt x="1294" y="1791"/>
                  <a:pt x="1298" y="1785"/>
                </a:cubicBezTo>
                <a:cubicBezTo>
                  <a:pt x="1314" y="1765"/>
                  <a:pt x="1345" y="1751"/>
                  <a:pt x="1364" y="1732"/>
                </a:cubicBezTo>
                <a:cubicBezTo>
                  <a:pt x="1373" y="1685"/>
                  <a:pt x="1389" y="1658"/>
                  <a:pt x="1331" y="1640"/>
                </a:cubicBezTo>
                <a:cubicBezTo>
                  <a:pt x="1322" y="1613"/>
                  <a:pt x="1313" y="1587"/>
                  <a:pt x="1304" y="1560"/>
                </a:cubicBezTo>
                <a:cubicBezTo>
                  <a:pt x="1309" y="1483"/>
                  <a:pt x="1293" y="1429"/>
                  <a:pt x="1357" y="1388"/>
                </a:cubicBezTo>
                <a:cubicBezTo>
                  <a:pt x="1373" y="1341"/>
                  <a:pt x="1350" y="1394"/>
                  <a:pt x="1384" y="1355"/>
                </a:cubicBezTo>
                <a:cubicBezTo>
                  <a:pt x="1405" y="1331"/>
                  <a:pt x="1414" y="1304"/>
                  <a:pt x="1437" y="1282"/>
                </a:cubicBezTo>
                <a:cubicBezTo>
                  <a:pt x="1469" y="1218"/>
                  <a:pt x="1456" y="1145"/>
                  <a:pt x="1476" y="1077"/>
                </a:cubicBezTo>
                <a:cubicBezTo>
                  <a:pt x="1483" y="1000"/>
                  <a:pt x="1462" y="896"/>
                  <a:pt x="1503" y="832"/>
                </a:cubicBezTo>
                <a:cubicBezTo>
                  <a:pt x="1505" y="812"/>
                  <a:pt x="1506" y="792"/>
                  <a:pt x="1509" y="772"/>
                </a:cubicBezTo>
                <a:cubicBezTo>
                  <a:pt x="1510" y="763"/>
                  <a:pt x="1515" y="755"/>
                  <a:pt x="1516" y="746"/>
                </a:cubicBezTo>
                <a:cubicBezTo>
                  <a:pt x="1520" y="702"/>
                  <a:pt x="1507" y="652"/>
                  <a:pt x="1529" y="614"/>
                </a:cubicBezTo>
                <a:cubicBezTo>
                  <a:pt x="1531" y="610"/>
                  <a:pt x="1552" y="590"/>
                  <a:pt x="1556" y="587"/>
                </a:cubicBezTo>
                <a:cubicBezTo>
                  <a:pt x="1569" y="578"/>
                  <a:pt x="1595" y="561"/>
                  <a:pt x="1595" y="561"/>
                </a:cubicBezTo>
                <a:cubicBezTo>
                  <a:pt x="1622" y="485"/>
                  <a:pt x="1608" y="409"/>
                  <a:pt x="1582" y="335"/>
                </a:cubicBezTo>
                <a:cubicBezTo>
                  <a:pt x="1571" y="242"/>
                  <a:pt x="1619" y="45"/>
                  <a:pt x="1503" y="4"/>
                </a:cubicBezTo>
                <a:cubicBezTo>
                  <a:pt x="1417" y="10"/>
                  <a:pt x="1370" y="0"/>
                  <a:pt x="1324" y="71"/>
                </a:cubicBezTo>
                <a:cubicBezTo>
                  <a:pt x="1284" y="69"/>
                  <a:pt x="1245" y="68"/>
                  <a:pt x="1205" y="64"/>
                </a:cubicBezTo>
                <a:cubicBezTo>
                  <a:pt x="1183" y="62"/>
                  <a:pt x="1145" y="38"/>
                  <a:pt x="1119" y="31"/>
                </a:cubicBezTo>
                <a:cubicBezTo>
                  <a:pt x="610" y="41"/>
                  <a:pt x="887" y="6"/>
                  <a:pt x="702" y="71"/>
                </a:cubicBezTo>
                <a:cubicBezTo>
                  <a:pt x="638" y="130"/>
                  <a:pt x="627" y="111"/>
                  <a:pt x="523" y="117"/>
                </a:cubicBezTo>
                <a:cubicBezTo>
                  <a:pt x="525" y="753"/>
                  <a:pt x="0" y="2308"/>
                  <a:pt x="569" y="2024"/>
                </a:cubicBezTo>
                <a:cubicBezTo>
                  <a:pt x="623" y="1997"/>
                  <a:pt x="556" y="1996"/>
                  <a:pt x="649" y="1984"/>
                </a:cubicBezTo>
                <a:cubicBezTo>
                  <a:pt x="664" y="1960"/>
                  <a:pt x="676" y="1953"/>
                  <a:pt x="702" y="1944"/>
                </a:cubicBezTo>
                <a:cubicBezTo>
                  <a:pt x="757" y="1946"/>
                  <a:pt x="812" y="1945"/>
                  <a:pt x="867" y="1951"/>
                </a:cubicBezTo>
                <a:cubicBezTo>
                  <a:pt x="875" y="1952"/>
                  <a:pt x="879" y="1961"/>
                  <a:pt x="887" y="1964"/>
                </a:cubicBezTo>
                <a:cubicBezTo>
                  <a:pt x="917" y="1974"/>
                  <a:pt x="962" y="1979"/>
                  <a:pt x="993" y="1984"/>
                </a:cubicBezTo>
                <a:cubicBezTo>
                  <a:pt x="1016" y="1992"/>
                  <a:pt x="1036" y="2017"/>
                  <a:pt x="1059" y="2017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724280" y="6705720"/>
            <a:ext cx="2667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636960" y="5749920"/>
            <a:ext cx="2174040" cy="90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eastern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Gettysburg Campa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General Sit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June 18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8:38:18Z</dcterms:created>
  <dc:creator>Donald.Kenney</dc:creator>
  <dc:description/>
  <dc:language>en-US</dc:language>
  <cp:lastModifiedBy>Dewey, Cynthia M.</cp:lastModifiedBy>
  <dcterms:modified xsi:type="dcterms:W3CDTF">2011-09-27T15:22:59Z</dcterms:modified>
  <cp:revision>4</cp:revision>
  <dc:subject/>
  <dc:title>Slide 1</dc:title>
</cp:coreProperties>
</file>