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C833-A940-4F6A-B247-51B1245B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BB3F-2738-4A5E-958C-9D024C0E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3BE0B-1017-48BD-A174-AD417928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58961-069F-4603-A990-9D65BD66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6AF6E-CBBC-4711-96ED-03BA3B84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BDBC2-C7E8-41D3-9C7E-44D5C81E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3FF57-F16B-4762-B8B1-199FFFB5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91242-998B-4821-A7D2-075525B2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EB6D1-8A73-4A72-B2EE-14E8F6E6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46D48-6BCA-4076-8081-67B5E634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701A7-4068-48AE-9310-9D156F25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FB9-50A6-4B39-8FCB-8909728D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5C2-90B6-494A-9BA4-4CC94550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91A7-5253-4803-B467-EEF1E933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69E5-67B4-4822-A8D7-CFDCA812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1100-4479-4533-B440-FE30E55D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1712-E7E3-45E5-B2CB-DA6B1C1D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8FAC-5F74-45AE-9FBA-9AD8FC39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6671-98E6-47A6-96AC-75C22CA1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B665-4D21-432D-A824-8FD4EB17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AA6-AB49-4A75-B2BF-CBB40F56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9444-358C-45C1-8FD9-B406DF7D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1FD8-C7BF-4EFA-B982-A2BCEB24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BA4B-60D3-41B4-ACD7-5747CD82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8EF6-C3AD-4898-B456-7C8D0A9C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CFA9-758E-4069-BF54-20DF5F23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3A766-8F4F-4E2A-A7A2-568CD7C7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A1261-9869-40CE-B4CB-F696557D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A77E9-FD13-4CF2-BF52-82338A1A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73D06-34AF-433D-9A82-EF1EB9A3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567A1-9273-40FA-B0B6-86FCAB74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321C-486F-4ABB-B450-C154E0C0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1303F-6ED8-44FD-B331-79BAD620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EB29D-D3D6-43C1-81A2-68666832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DC5B5-7E5C-41E0-AE95-659DC277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9ADF9-6ABE-4E8B-8C8D-D8808851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D9A41-72D5-4A0C-8188-C2C1CB83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D6B1E-0E64-4FFE-B818-75EFD042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30750-2869-46E7-8271-A1CC242E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553B1-AF82-4BF8-ADD6-F27864A6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46FE3-4B9E-4098-A9C2-E7F5D543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C554C-3650-43B2-80DA-1BA24248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CB96-BDDD-4137-A0C2-49312132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6C711-87BF-4016-BDCD-AAD9DDCB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BB559-9E87-43B5-A8F4-83DB3703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9FE3A-8FE6-4F03-9FB7-B982031B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E3D5C-C770-41B9-BCD3-0E932A30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BCDCA-B080-42AB-8B84-5EEF3BF2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26685-6E8A-446B-AF88-2808AC31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DC924-AA18-4962-A6D0-C95B72FF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87C90-CDFD-45C8-939B-4BD21383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190D2-0950-4EBD-8DB9-D71A8037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50144-6753-44B8-A8CA-D1EECA9C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0B15-8A2B-440B-9B16-58A1DC5D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E827C-4851-4ED9-82AF-146B8BB2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D6897-D667-4BA8-AF41-7C99C55E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9E843-18CE-4861-BF2D-E663054B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865D9-209E-431C-B523-D031B498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F6850-E71B-48D1-BF15-92A6D898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60C51-B35F-46DD-BB84-D4204E50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D4C27-888B-4F7B-B385-14A14BF2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B8527-178E-41D1-BDAE-C25A5C7E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BB18C-3F35-4B54-8C46-A0EE3591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481FE-2707-4A49-BBE9-C0503384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C4D-5725-41A2-8A2C-F6D99A64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D4694-5DC1-4B2F-A356-76449DF5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5B76B-3705-407E-A221-D2D04EEC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38703-21CA-4C7A-92B1-615A559B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65AF8-8341-4CBF-BBA5-AFFB967A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829DD-7E55-40B3-A7BB-F1A7AA12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03D40-7282-4063-B87B-F2451709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D3C50-66D6-49A9-93F3-9D92CEA8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60765-0D52-40CF-9455-CE2ECE52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BBA86-3DBC-41D6-82D8-E59D461E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26CB1-83F0-4744-B8A6-9C4EDFDF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027-79C9-466A-AC4C-239BDB2A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AD95C-7E66-4B52-8361-B92601B7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E3626-0483-48FE-9A74-C3A9A954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DA00B-19C0-4B4E-8DBF-F71482CF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C1235-3DF8-497F-B9F4-B4EBCAB3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27921-EF1C-4937-A174-D766FC4B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BBDD1-A2A5-4ADF-9D34-7219749B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AE61C-33DD-4FB8-87B6-A0B8202C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C93E1-3E5E-4930-B604-AD4A0DBE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C5DBF-F3A1-4D3C-AE4B-611D3868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1168C-B4B1-4F90-998B-E9CF0607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ED61-EFA5-4DB7-B8F1-B1805C60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35B54-9090-40D9-AC84-5D6F324C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FC207-EEFD-4EAD-97F1-49E8B39F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EED61-CF3A-4887-A840-695E7EA9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112F4-E81B-4D47-AA26-21A470FC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784D5-ED0D-45F1-ACB9-DB01C1D4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02F8B-E0D6-4AEA-A764-5F40935D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71702-395F-4F79-9CB1-1B06D22F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97F6C-FC2A-4B6D-B4DD-71D0B248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E6769-4F5B-44AA-AC15-B507834D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BE15E-F196-4DEA-952B-2F5D0290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91E6-480B-413E-AE75-6DCF0E69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7D4F4-E7AA-4410-AA52-EDE1C056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EE22A-0D59-4098-AFD4-BD47CC75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997EB-9EB7-4AAC-B198-4037D0C4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1D775-F63C-4143-BDE8-D4A997CD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C1A0D-9D21-4E5F-BE6B-C3F9FD68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D8682-A734-4EB5-BE34-4609E5B5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37043-E783-49D3-9724-42337D94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8DFF2-BB74-4460-A3DE-9681A69A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84A24-5E07-47D0-8734-897B0538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274E8-7CC2-47E2-94E9-8EAB8DF7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72AC-E753-4612-A650-1AF6C83FBD0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E6D4-A38A-43FE-BA05-58F728ECF0C7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9A4C-F8F4-4CC8-9E82-1C49B07B909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C7D8-E7A9-4F54-B356-9D9A4234EDF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BFE5-E884-4865-9A72-F9372D5A839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DE12-420D-4A41-AAB2-72EB6E6D558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0260-781A-4F3C-AF93-51705617924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16D1-95D6-4A35-B06F-7CE9315B993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3095-B042-4720-813B-F58B8A793DE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676440" y="1122480"/>
            <a:ext cx="7808760" cy="14922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111600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64646"/>
                </a:solidFill>
                <a:latin typeface="Lucida Sans Unicode"/>
              </a:rPr>
              <a:t>A Nonlinear Dynamics Mod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646"/>
                </a:solidFill>
                <a:latin typeface="Lucida Sans Unicode"/>
              </a:rPr>
              <a:t>From: Marcial Losada, Emily Heapy, Barbara Fredrickso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24000" y="1483920"/>
            <a:ext cx="849600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at causes some teams to flourish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at are the key variables in explaining high performan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University of Michigan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60 Strategic Business Unit (SBU) Management Teams (8 person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Speech acts observed, timed, coded and analysed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Behaviour cross-referenced against business performance: Profitability, Customer satisfaction, 360 Feedback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Teams subdivided into high, medium and low performance categori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1322280" y="255600"/>
            <a:ext cx="6205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611280" y="1483920"/>
            <a:ext cx="792144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Positive vs Negative behaviou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Positive; support, appreciation, encouragement. (VBB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Negative; disapproval, sarcasm, cynicism. (VDB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Inquiry vs Advocacy (Questions vs Statement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Enquiry; question to explore or examine a position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Advocacy; arguing in favour of a viewpoin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Sans Unicode"/>
              </a:rPr>
              <a:t>Self vs Oth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Self; referring to speaker,  or group present, or company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Other; referring to person outside group or company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1322280" y="255600"/>
            <a:ext cx="6205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450720" y="401760"/>
            <a:ext cx="8242560" cy="134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4" name=""/>
          <p:cNvGraphicFramePr/>
          <p:nvPr/>
        </p:nvGraphicFramePr>
        <p:xfrm>
          <a:off x="468360" y="2049480"/>
          <a:ext cx="8229600" cy="3411360"/>
        </p:xfrm>
        <a:graphic>
          <a:graphicData uri="http://schemas.openxmlformats.org/drawingml/2006/table">
            <a:tbl>
              <a:tblPr/>
              <a:tblGrid>
                <a:gridCol w="2170080"/>
                <a:gridCol w="2016000"/>
                <a:gridCol w="2089440"/>
                <a:gridCol w="1954080"/>
              </a:tblGrid>
              <a:tr h="8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sitive / Neg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gh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6 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um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9 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w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4 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450720" y="401760"/>
            <a:ext cx="8242560" cy="134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6" name=""/>
          <p:cNvGraphicFramePr/>
          <p:nvPr/>
        </p:nvGraphicFramePr>
        <p:xfrm>
          <a:off x="468360" y="2049480"/>
          <a:ext cx="8229600" cy="3438360"/>
        </p:xfrm>
        <a:graphic>
          <a:graphicData uri="http://schemas.openxmlformats.org/drawingml/2006/table">
            <a:tbl>
              <a:tblPr/>
              <a:tblGrid>
                <a:gridCol w="2170080"/>
                <a:gridCol w="2016000"/>
                <a:gridCol w="2089440"/>
                <a:gridCol w="1954080"/>
              </a:tblGrid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sitive / Neg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quiry / Advoc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Questions / Statemen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gh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6 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1 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um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9 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 : 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w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4 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 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450720" y="401760"/>
            <a:ext cx="8242560" cy="134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8" name=""/>
          <p:cNvGraphicFramePr/>
          <p:nvPr/>
        </p:nvGraphicFramePr>
        <p:xfrm>
          <a:off x="468360" y="2049480"/>
          <a:ext cx="8229600" cy="3962520"/>
        </p:xfrm>
        <a:graphic>
          <a:graphicData uri="http://schemas.openxmlformats.org/drawingml/2006/table">
            <a:tbl>
              <a:tblPr/>
              <a:tblGrid>
                <a:gridCol w="2170080"/>
                <a:gridCol w="2016000"/>
                <a:gridCol w="2089440"/>
                <a:gridCol w="1954080"/>
              </a:tblGrid>
              <a:tr h="86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sitive / Neg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quiry / Advoc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Questions / Statemen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ther / Sel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gh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6 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from 3 to 11 as rang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1 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9 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um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9 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 : 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6 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w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4 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 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3 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2:16:24Z</dcterms:created>
  <dc:creator>eleamoor</dc:creator>
  <dc:description/>
  <dc:language>en-US</dc:language>
  <cp:lastModifiedBy>Trish Mooney</cp:lastModifiedBy>
  <dcterms:modified xsi:type="dcterms:W3CDTF">2013-06-11T15:13:34Z</dcterms:modified>
  <cp:revision>28</cp:revision>
  <dc:subject/>
  <dc:title>Slide 1</dc:title>
</cp:coreProperties>
</file>