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C6806E-82F1-45CA-AD0B-2F8984BA59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7D19F-423A-421D-BC60-5C4257BBC2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9F652F8-3BF5-48FF-9064-6E749BE4481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6E7C74B-4C94-4224-8F05-FE0B22C011E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58A3D82-0F3C-4E03-BB20-A3C4A4F9117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D003DE8-A9E7-4C13-A8F9-CFE6FEE2E79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FA3F63F-CE33-4822-8BBE-5E1D12584A9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F706355-94DC-4C15-90D5-7C842745737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1A2860C-9C46-40AF-8631-FAF30E835F8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1D6D417-C691-4421-AE0B-4288974109E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D4D1094-574B-4F27-A6F0-47D91C93453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59524C6-2C4D-4C55-9E64-7C68A11FD41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607E52-38EE-419E-9C00-080742F935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BF0F249-EBB4-4589-90F6-DE09A92B1EB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40E6BE2-A130-4FE4-A4EE-A1A259FBAB9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4CF2114-603E-4BB9-86CC-83B77D501D1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9CBA19C-D261-4A21-89B9-71804D8E9E8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99CD9E5-CC5B-4B84-BC72-C4F1A73E6A0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FB9D94B-DFED-40EB-8878-249826531EF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B4188CB-7801-4FAF-B5EB-BE3EE822E9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78E446F-2EF5-4400-B883-9C50CF649A4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205E85D-63E3-493D-8381-EAF3938D529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E5270AF-2209-417D-9759-9273041A130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7119F3-01A5-4105-8E11-82F9A6A1856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1628018-2FE1-4A56-8E6E-6CA91599155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2A4D01A-F0AC-4128-82B8-F928BBE44A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7B93A13-8F2C-4E53-95AF-6CB9DEDC32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4FECBDD-2944-431A-80C5-F1B8A27A27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95A9A94-CE3C-4401-99B6-6FDFE0A502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6A49DCB-8646-4973-BCE8-88D2A67A4E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28BC7C3-C511-4883-92AF-8B8C1CB5F1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8201991-502D-44B6-8751-049C9D8CDD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956B82B-8B98-476D-B828-67139B2916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C226E0B-108C-4C3C-9CAA-D002220FF5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78B92B-82A9-45C5-A2C4-EBB925EBA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87B667B-EEEC-4908-A8BB-462259CD03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AEC4303-C505-4BCA-9E9E-E14AAA79E4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A18EF24-5ACE-4118-95D2-A82BA9AF43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00DDCB8-526B-4253-9AF0-66A56EE8B5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C4425C8-3264-43C9-AC9E-8D0232181C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79EC2EE-5401-49AC-AAA8-B9BDA9E43D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84CCAB4-D3D5-4B3F-8601-47D007644A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6517512-6970-4354-8C84-3796DBB88E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5DDD87F-7C62-4304-891F-CF3F1FFBDC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02D1D50-8606-4ED8-88AD-DE11A0504D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722F83-C6C5-4F44-B09B-9BEACB41A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FA1D938-4005-4B1F-B398-C094788D5C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3EC9893-5BD6-469B-BD87-1F12D1FF5E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05D3E1C-F263-4DA7-9C0F-52C93F0A71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07E0954-ED8C-48E2-957D-B3BEF69A75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01267D5-16CB-49F5-9E92-4FF1CE892D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C461D9-4689-4B36-A941-D8EE39BD0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4A009E-48AC-485A-9986-C1C4E2CA1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0B4228-0A88-40EB-B2A5-FF0E9FD15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EA52B3-A587-4C2B-8A88-FAB24F723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40F0BB-2488-40FD-8326-D1FE068AF6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2CF5A-31D2-418A-9D59-1C3F468E93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BC5415-EB75-4FB3-A1F7-37FD3CD98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581323-0424-4721-A784-D3003812C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691856-DF21-4EC4-B4B5-12BC0A304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CEE50E-C8C2-4331-A00B-D70DADDBBE5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B0ED1D-8EFE-48A5-B87E-9A669EF2E0B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C4B1CAC-18BF-4F6D-8848-90E348AB09B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0604C5E-AD0E-4975-9937-727807245B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DBFAA65-11D7-470E-B9BE-25AE82D85F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234577B-B477-4D09-AFBA-F88D29E209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E3FBCAF-7DB4-4BCA-B467-88CB70EADC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D8988-F898-4D41-91A9-B3BE3F5CBA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D2ADE39-C00F-47CC-A898-0F45AEE0E82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BB055B-B01F-426B-AA98-6963366726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80FE79A-643A-4D31-B323-92D7345B8C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44EC55-17BC-459E-911A-905E7327CBF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70A78A2-B66F-479A-927A-414E4FD0CF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7A38D2D-C2B7-48E8-BD72-ADB969659F9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E10FCCA-068C-41FD-BD76-50D47FFCAC0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A146BFF-6446-4025-8737-34817F3A1E7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FA1E009-5AC3-40BF-B118-A35980D553F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0F17824-87EC-472A-B3CC-A7A104DD462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ECE55-9305-481C-B2A9-73E56C3977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F827793-13D0-4293-A9F5-6FAAED91CB8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19F5949-6F79-4B4F-AFB8-27D097A718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1A115D6-C005-459C-A80E-B19EF1DB727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680C1B-7CB4-4B74-8DFB-57E15B21A57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09A3BBE-911C-413B-8667-FA7A33907E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D07A49-46EE-4302-B33F-7CFCEFED5EE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6D47C9B-24A0-44F6-820F-BC91CC7BA7D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2750077-FE28-41E6-9C9A-F5F506D2E5F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CD4ABC1-77EA-4332-B544-3AD88243A7A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2DC05AF-F59C-486A-AD00-3DEBDC21017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8C9D535-9310-4ED9-8A0A-6B6BCF0EFA5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17E2B64-1948-4D2D-983D-D8DF59B1669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FA03290-5019-47FE-8B11-ACB1E58859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0ABD520-42EC-448C-BAD0-E7641EFF9F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0F7926E-8D2D-4D4D-95D9-EC7713D47A8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3F787DF-7B6E-4DBE-BA63-136E40EF780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52FC95F-B756-4E92-B204-865B83A181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8F15F32-02FF-4273-9BE7-1D2240AC3C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5BE8DF6-6B53-484B-A005-67B709BC2D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B1B2F2A-8948-4AE1-88B6-AE43A91BE9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C558AB3-3D92-4149-98AF-4EC83C3FA27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6E2BAD2-7DFA-4990-AE85-711A6783F2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5475F89-CA17-4047-BA90-8139969E361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50BB403-B530-48B3-BFE5-C2EA7E49EEE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72A5AB5-1D6A-4F4E-A83B-8264EC2CAB2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843F5DA-45F2-4311-9AF5-6DE31D0F49E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6642B4E-C455-4C58-A243-1179653F8C4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38E88D2-8C25-44E2-958B-F9D6326DE7D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FA873DD-5169-42AA-8C9A-70248AF7DA2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B48B587-C6E4-4344-811A-B2F87683AA1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D64AD82-AA88-4D25-8F84-19DF99B7130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A9C14D9-F990-49A1-8C01-A9B4EF01CD9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E74A7-1142-496D-9885-80C33528242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C937733-C610-4DC4-850B-3E7C6E20C3C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AEEDC16-FBCA-40AF-9F3B-5FECD581C16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173EA1B-F94E-4408-BC51-48739B80B0C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D352A61-22C1-4B18-8617-8AB288571D2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2DCB7EA-C7BD-48B6-822F-31EACAF09D5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1B701D6-8E40-42B6-8AED-733AB579394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96322CC-12A8-4D34-98F2-42E5E7C88CD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F2D904F-514C-443C-855B-9C5BD76C74D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106DB7C-60FF-49B9-8FFC-3CB533702DC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0175C49-3573-461E-AE7E-64ABD1FC7E2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C3209-635E-4B1E-A6BD-C8FB3AA28C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AD07B3F-73D0-412A-8606-B93C534C49E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5995257-8A5B-4EF5-B4AE-81E85439FF8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98E24FF-9DA6-4D60-B317-18BEF24C53A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FA0E636-4BB1-4C07-8D63-373B5ACC266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229BF3D-8728-4009-812F-DEA282951B3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A549C53-1E29-4465-B132-E9B8522A459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8AD9803-A9BD-4BB5-93E5-C4004822ADD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4934F5E-CDE7-4E1E-8B69-7C3EB64F087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4D2B72A-FC66-4595-8BDA-87D9C9D1CCB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C90FEAC-5945-4D7A-B540-ED7388E7A35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7B7FD-E864-4EC6-8460-680BC33CBE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E2CC200-10F8-440A-98CF-54F18A091FB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844030B-0441-4379-AE2F-1B218FDFAC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31B9A2B-F60B-420E-A88B-9FD621931D8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C7ECAE5-31CB-425A-9002-9ED709EB35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B2AC5D8-1CCE-4BD8-A754-B2F3EDA424D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CAB3B82-6A8C-4AE5-9439-68512EBCC89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9E72B61-5C5C-4F52-A5B8-45C5DD45CD9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EE40009-84BC-432B-8411-8C26286C03F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16D9040-4B0B-4A36-9A15-130C9A3A775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4DFC01E-29E4-4763-9EA0-6819FB350C6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2F724-ACB7-4E46-AEFE-C3EEB7B48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43289-8BAD-4AA0-B511-7A2FC787F05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6629A-F911-4BDB-95A2-D158450484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F7A00-6118-4C9D-B7EE-78EECC3ADBE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C0CE4-776F-41C0-B666-F15429E1D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7DE6B-A954-4087-8E08-46EB577C071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035F8-D6A9-4ADB-B975-996025E1D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ADC6F-3F5E-4AA3-81C4-23125DACD41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36A36-E3AB-46CA-BC86-0CCD47DE3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CF098-0273-42E0-8A48-BA7AD3B6D9E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EBF62-E480-4FBB-A8D2-6A432FDDA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62601-112D-4F84-90B2-74A5179A8BD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C0A66-F498-4F1B-A8DA-382877C5AA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5D49E-E17A-4057-8A1A-46E9DC34F5C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47D32-D3DB-4D04-A274-A15C0189C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3D026-A4F0-400D-BAA0-9C630228CD0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16845-5441-4510-BF8D-5833F31E5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D3C4B-48A1-4B01-BEC7-2CDFCDEA1A5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C4AD9-019E-4995-8FD7-A563658059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D0F54-6711-4C9F-821C-05190A8CF12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967FE-A9EA-4B3E-8BA0-686E97F48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B007E-890A-48A2-900E-AF3DA8AA349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A7686-D8C9-4CC9-9D6E-CCC277ECD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98120"/>
            <a:ext cx="4038480" cy="3297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otional Vampires at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Albert J. Bernstein, PhD</a:t>
            </a:r>
            <a:endParaRPr b="0" lang="en-US" sz="2800" spc="-1" strike="noStrike">
              <a:solidFill>
                <a:srgbClr val="000000"/>
              </a:solidFill>
              <a:latin typeface="Arial"/>
            </a:endParaRPr>
          </a:p>
        </p:txBody>
      </p:sp>
      <p:pic>
        <p:nvPicPr>
          <p:cNvPr id="531" name="Picture 6" descr="http://www.albernstein.com/25fb20b0.jpg"/>
          <p:cNvPicPr/>
          <p:nvPr/>
        </p:nvPicPr>
        <p:blipFill>
          <a:blip r:embed="rId1"/>
          <a:stretch/>
        </p:blipFill>
        <p:spPr>
          <a:xfrm>
            <a:off x="5197320" y="1530360"/>
            <a:ext cx="301788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457200" y="1374840"/>
            <a:ext cx="8229600" cy="4687920"/>
          </a:xfrm>
          <a:prstGeom prst="rect">
            <a:avLst/>
          </a:prstGeom>
          <a:noFill/>
          <a:ln w="0">
            <a:noFill/>
          </a:ln>
        </p:spPr>
        <p:txBody>
          <a:bodyPr anchor="t">
            <a:normAutofit fontScale="93000"/>
          </a:bodyPr>
          <a:p>
            <a:pPr marL="318960" indent="-3189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Vampires fall into one of these 5 Personality Disorders:</a:t>
            </a:r>
            <a:endParaRPr b="0" lang="en-US" sz="2400" spc="-1" strike="noStrike">
              <a:solidFill>
                <a:srgbClr val="000000"/>
              </a:solidFill>
              <a:latin typeface="Arial"/>
            </a:endParaRPr>
          </a:p>
          <a:p>
            <a:pPr marL="318960" indent="-318960">
              <a:spcBef>
                <a:spcPts val="45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socials - crave excitement in all its forms, sex, drugs, rock 'n roll, larceny, bullying and gambling with other people's money.</a:t>
            </a:r>
            <a:endParaRPr b="0" lang="en-US" sz="1800" spc="-1" strike="noStrike">
              <a:solidFill>
                <a:srgbClr val="000000"/>
              </a:solidFill>
              <a:latin typeface="Arial"/>
            </a:endParaRPr>
          </a:p>
          <a:p>
            <a:pPr marL="318960" indent="-318960">
              <a:spcBef>
                <a:spcPts val="45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rionics - live for attention and approval. They firmly believe that what it looks like is more important than what it is. Wherever they go, they create drama, passive-aggression, and motivational seminars.</a:t>
            </a:r>
            <a:endParaRPr b="0" lang="en-US" sz="1800" spc="-1" strike="noStrike">
              <a:solidFill>
                <a:srgbClr val="000000"/>
              </a:solidFill>
              <a:latin typeface="Arial"/>
            </a:endParaRPr>
          </a:p>
          <a:p>
            <a:pPr marL="318960" indent="-318960">
              <a:spcBef>
                <a:spcPts val="45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cissists - are certain that the universe revolves around them</a:t>
            </a:r>
            <a:r>
              <a:rPr b="1" lang="en-US" sz="1800" spc="-1" strike="noStrike">
                <a:solidFill>
                  <a:srgbClr val="000000"/>
                </a:solidFill>
                <a:latin typeface="Arial"/>
              </a:rPr>
              <a:t>.</a:t>
            </a:r>
            <a:endParaRPr b="0" lang="en-US" sz="1800" spc="-1" strike="noStrike">
              <a:solidFill>
                <a:srgbClr val="000000"/>
              </a:solidFill>
              <a:latin typeface="Arial"/>
            </a:endParaRPr>
          </a:p>
          <a:p>
            <a:pPr marL="318960" indent="-318960">
              <a:spcBef>
                <a:spcPts val="45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ssive-Compulsives – can’t seems to see the forest for the trees. There is absolutely no task they consider too small to micromanage.</a:t>
            </a:r>
            <a:endParaRPr b="0" lang="en-US" sz="1800" spc="-1" strike="noStrike">
              <a:solidFill>
                <a:srgbClr val="000000"/>
              </a:solidFill>
              <a:latin typeface="Arial"/>
            </a:endParaRPr>
          </a:p>
          <a:p>
            <a:pPr marL="318960" indent="-318960">
              <a:spcBef>
                <a:spcPts val="45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noids – found the simple truth that explains everything.</a:t>
            </a:r>
            <a:endParaRPr b="0" lang="en-US" sz="1800" spc="-1" strike="noStrike">
              <a:solidFill>
                <a:srgbClr val="000000"/>
              </a:solidFill>
              <a:latin typeface="Arial"/>
            </a:endParaRPr>
          </a:p>
          <a:p>
            <a:pPr marL="318960" indent="-3189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way to combat vampires is with </a:t>
            </a:r>
            <a:r>
              <a:rPr b="0" i="1" lang="en-US" sz="2400" spc="-1" strike="noStrike">
                <a:solidFill>
                  <a:srgbClr val="000000"/>
                </a:solidFill>
                <a:latin typeface="Arial"/>
              </a:rPr>
              <a:t>Slow Thinking</a:t>
            </a:r>
            <a:r>
              <a:rPr b="0" lang="en-US" sz="2400" spc="-1" strike="noStrike">
                <a:solidFill>
                  <a:srgbClr val="000000"/>
                </a:solidFill>
                <a:latin typeface="Arial"/>
              </a:rPr>
              <a:t>.</a:t>
            </a:r>
            <a:endParaRPr b="0" lang="en-US" sz="24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nal responses are slower than emotional reactions. To gain control over yourself and the situation, you must actually think more slowly than the emotional vampire.</a:t>
            </a:r>
            <a:endParaRPr b="0" lang="en-US" sz="1800" spc="-1" strike="noStrike">
              <a:solidFill>
                <a:srgbClr val="000000"/>
              </a:solidFill>
              <a:latin typeface="Arial"/>
            </a:endParaRPr>
          </a:p>
          <a:p>
            <a:pPr marL="318960" indent="-318960">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5" name=""/>
          <p:cNvSpPr txBox="1"/>
          <p:nvPr/>
        </p:nvSpPr>
        <p:spPr>
          <a:xfrm>
            <a:off x="457200" y="1676520"/>
            <a:ext cx="8229600" cy="4525920"/>
          </a:xfrm>
          <a:prstGeom prst="rect">
            <a:avLst/>
          </a:prstGeom>
          <a:noFill/>
          <a:ln w="0">
            <a:noFill/>
          </a:ln>
        </p:spPr>
        <p:txBody>
          <a:bodyPr anchor="t">
            <a:normAutofit/>
          </a:bodyPr>
          <a:p>
            <a:pPr marL="343080" indent="-343080">
              <a:spcBef>
                <a:spcPts val="4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at will work are approaches that involve knowing how emotional vampires usually think and act, then stepping into their world to communicate with them, and stepping out of the response pattern that their behavior typically elicits.”</a:t>
            </a:r>
            <a:endParaRPr b="0" lang="en-US" sz="2000" spc="-1" strike="noStrike">
              <a:solidFill>
                <a:srgbClr val="000000"/>
              </a:solidFill>
              <a:latin typeface="Arial"/>
            </a:endParaRPr>
          </a:p>
          <a:p>
            <a:pPr marL="343080" indent="-343080">
              <a:spcBef>
                <a:spcPts val="4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Slow Thinking </a:t>
            </a:r>
            <a:r>
              <a:rPr b="0" lang="en-US" sz="2000" spc="-1" strike="noStrike">
                <a:solidFill>
                  <a:srgbClr val="000000"/>
                </a:solidFill>
                <a:latin typeface="Arial"/>
              </a:rPr>
              <a:t>involves using the newer areas of the brain to manually override the automatic programming and substitute rational analysis for physiological reaction. The ability to analyze a situation and do what needs to be done rather than what we feel like doing is the very essence of maturity.”</a:t>
            </a:r>
            <a:endParaRPr b="0" lang="en-US" sz="2000" spc="-1" strike="noStrike">
              <a:solidFill>
                <a:srgbClr val="000000"/>
              </a:solidFill>
              <a:latin typeface="Arial"/>
            </a:endParaRPr>
          </a:p>
          <a:p>
            <a:pPr marL="343080" indent="-343080">
              <a:spcBef>
                <a:spcPts val="4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arcissists present a difficult dilemma. Though there is plenty of narcissism without greatness, there is no greatness without narcissism. Without these emotional vampires, there wouldn’t be anyone with the chutzpah to l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3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Your Story: </a:t>
            </a:r>
            <a:r>
              <a:rPr b="0" lang="en-US" sz="2400" spc="-1" strike="noStrike">
                <a:solidFill>
                  <a:srgbClr val="000000"/>
                </a:solidFill>
                <a:latin typeface="Arial"/>
              </a:rPr>
              <a:t>I have quite a few bosses, coworkers and employees who are difficult to deal with. It seems to me that they take great pride in causing drama and utter chaos on a daily basis. Since I do not suffer from their particular maladies, it is difficult for me to understand why they behave the way they do. This book helped me see that they have personality disorders that no matter how hard I try, will never change. The best I can do is learn how to work within the confines of their disorders to achieve work. The book gave me practical ideas to use to successfully manage these people and get work accomplished in spite of th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denise.mathews</cp:lastModifiedBy>
  <cp:lastPrinted>2011-06-13T12:29:39Z</cp:lastPrinted>
  <dcterms:modified xsi:type="dcterms:W3CDTF">2013-09-03T23:47:16Z</dcterms:modified>
  <cp:revision>19</cp:revision>
  <dc:subject/>
  <dc:title>Leading with Impact</dc:title>
</cp:coreProperties>
</file>