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EA38D-63F7-4254-902D-93B28CCBFA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B0A64-DEBF-4764-A69F-DE30F688A35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8071FE-5A42-412F-A49B-99379F2B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09BCAA-C02C-4FCA-B824-686EF35C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6B4472-1E9F-4C71-98D6-92F4480B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35B5B6-247B-4B31-BA7A-CC0F957B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5FE080-322E-407F-AF82-D9AA96AD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296CC0-EBE3-442A-9EC3-2E8D74C0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2D959A-A965-48FB-8B9E-C9D3E09E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545AE7-E08B-4243-81E3-E0601AF1C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13F878-9E62-48EE-9C0E-731341658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245128-4222-43A3-9418-B27E4EEE2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600B7-D2B9-44EB-B5C9-503C6FBB7D4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9A4D93-F5C1-4659-AEE9-CB194870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923035-0C7C-4997-B7CA-727C022D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58FF90-142D-4762-809B-44158890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58F5C8-7F15-4F0B-B6B4-CF368FB0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0C5FBD-955B-4160-A64E-DD2CDB4E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34D407-6427-4FD0-9FAF-A66568F6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3144FB-2004-4587-BC50-8B5DAFB5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918432-FF09-4FD8-9B39-62753DD3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F19472-52A1-4043-94A5-8C5D5487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AEB488-75AB-4FAA-B4B8-3E600BA52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33772-E161-4805-B9B7-7830ECDFA85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E2A1DC-2DF4-4F6F-B549-CB49A807D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734E825-8283-4246-915A-6ED59B8D6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D658EC5-EB1D-4B75-8A42-2B5BA744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7CE8BED-6B87-4B86-BF43-0AD02984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787E2E7-A51E-40C0-A63E-13219705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2111B93-9038-4844-99CE-3B4BB122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02DD804-88EC-43C1-853F-6B6AC60F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21D31BB-754C-4B51-84BC-E2885C3E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6547048-9F13-4ABB-AE57-82247135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B6C02FF-083C-476A-95BF-D4E0453E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24276E-0F35-4AE3-B386-0A736EE10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1EF9EA4-2534-404E-BD94-ACB7CA66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A4A367B-442F-4D8D-B6B8-55CCA0A9A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2D20BD6-6A17-475C-A51F-BAB574128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BEB8C2-91C9-4D5B-A808-6A36D9163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0BD662-5870-41D5-8233-A236C9FF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257417-809C-4D91-8D22-7512F463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61599A-F951-4A76-821B-6509DB4E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DAD2FA-8951-42AA-B9A0-4C672B34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E5BA7E-59C8-4A0C-9D46-BDA342EF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F5FCC0-5CCF-46F8-89A8-6A076AF1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908C1-5C6B-4AF8-8910-B9D845B7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82D69A-29B8-4826-9238-D8D95B36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2FF491-67D1-4A61-B6BB-9FB85834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887B2C-EF67-490A-8CC4-289C9D87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4F5878-C4B8-485C-AEFA-4637E64BF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17D41B-A457-4FF8-89CE-0B917207C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F3253D-1838-4638-8FAD-183C5CFF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36EC9-C870-4BC8-877E-CAAEDA2A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67CD4A-6DDA-46B7-AA29-88F28428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C39931-A5F6-47B0-8E6E-2641A174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32C7CE-9ACE-4F78-B26E-63547776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1BAD3-C8A3-4A9B-87B1-6CCEBEEC77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39CA2-54D3-4544-A4FD-280418F6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C6872-943A-4607-B3C9-5BE246A2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1B78E-5F8E-4B16-A3E0-3EF66D0F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2D2314-3845-455C-9C5D-022C2F255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D73B3-2E27-4609-8F9B-2923AC557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29B20A-8C9F-4963-8407-8652CACC3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4D1F03-B5F5-4B3E-8CC5-847900C2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1C91ED-2FD5-470C-85EF-54F0E105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22C0B5-BAAD-4969-9572-B6DC5F49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F57D64-0B34-4F93-BF8A-1E5798F3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E33FD-0717-46BC-94A5-727DA8CC29D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4B189A-7A8C-4264-9773-343CF7F7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4F9C4C-B0C6-4EF2-9CA3-174DCF21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94ACB0-E575-49D3-B40F-87D13B7D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974DB1-49A9-42B3-B71E-8D0F8E07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D27D02-34DA-45FB-B3F9-F9F4A836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A92FD5-9780-4C07-9D6B-90BB43B71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D0F035-5EC1-4BF8-A6F8-119928010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60555E-B57C-416D-9E39-FA29E782E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D19705-CC4B-4A10-961D-53EA35EC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AC200D-B7A6-4CD7-BF3C-316E57FF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F73B0-B785-4BC0-8A68-77DB5E40417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507566-58AA-4A5F-BF2F-4D2669F8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ED1552-302D-42D2-AB74-226250BD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CD2852-3910-43C9-AF35-DF6B72A1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BD471F-62D6-4F39-9ADA-80890E24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B2EF5F-D995-401B-90CB-FF457CD8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9D9943-E893-4D63-B81D-59AAF3F5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E95F94-4F52-4F94-9F3D-5F92424D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0F3A5A-C065-4D13-AFA5-B4DF3B4AB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D72DD8-3C51-45F8-AF76-270324B99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B08C4B-AD96-4528-8493-ED164027E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D5E23-DFCB-4492-AEE7-5534017D918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90E5E7-468D-4B57-82EF-B48B5C01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E24B61-636F-490F-B917-401DE9A6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78B56D-6899-43CF-A096-DA4DE441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163F99-0EBE-4197-9014-E3BCA3D9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405D78-A26A-43DE-8B1F-335C13AF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835CE9-B6E2-462E-A43D-B6583D5F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DA3A80-9A4F-4A7A-A2BD-D84A8E67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7F951F-DED2-4F61-80F4-560FD6FD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0DAE05-A724-43EE-9B39-0B900F14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550F6F-67AC-4728-B14E-8A6B98156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C6EC6-6B20-4370-9B70-7E6409718AB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D4BBBD-8924-4733-8F53-4089530A5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AB65CF-B041-44BB-9060-38E669EE6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FFE83B-95C1-4C02-A847-49DD195E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DBB1BB-06B2-4107-938D-7490C2EF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FDEA57-B7CD-480E-8550-EE355AFA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6E7690-19C1-40D9-BADE-C03E03E6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1AFF5F-F26C-463C-9FB7-352125BE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0D61BD-2A06-4458-AEC2-387D8E4B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815F64-1699-47A2-974F-316823CB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E41E0D-D62D-48F7-9653-6C38037C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24229-5162-4A26-AFB8-B798E13881D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011190-9A5C-4048-9C87-9263A909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33D8C7-2CE5-4D93-B7CC-6299DFB4C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905A0C-86A8-4E36-A40F-2914D5ED4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B3A1B6-F95B-4FDF-A929-D6122CFA3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EE937F-1F44-430A-8CAD-8A5C4AF9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027657-3499-4297-903B-2AF16535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A9F37D-40B5-40B4-AAEC-7784934E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112158-4083-4B72-8C7E-E60EB730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B0D2B8-224E-4754-98BB-C67F36E4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1B079B-211D-4D0D-BAA0-B1FAB828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5EFE2-1E47-4B50-AB1D-7CE34F9C3DB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0B7A26-E345-452B-A2E6-B1E796E3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872F13-A42E-4EC2-B378-73126ABC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D0E3EE-83FD-4C35-BBF5-EF91B775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0E86D5-B7F7-4285-9A54-77851BE89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BE6309-852D-4483-824A-CD8EAF56E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FCDAA4-3F13-42F4-8AF2-2D8886226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DD2A6B-B76E-4967-BAF3-AD155809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3E7F55-3616-4696-9540-35AE5BA7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665E93-AEF9-4731-9361-61B3415D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41794E-3533-4DAB-8699-A10D7B2A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F7E27-04DA-4B5D-ABD5-5D2A21BB993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1EDE08-D50E-497F-BFFA-444E41E2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9E657A-AC7F-4ADE-A1B2-2CE9C15F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94D0A1-BA66-4FF8-B1DA-881F16E7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C65A70-5901-4B06-8BAA-1B52095E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121ADE-9786-4649-B6B7-2627ECC0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C3EFF0-648F-4FEE-91CE-783BCC7E4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D44D3B-D90D-4587-B2B5-7BB8EEFEC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2FE647-B597-471C-BDE6-64518BC9F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2C74D6-2B4A-45DF-81E4-2262AE04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49FFED-8685-4A87-8E4C-CEBF5E00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225A3A-9BCC-4F70-8D53-D50EB35F3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79432D-54F3-4A7C-A302-3E42EDC3F547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7E490F-AC3E-4419-A248-5C3652243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708015-A6B9-4069-9771-5A6FC48DC49C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9A30B4-5758-4F57-8D43-80D82E857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52421D-2037-4226-BF1E-FA50802B910F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093198-24C3-436D-B3E2-EF2ACBBC1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CMA_ppt_wDUI_front_bkgrnd"/>
          <p:cNvPicPr/>
          <p:nvPr/>
        </p:nvPicPr>
        <p:blipFill>
          <a:blip r:embed="rId2"/>
          <a:srcRect l="240" t="0" r="825" b="846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COHORT Logo by Toby Cisneros 2 16 2010"/>
          <p:cNvPicPr/>
          <p:nvPr/>
        </p:nvPicPr>
        <p:blipFill>
          <a:blip r:embed="rId3"/>
          <a:stretch/>
        </p:blipFill>
        <p:spPr>
          <a:xfrm>
            <a:off x="609480" y="457200"/>
            <a:ext cx="3733920" cy="1919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DA7F87-AF51-4BA6-AA10-43148B1401EC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D3D15F-D9CF-4488-9EB4-C191B5C22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3DE8CA-B575-4783-BBF7-191E4C7F67BA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B917F4-D12D-4BC1-B996-3A35B6D74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5D836A-6761-44D1-A7A2-AC250150DDAF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144837-9A0E-4566-A0F4-2D9C99A7D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0CFB22-0769-46B1-974A-E23E39A64C6B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05A209-537F-4EF5-B140-531C0A9B1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FA1577-F888-4E30-976C-524750DC41E5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9DE01B-2F12-4092-939C-E79FE8602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175324-7C4E-46DC-906B-6742B67BF316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EED609-3C05-4B7F-868A-90ACE7C97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F036DC-F054-4063-89D5-37E12300B500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FF1148-8920-486C-9B1E-C47AB739D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B994EF-37B3-4CF1-9817-EED7E003B186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BEDB20-DE4C-4629-A926-909C41CA4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G Senior Leadership Cohort Program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E. Schoenf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OPM Seal"/>
          <p:cNvPicPr/>
          <p:nvPr/>
        </p:nvPicPr>
        <p:blipFill>
          <a:blip r:embed="rId1"/>
          <a:stretch/>
        </p:blipFill>
        <p:spPr>
          <a:xfrm>
            <a:off x="3886200" y="32767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7"/>
          <p:cNvSpPr/>
          <p:nvPr/>
        </p:nvSpPr>
        <p:spPr>
          <a:xfrm>
            <a:off x="1055520" y="400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Book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: Daniel Gole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2" descr="shopping.jpeg"/>
          <p:cNvPicPr/>
          <p:nvPr/>
        </p:nvPicPr>
        <p:blipFill>
          <a:blip r:embed="rId1"/>
          <a:stretch/>
        </p:blipFill>
        <p:spPr>
          <a:xfrm>
            <a:off x="5321160" y="1279440"/>
            <a:ext cx="3262320" cy="49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Messages from this 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02760" y="14461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Q is no guarantee of success, happiness, or virt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s have two mi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tional mind – Frontal cor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otional mind - Amygd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ygdala – the neural tripw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oser to the spinal column; can act without rational interference!  (baby in the water – as in bo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s for our survival but interferes with modern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 between the two minds requires emotional literacy (intellige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otional literacy is “trainab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s I Would Like To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150840" y="151236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now ones emotions - self awareness in real time to recognize feel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 emotions – handle feelings appropri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tivate oneself – marshal emotions for goals.  Delayed gratification underlies accomplis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ognize emotions in others – empathy as the fundamental “people skil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ndling relationships – social competence critical to leadership and personal effec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ment is not dest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his Book Meant To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ware of the emotional trip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will hit it; 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ten the root of confl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pathy will help over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vention is the best medi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story:  Physics vs. statistics became hostile!   We all have m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6T12:32:45Z</dcterms:created>
  <dc:creator>Trish Mooney</dc:creator>
  <dc:description/>
  <dc:language>en-US</dc:language>
  <cp:lastModifiedBy>scott schoenfeld</cp:lastModifiedBy>
  <cp:lastPrinted>2011-06-13T12:29:39Z</cp:lastPrinted>
  <dcterms:modified xsi:type="dcterms:W3CDTF">2014-02-17T13:49:32Z</dcterms:modified>
  <cp:revision>19</cp:revision>
  <dc:subject/>
  <dc:title>Leading with Impact </dc:title>
</cp:coreProperties>
</file>