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7"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403BF1-81BE-4BDB-852D-64847B2853C3}"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5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0"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1"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43A6DA-CED3-4FEC-867F-AA754B87742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A2CC17-DF7E-4797-8CDE-BEA6628DB1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44BD9D-4D33-43A8-8130-079C244D7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DD4A3B-5712-4C24-8020-6C31ECBB79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272628-0428-4235-88A8-86FB4901670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D6ADA2F-0220-4544-8709-5A6A3D9ED29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E508322-2DDB-4504-BFCC-1BA7804F9DF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D6477AC-38A1-4743-BCF7-C1CD072DBAB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6024C65-E92D-4D78-A867-E5F704F9CF8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BD281E0-D552-479D-BBFD-39CED276130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413B12C-72BE-4A14-86B0-415FF69FAC0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8EE26B3-E930-4F61-A009-894F18C9253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5B27786-B556-4A88-B5F7-764CAA9DE1EA}"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30326D2-4252-4682-8459-A79BFEC25DD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1497BBD1-AE1E-4A4E-9927-0A440D7AD7F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A8FC9A-683D-4987-A2CA-FDD0506CA08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ACD00BB-AC7E-4C7E-A242-17AAA50B415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FCAEF0F-F5E6-46D6-BA6F-A175C7A09AF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7169661-87BB-427E-A294-94DA3D13DCE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790ABA9-E3E2-4E78-BF5D-CE2E1CC3A28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3ECA5C7-05DC-4869-91E4-7A6758CB3A1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FD359F7-7AC6-4B49-8845-EA6FE431D8F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CB321A1-73BB-42D8-B9BA-C985C213AF4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D410C56-4599-4C2C-8BF9-A551388CB4F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B2556DB-1111-4AF0-9574-F34A95A2594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13D57CF5-0285-42B1-9601-3A0F821A16B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24EC57-AE21-4690-900A-5D23ADDFC9D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A8BE351A-527F-4A9D-BBC6-E9473809503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CD66368F-4C86-43E3-B45B-0A3CFCE3E9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63740FD-E475-414D-A39F-2A2BB2419C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D5802A8-6C4D-4C9D-B518-80A9651B04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C4A0632-8792-4513-B849-530906A878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7705F16-7EA1-4269-B68B-9AEE4E16FC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F88637E-3707-479C-92FB-71A13B0F1C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A39192D-87DA-4152-880A-8AAA02A70D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8C1446C-641F-4895-A17D-F16AB8B0D1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F751CF5-10F4-496B-8C38-C2F1B7A689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14E261B-0062-4AC3-9854-16EF185252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71B4530-7AB5-42BD-9977-3472FE8951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9BC0B77C-DD79-4CAC-BB80-F8BF5CDE0D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0D6CCC0-A9E8-4760-B669-AA579AED10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E2121F56-F596-4BE2-A951-334C1528E0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6E09674-81D4-4624-ACDD-A714BE83F5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21F08C5-78D7-42BE-8DA9-A4856A698B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1F09EAA-ABEF-4D66-A60F-70D1283D5C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1E53AAF-EF10-4593-BECD-8291919293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41ECD44-195A-4B0F-9691-CAE90F65D3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1516FEA-39A1-481E-9133-840BB89DA4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B882B12-E534-404F-8254-EC4169DE9F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9EC2B9C-3BC8-4D07-B43E-750F5CF255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34C267C-3E8A-4A66-95FD-A50F11A2D1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CE13E9D-A66B-479D-856C-63E002F265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FD7415A1-8057-47B5-886A-8983DEB9CB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F345BB4B-F212-4CBC-A757-6C1C8BF332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817D76A-BC46-4E8A-8ADD-588159E4F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B07648-F48A-422D-86BF-E2D6E9F420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B3F9F9-C591-4A32-83DB-837701983A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3371324-1874-4D88-AF95-81E6CC1360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EF9225-C31A-4E34-86AA-606C4D5678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11F1E-0572-49BC-A4DF-BA5CEEBF2D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1E4968-04AB-4887-A214-B502923C10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7DC2AD-AC9A-45A5-9FDF-1D2FFA9B5E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8113CEC-CF51-4808-B603-6680FCAC9E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D502861-12CD-46A8-975F-D2B221F9AD3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9C16BF3-B08E-403F-89CB-B3C56FDB2E4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C56B365-DEAB-486A-A76E-978305264D5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6EA2AE6-F1EF-4F55-8109-28639303E62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04F05B4-BBE6-44F7-9B4A-EFAB238AFE5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708D732-5649-4466-B93E-B3CDD229519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12CCDEE-2A67-40D6-BFBC-F5C7BFF101C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EAF52-5C5C-4FD3-B98B-B18B838D3C7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6084103-BB14-46D6-8761-51027E2EB05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8450289-7BE9-43C7-808C-29EF0319E7E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1406950-C91B-4A53-9AB3-334138D9304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E36CB80-4A41-4B2D-A87B-7C16609C6E8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26841DF-9D15-49E3-B0AD-0C51FD37CE7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8C18A56-1FAA-4D18-8128-4D9A193D507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D08FD04-9804-400C-8D25-EC8F22AE3AF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25CE2AB-E47A-4389-9058-D70F77B05F3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89A33B0-D4B4-4E32-A8EB-B2274385178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1231D90-4263-4869-9766-432B7DA55E8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0BB429-3C0B-4710-8CC2-9EBC6116AFA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DFD9FC5-770A-4E14-B226-2586F886ACB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5743342-7714-4C36-8A9B-EB749F1E7BB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36E6890-A653-4EE2-8832-AF6B1204DA9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6BE2BB4-0E62-4574-BE7D-3434C1BCC5A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D4C5D0E-0535-464E-9E6C-54949C4FB4B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4508E41-607E-4F29-82CC-49677AF31CB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D1D036D-2201-4BA1-8223-3A66B1EAED8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BD64ABB-D79A-4316-BB06-B446703E8E7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3C36D3F-B843-4991-BEF1-E06FAEF02B2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FA187FF-6146-476A-9BDD-E41C8998C85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93C30D4A-1339-4477-967F-3B17022B047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1B3BC64-710F-46D2-B2DD-6CED8FC1309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0DA26D9-441D-4BF7-9DC5-0AFB1A34674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27C5DCE-05FF-4071-AEBD-07F5DB57507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E62047A-B2CB-4637-8B0F-979678E7F35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5574359-8A7B-4CEC-9E16-E25EA1CC220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EF092BB-9C23-4A1B-986F-8DF8A7A5FC3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E1602AF-C641-4A96-A935-68001779FDE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762247E-8E04-4F0E-B533-9B3BADCA5DA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4E2D843-544B-4527-8A12-FB8FF5DBEA9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D8D892E-0DC8-4EAB-BA51-FE3BFA54A5B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2FF16A8-E706-48B9-8B8A-6EF5684DA2E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3E35B77-EEBA-4E4B-864F-615E320624F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CA6380E-AF3D-4A16-8FAC-0B55E3C9950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69EF1A4-3667-4EF0-8746-762A8ECFD4C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45AB9D5-1977-44E5-B366-C35CFA0242F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266D6E8-B9ED-4C0B-B297-F4BFCE95884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5070E82-D89B-47F9-8426-9CBF8EA972A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4A47B81-8E84-4BA3-926F-FBD5CEEA57A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C91F30F-653D-460A-8600-4DB8A9A4DB9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3331EE4-9718-40C3-8A01-B93EF9BDC4E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A75CACC-D8D6-42C4-BBE4-CD959204858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5706F-3AFC-4DCC-9D6A-44279251762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94E0A56-8C00-4693-AF5C-970CDA1FAC9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6F5C753-C83A-4F96-BA17-0101B681298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A374943-FE81-45A8-B744-59DA2901091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C92696C-53E6-44E1-A6CE-8030E9787B0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E9D0F8F-BDA3-4F7F-9AD3-ED50422640E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FAD6643-3875-442F-9A54-6745C4954C5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7B88F7A-F60C-4DB6-BF7B-6F71705D245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EF5179D-B90A-4738-BA87-4A73286D530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3D60AD5-9A0E-4990-B97F-EFA5731AB8A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E2A8D1E-DAE0-4808-A1E4-D758A1A9BFF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4ECA1-D14E-4FAE-99BB-90EF4E5B4D3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4AE3D99-624A-496E-B46F-9BA67E6BF8B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7CE00E2-1DF4-4BB0-8289-773BAA4A066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54C7756-4F9E-4B26-AAD4-044E588252E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0459301-AA52-405B-B66A-86D44DEE853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090B966-2E09-40D8-AD5C-E7A6B396E26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7E606F5-21D0-40AF-A66A-84185352E8D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F451430-7BC5-4281-8671-66BE3F2D643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32A6A23-8459-4999-8694-3A915915D1B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C16A6F6-8058-4719-BC2E-D59E4ADDCCB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067B029-1D71-46E3-A251-E8DF0617A6E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9F6BB9-2EA4-42C0-970C-23F50416617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031EA19-31E9-4B01-A49E-3A9C63832E6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10D1E24-D660-455A-B8B3-2FE253F65B7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EB5AF9F-CF80-425A-B47E-F4D7AF703ED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21C3AAC-18EA-45D7-BEFE-1B332B20A0D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525D519-C1D4-4BC1-A73E-1043761B313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A4E6B17-22C4-4DB3-BFCE-5B8BA984C2A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5968133-14F5-499C-AC6B-8B011CB7E65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C24F228-23BA-40FD-A326-C3CF9A43B83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66DF513-9F88-4EFD-9D54-B813D902325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20E4EC1-710B-4595-9BCA-8100F3BD08B0}"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1C872F-B43D-4A60-9A09-4A6955CB81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5F83B6-775F-4760-85C4-DF396CF2E97D}"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387F93-D58D-434C-88D6-CD59E5E789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8774A9-3D37-42EE-945C-EF0A32D5BF92}"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3A7F68-FE55-40EF-9BDC-76A22F1C00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2C656A-FC38-4CBE-9B7A-636FE85171EE}"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27B34-B388-4EB4-8EC8-0CC2B9E9A2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8ACE1E-D640-40C1-99D1-C9B167C31C88}"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866087-F907-4A67-B6B8-46BEC0D074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F7E7B0-0E51-4F31-9872-E3C113ACE573}"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3D35F-BC33-4FFB-A947-F1B5920A59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38614-E83D-4CCB-A786-DAA9770E262A}"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5D23EA-3D00-41F4-AB39-CDBFB6AE65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627750-ED47-47DE-B2A8-A6841AC4F99C}"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0A8065-BEE6-4885-BBA5-08E7700714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E98862-2993-45F8-86F4-CE1EF904B588}"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BF1397-DD20-4CCD-AA57-9933A08FD7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CDD583-8F7E-44B2-8A0A-FDFC4C24C930}"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F4FF31-6E72-44EB-84C1-02BFBA5AF0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A5234-85D4-4051-9B45-F917C8C098E9}"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E2CCCE-490E-4D49-BEDA-3BAEB739FB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C666F-1C0C-4292-8B9A-1ADFE10A9A11}"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A455B5-FD85-43CA-9EF9-D48B904B8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3</a:t>
            </a:r>
            <a:endParaRPr b="0" lang="en-US" sz="2800" spc="-1" strike="noStrike">
              <a:solidFill>
                <a:srgbClr val="000000"/>
              </a:solidFill>
              <a:latin typeface="Arial"/>
            </a:endParaRPr>
          </a:p>
        </p:txBody>
      </p:sp>
      <p:sp>
        <p:nvSpPr>
          <p:cNvPr id="533"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Scott Christensen</a:t>
            </a:r>
            <a:endParaRPr b="0" lang="en-US" sz="3200" spc="-1" strike="noStrike">
              <a:solidFill>
                <a:srgbClr val="000000"/>
              </a:solidFill>
              <a:latin typeface="Arial"/>
            </a:endParaRPr>
          </a:p>
        </p:txBody>
      </p:sp>
      <p:pic>
        <p:nvPicPr>
          <p:cNvPr id="534" name="Picture 4" descr="OPM Seal"/>
          <p:cNvPicPr/>
          <p:nvPr/>
        </p:nvPicPr>
        <p:blipFill>
          <a:blip r:embed="rId1"/>
          <a:stretch/>
        </p:blipFill>
        <p:spPr>
          <a:xfrm>
            <a:off x="3886200" y="3276720"/>
            <a:ext cx="1371600" cy="1371600"/>
          </a:xfrm>
          <a:prstGeom prst="rect">
            <a:avLst/>
          </a:prstGeom>
          <a:ln w="0">
            <a:noFill/>
          </a:ln>
        </p:spPr>
      </p:pic>
      <p:sp>
        <p:nvSpPr>
          <p:cNvPr id="535"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 – (Sample)</a:t>
            </a:r>
            <a:endParaRPr b="0" lang="en-US" sz="2800" spc="-1" strike="noStrike">
              <a:solidFill>
                <a:srgbClr val="000000"/>
              </a:solidFill>
              <a:latin typeface="Arial"/>
            </a:endParaRPr>
          </a:p>
        </p:txBody>
      </p:sp>
      <p:sp>
        <p:nvSpPr>
          <p:cNvPr id="537"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Worked for Me</a:t>
            </a:r>
            <a:r>
              <a:rPr b="0" lang="en-US" sz="2800" spc="-1" strike="noStrike">
                <a:solidFill>
                  <a:srgbClr val="000000"/>
                </a:solidFill>
                <a:latin typeface="Arial"/>
              </a:rPr>
              <a:t>:      </a:t>
            </a:r>
            <a:r>
              <a:rPr b="0" lang="en-US" sz="2400" spc="-1" strike="noStrike">
                <a:solidFill>
                  <a:srgbClr val="000000"/>
                </a:solidFill>
                <a:latin typeface="Arial"/>
              </a:rPr>
              <a:t>In Life and Leadership</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Colon Powell </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with Tony Koltz</a:t>
            </a:r>
            <a:endParaRPr b="0" lang="en-US" sz="2400" spc="-1" strike="noStrike">
              <a:solidFill>
                <a:srgbClr val="000000"/>
              </a:solidFill>
              <a:latin typeface="Arial"/>
            </a:endParaRPr>
          </a:p>
        </p:txBody>
      </p:sp>
      <p:pic>
        <p:nvPicPr>
          <p:cNvPr id="538" name="Content Placeholder 3" descr=""/>
          <p:cNvPicPr/>
          <p:nvPr/>
        </p:nvPicPr>
        <p:blipFill>
          <a:blip r:embed="rId1"/>
          <a:stretch/>
        </p:blipFill>
        <p:spPr>
          <a:xfrm>
            <a:off x="5159520" y="1600200"/>
            <a:ext cx="30160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4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 are people who solve problem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 inspire people to go beyond themselv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o in an emerging leader should be a red flag.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 is getting more out of people than science and man say you ca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 is all about followership; it's all about the people who get it done. </a:t>
            </a:r>
            <a:br>
              <a:rPr sz="2400"/>
            </a:br>
            <a:r>
              <a:rPr b="0" lang="en-US" sz="2400" spc="-1" strike="noStrike">
                <a:solidFill>
                  <a:srgbClr val="000000"/>
                </a:solidFill>
                <a:latin typeface="Arial"/>
              </a:rPr>
              <a:t>Get the best people you can, people can trust and people who trust you.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 is all about doing the best job with the opportunity that you have been giv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in Powell's Thirteen Rules</a:t>
            </a:r>
            <a:endParaRPr b="0" lang="en-US" sz="3600" spc="-1" strike="noStrike">
              <a:solidFill>
                <a:srgbClr val="000000"/>
              </a:solidFill>
              <a:latin typeface="Arial"/>
            </a:endParaRPr>
          </a:p>
        </p:txBody>
      </p:sp>
      <p:sp>
        <p:nvSpPr>
          <p:cNvPr id="542"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in't as bad as you think. It will look better in the morning.</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mad, then get over it. </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aving your ego so close to your position that when your position falls, your ego goes with it. </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be done. </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careful what you choose: You may get it. </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let adverse facts stand in the way of a good decision. </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t make someone else's choices.  You shouldn't let someone else make yours. </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small things. </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credit. </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 calm. Be kind. </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a vision. Be demanding. </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take counsel of your fears or naysayers. </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petual optimism is a force multiplier. </a:t>
            </a:r>
            <a:endParaRPr b="0" lang="en-US" sz="1800" spc="-1" strike="noStrike">
              <a:solidFill>
                <a:srgbClr val="000000"/>
              </a:solidFill>
              <a:latin typeface="Arial"/>
            </a:endParaRPr>
          </a:p>
        </p:txBody>
      </p:sp>
      <p:sp>
        <p:nvSpPr>
          <p:cNvPr id="543" name="Rectangle 1"/>
          <p:cNvSpPr/>
          <p:nvPr/>
        </p:nvSpPr>
        <p:spPr>
          <a:xfrm>
            <a:off x="2773440" y="830160"/>
            <a:ext cx="5827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Key Messages from this Book 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45" name=""/>
          <p:cNvSpPr txBox="1"/>
          <p:nvPr/>
        </p:nvSpPr>
        <p:spPr>
          <a:xfrm>
            <a:off x="457200" y="1600200"/>
            <a:ext cx="8229600" cy="4525920"/>
          </a:xfrm>
          <a:prstGeom prst="rect">
            <a:avLst/>
          </a:prstGeom>
          <a:noFill/>
          <a:ln w="0">
            <a:noFill/>
          </a:ln>
        </p:spPr>
        <p:txBody>
          <a:bodyPr anchor="t">
            <a:normAutofit fontScale="95000"/>
          </a:bodyPr>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 have simple themes that they continually repeat.“</a:t>
            </a:r>
            <a:endParaRPr b="0" lang="en-US" sz="18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such thing as an unimportant person in an organization.“</a:t>
            </a:r>
            <a:endParaRPr b="0" lang="en-US" sz="18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ties that bind us are stronger than the occasional stresses that separate us.” </a:t>
            </a:r>
            <a:endParaRPr b="0" lang="en-US" sz="18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day you are not solving problems or are not up to your butt in problems is probably a day you are no longer leading. If your desk is clean and no one is bringing you problems, you should be very worried. It means that people don't think you can solve them or don't want to hear about them. Or, far worse, it means they don't think you care.” </a:t>
            </a:r>
            <a:endParaRPr b="0" lang="en-US" sz="18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o matter how significant or life-changing your greatest hit or miss might be, neither even begins to define who you are. Each of us is a product of all our experiences and all our interactions with other people. To cite calculus, we are the area under the cur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book teaches how to be a leader with a series of discreet stories or anecdot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ory is from a different point in a long and distinguished military care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important things are hard work, integrity, commitment, and fairne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ese things even if things don’t go well, you will be able to sleep at nigh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1-06-13T12:29:39Z</cp:lastPrinted>
  <dcterms:modified xsi:type="dcterms:W3CDTF">2013-09-03T13:25:08Z</dcterms:modified>
  <cp:revision>21</cp:revision>
  <dc:subject/>
  <dc:title>Leading with Impact </dc:title>
</cp:coreProperties>
</file>