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E6141-55A2-48D3-8407-4BE2A5243C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5DF2C-7DE1-442F-AB91-4B9CB8EA5A2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6C156B1-4857-4F42-A1B4-C4D82D739B9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126F024-23E8-4E70-AC7B-495942EB82C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F9D02C0-AEF7-423F-BCF5-FCC0666A09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F88B6CD-4C36-4146-8D98-DF415D94887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EE0FFA5-5FE9-4C35-9468-2D9CB7071AD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0D3A847-8EB2-4B87-B486-1BC678919A3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139D0C7-8872-4624-92EC-4D6A73C8F25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5BAA21D-28CA-433C-A6B6-03A996EC9F8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759CA40-55C6-4A89-A3B0-9F8F3465D28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2C54F2B-27C3-4F71-AD74-1791631D4D5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65657B-8ECC-47D0-81F0-D0958EF9FB6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E786A9B-E78F-4956-95AA-91ADE948268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760695E-1EE9-42CA-A52E-7459B67461B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EF9241F-6FEE-435B-8C2F-7EA5EA6884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664C9FB-71B7-47E4-940C-5C2EB50C14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3D07735-B8FA-49BD-9017-B13EBBF9B8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9EB44D4-1A9C-45FB-BF89-C8DF1F7253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D7C9FCD-4070-43F5-8AE6-7746BD41D9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158E7E6-EACF-4ED3-8D8A-D3DCDFB855A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77F2F38-CF79-4EFC-8EFF-DEB10ABB7F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16FFFA4-C070-4BE6-9475-C930C688769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36C6D9-E8B9-42BC-91C9-662B3F772A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E3F0BB1-5913-4D0F-BA1E-41EFDBDF870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227863D-0CD8-4CCA-AA16-0E46E9ACF2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D70FCFF-4F54-4B22-9F16-0B4AE75AEF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085B0D3-DD8C-4D3A-A601-F60D2D77D0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E775779-CB9B-4BCD-8F75-61795481CD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E387FF7-B8B4-481A-8D89-7D5A1044E2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221930A-CD0E-485E-AB41-B9975ACB71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B2E7BC1-4249-4AF0-85CC-ECECCA74AD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77BE8F9-4963-41E0-A1A5-8FA0B2DA57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3B47240-0878-47BA-918F-F69BCFA1A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4DB4EB7-B3E3-45F8-8F80-43723FB93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704D3F6-C4FA-4F99-9598-54E73EFCFE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7C7F2AE-6EE7-473C-AF8C-A82BD2733A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31EEB34-4E19-434C-BE17-EC0A79E7EC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440E53B-C588-4E99-86DA-9B1EB76658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A2DE83A-5FE1-4453-9FB4-9BCBA98CA4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E666161-8AFA-48BD-9C62-71C9DF10B7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2E1E053-04A6-471E-A381-5732E61AE4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856ECF6-8216-4D32-8EEC-D3AA28A671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9333F37-1426-4291-BE3D-04255E627E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B09D1F0-7083-4738-A0C0-034C2FE64F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C67B1A-DBD4-4E18-AA2F-F9A11FEF3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53C3115-62B9-491E-9093-9C7E509524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26B9EFD-FE10-4976-BA83-1729B54086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A1A211C-F145-4675-B753-4D3EC4D8CA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CA95628-F493-47F8-9E10-9C08696729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8AFBDD1-2DF4-47EA-9EE5-5F4C98A79B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09442E-BF84-4095-BC58-EEFB4D1B7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16B094-ADFB-4477-B9AA-1C6BC4730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A34698-CE9D-4DC8-93BD-4D7266637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1A415B-314A-4D91-A75F-72CAAF6DB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B26DAE-2658-476F-BC38-B1D0FFE94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60DE2-BF77-4D9E-B092-8345CBB629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16E0C9-ABB1-493E-A8D3-4B257C6BF5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05B787-4FC7-4B5E-9420-C3BB70928B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FEAE5D-9B66-4AE3-96DC-0B1CBCC70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B64C696-A62B-4719-95DC-FD71B038ACA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10C636-0AC6-4F68-96CA-047841736ED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5612EA0-1A91-42DB-B016-145DF86F187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392932-C8CE-4282-B62B-43175376B3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B2A87D5-4E96-4635-AD19-42C4645A2F8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C63433A-C99D-4740-B5BD-C32617FDD9D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2705EB7-776E-4DC3-AD40-0743BD3AEA0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8F414-9BEA-4FEC-886A-EFA0F48FBF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05F8640-8717-4D43-AC56-DECEAEFBB1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D53ADC-44BC-462F-8478-3DA0B5A43AD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608E24-008B-45FE-8980-8E32290629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1AF491-7864-4704-95D7-9C0A503E23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752CFE0-F9B8-404F-802C-733461C48B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D1739B9-0C0D-4825-8CEA-0FC468E5AF8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6B8A2DD-94CD-48CD-BBF9-47C3F281D1B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DC876AA-DB48-42D7-AFF5-B285AD8D3A6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030B0DF-22D3-4C0B-9533-DBA4E39E45D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F8CB70D-8EE9-44BC-A079-0B620C81C31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1FA81-5FD2-410F-94F3-F51D2418A5A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2F4599B-C97B-44B8-B700-CEA3F6CBA6A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DAFBC68-3FDF-417B-BA4E-244284E8BFA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7231902-2682-4235-93BC-7710474FE2E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D7CB2B9-448E-4ED6-B95A-D36BA182C7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77937F-D375-41CF-ADE2-68189CEDB3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8906C46-A21C-4F20-89C9-855043DB8B9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F30DC49-B837-427E-B061-4C7F1513253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22FEDC3-5FF5-4176-8C27-77A95EA6918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2CDFB0C-9C74-43CF-9870-FD55CEEE606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75139AE-B937-4924-B6F7-987BA6CDBD0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10329990-E2BE-4C15-BF8A-303A66E2D82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F4D1D8C-A569-474C-8DB5-07F478AFB44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1F88B8E-02BB-448E-BAAD-ED02202A2B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15C6DC4-A05A-4AB1-97C5-13BF6AF73B2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3EE7B6F-A327-4C03-9721-F6580F08428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8848E1D-4506-4A65-96BC-A731881F35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CA1616B-7FC6-427E-BE1A-B923972C09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DF4F9AD-1389-41E8-B2F6-7FD1E51B53A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EE8411E-FE60-40A1-B349-1F12B4BEC8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3751AF9-D853-418E-B117-0DEA2F94C6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6BCD03B-EB90-4BC6-9675-F5959125375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5DAD7F-88A3-4AF2-9C43-B7E42F0A5A9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C1E3E6A-48B2-4F4A-9257-A3D63504D6D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F60FF74-9D62-412A-A6AB-EFAD9A1FEFD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E371A2B-497E-4D8D-8B04-DDACCB8D8E2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AFBF6BD-572C-41B8-A947-390104E4349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6A555DD-01AA-4EDF-9F56-60AF3F0E2EE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74BC2EC-378A-4423-9CD7-59B5BC1601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583ABBB-6B2D-468C-BE16-B87E78CC16C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B98BF67-7640-44F0-840C-6BA8BAA6D7B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3445EA2-EF59-4C3C-AF57-B965F0AF3AA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A65D314-998C-42E2-BC17-562E88E67B5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CDF8A-E568-4E4E-B963-75EB166755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80F88E0-5552-4DE1-99A0-084FF15DB76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9AD0D83-7438-4ED0-9192-7493FBE3CFD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F1AA141-6BA0-4855-9B5B-1AD06305ADE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33C55AF-299D-4DED-BE5A-699AB042964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9D87335-B17C-463A-BA85-0200ABA48C5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EA3BFAB-3B7E-451A-89B9-E9E05AF6381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7F315B-5313-4EBE-9C55-D28F9F7B2EC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B971072-31E0-4D22-8CE5-7D6E1420B3F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BB20D0-896C-4FD4-9D51-73C2C6D63EA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C8DFF63-0245-4AED-BC9F-200BB501768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338D4-E4DA-4069-8894-DBCDAE3109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CF0334-ABF5-4AD2-81E0-F5F5546403A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73ACC0A-6C17-4A6C-9250-291D98DC8B6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C4617E4-A8F1-42DE-812D-B3A9450F3F3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FFF523F-C45F-4FBD-91C9-92CD0294FD4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11648DA-7120-4127-ADAC-2EE3C0C967C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EE33755-9E01-4B48-855B-23CD99F81C0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608E95F-526D-4FB3-9800-4459BA3E994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CA04789-C9A6-492F-842E-18882A39E20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11DAF3E-DDF8-4F4B-BB69-DD44C746B1C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6268F82-ADC2-4B23-9286-261B62F0A02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BC24C-21C9-4316-82EB-20B67B8737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7210000-3E7D-4D02-BA59-7761ECFDAB6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F7729E8-AC35-4F30-9331-175A5078BB5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3A6E1C2-717F-400F-A7C1-AAF33776D4F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4C7570-32AD-4B4A-A9CA-E73DD7E5372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D5E34AF-8E97-417C-906C-D82CD11F518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8F9BC49-C954-4001-8B50-C671066DAAE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4A30034-B7A3-44CC-9DF9-E45BBFC7DD2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99E05D1-0E1B-42CF-9272-97BA02E5BBD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7D1F72A-691E-4C2B-A989-CB536EA88F0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FB50FA0-542B-4655-A57A-0655BA99D47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6B3AC-DD42-4B3D-8837-4D00187361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59C3F-091E-4D17-9825-6C3F3E761D00}"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5F7A5-80D6-41C6-9D38-A7686EFE2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4489D-FEC9-4D3D-AF58-AA033BB28D50}"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21C4C-2C73-41DE-AE7E-64B43CE7E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71350-9F9E-4FD0-947C-35336B58C3B4}"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95EEF-2207-46A8-9E0D-53EF77AD4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54A39-09E3-43BE-BB78-FE657EBFD274}"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718F2-457C-4FCE-8700-73B35D16E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12BBA-E0E7-45A4-9E7D-394D0DED8589}"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CBA44-B505-4D02-B9F8-938870908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7B291-738E-4A5F-AE2F-C14B76BC1A2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10CDF-160B-4C12-8130-1942F49BD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351A1-8913-435F-8EA0-06CB11CDFBCA}"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3286D-FA67-4E7B-A292-63AC428F3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2569E-90A0-4BA7-A3D0-504C91F9F9AE}"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2AAF7-11B8-4CD5-A783-F22BC488C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79FA0-60F0-4304-A88C-33F6E17B6D8B}"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2691F-17D9-47CD-9329-DD2B9A0DE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9F5F0-ED3C-4931-A150-B3F03D9495F0}"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087EA-C3B6-4F1D-9209-4ABDBADCC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F7A53-4894-41C0-856B-022512898C0C}"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B8DF1-FDB2-40CB-956C-C28540C03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 by Mike Lombardi</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 </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nagement” book as much as a “Leadership” book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bal Leadership, Leveraging Natural Groups to Build a Thriving Organ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e Logan, John King &amp; Halee Fischer-Wrigh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1" name="Content Placeholder 4" descr="Books_TribalLeadership.png"/>
          <p:cNvPicPr/>
          <p:nvPr/>
        </p:nvPicPr>
        <p:blipFill>
          <a:blip r:embed="rId1"/>
          <a:srcRect l="0" t="-12936" r="0" b="-12936"/>
          <a:stretch/>
        </p:blipFill>
        <p:spPr>
          <a:xfrm>
            <a:off x="4268880" y="113652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457200" y="1282680"/>
            <a:ext cx="8229600" cy="452592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ibe” is any group of about 20 people and 150 who know each other enough that, if they saw each other on the street they would stop and say “hello”.</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Company is a “Tribe of Tribes”. </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ase of I2WD, Scientists, Engineers, Intel Analysts, Pilots, Admin, Budget, etc</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5 Stages of a “Tribe”</a:t>
            </a:r>
            <a:endParaRPr b="0" lang="en-US" sz="2000" spc="-1" strike="noStrike">
              <a:solidFill>
                <a:srgbClr val="000000"/>
              </a:solidFill>
              <a:latin typeface="Arial"/>
            </a:endParaRPr>
          </a:p>
          <a:p>
            <a:pPr lvl="1" marL="668520" indent="-2570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air + Hostility (Life Sucks)</a:t>
            </a:r>
            <a:endParaRPr b="0" lang="en-US" sz="2000" spc="-1" strike="noStrike">
              <a:solidFill>
                <a:srgbClr val="000000"/>
              </a:solidFill>
              <a:latin typeface="Arial"/>
            </a:endParaRPr>
          </a:p>
          <a:p>
            <a:pPr lvl="1" marL="668520" indent="-2570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thetic Victim (My Life Sucks)</a:t>
            </a:r>
            <a:endParaRPr b="0" lang="en-US" sz="2000" spc="-1" strike="noStrike">
              <a:solidFill>
                <a:srgbClr val="000000"/>
              </a:solidFill>
              <a:latin typeface="Arial"/>
            </a:endParaRPr>
          </a:p>
          <a:p>
            <a:pPr lvl="1" marL="668520" indent="-2570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e Warrior (I’m Great…and You’re Not)</a:t>
            </a:r>
            <a:endParaRPr b="0" lang="en-US" sz="2000" spc="-1" strike="noStrike">
              <a:solidFill>
                <a:srgbClr val="000000"/>
              </a:solidFill>
              <a:latin typeface="Arial"/>
            </a:endParaRPr>
          </a:p>
          <a:p>
            <a:pPr lvl="1" marL="668520" indent="-2570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bal Pride (We’re Great…And They’re Not)</a:t>
            </a:r>
            <a:endParaRPr b="0" lang="en-US" sz="2000" spc="-1" strike="noStrike">
              <a:solidFill>
                <a:srgbClr val="000000"/>
              </a:solidFill>
              <a:latin typeface="Arial"/>
            </a:endParaRPr>
          </a:p>
          <a:p>
            <a:pPr lvl="1" marL="668520" indent="-2570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cent Wonderment (Life is great)</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 of the workplace in the US is the in the “I’m Great and You’re Not…” stage. Within a Stage 3 culture, knowledge is power so people hoard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ulf between Stage 3 and Stage 4 is Huge. This level represents 22% of the workplace in a Tribal culture., where the theme of people’s communication is “we’re gre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erson in the tribe is on a journey through the Stages, and the tribe makes the journey long or short. The job of YOU as a Tribal Leader is to expedite this journey for each person, so that a new critical mass forms at Stage 4.  When this happens the tribe will see itself as a tri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is tied to my OTDP, as fol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ganization I have significant responsibilities over has many people in different job series (Engineers, Scientists, Lab Managers, Pilots, Admin Assistants, etc) that are organized vertically by Division for the most part. There is a need to manage both “vertically” by Division and “horizontally” by Tribe.  It is a difficult task but is necessary both functionally for the organization and for the employees as individuals.  The balance is difficult, but is a “force multipli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4-01-20T13:50:01Z</dcterms:modified>
  <cp:revision>14</cp:revision>
  <dc:subject/>
  <dc:title>Leading with Impact </dc:title>
</cp:coreProperties>
</file>