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3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E36B0-19EA-4450-AB7A-9B6523D623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F4699-26AA-42AE-9B48-7CF075A35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5CC7A-C7C9-4916-9810-DE29BF603CB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57464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84472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57464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84472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40160" y="0"/>
            <a:ext cx="6603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7464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4472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57464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84472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40160" y="0"/>
            <a:ext cx="6603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Header1(4515 FOR ECBC PPT)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7"/>
          <p:cNvSpPr/>
          <p:nvPr/>
        </p:nvSpPr>
        <p:spPr>
          <a:xfrm>
            <a:off x="0" y="838080"/>
            <a:ext cx="380988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ad6e"/>
              </a:gs>
            </a:gsLst>
            <a:lin ang="10800000"/>
          </a:gradFill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Rectangle 28"/>
          <p:cNvSpPr/>
          <p:nvPr/>
        </p:nvSpPr>
        <p:spPr>
          <a:xfrm>
            <a:off x="5334120" y="6713640"/>
            <a:ext cx="3809880" cy="144360"/>
          </a:xfrm>
          <a:prstGeom prst="rect">
            <a:avLst/>
          </a:prstGeom>
          <a:gradFill rotWithShape="0">
            <a:gsLst>
              <a:gs pos="0">
                <a:srgbClr val="bbad6e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304920" y="152280"/>
            <a:ext cx="2235240" cy="11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4" descr="graphic bar for ECBC copy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2786040" cy="1790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G Senior Leadership Cohort Program 2011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ae7a"/>
                </a:solidFill>
                <a:latin typeface="Arial Black"/>
              </a:rPr>
              <a:t>Session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ae7a"/>
                </a:solidFill>
                <a:latin typeface="Arial Black"/>
              </a:rPr>
              <a:t>June 14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Competency Breakou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2" name="Object 3" descr=""/>
          <p:cNvPicPr/>
          <p:nvPr/>
        </p:nvPicPr>
        <p:blipFill>
          <a:blip r:embed="rId1"/>
          <a:stretch/>
        </p:blipFill>
        <p:spPr>
          <a:xfrm>
            <a:off x="757080" y="1143000"/>
            <a:ext cx="8382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etency Rank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9880" y="838080"/>
            <a:ext cx="8839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Item Resul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1976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Top and Bottom Ite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1523880" y="1106640"/>
            <a:ext cx="72342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Open-Ended Comm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0" name="Object 4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Reviewing Your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066680" y="14479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rcle the 3-5 most critical Leadership Competencies necessary for you to do your current job. Observe the ECQ’s under which they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 (*) the 3-5 Leadership Competencies that you will need to develop for your next j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 3-5 Competen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st 3-5 Competen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competencies do you need to build on and develop for future roles and the organizational mi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Take Not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09480" y="1600200"/>
            <a:ext cx="838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re there any competencies that are particularly stro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re your self ratings consistently higher or lower than those of 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oes your boss show a pattern of comparatively high or low ratings? Straight lining? (i.e. All 5’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re the ratings from your other rating groups simil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re there disagreement factors?  Where?  List all the disagreement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Clr>
                <a:srgbClr val="6699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le 1"/>
          <p:cNvSpPr/>
          <p:nvPr/>
        </p:nvSpPr>
        <p:spPr>
          <a:xfrm>
            <a:off x="1066680" y="304920"/>
            <a:ext cx="76201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  <a:ea typeface="Arial"/>
              </a:rPr>
              <a:t>You Are Not Your Report!</a:t>
            </a:r>
            <a:br>
              <a:rPr sz="4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5444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ing your OPM Leadership 360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278400" y="4406760"/>
            <a:ext cx="144144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IS A 360 SURVEY?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7" name="Oval 3"/>
          <p:cNvGrpSpPr/>
          <p:nvPr/>
        </p:nvGrpSpPr>
        <p:grpSpPr>
          <a:xfrm>
            <a:off x="3084480" y="2309760"/>
            <a:ext cx="2975040" cy="2805120"/>
            <a:chOff x="3084480" y="2309760"/>
            <a:chExt cx="2975040" cy="2805120"/>
          </a:xfrm>
        </p:grpSpPr>
        <p:pic>
          <p:nvPicPr>
            <p:cNvPr id="98" name="Oval 3" descr=""/>
            <p:cNvPicPr/>
            <p:nvPr/>
          </p:nvPicPr>
          <p:blipFill>
            <a:blip r:embed="rId1"/>
            <a:stretch/>
          </p:blipFill>
          <p:spPr>
            <a:xfrm>
              <a:off x="3084480" y="2309760"/>
              <a:ext cx="297504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529080" y="2728800"/>
              <a:ext cx="2085840" cy="19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4"/>
          <p:cNvSpPr/>
          <p:nvPr/>
        </p:nvSpPr>
        <p:spPr>
          <a:xfrm>
            <a:off x="4236480" y="3537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ker Felt"/>
                <a:ea typeface="Marker Felt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801960" y="1844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0"/>
                </a:solidFill>
                <a:latin typeface="Marker Felt"/>
                <a:ea typeface="Marker Felt"/>
              </a:rPr>
              <a:t>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275920" y="353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9711a"/>
                </a:solidFill>
                <a:latin typeface="Marker Felt"/>
                <a:ea typeface="Marker Felt"/>
              </a:rPr>
              <a:t>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028920" y="35053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9711a"/>
                </a:solidFill>
                <a:latin typeface="Marker Felt"/>
                <a:ea typeface="Marker Felt"/>
              </a:rPr>
              <a:t>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629160" y="520704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68d19"/>
                </a:solidFill>
                <a:latin typeface="Marker Felt"/>
                <a:ea typeface="Marker Felt"/>
              </a:rPr>
              <a:t>SUBORD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What is a 360 Survey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4480" y="1674720"/>
            <a:ext cx="765504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ruc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ocess for giving and receiving feedback from supervisor, peers, and sub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opportunity to compare your own perception with feedback from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velopmen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promote self awareness and behaviora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About ECQ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2336400"/>
            <a:ext cx="8229600" cy="26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ecutive Core Qualifications (ECQ): Define the competencies and characteristics necessary to build a Federal corporate culture that drives for results, serves customers and builds successful teams and coalitions within and outside the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OPM Leadership 360™  Repor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760400" y="1427040"/>
            <a:ext cx="60534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e of Core 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e of Competencies in the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etency Break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etency Rank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em and Competency A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p and Bottom Te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mmary of Open-Ende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066680" y="1219320"/>
            <a:ext cx="7620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8 items are displayed defining all 28 leadership competencies (at least 3 per compe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le is from 1 to 5: 1= Not at all; 5= To a very great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dents could mark ‘No Basis to Judge’ if they could not rate a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need at least 3 respondents in the Peer and Direct Reports categories to obtain item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sterisk * is given if there is a 3 point discrepancy in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average is the average for the individuals in thi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4" name="Group 6"/>
          <p:cNvGrpSpPr/>
          <p:nvPr/>
        </p:nvGrpSpPr>
        <p:grpSpPr>
          <a:xfrm>
            <a:off x="0" y="0"/>
            <a:ext cx="9143640" cy="6841800"/>
            <a:chOff x="0" y="0"/>
            <a:chExt cx="9143640" cy="6841800"/>
          </a:xfrm>
        </p:grpSpPr>
        <p:sp>
          <p:nvSpPr>
            <p:cNvPr id="115" name="AutoShape 5"/>
            <p:cNvSpPr/>
            <p:nvPr/>
          </p:nvSpPr>
          <p:spPr>
            <a:xfrm>
              <a:off x="0" y="0"/>
              <a:ext cx="9136080" cy="68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4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TextBox 5"/>
          <p:cNvSpPr/>
          <p:nvPr/>
        </p:nvSpPr>
        <p:spPr>
          <a:xfrm>
            <a:off x="2800440" y="2187720"/>
            <a:ext cx="52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e of Core 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9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549720" y="4078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file of Competenc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the EC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6:26:39Z</dcterms:created>
  <dc:creator>Trish Mooney</dc:creator>
  <dc:description/>
  <dc:language>en-US</dc:language>
  <cp:lastModifiedBy>Trish Mooney</cp:lastModifiedBy>
  <dcterms:modified xsi:type="dcterms:W3CDTF">2012-06-01T19:31:46Z</dcterms:modified>
  <cp:revision>2</cp:revision>
  <dc:subject/>
  <dc:title>APG Senior Leadership Cohort Program 2011</dc:title>
</cp:coreProperties>
</file>