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C7DC-21D5-4D00-8F9D-8053AD6D2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91AB-B0BE-4BE0-B94A-2BB3410E4F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7F473-20D4-4FA5-9894-20961ED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615E1-AF9B-44E7-BCC4-3EE3FFC3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9F9F5-83BC-48F3-8986-A501446A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57295-92AE-496F-867A-EF1A5F1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164CB-123D-4C97-AFD4-EEB1410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18F0E-2DBC-49D5-AC38-29A899B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BF52E-27F2-425E-BF5A-C65D9F5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8AA8A-9AB2-49F8-B3D4-E520A10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03B96-EF6B-4639-AA38-E194F619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2FF76-3DE1-4E66-97C1-6CF9DEFB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752B-CFAC-4B9E-8259-98E7C1A0A3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3C139-3604-41FF-B449-634A29EB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54346-CC51-48CC-9A16-11F2F4A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AA5EB-8277-4F18-B238-A218CE6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0D157-C713-4150-B7BC-CA8E852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0EF5B-1F14-4F13-9C47-4F8E169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CDDF8-2CCA-43D9-809C-07D0843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D15E6-39F6-4DC6-92CE-A9E1250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4581F-5571-4BAE-9E84-189322D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B403D-329F-4F6D-AC38-CBB2DC7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DF43C-9830-4723-A25F-8759E56C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0D24-DA84-4680-AB78-B9886BA13F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8BC79-1062-4A80-AB5A-DF7D9BCC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D3D399-3127-4050-B232-24E2D41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6D362-0D42-4D2A-922A-571F298C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683D2F-4137-4878-8E9E-3259B33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65F57-3C64-4B88-98D0-1D01179E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BA29B-E45F-4A5E-B9CA-FFE5FAB7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D7A1AD-F63F-4D40-AF63-9A34A94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F4F832-46A8-474E-AE27-A09C363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09240C-7113-489E-B64A-565940C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826ABB-B911-4743-BEEA-6BECA77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81E39-BBD0-4B5B-BB5D-214C3F3F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07764-904D-430A-81BE-C094A6B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C8FEB0-99E8-4E65-9AE1-E427FEE3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FD3836-B4C8-4477-8624-CFEDCCB2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E0D31-8302-482D-8304-DE2C41CF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EBFB8-EA06-4A1D-8A80-6B1D3AF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951C6-B1B5-4AB8-99ED-049B9FC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FCC00-1365-4D1B-8C11-FC4415D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AFA98-3ACA-42DD-840C-9D96B8A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5D229-59FC-4604-9EE0-3B259AB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460EB-FA47-4AA6-95F7-4D93755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4B4D0-59BB-447E-A29C-809C8D0E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769E4-11E7-44DD-8A85-DEE62E5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0A039-74E7-4AA1-B7DD-AF44920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4094A-F545-4397-9D40-97FBD6EB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5805F-CCF9-4E2B-9526-96A81D78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24654-54AD-41E9-93D9-7B0CE24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E90E-6CE0-4021-A86F-68EFE48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BE5E4-C781-498C-B604-6DD82D2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F8ED-9802-44A5-B7F7-DF2C1DA3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F0B2B-E7CE-4773-BECF-AA794649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238F2-FE2F-47C6-AB64-3BB126E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ECC6-7EF4-4CA7-BB50-9C4B7540D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3EBD2-E959-4CE6-A05E-9BC4D26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3E034-580D-4B00-9C01-6160282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E5D95-56B5-400A-B487-ABC87304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D8A8F-C9F6-44ED-82F2-BC40ADB2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154C5-9C3B-468C-9E11-093491F3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DB5E3-BE1E-4A43-A19D-C65625DD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F9CBE-3D01-4FD1-A898-FA66600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2B591-C609-42D6-8D1F-8D084B5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A0120-3D1E-4BB2-B010-C81658DC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F5063-C8E8-4FA2-BB30-ABAD2A0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A5B9-9627-4C2C-BC36-98FD7D2C85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6D658-8156-479C-BAE1-1A8C603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45EB3-1BFF-4447-B804-EACD447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6849E-5B87-4B9C-904F-E0DCD06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D47D3-F2FE-43D4-964E-4CE1197F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78AD7-5364-4C50-B4A8-6F4D0EB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003B0-A708-44D7-9419-4E790455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75901-E4CE-4D41-A408-3FE5036E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2A518-EB3B-46FC-BC5B-10A187A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C2DCF-B662-4144-AADD-A4859D50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F1AD6-8754-4A42-9C83-AB68EFDD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6BD2-7B3B-45DB-9501-B451BB06F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B39D5-3D7E-48F7-A79A-E1F87FB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4DCD4-F152-4B2B-ABA2-3C2AAD15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217DF-7528-47F5-BF99-0CA7943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CF3B9-8749-40C1-82A3-67F4872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24AD7-3BCC-4C95-A190-2613720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CA8F0-BA4A-4726-A3EE-A8DAB11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62BAA-3FA5-4781-981C-5FBFD55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C4B9E-54FE-4C25-9592-6C5E77F9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9251A-E7FE-4E68-97A5-BD26FC3E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11E77F-C5F7-4453-A877-3E8B51A8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A095-5D2B-4A23-8D13-955A3D83B9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0DD08-D1C2-4816-BAC1-8F59669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BECC4-4E7E-4C3A-9082-81AE315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08DF0-DAFF-482A-9BC2-E7A5E42F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6069C-D1A1-416F-B320-BA10231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74615A-79FF-4185-9A41-C05ADBF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8F1C5-7C03-4BC3-989C-615760A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B6341-538F-43EA-9940-9FA0904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4A0D9-1E71-4CAB-A36A-8C9853EE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58AC2-71EC-40A1-8828-FFB8353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5DACD-F302-4575-8583-5C83B4F8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0A40-8ADF-4224-9E3E-FF09D5BB9E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BB9F9-38B1-4AA8-BE49-B2757927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660D3-B66E-4386-8E39-D78B1B1B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156B3-7802-4E6B-B1B7-E8DEB93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B3172D-BF20-4845-A2E6-E1E1639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39B31-E595-471F-BA82-FFDB86E5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DF0014-D974-4518-A10E-3B8441D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B7D623-415F-4A85-BBEF-0DA9B7D3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92A84-40E2-4BFD-B154-497D9D45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679AE-1F0C-4056-A06E-0F7BD7C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5870C-67B3-48B2-B572-EB8E3C3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8F94-6363-4172-B43B-645C0C9B4A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0C203A-22DD-4E74-A52A-6A28D61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45669-6A01-45F0-AA50-4348B4E5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0998D-4BAD-4040-A912-577F868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AF03D-7747-422F-92DA-698C6976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DB5945-11DD-4D1F-95D7-394A05C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44727-A4DC-4CA1-946E-559E8B6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F0306-938C-4020-8CC1-40E6FAE5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32532-ED37-4DAB-9EAA-97787D87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76DA2-D5E4-430F-B38A-203019B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A671CA-4CAE-4C83-A7F9-CEE4BC9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FDE5-57BA-4F95-8636-0AA9D88F82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B55DA-C724-4054-8255-3F4445B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7D577-7286-4D88-B85D-A269C7E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7C537-3FB2-4AD1-BD8A-75F82B49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D84AC1-8786-4B4D-A0D0-29449560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28E4B-E313-4E50-BB22-1D6B4E5F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E6F251-F078-4032-9E92-E0A8DF1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9C27A-1DA2-4EF0-9CBC-D681FBA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60FD7B-7024-4371-B1EA-D10E85F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70FF0-3D2A-4D34-8A97-788807F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3DE9D3-BBEE-4AAB-BB19-AEE64136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AF3A-A55F-4EEA-AA70-D5FE7C0120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7D150-401B-46FF-80C4-4D051BB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B887F-6E7D-4353-88D1-109AE20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698BBE-9476-432C-A433-0CA7B7C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19254-0132-4C5F-BD23-1CD1213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2E80D7-31AD-4591-BBFD-222170E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9D39E-8E39-4F0F-A22A-22D0D76F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0768E1-40FF-48BE-8374-589D42A2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C2EE8-70F3-4617-9DCE-047244EE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7AE0B-2C68-40E1-8DD4-4FA23D0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E0012-5FD9-4171-8773-A5A127C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37E59-840F-442B-992D-C69649E6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00B97-97C7-428F-BB46-3D0B2BBEE0A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FA7CE-9DEA-43E6-8F36-6186E48F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6D212-72E3-44F9-91FC-7017549FA8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5B446-E52D-4E5E-AE73-B914E5D9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74C61-CAF9-4A4F-8F25-49FCADB278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87FDA-EC3C-4F3A-A5BE-48C6BCB7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2" b="847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C7E6F-2A53-4354-910E-6B6D3935D73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0DC3F-A0DE-4105-8D37-A3619EC5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13C06-2C58-4AB5-A5F4-00943F289E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F5DEB-B81D-4CCE-AA70-32CD19DE2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A65FB-1750-48E8-BB4D-40FCFF8C067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5824D-B5C7-425E-82FA-BC3623FC5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96E79-4E23-4A58-9ECF-1477D345155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EBC30-867F-489B-92D0-49469153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1265C-7CAB-484A-BDE6-EDD83BCD5E1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5B5CF-344B-494F-94C6-BB2685499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E0E53-A0F4-4D3B-BEBE-3332225D7CE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4842F-956E-4D51-8CF4-06299D13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B2DD7-25F7-430F-BBC2-A559840D2F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AFA13-868A-4977-9F2F-5B5A6F18D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8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D004B-3A32-4C81-86DA-FA1692423BC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2E942-EBA3-4AE3-B3D9-4AFFF0A46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 Hawk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Be Good at Performance Apprai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Dick Gr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5" descr="grote.jpg"/>
          <p:cNvPicPr/>
          <p:nvPr/>
        </p:nvPicPr>
        <p:blipFill>
          <a:blip r:embed="rId1"/>
          <a:srcRect l="22953" t="14664" r="28685" b="10784"/>
          <a:stretch/>
        </p:blipFill>
        <p:spPr>
          <a:xfrm>
            <a:off x="5319720" y="1562040"/>
            <a:ext cx="27432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&amp; Qu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formance appraisal is a formal record of a manager’s opinion of the quality of an employee’s 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nt their side of the story, only factual corrections (it’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iew of them, not a collabo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oor performer writes a list of achievements, it will only reinforce the mistaken perception that all is wel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employees do self-appraisal sets up conflict with supervisor who feel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essages &amp; Quotes (c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: “sandwich” approach to feedback; positively reinforce good employees; don’t let bad employees focus on posi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good employees bring up their own area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SMART test may be a useful mechanism for making sure that a goal statement has been phrased correctly, it doesn’t help at all in determining whether the goal itself is a good ide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elieve that this nation should commit itself to achieving the goal, before this decade is out, of landing a man on the moon, and returning him safely to the earth.” –JFK, 25 May 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nnedy’s goal clearly was SMART. But was it wis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upervisor, so far only mid-yea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ptical of prescribed approaches to an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advocated situation-dependent approach to apprai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adapt to Army’s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ppraisal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“fully successful” (3) mean when COLA is elimin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hom.hawkins</cp:lastModifiedBy>
  <cp:lastPrinted>2011-06-13T12:29:39Z</cp:lastPrinted>
  <dcterms:modified xsi:type="dcterms:W3CDTF">2012-09-04T15:04:19Z</dcterms:modified>
  <cp:revision>20</cp:revision>
  <dc:subject/>
  <dc:title>Leading with Impact</dc:title>
</cp:coreProperties>
</file>