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C3704-6DFE-4D04-828A-D8B8679381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0FF32-4AB8-4EDC-A64F-9A0D99C8A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F929A-6B97-45E5-9B48-F94B9D635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D0217-4CFD-492B-88D8-FECA72006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38C9B-0F7D-4EEE-B743-6848D453D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D770E-1C07-48D9-943D-97EE4027F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0D317-DCC4-4D73-9366-C0C8329F0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C51DF-2FAF-40F9-BAAD-76FFD0158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CEF8-9302-4557-881D-BE0F03812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3528-B4C8-4FD3-A503-6DE0722D1B5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77E92-094F-4113-8816-5F248F9F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A44A4-7AB8-4915-8E83-E1F7CB55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2D0DA-5B1E-483C-B310-99B501FD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C3465-1EB0-410E-995F-21C504AE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A6E9D-2346-4D57-8170-96CBD6AE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727F1-ECFE-4F85-B7A6-49AA23F6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D6C10-19BE-47C1-B20D-0C388FC4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D546B-395F-4CFB-89E8-A2E26F3D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5FC3F-2C24-4B80-947A-A3678645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61CC8-D634-417B-8DE8-66E25F75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DD3C-12CF-4076-A522-9B21E3FB209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55CD8-DB9C-4016-AEFE-9C5F6CA5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801C5-BFF4-43AC-BA73-8ACDB08E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46FE7-E5AD-4777-ACEE-E9657B37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2F268-15C1-4E34-B16E-241766C3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19584-6642-4B86-8B4F-A1CCFBD8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0FC33-4FB5-4C2A-8E2D-0F81247C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2D277-40AC-4F1B-ABCA-94566C8B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B29CA-4D3A-4650-8308-4AE9020E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F9125-DAEA-4156-B5A7-FE2F0B64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08C0E-7371-4FBC-9229-EC94CBB9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5F2A-2445-4E9A-89E6-39C5B83CA8E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8083B-D1A1-4F0E-88A0-BE320B8E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1638D9-EB16-46F6-B632-1A16B64D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9C6161-1255-46B4-B301-442726FE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977E8B-D9B8-4F62-8A8F-80D430C0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4FE448-634D-495F-A911-16AF01D2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F716B9-BFE7-4845-8C33-1B40A38C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E2BE50-516B-4A66-B2EF-2816F62E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2487A8-955F-427E-B845-B121B0B5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76A3E2-D24A-4342-8679-DFC4418F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A199F4-7289-4A08-8E1E-8ADDD535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2A8D9-AA7B-4303-8E92-34C6A633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8EB3BD-7721-4FAC-8EB6-8FA18132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27CC7F-6E27-450A-849A-A687FF64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DD9427-D4B4-46E2-BF0B-9EEE67F6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CDC83-69FB-43A0-AD1D-69519DDA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B404F-5EB0-4160-908F-E1385252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83F0E-3A4E-4604-A860-4C51EC65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8F4D3-D875-4C1C-8F0F-2622BE52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5F075-8520-4850-A356-35B58E36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679CB-CF02-4388-B062-190CDC3A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AB873-FED8-4C35-AF0A-E3417CC8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51D9D-15C3-49AD-8DED-155BBDD2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64C34-5171-4C9A-AC1B-24977F58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4C3B5-D4EA-4411-AD1D-C017ECB7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EE4F0-BF0F-4358-81D4-D0F58091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1EFE2-65F0-49E7-9326-7BEABFFF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B8CE3-2651-418B-998E-ACA435CB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7451D-7DCC-4361-B11C-B2719452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1520A-F741-4D03-8519-6CB81CD5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A604B-9820-4A05-B7A0-D47191AB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B04DD-83BB-4403-9FB0-2165ABA5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4E599-F3A9-41DF-836B-5563A386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3179-99CB-4EF2-A3A0-D97BA50CE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742A0-BAF8-421D-84BF-442FA34E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4217D-2E52-493C-94E0-8DDE1576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D9D42-4885-402C-ACE8-27E04D94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46F9C-89FE-4169-995C-05D8A280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7F066-62B1-4D07-B715-3CBC6A5E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71B9CC-5172-4AAC-AAFC-CCBA60BC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BA0268-9435-4E89-A248-65438DB3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90AD0-D6E3-456F-9155-0D673670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82650B-5B48-4E3F-8928-1A4AD3DA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4B9C0-E0CA-44FB-ADEB-5527B078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E473-2D9F-41E4-BCAA-5EF3143695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347653-5D89-4A66-9907-89E45826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77473E-DF84-481F-B602-C14C58C5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BA3412-8818-4908-AA6D-C35CC325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0AED2F-481D-44FD-9389-16795E56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3F714-D8BD-4636-88F9-EBA10E18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2DBCB7-4FAD-4CE2-985A-8488ACF6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5EF530-26FF-4A51-AA73-1A685ED1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5B8B4-F1AC-473A-BA0D-EFF58C08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CA552-ABA3-4425-82AC-53B577F9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760BD-6ADD-4431-9422-7CF2B1C2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10C3-D3B7-4748-948B-9F79A4AF0F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599264-8DDA-40E1-9DF4-D3837079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0FC6D4-3443-4C8D-89C5-CF856DCE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92E67-7212-492F-8C3F-C9A1D904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988F4-C0BD-47B6-8953-BE6A0D5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7F9005-27CE-4807-AA99-B212F92F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62477-ECED-47E4-96AB-12B2D776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0140B0-2273-46D4-BCEA-43E4C6F0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85EDC-95F0-48A2-847D-C0055F60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0A3C6D-9629-4B58-A824-DFD1D553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E1D0D8-C553-4439-9782-F43FE8C9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8150-444A-410D-AC44-7C0279A3CC1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0D3943-1767-43B0-9D18-6B169BD3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05AD09-99B8-4597-B65F-4327A66C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B01125-A36F-4708-B319-39C15C7B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71032E-C255-44EE-921A-A1323B30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C094E0-27DA-4726-993E-4B1E4702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F89280-4960-4A58-B6E1-05B2F104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9FA8B3-12B8-4435-A3EB-2BD5E3B7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B28019-8587-406C-AF02-F9F3DDA1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2E5F6D-C200-4516-87AB-78DAFCA5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ABD169-4ECA-4192-BC25-F8869701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8AA3-8E2E-4273-9959-01E3789987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CAEDB6-CE79-4C64-AD30-BEF8835F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DD361C-7EE7-4A44-A04D-5A7B2D63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CE4670-B379-4808-B184-7EFBCD93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5CBF69-7A06-47D0-83E6-A5A54052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2B0E9C-CE76-4846-8455-72CD5B89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F82CAD-59C4-4774-89CC-C6CA1EDF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A24EC9-9590-40A0-AAFF-A6A3F2D9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9A6376-4EBD-4F54-A401-EEC2FE83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1870E0-0DEC-47BF-A8E7-548E184F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CE1E3-B36B-4ED0-A5D8-7A4DD7C8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E78D-0174-4A0B-A5BE-D5EDE979C62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6C0F6A-E0E6-42C4-B766-C5B6A0A4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1147CA-5E24-4BA4-AC19-9D20945C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F6F44B-3C84-44E6-9A1C-85664DCE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18DBF9-70A8-46E0-8E84-725B65AB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0F29EC-0C84-43FC-8924-AB4D0FC0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774E7D-B9D9-419E-A61F-7BC3EA52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0EB560-40C5-4579-BFD9-DAE87F29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5E2331-7DD4-4418-9F28-45900F50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AD4CC6-4996-4CD3-88D1-DFA152C3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408928-C77C-456B-A597-6570B03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8C26-6B69-48FF-9929-24881E7C5BD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F65909-464C-4CBC-B6CD-026114A5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38BC29-27C7-4530-90FD-FC894E64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87DC18-492E-4FBC-AC7F-E3EE8334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813155-EC56-4F6D-9718-97A68B97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FF3F73-032C-4AFA-AF03-D1F7166A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091D33-9194-47C1-9921-6C9C5DF1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ED19A6-D5DE-461F-9579-B50AB594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01C2E0-EDC5-46BA-A044-446264D3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BA6257-5109-49C0-AD6A-A07D1927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DEADD7-BA5D-48A9-AAD1-BE92D3D5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2361-D070-4052-984B-F33FDEC5EF2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6FDBA7-5636-42B0-9E20-CD68C4AB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7543B6-CFD7-45C9-B629-93DB7CBB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6016EE-35C5-49DA-9364-10818E6B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2C768C-FF14-42CF-A835-EA0C4AD5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D5727F-466E-4282-A7A1-777F1EA3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B062D1-C6BD-4014-9DFD-F612E261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5C24DF-1972-4621-BABD-D256D3EF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3C759-7EBF-4AC1-9D7F-2635463A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FD640-2E6A-4D40-A381-F05492CB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6CEC6-5958-4810-A59E-1D540A3F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DD7CE-F636-43C1-AEF8-348467BDF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1B49F-60F0-4CD7-9200-43E66E53E3B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841FC-4917-4BD4-8C14-10C885A9C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5D254-88F7-4F34-A78C-83AB92D8645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E3A87-56F1-48CE-B06E-C2EA18411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1B169-A0D2-4402-9671-076F2C5C422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DCE91-50BF-4966-B95E-3989D28D5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94568-9082-47B2-8912-19707966EEC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75A08-B35C-4290-A0F0-9D2A36377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A56E8-42BC-42A3-92EC-08181D61DE5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49F70-BAE6-4ABC-A0E4-E4B5559AD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118E0-1B32-45B1-8DD8-443840CEE41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86462-D705-4797-ABCF-A5113249C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2A43E-4713-4E35-BC45-4BE16591DC3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8FE7B-3950-4025-B472-FD90B9249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7D61A-FB74-4869-8BA8-40FC2A6E7E6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D86CE-D9F3-4DFF-BFA3-86E0C9621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BABA8-1C6D-4B1C-B505-F0882595577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1A6B6-CCA4-4383-9543-4A6A60024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47376-FD7F-402A-B4D7-2D80ED7FAD0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1A7D5-51CF-4676-981D-AB7C96C36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7E882-A056-4279-A3C3-DB5AD9D1798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C83E4-9F7B-4E8F-8DD9-1A5E28853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4440" y="2295000"/>
            <a:ext cx="86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z S. Mir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 Book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69640" y="2057400"/>
            <a:ext cx="5221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5 Levels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 John C. Max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10" descr="U:\My Documents\Work\COHORT\12-5LevelsofLeadership.png"/>
          <p:cNvPicPr/>
          <p:nvPr/>
        </p:nvPicPr>
        <p:blipFill>
          <a:blip r:embed="rId1"/>
          <a:stretch/>
        </p:blipFill>
        <p:spPr>
          <a:xfrm>
            <a:off x="5319720" y="1422360"/>
            <a:ext cx="3672000" cy="4703760"/>
          </a:xfrm>
          <a:prstGeom prst="rect">
            <a:avLst/>
          </a:prstGeom>
          <a:ln w="0">
            <a:noFill/>
          </a:ln>
        </p:spPr>
      </p:pic>
      <p:sp>
        <p:nvSpPr>
          <p:cNvPr id="539" name="Slide Number Placeholder 3"/>
          <p:cNvSpPr/>
          <p:nvPr/>
        </p:nvSpPr>
        <p:spPr>
          <a:xfrm>
            <a:off x="8029440" y="6462720"/>
            <a:ext cx="96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6507B-8790-4498-B7AA-39B78604059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5"/>
          <p:cNvSpPr/>
          <p:nvPr/>
        </p:nvSpPr>
        <p:spPr>
          <a:xfrm>
            <a:off x="463680" y="3780000"/>
            <a:ext cx="4584600" cy="20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ad map for leadership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385920" y="1633680"/>
            <a:ext cx="844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isn’t a right; it’s a privi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is a process, not a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is 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is about creating change and facilitating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development is a lifelo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8029440" y="6462720"/>
            <a:ext cx="96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42D3D-D502-47E2-AD5C-8CBBCB26F09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U:\My Documents\Work\COHORT\5Levels_FullSize.jpg"/>
          <p:cNvPicPr/>
          <p:nvPr/>
        </p:nvPicPr>
        <p:blipFill>
          <a:blip r:embed="rId1"/>
          <a:stretch/>
        </p:blipFill>
        <p:spPr>
          <a:xfrm>
            <a:off x="2730600" y="965160"/>
            <a:ext cx="4287600" cy="5680080"/>
          </a:xfrm>
          <a:prstGeom prst="rect">
            <a:avLst/>
          </a:prstGeom>
          <a:ln w="0">
            <a:noFill/>
          </a:ln>
        </p:spPr>
      </p:pic>
      <p:sp>
        <p:nvSpPr>
          <p:cNvPr id="546" name="Slide Number Placeholder 3"/>
          <p:cNvSpPr/>
          <p:nvPr/>
        </p:nvSpPr>
        <p:spPr>
          <a:xfrm>
            <a:off x="8029440" y="6462720"/>
            <a:ext cx="96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0D45A-5E50-4C38-BD8E-C168C0F4590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385920" y="1341360"/>
            <a:ext cx="8448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can move up a level but you never leave the previous one beh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are not on the same level with every pers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higher you go, the easier it is to le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higher you go, the more time and commitment is required to win a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ving up levels occurs slowly, but going down can happen quick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higher you go, the greater the retur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ving farther up always requires further grow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climbing the levels limits you and your peop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en you change positions or organizations, you seldom stay at the sam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cannot climb the levels al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8029440" y="6462720"/>
            <a:ext cx="96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F9BA4-1EEB-4EEB-938C-29B74221B93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646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eadership isn't about advancing yourself.  It's about advancing your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become the chief encourager of the people on your team, they will work hard and strive to meet your positive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leaders measure themselves by what they get done through others.  That requires developing people in a leadership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 are measured by the caliber of leaders they develop, not the caliber of their own leade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8029440" y="6462720"/>
            <a:ext cx="96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8A635-4FC6-4E6E-8EDA-37B0F01AFA1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244440" y="1355760"/>
            <a:ext cx="87472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book helped 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what it takes to achieve greatness as a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where I am in the leadership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strategies to improve my leadership potential and move up to the next level with my people; going from good to great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 that true leadership is about creating relationships; producing and creating; learning and growing; and supporting and valuing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plan to work with my team to model my commitment to personal growth and invest in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8029440" y="6462720"/>
            <a:ext cx="96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A8328-21F3-469A-A894-355CADDCCEE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Trish Mooney</cp:lastModifiedBy>
  <cp:lastPrinted>2011-06-13T12:29:39Z</cp:lastPrinted>
  <dcterms:modified xsi:type="dcterms:W3CDTF">2012-08-21T15:58:22Z</dcterms:modified>
  <cp:revision>103</cp:revision>
  <dc:subject/>
  <dc:title>Leading with Impact</dc:title>
</cp:coreProperties>
</file>