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E60C7-3907-476E-8902-DDE51EE6BD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08617-4B50-4279-B498-D4B8FE238A6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8A25755-9CA7-43CE-B3E6-30F51979BC5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A559D61-E4A3-4AA9-B887-8830164FED7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6FF3AF7-F34B-4B41-BD56-D74E5D69282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F9AD1AA-3A29-432A-BDAB-CCCC4017087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53CFD5C-B4DD-4B83-A823-C895E03F8D3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EC6D9BA-F3FC-44B3-AB0D-BAD819E5A00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5326EC0-F16F-40EA-8362-2876D581DF7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A3A645E-D080-4C16-A9ED-7FB153BBF11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F46FAB5-783D-4AE4-8AEF-8D1B41A44DF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5FE3410-F891-468F-846B-D2781D5C464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8D0796-EA86-4016-9249-7B28E34B533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AA55B6B-0946-485C-97A0-33624A2A236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7D0088F-E7E8-4734-B947-611CCCFC201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B61E5D0-085D-4A1D-A13A-826670E51EE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92CC11C-0232-426C-B41A-81953B5B48C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10C9BC3-B493-490F-BAB8-6239ACD7218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93DE53B-FA6D-4A81-8FA9-46201399243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6F978BA-0813-45A2-A4CD-CAEFFAD31D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DE21F72-7FF5-4F4F-90BC-988146370CD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8AA4652-BEBB-4541-8B9E-8F60195340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893C1F2-94B6-4475-831A-959C1FE8634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670631-81E7-4262-A97F-F70EEE151B4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7E18F34-4684-4118-9F49-912BBB162AD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B7428A9-9E04-4168-97FA-54B8A81AE1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D65B40B-393E-41E5-A89E-B36991201D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D34E7D4-1057-42D6-97E8-116BBAEE4F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BC908D6-CC27-4900-B24B-6900A9B396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049EBA1-4C81-4085-8BDB-2107414521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5FD71D8-C273-44E3-8DF9-32ACE71B45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E98A169-5D2B-4D0B-828D-4894E8DABF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C74D687-90E6-4D54-AE35-4121157D88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EFADBCD-B436-4AE0-94E1-E92026BE76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06EBAC-6563-4A06-B76C-75761EACB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CF46F97-222A-4D4E-A4BE-5095D17EB3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199F89C-BA39-499F-8E08-C76F02A171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78C95C8-9BCD-449B-9B6B-19E4FD5EDF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66A7E95-12C0-4D44-900D-235C6C11FA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23814A9-FCF2-4E1A-A7ED-A75E65342A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038AB28-9F3E-473C-9B94-D952E2EC7D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779B479-3E8C-46F5-9BD2-C278DBB4F9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1295E34-6D4F-48D4-98BE-BCF0F2FF77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9CC5F7F-1D07-44E6-8B46-CB0E11ED1A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49571CD-343A-4280-986F-61E092D76C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91B2B0-E3BD-4905-AC5A-DC27FF1D1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8ACBFFB-38E3-41A0-8285-3BBEFB15D1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FC38C0C-E2A4-4AB1-9DF7-D1919963E7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399B612-9B0E-4675-B6C5-FA6C08E864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B74A763-52A5-420C-AEB3-ECB1E36A6C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4F578D1-2989-4577-8E52-E610F3310E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4740CD-7DA2-4F98-95AC-EA97CCB54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7FEA5F-0F1F-4445-87C4-A275BC515E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F0271B-D001-4F2F-9B07-2827C4E2D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7FC608-0BF6-4DF9-88C4-C043BF43A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57E412-5013-4FE0-A95F-FF86BFEDFF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56457-5674-4A3C-B4A0-F16B418D25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4A059E-4991-4CDE-B136-0D1E76837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74C3A0-D7A5-487A-8D41-ACA1E7C43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19D9D7-7A1C-4DB5-8D82-00BA255E1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D2E3A80-E18D-4A4B-8397-D9E5C475822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6A9915-55F7-4AD9-B42B-CAB9D31797C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F8B12A9-A36F-4830-A642-BC80A59E3DC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459537-8056-4BB6-8CCC-D4F41674608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0BCF07A-D076-4974-82A2-EA6A8554D88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751CD99-634B-4BBA-98E5-DE5B1B4FCD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E0AA42A-8700-41CA-8ACA-F672278718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1BF27-5598-4C1A-83CD-28CED269449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E4CB422-1222-4A07-BCC6-B4B970BF91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2F7B68-D494-4084-8130-7610084364E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2F1767B-C40D-4466-9F25-C46654A253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7E0A3D5-7EC5-4352-A201-F47BE0B184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34DF870-965D-4235-A06C-D44CC6111C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0F114FC-DE3A-48C5-9550-035276060FD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3F7FAF0-B956-42C0-83B6-6BB9240ECF0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3CDC339-C792-4123-A3F5-2D14BEA98BA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DD0BC0E-D0E6-4209-B9C8-E88535DBC0D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5892FB3-3D80-4231-A444-6972313E263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8522F-4502-4899-9D34-42316DCB053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79FB894-E33B-4B0D-98A6-FE8F74244AB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4C0649F-D97D-4D01-8B7D-479D00DFDF9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8554C22-75D8-46C6-BA30-B6A3F2D9F1B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CA0CC0C-CDD8-4806-8DF9-802B4E344E6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54D0AF-3A39-4FA4-9F0C-CE1557C3AC5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F7C3775-2075-49E6-AC40-304E9C37FAC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6E60C42-E184-43F4-8C95-8C43E949BC4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289EA3E-0C28-4219-A9E4-48EBF9EC7A8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2BB4BF1-B191-4BCF-AD09-F62E0DB849A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A1C24DA-3A40-43B5-A30E-73643EB92CE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91930D9-6464-4815-8A1E-A86CC002B10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8575BAC-710E-47A0-93C6-BEF7F07FA94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A31063C-975B-4D69-8D15-B9AAC00B8B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EC2A9E4-569D-4CE6-B0F9-FFCB9095C9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12EB166-B3CE-4A5C-B949-20FB4C6A2A6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FF05C6F-3BF2-427C-B35F-001109B7E80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C94A158-5114-4717-9F9E-1668ABF9DB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F422DEF-E40A-4B27-8822-A9D9378B3A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38A024F-1209-460A-B561-13BB969920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4C5E316-8ED3-4E31-8D5C-EFEF18C34B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5D9EF37-A0BF-45C0-BFA0-2E074E317B1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122CEB6-08AA-4D36-8704-2C03B951D86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083D03B-224B-4FD6-9E52-7D8CA330F98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DF17C73-AAFF-4DE4-90BF-DCA8CD89D55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276ABEC-5F6D-4689-AC10-DC2B37CBBC3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76E6482-562C-4B7E-98CB-E9919248E01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E39EB4E-3003-4CCF-941B-696D8E2AC03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754542A-B5BF-49B7-85C1-4E4251C61C9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CD4D73D-A39B-42F8-AA89-FE1566DB5C2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1BFF1CD-09D7-492C-9F75-05DB73135F3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80C9344-3C42-46AF-A422-76682B3A291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4E675C4-FD8D-4AA2-A17F-3B79D1105F1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28DBE-0CC5-478E-BFDB-A045827AD2F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2394E25-94D5-418D-9C12-AD508740320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44219F9-A4D7-48B2-A3BF-2A7986E529F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C6C8C15-E935-4321-AB39-F1F37461BF2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760C925-8CF3-4B1F-90AB-A82128799AA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13BBF33-762D-4E12-963B-5138B2C5075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9AD5C4D-78C8-4AC5-9464-67613C6E7CE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1FDE762-2C8E-4F98-9607-9EA9943A333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6CD4BAF-6C4B-4D0B-BB35-4CF9CA5BA58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434396A-1BFE-41AE-9C74-09DB2E64E90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EBB41C8-2455-4E87-AB0D-F6F5EF9D613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080E3-BA61-4228-9D6B-44145598EE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1BBB616-A8B9-45A5-A009-7241CE622A2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98C421A-549D-4F69-BF15-680F017863B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B3C55DC-B057-4EEA-87C3-F8075578B2E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8511539-9EF6-4F17-815D-8905A6EDB60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7774020-0CFE-40A9-AE2D-967FE536755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29AA485-21F4-41A5-B5D1-4FD285DD5AC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D45A279-9F83-40F1-8740-F77363D9A77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10648B2-FAA6-4F8F-AE35-69CFD558489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BFBB121-1F58-49DF-8530-8CF3FAC1F23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F39BF68-0FE2-4861-BD81-133E43F4C03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048E2-98FE-49F5-9098-2BB6198F6E6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998919E-D199-439D-AD37-D43317BCC89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CDF68A2-7BD2-4AB2-9CB4-FE71466407B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1D6F336-F735-4FAA-946A-73DBCDDF4FA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10A8B4-4CB0-42FD-9258-43265977F6C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43B35C6-8CEC-44E5-838B-1A52D2675D7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351D634-2FAF-42C3-878B-283FF81C3DD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FDA27D0-3798-40B3-82D8-DD73B21593E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6194DB2-B951-464B-B0BB-2CB52618EEE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12C0261-FF02-4E5F-8CAF-92B8B7062DF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D196C08-A821-458E-B61F-E868C8E0118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D43DA-259D-4370-AC1F-E2C0D89D44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A33CB-C704-4949-9C02-6393A45649F4}"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AE3FFB-EDE7-41AB-A44B-2349835C0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FB84B-53E5-491B-BB2C-6783AEDB98A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C0B14-CADD-473A-BBD7-D90979756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562D3-89EE-4A71-97A1-E9668B455E0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B945B-5920-4BC8-BAAA-5B44713E1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6B5D4-A397-4977-9DD0-9AD70A24C8D6}"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192CD-7906-4FB6-9477-9545FEAC8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419FE-22AF-4EB1-B4BC-B22237C357D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123A5-5ABC-4346-A6F3-3B6C16D7B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A489F-7A3D-45AE-ADF3-7EB92EB27A6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A0A87-5208-41A6-9083-F5D13A45E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8F062-E156-4F96-9F2F-41C7F7AF765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55BDD-45EF-4F73-98F2-5DC49EF86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F6679-3E9B-42E7-84CC-544BAF7FF19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DBD7E-6CF8-4AA1-B6E7-BCA25AA98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A32BA-4D42-44E2-86FF-A77DE84B293A}"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7CA39-5B1D-4F50-9F9D-C85562FD8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A3F91-B4F7-464A-A1CC-FFEDBCD2940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05E29-E52A-46B0-9605-A2616C382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4DBDB-D81E-4C9B-9F5D-EDD87ECBC5E2}"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E5E72-C40C-4C5D-B99F-DD7EE775F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hony Webster</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 – (Sample)</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to Succeed and you wont Manage to F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Corey W.Grant</a:t>
            </a:r>
            <a:endParaRPr b="0" lang="en-US" sz="2800" spc="-1" strike="noStrike">
              <a:solidFill>
                <a:srgbClr val="000000"/>
              </a:solidFill>
              <a:latin typeface="Arial"/>
            </a:endParaRPr>
          </a:p>
        </p:txBody>
      </p:sp>
      <p:pic>
        <p:nvPicPr>
          <p:cNvPr id="531" name="" descr=""/>
          <p:cNvPicPr/>
          <p:nvPr/>
        </p:nvPicPr>
        <p:blipFill>
          <a:blip r:embed="rId1"/>
          <a:stretch/>
        </p:blipFill>
        <p:spPr>
          <a:xfrm>
            <a:off x="5710320" y="1335240"/>
            <a:ext cx="2571840" cy="412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p:nvPr/>
        </p:nvSpPr>
        <p:spPr>
          <a:xfrm>
            <a:off x="874800" y="1900080"/>
            <a:ext cx="7786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
          <p:cNvSpPr/>
          <p:nvPr/>
        </p:nvSpPr>
        <p:spPr>
          <a:xfrm>
            <a:off x="344520" y="1465200"/>
            <a:ext cx="8469360" cy="517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author is quoted “ Successful people say find something you like to do and you will never work another day in your lif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adership is taking charge, getting things accomplished and having people believe in your abilities to follow yo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 a management style you want to use, compatible with your personality.  ( Task- Autocratic , Team- Participative, Individual- Deleg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od leaders will switch between different leadership styles. Regardless of what leadership style you choose, you can only lead using a style that fits you and your personality as your main sty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legacy do you want to leave behind? How can you make a differ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adership is leading others to do things they didn’t think they were capable of achiev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etings start and stop meetings on time. Stick to the agenda, assign action items and assigned due dates, follow up with a summary of decisions ma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gnize the work of your entire team, special achievement awards, pizza parties,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oid micromanaging. It creates ineffective employees and takes your energy and time away from other tasks you could be handling.</a:t>
            </a: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6"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don’t have to be an expert in your field to lead. Leaders lead  those who are exper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pert is not the same as a leader, the sooner you realize that, the faster you will become a great leade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 your employees know what you expect? Are they being mentally challenged everyday?</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ant to be a great manager, empower your employees and give them opportunities to exc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ship is more of an art than a scienc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rue leader must have the courage to forge ahead and address issues or go places that others have refused to go. This quality is what separates leaders from manager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take care of the people the people will always take care of you</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3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s throughout this book, have been discussed in the Cohort classroom, which I found interesting. Leadership styles to managing your energy, were just a few of the topics touched on in this book that were also discussed in class.</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ing a leader starts with trusting your self and in your decisions. Taking your team in a direction  that other managers have avoided in the past to have success because it was too difficult, is key to leading. Don’t let fear dictate your future as a leader.</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y true to your leadership style. We can be in different leadership styles, depending on the situation we encounter but feel most comfortable in the leadership style that best fits our own personality.</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learned there is a difference between managing and leading. Managing is maintaining the status quo. Being a leader requires a special blend of leadership characteristic and leadership styles and skills in order to connect with those you're in charged with guiding or direct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ony</cp:lastModifiedBy>
  <cp:lastPrinted>2011-06-13T12:29:39Z</cp:lastPrinted>
  <dcterms:modified xsi:type="dcterms:W3CDTF">2013-01-05T19:44:25Z</dcterms:modified>
  <cp:revision>17</cp:revision>
  <dc:subject/>
  <dc:title>Leading with Impact </dc:title>
</cp:coreProperties>
</file>