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FBF59-2851-4FB2-B4C0-2D9B93B57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2C158-4558-4A96-9B58-23444219C8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2F36EE4-FAB0-4DC2-AD64-B7A5322F9EB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8EA10BB-C868-4A14-B13A-60C2DBD53BB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E13AC9A-1EED-466C-87A5-B4CDC06C67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0B20A6-6F6B-495F-9F4B-A460D6D72A3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5773314-E900-4DD8-8191-4B49FD691BB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01BAE8-5E86-4FC3-8671-077415F2AD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2B89A51-371F-4802-9FAC-F4EED15918B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05E6AFC-3EEC-4AD6-B6C7-8D17B08F92E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8F742A9-5695-419D-9721-C8208AF10E2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1350260-0FC2-49AA-8587-16726D5EC5B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EBDAF-B8C6-436D-A8A0-DB657EEA3A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32633A5-1E2B-49CE-9A4D-D68B0FE1B91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89E832B-6FD3-4BEE-93C1-BD5FB96198C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BCAD77E-FF8F-4F4C-8CA4-E42584EF39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1A8F53D-418D-4A61-8ECB-BE82A54152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DFE5B34-64D9-4BCE-9BF4-747FBFA941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B7F377B-113F-4C81-80AA-296B89225A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9FBD49-EAAC-43FA-9310-AA0F518321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46FC328-5171-4A48-A563-F600556276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9266CB-4DEC-4C53-A768-7C91DDB7ED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3BABD62-1A4C-4B0D-85A3-67C8DA4FDBE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5F20E-1DD1-432D-B73B-5B0DAFAB68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A0388F2-CB74-43DF-85A0-14EF8D4DAE3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AC33030-B570-4101-BCF5-9D25BD1142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CE3749E-8BBF-484E-A89A-C520533BF9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F553891-27B4-4507-9ACA-50BF15DD6B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B766BE7-351F-4FA9-A2A6-0379BC9469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36FB597-7ED5-42B6-9F0E-B35C1F6B54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B589050-4921-420A-AF6B-1B01AFAF3A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3C15243-DB86-4425-BB06-D0DA364CA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A9379F7-55E2-4F5E-8F19-4176BC9FE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CEC4A19-A1CB-407B-B969-25FD9248CB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57B61C-43B3-4A03-9BA6-8A24891CE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B55DAEC-75F7-4BC7-BD6E-BB845116F6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FC8C5DF-9A79-4E16-A27C-093DE3DAAD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9F421C8-DB47-421A-AF50-9363C14DDA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2C4E343-28E9-418A-AE90-941B232166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23B665E-2FB0-439F-96B8-5A291955EC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CE8CDDB-262D-4C63-B9EC-EA90B776B9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4A4BC6B-6D9B-49D4-B862-CFA033078C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BDF14C8-5132-442C-BB73-43612262C7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328F48-4460-4224-A6E4-D7B454FE06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560C986-9C30-4D5C-BF8F-CCA8A22A4B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93B6A0-26F0-477C-B26B-3D3EB6C14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70AB933-5126-4E62-BFCA-2B56BF8F3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32F2CAB-6FEF-4537-B651-287CCB411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BE629C7-1CE1-46A8-A6D4-CBD09FED60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855422B-20AE-4C27-938A-BC6A7848F9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364FA83-9034-4F6B-ACFC-5551D57FE7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2FC0D4-A67E-4257-90F0-8C25550AE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C0EFCB-187C-4FEE-BBE5-B5D714937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124DD5-F775-4125-92B8-0B112B493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6A7C1E-02C1-4690-B966-FDE7B4227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6F6303-7FB5-49E3-8AC9-19D1FD70FC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7F683-AEC2-48D4-9082-D88A467909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817710-9E8D-4EC3-8952-FD1E52158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0828F3-22A0-4589-811E-0E4EF272A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5BC660-853E-44D0-B1C3-F99B8A017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780235-6931-4413-BB13-0A3D0A27028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1B0F20-EA19-4418-A2A2-F0DCF5641F8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E0FD602-4062-4AB4-90E9-65493ACDCB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1D193A-6406-4F10-97DA-25FBE8A626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EC08B5F-6B8D-4842-A56E-52D7D0D43C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4074CB-64F2-46A5-AA74-7743EA26DB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D8D25D-DC64-41F2-9DF0-EC7CF4556F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7230-EEF9-4DE6-A0BA-2EE60668FF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85B191-48CD-4F7C-8905-19BFB59908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18A212-F3BC-4762-83E8-E7BD9B443A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115AE9-56D1-4217-A953-7260F0826F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B4AF89-EEB3-476B-846B-4B51DDB1D7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B87AB2-E7D1-408A-BB9F-53035DA620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95C2FB5-647F-4EDB-98C6-0667F34A535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08C4D30-D546-446A-BBAE-517EA5FEDFD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C657A71-5B1F-46ED-A042-187026D8BD0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C6AE9A-E591-4585-9162-F537FBD654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5C1F815-23CC-41D6-92C1-E308844983B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1B7D2-70FC-43D1-93A8-0CDC4FCA07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E41EA12-7F4F-44BB-A398-A1BA7E72D77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520931-1407-4069-B31F-4362EB4B4D8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851D5D5-B7BB-49DB-8436-604B4E65EC1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BEB1E2-8E48-4E14-AF15-E5288FABCD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FE915F-4773-416C-8173-FBDD2CF325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81FCC8-F670-453D-895B-C1E08E6D4B6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638C0D-F3F9-4E15-8131-92D3F9DA5F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B783D5F-0930-4F06-97AE-017216EAF44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F4CBFD8-481A-44C9-87F6-59E8A8EEB3C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694AA1B-57CF-44C2-A978-898012057E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B961BC2C-EAD1-4FF0-B2AD-BF14524140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6D15A27-3177-40AB-8F80-AF09A7F632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6A2AA37-3184-489F-A243-4D6C469FB0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814C7C5-625E-467D-B44C-FEBA4D419F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60AA72D-10B2-4E76-BB90-56660974AA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2004C10-9240-4988-985A-B5491AD54E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2BB2C3-483F-4218-8F74-8C3ECE4421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A6438A-52C5-44DE-84C3-5345277977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362547-359C-4878-A802-3C9431875D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4054F45-3EB9-4BC9-94A9-122547A54B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A04F3AE-1C16-4B24-B8F2-F70BD40AEEB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877BF23-E51C-4CC9-A957-5888EE3BFB0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11C1974-2EF5-43D7-ACA5-B95734E8762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DE1CFAC-1AA0-43D9-ACA5-1F474E6E396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7272D2-0F76-4CC0-A3CD-6B0EB0BF0A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1018C2-AF06-4C68-8F37-68A4A7D7C53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FCF788-7905-4781-A3FE-2FC6D462D8B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F995415-143D-49C8-9C2C-D495E980732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FE4CEE1-A3C7-4D4A-BB7E-31D287FAF2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E30942-9D41-47BA-8FB4-1B738C67D98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42DA497-9515-4510-93BE-4DFAF07C7AF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E686307-925D-4CE6-B626-43F82E88DD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1409D-B79B-4BC9-B454-7C1DE3ADD9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90C47A9-B40F-4874-8B24-FA6686AB970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B7F3A69-EBBC-4D08-94A1-EECAE65C70F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3C3E362-1F84-4F5E-B07E-F048E30E8EC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626020E-0421-4E1E-AD97-2356763A62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6DCD4A1-545F-4C73-99D8-FD0C6CE823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C0CB088-86A5-49AE-8E6E-2D2BD6D8CC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A1F2D0E-9C02-46E3-8686-C2B9D32F0E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4DC49EC-B9FE-4E0B-A31B-1B8083FBE94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E3EFD4-8A1A-4348-A879-30BFB0F4905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F65F94-1299-40C6-8215-861FA0211D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167A8-F241-4717-965D-0263E2117C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2FA6D26-1060-45A9-897C-FF72182F138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F6E528-D698-42BA-AF1F-4EB7A7BC7D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A1E4D8B-015C-4F7A-B9C1-F972C3EF2F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DA51D49-ED62-41C5-8505-22946FA43E5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D5B012C-6559-409C-8FF6-78551A71059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5376403-805D-4772-AADE-34E0304E695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2BABA92-719B-4C92-A703-B44D1EB7F6B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4CCF55D-A962-4091-AB94-3A4BF0C8714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1380C44-D231-4066-9BA7-0F384F467B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6C3495-A3E9-417D-905A-431D2594AA2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AAB74-6442-4786-9EFC-CD96BE65086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9F34D6D-FE35-42EF-A230-8E22A4143FC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9EE499-F58A-42E5-86B0-F5262F1A21B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119C16-98A2-4ABF-85AD-1C6C470259C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C0C80E-2FB6-42CD-808D-396B1BB1616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0EEA45F-9685-4ADA-ADE8-A7B8C4968D0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E91D2A1-B517-4877-968E-0F4FD93D475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E7D2B14-36E1-47D1-A88C-E769B064D05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4B6646B-36E5-4D2A-82B3-6CCC8B49142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CC53557-EFCE-49B1-9880-22084F0F4C5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0703FD4-35D2-4093-82D3-F3A307B2286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89669-D54B-40BA-8A03-D0F68185B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C6870-25CD-4C9A-8247-FF21B316F25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D58B5-C266-4EA7-8F4F-A197E3563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125D0-D533-454E-9D61-C919B9484AE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EEDD2-AAF8-4D80-A48B-874013B75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41660-AD2A-41F0-A3AB-099F7828D2E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8B369-890C-47A2-B210-66BB7536A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A57EB-F1D0-414D-8FFD-B0D1C7F245C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2D8CB-B24A-4CBA-A7A2-98C0FBEC8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C2EAF-BD80-4BB1-BAE0-1B897F31F6B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A3B08-D75C-402D-8A15-75718B6BB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4A501-F2D9-4900-9B69-F6AD77DCB82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B8173-AF89-4B18-AB8D-227DE97A9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DF6BD-33AC-42C4-AC31-2215F045362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53E08-2988-4E05-A5DE-BD62793CA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E15BA-F077-4702-886B-73FC21816DF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96AED-9893-4152-93AD-FC84D0D88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BB88C-CEE3-4204-A464-AC3BDF2F98E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4CA04-92A7-4361-B4A6-1A4ABF383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EEE28-0AD1-47E4-BF2F-F5ED10F1590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73782-0C61-405C-A921-F1431FE2AC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1564C-ADAF-422D-BE2D-493B3526D19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C7222-CE7D-438A-92FF-9689EE176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vin Duvall</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47984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ilure i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 an Option</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Kranz</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Flight Director, NASA</a:t>
            </a:r>
            <a:endParaRPr b="0" lang="en-US" sz="2800" spc="-1" strike="noStrike">
              <a:solidFill>
                <a:srgbClr val="000000"/>
              </a:solidFill>
              <a:latin typeface="Arial"/>
            </a:endParaRPr>
          </a:p>
        </p:txBody>
      </p:sp>
      <p:pic>
        <p:nvPicPr>
          <p:cNvPr id="531" name="Content Placeholder 5" descr="Failure is Not an Option - Book Cover.jpg"/>
          <p:cNvPicPr/>
          <p:nvPr/>
        </p:nvPicPr>
        <p:blipFill>
          <a:blip r:embed="rId1"/>
          <a:stretch/>
        </p:blipFill>
        <p:spPr>
          <a:xfrm>
            <a:off x="5167440" y="1600200"/>
            <a:ext cx="300024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7200" y="1434600"/>
            <a:ext cx="8229600" cy="49482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 Foundations of Mission Control:</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1:  To instill within ourselves these qualities essential for professional excellenc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ipline:</a:t>
            </a:r>
            <a:r>
              <a:rPr b="0" lang="en-US" sz="1600" spc="-1" strike="noStrike">
                <a:solidFill>
                  <a:srgbClr val="000000"/>
                </a:solidFill>
                <a:latin typeface="Arial"/>
              </a:rPr>
              <a:t>  Being able to follow as well as lead, knowing that we must master ourselves before we can master our task.</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mpetence: </a:t>
            </a:r>
            <a:r>
              <a:rPr b="0" lang="en-US" sz="1600" spc="-1" strike="noStrike">
                <a:solidFill>
                  <a:srgbClr val="000000"/>
                </a:solidFill>
                <a:latin typeface="Arial"/>
              </a:rPr>
              <a:t> There being no substitute for total preparation and complete dedication, for space will not tolerate the careless or indifferen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nfidence:</a:t>
            </a:r>
            <a:r>
              <a:rPr b="0" lang="en-US" sz="1600" spc="-1" strike="noStrike">
                <a:solidFill>
                  <a:srgbClr val="000000"/>
                </a:solidFill>
                <a:latin typeface="Arial"/>
              </a:rPr>
              <a:t>  Believing in ourselves as well as others, knowing that we must master fear and hesitation before we can procee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esponsibility:</a:t>
            </a:r>
            <a:r>
              <a:rPr b="0" lang="en-US" sz="1600" spc="-1" strike="noStrike">
                <a:solidFill>
                  <a:srgbClr val="000000"/>
                </a:solidFill>
                <a:latin typeface="Arial"/>
              </a:rPr>
              <a:t> Realizing that it cannot be shifted to others, for it belongs to each of us; we must answer for what we do, or fail to 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ughness:</a:t>
            </a:r>
            <a:r>
              <a:rPr b="0" lang="en-US" sz="1600" spc="-1" strike="noStrike">
                <a:solidFill>
                  <a:srgbClr val="000000"/>
                </a:solidFill>
                <a:latin typeface="Arial"/>
              </a:rPr>
              <a:t> Taking a stand when we must; to try again, and again, even if it means following a more difficult pat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eamwork:</a:t>
            </a:r>
            <a:r>
              <a:rPr b="0" lang="en-US" sz="1600" spc="-1" strike="noStrike">
                <a:solidFill>
                  <a:srgbClr val="000000"/>
                </a:solidFill>
                <a:latin typeface="Arial"/>
              </a:rPr>
              <a:t>  Respecting and utilizing the ability of others, realizing that we work toward a common goal, for success depends on the efforts of al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 Foundations of Mission Control (continued):</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2:  To always be aware that suddenly and unexpectedly we may find ourselves in a role where our performance has ultimate consequenc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3:  To recognize that the greatest error is not to have tried and failed, but that in trying, we did not give it our best eff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Gemini Program:  “…I surrounded myself with smart people and relied on them to work with me as a team to get the job done.  My credo: always hire people who are smarter and better than you are and learn from the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Gemini 9:  “As a Catholic, I found debriefings were almost like confessing my sins to a priest – except that this was done over a microphone, so the whole “congregation” heard my mea culpas, particularly when I had to say what all of us learned to say:  </a:t>
            </a:r>
            <a:r>
              <a:rPr b="1" i="1" lang="en-US" sz="2000" spc="-1" strike="noStrike">
                <a:solidFill>
                  <a:srgbClr val="000000"/>
                </a:solidFill>
                <a:latin typeface="Arial"/>
              </a:rPr>
              <a:t>“I don’t know.” </a:t>
            </a:r>
            <a:r>
              <a:rPr b="0" lang="en-US" sz="2000" spc="-1" strike="noStrike">
                <a:solidFill>
                  <a:srgbClr val="000000"/>
                </a:solidFill>
                <a:latin typeface="Arial"/>
              </a:rPr>
              <a:t> Knowing what we didn’t know was how we kept people from getting kille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pollo 1 fire:  “A rational feeling or not, I felt that I had personally let down the crew of Apollo 1.  But I also knew that I had to put aside these feelings and take the lead in rallying the controllers to get us moving again.  I had seen [other NASA leaders] get out in front and lead when we had problems and setbacks.  Now it was my turn to set an exa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Apollo 13 crisis, Gene Kranz addressed his Tiger Team:  “My message to everyone is: rely on your own judgment, update your data as you go along.  If you are not the right person, step aside and send me someone who is.  When you leave this room you will pass no uncertainty to our people.  They must become believers if we are to succ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1" name=""/>
          <p:cNvSpPr txBox="1"/>
          <p:nvPr/>
        </p:nvSpPr>
        <p:spPr>
          <a:xfrm>
            <a:off x="457200" y="1599840"/>
            <a:ext cx="8229600" cy="4684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ide myself on being a “big picture” leader, always the person that can be relied upon to deliver a vision for the future, whether it be at the project level, program level, or organization le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is memoir teaches me, though, is that there is much more to leadership than just understanding the big picture.  True competence and leadership also comes from understanding the complexity of our work, and putting forth the effort to become a true subject matter exp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moir also demonstrated the true meaning of perseverance and overcoming of huge obstacles, such as the Apollo 1 fire and the Apollo 13 crisis.  It is at these times of crisis that true leaders shine the brighte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kevin.duvall1</cp:lastModifiedBy>
  <cp:lastPrinted>2011-06-13T12:29:39Z</cp:lastPrinted>
  <dcterms:modified xsi:type="dcterms:W3CDTF">2013-01-07T20:36:43Z</dcterms:modified>
  <cp:revision>41</cp:revision>
  <dc:subject/>
  <dc:title>Leading with Impact</dc:title>
</cp:coreProperties>
</file>