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84F-B21E-4650-A207-75DF5B9898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EB10-AF81-45FF-9AA0-B089D86F1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C82C-D02B-4FE9-928A-3CB68E3B3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4A9-82D7-4DE8-9090-1656E262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369-E26B-49D2-9924-A706C612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DAE-06EF-441C-9975-6FD0C63C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0B4-7621-400B-80DD-C4AC537E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2480-F833-47B4-9D1B-A5BB1D5D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4D8C-C25D-4AAD-B146-BC9093EC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FA20-09E2-49AA-A699-A90A7C4E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D171-88F7-4D12-ADC3-260F1AE6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D074-D55B-4000-AF48-231FBD40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079A-AA1C-4DEE-A213-F05145E3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F308-AD7E-46E3-A0E1-94C317F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0A2-4228-4D48-AB84-683767B3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664A-21A3-43F7-A7A2-8D171423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C14C-A956-48BF-A67F-0C10D3A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3A9A-40C7-4607-9FBA-0002EDE5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473E-6012-4E5F-9DEC-01A3FF2E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E71D-BB08-43B7-8232-FE094B5A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C9F6E-C06A-4F48-8CE1-2BEAEAA3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6110C-2FD8-49EA-8CED-F48920DC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3833-FE07-495F-BE22-C9C0393E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7D26-0122-40F4-9735-5249D19B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5D60-400B-4229-9E11-5B08CEE2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393-ED04-4928-BC8F-3BC9FF66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A832-1E6A-426A-A23D-BD6969B3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B948-0ECE-45B8-8E21-82420FCE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6514-72D9-4711-80A1-0A78F568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6501-278F-4FCC-AA68-34573495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88AF-3943-421F-BF71-FC75E29B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AD76F-3134-4FA0-BEBC-69FD861F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8196-970B-4221-BA78-E89776F5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AFA9A-C022-4F71-9A2D-9413EE2A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802CD-B9D2-4ED2-A7CD-2EC49A9A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949C-769D-4AE7-A31D-56C10533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2A7-337E-4DEB-A75D-1716B93F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241A2-7A41-4B5F-A9EC-7AF351C1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9F0D2-A560-4910-B2D9-0178EA15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30872-C8F8-4037-BFAA-01BBB73D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4BBCE-76D0-49C9-BE4D-5A9CFDE0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32F3-DDAA-4D93-A943-609D75C6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33204-C7DC-4D01-BC9B-F616B02A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0138F-DF2D-496D-BDE3-DE1CF5F0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7B69-AC59-46DC-9DA8-4586E16B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2978F-C410-4229-AC7F-89017B6A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497-9C30-424C-BC1A-FD76CBED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712-F457-4FE1-8304-59299021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B3A-011E-4AAA-B515-03B0F213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35A-4251-4285-B9F1-85391106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1C0-5309-4D6C-A14D-1358ECF8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D78A-2C82-4037-9D74-BDD6C955073F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1086-ED81-477D-B148-C61899DCEE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B4D5-2EA1-4D19-8CC3-AD1F3F065ABD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9D13-5B4F-4E4B-974B-C4ACBB64D44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231-E0AB-4AE9-B141-67125DFC9B9D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098C-131B-4A54-A631-2F7BE3C9124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DB90-DA65-4936-9354-BA3730680FF7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3553-A4DA-4A39-939E-15CCB1D0C06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1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90320" y="352224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tation of COHORT Track B Community Project to GO/SES Pan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6 September, 201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660600" y="5143680"/>
            <a:ext cx="218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an Bu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illiam Newt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el Salga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omas Mulker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ruce Test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Vision: A valued and enduring orientation program that articulates APG’s Mission Areas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Mission: Develop a program that provides employees with an overview on mission area activities at APG and how they support the DoD Acquisition process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Rounded Rectangle 3"/>
          <p:cNvGrpSpPr/>
          <p:nvPr/>
        </p:nvGrpSpPr>
        <p:grpSpPr>
          <a:xfrm>
            <a:off x="585720" y="5651640"/>
            <a:ext cx="7863120" cy="961920"/>
            <a:chOff x="585720" y="5651640"/>
            <a:chExt cx="7863120" cy="961920"/>
          </a:xfrm>
        </p:grpSpPr>
        <p:pic>
          <p:nvPicPr>
            <p:cNvPr id="207" name="Rounded Rectangle 3" descr=""/>
            <p:cNvPicPr/>
            <p:nvPr/>
          </p:nvPicPr>
          <p:blipFill>
            <a:blip r:embed="rId2"/>
            <a:stretch/>
          </p:blipFill>
          <p:spPr>
            <a:xfrm>
              <a:off x="585720" y="5651640"/>
              <a:ext cx="786312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98400" y="5727600"/>
              <a:ext cx="764064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ecute a “pilot run” to demonstrate concept</a:t>
              </a:r>
              <a:endParaRPr b="0" lang="en-US" sz="2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9960" y="1028880"/>
            <a:ext cx="536256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MMO Program Concept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22080" y="1598400"/>
            <a:ext cx="77454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program to augment the existing  new employee ori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oduce new employees to resident activities at APG using the acquisition process as a guid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 overview presentations, facility tours &amp; information packet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395280" y="3357720"/>
            <a:ext cx="41241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4617b"/>
                </a:solidFill>
                <a:latin typeface="Calibri"/>
              </a:rPr>
              <a:t>Project Goals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689040" y="4076640"/>
            <a:ext cx="77454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4440" indent="-2444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 an orientation program pl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4440" indent="-2444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velop an APG smartbook of organizations and their leadershi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4440" indent="-2444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at least one pilot ru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4440" indent="-2444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transition/sustainment pla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9600" y="1028880"/>
            <a:ext cx="412452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oject Scope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22080" y="1598400"/>
            <a:ext cx="77454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lot participation will leverage the APG Cohor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2 participants for pilot ru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ximum 3-day progra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back from participants and organiz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395280" y="3357720"/>
            <a:ext cx="41241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4617b"/>
                </a:solidFill>
                <a:latin typeface="Calibri"/>
              </a:rPr>
              <a:t>Project Challenges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689040" y="4076640"/>
            <a:ext cx="77454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4440" indent="-2444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ining support of resident activit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4440" indent="-2444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ility &amp; Ownership of progr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4440" indent="-2444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di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4440" indent="-24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8880" y="6588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roject Timeli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600840" y="16477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u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567440" y="1647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u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2666520" y="164772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3742920" y="16477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c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4791960" y="16477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5905440" y="16477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6977520" y="164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7991280" y="164772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traight Connector 12"/>
          <p:cNvSpPr/>
          <p:nvPr/>
        </p:nvSpPr>
        <p:spPr>
          <a:xfrm>
            <a:off x="584280" y="2286000"/>
            <a:ext cx="798516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Flowchart: Decision 13"/>
          <p:cNvSpPr/>
          <p:nvPr/>
        </p:nvSpPr>
        <p:spPr>
          <a:xfrm>
            <a:off x="7219800" y="2093760"/>
            <a:ext cx="212760" cy="416160"/>
          </a:xfrm>
          <a:prstGeom prst="flowChartDecision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Flowchart: Decision 14"/>
          <p:cNvSpPr/>
          <p:nvPr/>
        </p:nvSpPr>
        <p:spPr>
          <a:xfrm>
            <a:off x="4468680" y="2076480"/>
            <a:ext cx="212760" cy="414360"/>
          </a:xfrm>
          <a:prstGeom prst="flowChartDecision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Flowchart: Decision 15"/>
          <p:cNvSpPr/>
          <p:nvPr/>
        </p:nvSpPr>
        <p:spPr>
          <a:xfrm>
            <a:off x="5535720" y="2081160"/>
            <a:ext cx="212760" cy="414360"/>
          </a:xfrm>
          <a:prstGeom prst="flowChartDecision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Flowchart: Decision 16"/>
          <p:cNvSpPr/>
          <p:nvPr/>
        </p:nvSpPr>
        <p:spPr>
          <a:xfrm>
            <a:off x="8197920" y="2073240"/>
            <a:ext cx="212760" cy="414360"/>
          </a:xfrm>
          <a:prstGeom prst="flowChartDecision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Flowchart: Decision 17"/>
          <p:cNvSpPr/>
          <p:nvPr/>
        </p:nvSpPr>
        <p:spPr>
          <a:xfrm>
            <a:off x="1397160" y="2076480"/>
            <a:ext cx="212400" cy="414360"/>
          </a:xfrm>
          <a:prstGeom prst="flowChartDecision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Flowchart: Decision 18"/>
          <p:cNvSpPr/>
          <p:nvPr/>
        </p:nvSpPr>
        <p:spPr>
          <a:xfrm>
            <a:off x="655560" y="2058840"/>
            <a:ext cx="212760" cy="414360"/>
          </a:xfrm>
          <a:prstGeom prst="flowChartDecision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Box 20"/>
          <p:cNvSpPr/>
          <p:nvPr/>
        </p:nvSpPr>
        <p:spPr>
          <a:xfrm rot="16200000">
            <a:off x="7655760" y="30409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Report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TextBox 21"/>
          <p:cNvSpPr/>
          <p:nvPr/>
        </p:nvSpPr>
        <p:spPr>
          <a:xfrm rot="16200000">
            <a:off x="3981240" y="404100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urs Identified Org. Commitment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Box 22"/>
          <p:cNvSpPr/>
          <p:nvPr/>
        </p:nvSpPr>
        <p:spPr>
          <a:xfrm rot="16200000">
            <a:off x="6860520" y="30362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Box 23"/>
          <p:cNvSpPr/>
          <p:nvPr/>
        </p:nvSpPr>
        <p:spPr>
          <a:xfrm rot="16200000">
            <a:off x="3058920" y="38876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 Packets Comple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24"/>
          <p:cNvSpPr/>
          <p:nvPr/>
        </p:nvSpPr>
        <p:spPr>
          <a:xfrm rot="16200000">
            <a:off x="-840240" y="398196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rter Signed /Project Approve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TextBox 25"/>
          <p:cNvSpPr/>
          <p:nvPr/>
        </p:nvSpPr>
        <p:spPr>
          <a:xfrm rot="16200000">
            <a:off x="425160" y="3455280"/>
            <a:ext cx="21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al” Org Suppor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26"/>
          <p:cNvSpPr/>
          <p:nvPr/>
        </p:nvSpPr>
        <p:spPr>
          <a:xfrm>
            <a:off x="1099440" y="4721400"/>
            <a:ext cx="928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RDECOM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ERDEC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ATEC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E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27"/>
          <p:cNvSpPr/>
          <p:nvPr/>
        </p:nvSpPr>
        <p:spPr>
          <a:xfrm rot="16200000">
            <a:off x="2565720" y="381708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ther” Tenant  Org Suppor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Flowchart: Decision 28"/>
          <p:cNvSpPr/>
          <p:nvPr/>
        </p:nvSpPr>
        <p:spPr>
          <a:xfrm>
            <a:off x="3813120" y="2081160"/>
            <a:ext cx="212760" cy="414360"/>
          </a:xfrm>
          <a:prstGeom prst="flowChartDecision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Flowchart: Decision 29"/>
          <p:cNvSpPr/>
          <p:nvPr/>
        </p:nvSpPr>
        <p:spPr>
          <a:xfrm>
            <a:off x="2814480" y="2070000"/>
            <a:ext cx="212760" cy="414360"/>
          </a:xfrm>
          <a:prstGeom prst="flowChartDecision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0"/>
          <p:cNvSpPr/>
          <p:nvPr/>
        </p:nvSpPr>
        <p:spPr>
          <a:xfrm rot="16200000">
            <a:off x="1640520" y="370152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iefing to SES/GO Pane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Flowchart: Decision 31"/>
          <p:cNvSpPr/>
          <p:nvPr/>
        </p:nvSpPr>
        <p:spPr>
          <a:xfrm>
            <a:off x="5025960" y="2081160"/>
            <a:ext cx="212760" cy="414360"/>
          </a:xfrm>
          <a:prstGeom prst="flowChartDecision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Box 32"/>
          <p:cNvSpPr/>
          <p:nvPr/>
        </p:nvSpPr>
        <p:spPr>
          <a:xfrm rot="16200000">
            <a:off x="3718080" y="3809160"/>
            <a:ext cx="28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lot run individuals Identifie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ck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Rounded Rectangle 33"/>
          <p:cNvGrpSpPr/>
          <p:nvPr/>
        </p:nvGrpSpPr>
        <p:grpSpPr>
          <a:xfrm>
            <a:off x="328680" y="1189080"/>
            <a:ext cx="8759880" cy="1481040"/>
            <a:chOff x="328680" y="1189080"/>
            <a:chExt cx="8759880" cy="1481040"/>
          </a:xfrm>
        </p:grpSpPr>
        <p:pic>
          <p:nvPicPr>
            <p:cNvPr id="249" name="Rounded Rectangle 33" descr=""/>
            <p:cNvPicPr/>
            <p:nvPr/>
          </p:nvPicPr>
          <p:blipFill>
            <a:blip r:embed="rId2"/>
            <a:stretch/>
          </p:blipFill>
          <p:spPr>
            <a:xfrm>
              <a:off x="328680" y="1189080"/>
              <a:ext cx="875988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34880" y="1254240"/>
              <a:ext cx="855036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6040" y="563040"/>
            <a:ext cx="8229600" cy="54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Example of using Acquisition proces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57200" y="2286000"/>
            <a:ext cx="8153280" cy="228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886200" y="2286000"/>
            <a:ext cx="175248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57200" y="2286000"/>
            <a:ext cx="1752480" cy="228600"/>
          </a:xfrm>
          <a:prstGeom prst="rect">
            <a:avLst/>
          </a:prstGeom>
          <a:solidFill>
            <a:srgbClr val="c9da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533520" y="17524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Analysis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2362320" y="1747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4191120" y="160020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ing &amp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ufacturing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5638680" y="17524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Analysis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7238880" y="2286000"/>
            <a:ext cx="1752840" cy="228600"/>
          </a:xfrm>
          <a:prstGeom prst="rect">
            <a:avLst/>
          </a:prstGeom>
          <a:solidFill>
            <a:srgbClr val="c9da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7238880" y="17524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&amp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Flowchart: Decision 19"/>
          <p:cNvSpPr/>
          <p:nvPr/>
        </p:nvSpPr>
        <p:spPr>
          <a:xfrm>
            <a:off x="2085840" y="2085840"/>
            <a:ext cx="228600" cy="457200"/>
          </a:xfrm>
          <a:prstGeom prst="flowChartDecision">
            <a:avLst/>
          </a:prstGeom>
          <a:solidFill>
            <a:srgbClr val="ff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Flowchart: Decision 20"/>
          <p:cNvSpPr/>
          <p:nvPr/>
        </p:nvSpPr>
        <p:spPr>
          <a:xfrm>
            <a:off x="5524560" y="2085840"/>
            <a:ext cx="228600" cy="457200"/>
          </a:xfrm>
          <a:prstGeom prst="flowChartDecision">
            <a:avLst/>
          </a:prstGeom>
          <a:solidFill>
            <a:srgbClr val="ff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Flowchart: Decision 21"/>
          <p:cNvSpPr/>
          <p:nvPr/>
        </p:nvSpPr>
        <p:spPr>
          <a:xfrm>
            <a:off x="3781440" y="2085840"/>
            <a:ext cx="228600" cy="457200"/>
          </a:xfrm>
          <a:prstGeom prst="flowChartDecision">
            <a:avLst/>
          </a:prstGeom>
          <a:solidFill>
            <a:srgbClr val="ff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22"/>
          <p:cNvSpPr/>
          <p:nvPr/>
        </p:nvSpPr>
        <p:spPr>
          <a:xfrm>
            <a:off x="2027520" y="180036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Box 23"/>
          <p:cNvSpPr/>
          <p:nvPr/>
        </p:nvSpPr>
        <p:spPr>
          <a:xfrm>
            <a:off x="3720240" y="18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24"/>
          <p:cNvSpPr/>
          <p:nvPr/>
        </p:nvSpPr>
        <p:spPr>
          <a:xfrm>
            <a:off x="5486400" y="1800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Box 34"/>
          <p:cNvSpPr/>
          <p:nvPr/>
        </p:nvSpPr>
        <p:spPr>
          <a:xfrm>
            <a:off x="509760" y="1233360"/>
            <a:ext cx="81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&amp;T                R&amp;D                        Testing                Fielding                Sustain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488880" y="3784680"/>
            <a:ext cx="2722680" cy="511200"/>
          </a:xfrm>
          <a:prstGeom prst="ellipse">
            <a:avLst/>
          </a:prstGeom>
          <a:solidFill>
            <a:srgbClr val="c9da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rmy Research Lab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Oval 46"/>
          <p:cNvSpPr/>
          <p:nvPr/>
        </p:nvSpPr>
        <p:spPr>
          <a:xfrm>
            <a:off x="1492200" y="3171960"/>
            <a:ext cx="2722680" cy="511200"/>
          </a:xfrm>
          <a:prstGeom prst="ellipse">
            <a:avLst/>
          </a:prstGeom>
          <a:solidFill>
            <a:srgbClr val="c9da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ERDE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Oval 47"/>
          <p:cNvSpPr/>
          <p:nvPr/>
        </p:nvSpPr>
        <p:spPr>
          <a:xfrm>
            <a:off x="1452600" y="2665440"/>
            <a:ext cx="5661000" cy="417600"/>
          </a:xfrm>
          <a:prstGeom prst="ellipse">
            <a:avLst/>
          </a:prstGeom>
          <a:solidFill>
            <a:srgbClr val="c9da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O C3T, PEO IEWS, PM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Oval 48"/>
          <p:cNvSpPr/>
          <p:nvPr/>
        </p:nvSpPr>
        <p:spPr>
          <a:xfrm>
            <a:off x="5153040" y="3197160"/>
            <a:ext cx="2722680" cy="509760"/>
          </a:xfrm>
          <a:prstGeom prst="ellipse">
            <a:avLst/>
          </a:prstGeom>
          <a:solidFill>
            <a:srgbClr val="c9da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E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Oval 49"/>
          <p:cNvSpPr/>
          <p:nvPr/>
        </p:nvSpPr>
        <p:spPr>
          <a:xfrm>
            <a:off x="6280200" y="3803760"/>
            <a:ext cx="2722680" cy="509400"/>
          </a:xfrm>
          <a:prstGeom prst="ellipse">
            <a:avLst/>
          </a:prstGeom>
          <a:solidFill>
            <a:srgbClr val="c9da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ECOM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Oval 50"/>
          <p:cNvSpPr/>
          <p:nvPr/>
        </p:nvSpPr>
        <p:spPr>
          <a:xfrm>
            <a:off x="3281400" y="3962520"/>
            <a:ext cx="2722680" cy="509400"/>
          </a:xfrm>
          <a:prstGeom prst="ellipse">
            <a:avLst/>
          </a:prstGeom>
          <a:solidFill>
            <a:srgbClr val="c9da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Oval 51"/>
          <p:cNvSpPr/>
          <p:nvPr/>
        </p:nvSpPr>
        <p:spPr>
          <a:xfrm>
            <a:off x="1552680" y="4753080"/>
            <a:ext cx="2720880" cy="509400"/>
          </a:xfrm>
          <a:prstGeom prst="ellipse">
            <a:avLst/>
          </a:prstGeom>
          <a:solidFill>
            <a:srgbClr val="c9da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Oval 52"/>
          <p:cNvSpPr/>
          <p:nvPr/>
        </p:nvSpPr>
        <p:spPr>
          <a:xfrm>
            <a:off x="5506920" y="4741920"/>
            <a:ext cx="2722680" cy="511200"/>
          </a:xfrm>
          <a:prstGeom prst="ellipse">
            <a:avLst/>
          </a:prstGeom>
          <a:solidFill>
            <a:srgbClr val="c9da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posed Schedu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647720" y="1909800"/>
          <a:ext cx="5813640" cy="4014720"/>
        </p:xfrm>
        <a:graphic>
          <a:graphicData uri="http://schemas.openxmlformats.org/drawingml/2006/table">
            <a:tbl>
              <a:tblPr/>
              <a:tblGrid>
                <a:gridCol w="484200"/>
                <a:gridCol w="1463760"/>
                <a:gridCol w="312840"/>
                <a:gridCol w="1463760"/>
                <a:gridCol w="312480"/>
                <a:gridCol w="1462320"/>
                <a:gridCol w="314280"/>
              </a:tblGrid>
              <a:tr h="435240">
                <a:tc gridSpan="7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G Military Mission Orientation Brief Schedule of Ev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(hr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(hr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(hr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 rowSpan="5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Executive Office Command Control Communications-Tactical (PEO C3T) and Program Executive Office Intelligence Electronic Warfare and Sensors (PEO IEW&amp;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 rowSpan="5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my Test and Evaluation Command (ATEC), Aberdeen Test Center (ATC), and Army Evaluation Center (AE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 rowSpan="5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00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(to AR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(to Edgewoo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(to 600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my Research Lab (ARL)  Rodman Buil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 rowSpan="4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rowSpan="4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wood-Chemical Biological Center (ECBC); Tour Public Health Comm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 rowSpan="4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rowSpan="4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ions-Electronics Command (CECO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 rowSpan="4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(to Rec Cente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(to Southside Gril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(to Rec Cente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 rowSpan="2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 rowSpan="2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b9b8"/>
                    </a:solidFill>
                  </a:tcPr>
                </a:tc>
                <a:tc rowSpan="2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(600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(JPEOCB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(Classroo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ions-Electronics Research, Development and Engineering Center (CERDEC) Tour 6002 and Lab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 rowSpan="4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rowSpan="4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int Program Executive Office for Chemical &amp; Biological Defenses (JPEOCB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 rowSpan="4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ap up at starting point: Review purpose, tour highlights, honorable mentions (CHRA, MEDCOM, etc.) and fill out surv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5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40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(APG Nort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149640" y="5670720"/>
          <a:ext cx="2844720" cy="961920"/>
        </p:xfrm>
        <a:graphic>
          <a:graphicData uri="http://schemas.openxmlformats.org/drawingml/2006/table">
            <a:tbl>
              <a:tblPr/>
              <a:tblGrid>
                <a:gridCol w="2451240"/>
                <a:gridCol w="39348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Tour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lassroom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Travel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unch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MM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Testa, Bruce A Mr CIV USA AMC</dc:creator>
  <dc:description/>
  <dc:language>en-US</dc:language>
  <cp:lastModifiedBy>Trish Mooney</cp:lastModifiedBy>
  <dcterms:modified xsi:type="dcterms:W3CDTF">2012-09-21T13:49:13Z</dcterms:modified>
  <cp:revision>29</cp:revision>
  <dc:subject/>
  <dc:title>AMO</dc:title>
</cp:coreProperties>
</file>