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6D0B-A613-4C4D-BBED-D78A45766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ABF1-A8EC-41ED-9235-4F4FF89E8F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30812-180A-4B64-B1AD-9AA0A01C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2C085-1746-410D-BB27-65EEB6B5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6406D-24F8-4D18-A0B2-48799EBC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D5968-5AB2-4B3B-9562-3796E9D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48323-2B53-4548-AFA5-8D93C632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1FDD0-F74A-4A7A-B144-9DA20D5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6433B-AE6B-4964-9FC3-2F4B94F5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75BD5-C65B-41B3-A759-9B0533DE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356D8-5704-4F72-8A85-4BD8BD8B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8DDEF-9709-445B-83E0-B5B36C39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57B0-9F51-4CA6-B14D-CEB7FDB4708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DCB71-6CEF-4D26-B6D5-638264C1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02211-C937-48F2-B704-ED5DEDEE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03BC5-7F66-4ED8-A002-70E7F6F7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49990-2E73-4B4F-8731-36ADFFB8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73234-7C8B-4D7D-B51F-29941459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9E4B3-0BDD-4736-9957-4D637B7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CF74F-DB00-4F63-BC99-3DD53FA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75D44-D91E-4116-8D4E-8A495D9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DBE35-6715-41E3-B7D0-8FE834D4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BA27B-87B5-47BE-A05B-83EC9D2B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A734-5EBA-4D8D-B467-CDEA976E87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06426-0A14-405B-9E4E-6BFA8844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8DCDEE-F242-4447-B9E2-9A1D6C7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8C0192-137B-41E9-9062-A5A7BB1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59EB25-3291-47A8-9A13-ED9E2472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B54011-B3E5-4198-8AB2-8AF0C376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BF8091-2531-4977-B19F-1191C8A1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774518-BF85-4A5E-BFFC-ACC0C05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0CA867-CFD1-4453-9618-8400529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8D4AE2-84C2-4E10-84B6-594FB5DC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9A5AB4-FB7A-45C3-A684-8E54570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44507-1FAB-44C2-A48E-69D59104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BFE791-9F60-46E8-A1D4-1441004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678523-70F0-4BDB-828B-D9EA6141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82A473-8D71-4258-B43E-D85994D4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BBF0B-5B09-47E1-A591-2A560AD0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E466A-D1BC-4E58-8927-DD632545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C0806-EC28-4E05-904B-F46C5624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F52D6-83DA-496C-9D5A-0BF6C143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7A1EC-F8A2-41F7-8248-BC9E75B4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155BD-35B3-48F3-897A-0100B72D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48E75-A4D7-4618-8851-E05F374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876D-7E57-4953-9400-129F36F8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1D576-4AB8-4F44-A754-44480A0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FD879-7478-4F83-A299-5A7EB84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3A38E-7C22-46EB-B565-57A6025F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41025-7777-4106-8376-7E260A2F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A747C-D23B-4A2B-AB28-4708FC18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81255-EC27-4EDE-A08B-C429CEC2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500C3-2198-4C30-AA28-DC076BFE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8FA78-F4F3-49FD-A9D2-C9144717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2FEDA-B042-47E2-89EC-E768C3AE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3D7AD-5373-42EF-9D6E-430ADEA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D01A-6DF5-4552-8315-31EDECC49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C847B-A379-44D0-8274-244A428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2815-0DFD-4CF4-A089-C70D5582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4D608-A09F-4B14-A901-0294E7A4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8C065-5A92-4880-8316-0F1D81B0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F9F3F-31FD-466F-94C2-432B1291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B9DA2-566E-41D4-866A-F58506DD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A4DF5-C8EE-42ED-9F23-D929F93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F6481-F1ED-45EC-885F-8E753B9B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27C59-E679-4CDB-8702-BE02470D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2FB66-0FDD-4CE3-AF31-1582EF65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7BBB-054F-4B4E-88ED-738F982D16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70874-C5A0-40C1-806F-4704253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BA226-242D-447A-8F29-70284FEC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32E6E-9336-4CC6-A4D5-61951908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CF87E-FAFE-4242-A441-7C48BE09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53DD2-581E-42C9-9C83-E8A4DC3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37EA2-B28A-498A-B1C2-0BE757D9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D7820-1B28-4087-9961-6A083AF0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0D0D2-9A90-4020-9D09-D325D177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DBE71-17D2-4FCB-A7C8-AABA8FD2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DF559-76E2-470C-B6B3-035BB2E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D1F9-A3EB-42E2-83AA-4B999BE087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46927-6148-44F2-8E5E-351B3EA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C9D2D-59F0-433C-B535-6B42312B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6F2B6-5D48-44B3-A15C-3EDC7B3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4BC31-6D33-4623-8345-EF2433E2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3C3E8-3B8C-4231-99CB-A193529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09D58-5E6B-40CF-9A49-F211160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D7C11-9E92-468E-A894-D759CFCF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5CDDC-7498-4DD0-9B2F-CBB4CD40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03B5D-62FD-48D6-B62F-36D3B547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0537A-3568-421C-AAC3-570A45C0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C107-33F5-4D86-B03D-C7AC220305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1DD83-10A6-400A-9994-22DFB7BE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F8DEB-6360-4D99-8795-62CFD15F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72178A-2EDD-4618-A6FC-31E2C573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8EDEB-D4CC-4681-AD30-F729C8F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47B85E-7DB7-44C0-85BA-99D66755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8FF5AE-AAA1-4312-9F36-7A8BC02B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D6BCB-CF38-48D5-9755-D4FA5662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DB5E1-7B03-4382-867C-EE37D9C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4A7A6E-C637-451F-B5CF-24A2F5A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21824-CC04-41C6-A617-3C84F704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6559-76C9-4F2D-8575-6A36E5EF32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E759B7-B3B2-4C9C-8D7C-175EAA72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713CE8-1D92-4B3F-9706-FE751C2A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5ADC4-73AE-4403-8DED-05731B5B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FE63C2-11A9-4D25-AB83-94820DB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130053-F060-497E-9B4F-8ABD526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7F265-CE0B-4ADC-92F7-2867BF9D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43D9D7-BD7B-4860-8A64-0D26D1E2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7F66B-CE26-4353-8A14-79E1FC8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25892A-E91E-4411-AC1F-F1EAC58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C9FFC2-34BC-4BF0-891B-53C6B57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3573-3A04-4876-B168-4F05F2D736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668F4-3EB2-4216-A874-4D9105A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310DA-FACE-4CD7-96ED-C4089B9D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A42363-24CA-4A0C-B3C2-EC482C2E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04B493-5F7C-4505-A1EE-A7571D81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509B38-107D-4EB5-B0FF-F2FDF6CB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5B6F95-3AFF-417B-8C9B-95302650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F6670B-BED3-4E61-90E6-81A42421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4BAA4A-576E-4D4A-A4D3-D533655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8FD408-9E77-4299-8A88-F0F2482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49D8E9-0087-45CA-824B-A2DEEF0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4C94-55AA-4ADF-BA36-160C9EB341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D027C5-CDCC-41EF-A9B9-B9964A2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3F6537-5265-43F7-8FDE-CA0A9A6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70A743-BD35-4825-8E86-E11E0B0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0E2902-E614-4788-BD24-7238BCAC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AA7333-8A60-43E2-B237-509710B7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0EB4AA-7C17-49C1-B1FA-DC00F679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3BD0F-A817-4E57-B397-7DB8524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851B83-29CB-442B-9BC1-1311358E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834ED-68F8-4510-8882-3CB609C6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8A1996-F172-40CE-B730-A04571E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FA78-AAB6-4403-B920-3CBD5D382A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18BD1D-59E4-4573-9DF2-BCC43911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F22E6E-3DDA-4E81-93A3-E3341F2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923E4F-9EA1-466F-9B37-04250C1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EBCB1D-BF93-47C8-95EF-B93EDF5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D6962-57AB-4408-8232-0BF38638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92ABFB-C92B-44B9-8139-67357B89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3F9105-106E-4170-BAA3-85E954F9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BB343-00DD-4030-A2E7-B6EC389D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FC364-8150-45F0-8C86-C97D89A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FA698-1885-4B4B-B40E-E87D40C2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735-2DFD-4D31-AD2E-FE47C4FAE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DD2C-6B3A-492B-B4F8-CA3008608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5748-C8B8-4599-9E79-7A76798AD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5506-335A-483B-880F-AED72D80C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06D4-D73B-4E6E-8533-E2A61651B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420A-2529-4B0A-AA5D-56374755F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D428-6735-4552-8EBF-8BC666BF7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723-79DF-4671-A394-9325756DD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4D56-0AEC-4468-848C-853210A5B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EFFA-D03F-4CE3-BAEC-AFAF445FC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625B-7A3C-45E6-BBA9-B43041899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F603-310C-4E1E-9D51-879820292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.m.eissner.civ@mail.mil" TargetMode="External"/><Relationship Id="rId2" Type="http://schemas.openxmlformats.org/officeDocument/2006/relationships/hyperlink" Target="mailto:michael.j.mccarthy.civ@mail.mil" TargetMode="External"/><Relationship Id="rId3" Type="http://schemas.openxmlformats.org/officeDocument/2006/relationships/hyperlink" Target="mailto:todd.e.rosenberger.civ@mail.mil" TargetMode="External"/><Relationship Id="rId4" Type="http://schemas.openxmlformats.org/officeDocument/2006/relationships/hyperlink" Target="mailto:wayne.a.schoonveld.civ@mail.mil" TargetMode="External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09480" y="19285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G Senior Leadership Coh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1169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-BASED PROJECT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G Fellowship / Developmental Assign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tle 3"/>
          <p:cNvSpPr/>
          <p:nvPr/>
        </p:nvSpPr>
        <p:spPr>
          <a:xfrm>
            <a:off x="588960" y="4876920"/>
            <a:ext cx="79646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 Eissner, AMSAA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carl.m.eissner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410-278-63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ke McCarthy, AMSAA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michael.j.mccarthy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410-278-64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d Rosenberger, ARL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todd.e.rosenberger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410-306-06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yne Schoonveld, CERDEC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4"/>
              </a:rPr>
              <a:t>wayne.a.schoonveld.civ@mail.m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410-306-32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 Wilcox, ATEC, christopher.m.wilcox4.civ@mail.mil, 410-306-21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Creation of a program that facilitates the advertisement and staffing of fellowship or developmental assignments across participating APG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Cohort Go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process and gain senior-level approv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everal tracks (eg, leadership, technical, administrative) to serve as pilot progr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ransition strategy to ensure post-Cohort v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46"/>
          <p:cNvGrpSpPr/>
          <p:nvPr/>
        </p:nvGrpSpPr>
        <p:grpSpPr>
          <a:xfrm>
            <a:off x="4876920" y="2057400"/>
            <a:ext cx="4098960" cy="3962520"/>
            <a:chOff x="4876920" y="2057400"/>
            <a:chExt cx="4098960" cy="3962520"/>
          </a:xfrm>
        </p:grpSpPr>
        <p:sp>
          <p:nvSpPr>
            <p:cNvPr id="533" name="Oval 5"/>
            <p:cNvSpPr/>
            <p:nvPr/>
          </p:nvSpPr>
          <p:spPr>
            <a:xfrm>
              <a:off x="4876920" y="2057400"/>
              <a:ext cx="4098960" cy="3962520"/>
            </a:xfrm>
            <a:prstGeom prst="ellipse">
              <a:avLst/>
            </a:prstGeom>
            <a:solidFill>
              <a:srgbClr val="006600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6652800" y="224028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7"/>
            <p:cNvSpPr/>
            <p:nvPr/>
          </p:nvSpPr>
          <p:spPr>
            <a:xfrm>
              <a:off x="5267160" y="2776680"/>
              <a:ext cx="3319920" cy="324324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8"/>
            <p:cNvSpPr/>
            <p:nvPr/>
          </p:nvSpPr>
          <p:spPr>
            <a:xfrm>
              <a:off x="5657760" y="3495960"/>
              <a:ext cx="2538720" cy="2523960"/>
            </a:xfrm>
            <a:prstGeom prst="ellipse">
              <a:avLst/>
            </a:prstGeom>
            <a:solidFill>
              <a:srgbClr val="3333ff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9"/>
            <p:cNvSpPr/>
            <p:nvPr/>
          </p:nvSpPr>
          <p:spPr>
            <a:xfrm>
              <a:off x="5951880" y="4215600"/>
              <a:ext cx="1950840" cy="1804320"/>
            </a:xfrm>
            <a:prstGeom prst="ellipse">
              <a:avLst/>
            </a:prstGeom>
            <a:solidFill>
              <a:srgbClr val="ffcc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6324480" y="5028840"/>
              <a:ext cx="11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vidu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6162480" y="3729240"/>
              <a:ext cx="152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6681240" y="294048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66"/>
          <p:cNvGrpSpPr/>
          <p:nvPr/>
        </p:nvGrpSpPr>
        <p:grpSpPr>
          <a:xfrm>
            <a:off x="1790640" y="5232240"/>
            <a:ext cx="4533840" cy="1168560"/>
            <a:chOff x="1790640" y="5232240"/>
            <a:chExt cx="4533840" cy="1168560"/>
          </a:xfrm>
        </p:grpSpPr>
        <p:sp>
          <p:nvSpPr>
            <p:cNvPr id="542" name="Freeform 54"/>
            <p:cNvSpPr/>
            <p:nvPr/>
          </p:nvSpPr>
          <p:spPr>
            <a:xfrm>
              <a:off x="1803240" y="5232240"/>
              <a:ext cx="4515120" cy="482760"/>
            </a:xfrm>
            <a:custGeom>
              <a:avLst/>
              <a:gdLst/>
              <a:ahLst/>
              <a:rect l="l" t="t" r="r" b="b"/>
              <a:pathLst>
                <a:path w="4514850" h="482600">
                  <a:moveTo>
                    <a:pt x="0" y="482600"/>
                  </a:moveTo>
                  <a:lnTo>
                    <a:pt x="3562350" y="482600"/>
                  </a:lnTo>
                  <a:lnTo>
                    <a:pt x="4514850" y="0"/>
                  </a:lnTo>
                  <a:lnTo>
                    <a:pt x="0" y="482600"/>
                  </a:lnTo>
                  <a:close/>
                </a:path>
              </a:pathLst>
            </a:custGeom>
            <a:solidFill>
              <a:srgbClr val="ffcc66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5359320" y="5232240"/>
              <a:ext cx="965160" cy="1162440"/>
            </a:xfrm>
            <a:custGeom>
              <a:avLst/>
              <a:gdLst/>
              <a:ahLst/>
              <a:rect l="l" t="t" r="r" b="b"/>
              <a:pathLst>
                <a:path w="965200" h="1162050">
                  <a:moveTo>
                    <a:pt x="6350" y="1162050"/>
                  </a:moveTo>
                  <a:cubicBezTo>
                    <a:pt x="4233" y="937683"/>
                    <a:pt x="2117" y="713317"/>
                    <a:pt x="0" y="488950"/>
                  </a:cubicBezTo>
                  <a:lnTo>
                    <a:pt x="965200" y="0"/>
                  </a:lnTo>
                  <a:lnTo>
                    <a:pt x="6350" y="1162050"/>
                  </a:lnTo>
                  <a:close/>
                </a:path>
              </a:pathLst>
            </a:custGeom>
            <a:solidFill>
              <a:srgbClr val="ffcc66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36"/>
            <p:cNvSpPr/>
            <p:nvPr/>
          </p:nvSpPr>
          <p:spPr>
            <a:xfrm>
              <a:off x="1790640" y="5715000"/>
              <a:ext cx="358128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ilds strategic think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s broadening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reases current job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81"/>
          <p:cNvGrpSpPr/>
          <p:nvPr/>
        </p:nvGrpSpPr>
        <p:grpSpPr>
          <a:xfrm>
            <a:off x="2057400" y="1676520"/>
            <a:ext cx="4591080" cy="804600"/>
            <a:chOff x="2057400" y="1676520"/>
            <a:chExt cx="4591080" cy="804600"/>
          </a:xfrm>
        </p:grpSpPr>
        <p:sp>
          <p:nvSpPr>
            <p:cNvPr id="547" name="Freeform 78"/>
            <p:cNvSpPr/>
            <p:nvPr/>
          </p:nvSpPr>
          <p:spPr>
            <a:xfrm>
              <a:off x="2057400" y="2362320"/>
              <a:ext cx="4581720" cy="118800"/>
            </a:xfrm>
            <a:custGeom>
              <a:avLst/>
              <a:gdLst/>
              <a:ahLst/>
              <a:rect l="l" t="t" r="r" b="b"/>
              <a:pathLst>
                <a:path w="4581525" h="119063">
                  <a:moveTo>
                    <a:pt x="0" y="0"/>
                  </a:moveTo>
                  <a:lnTo>
                    <a:pt x="3581400" y="0"/>
                  </a:lnTo>
                  <a:lnTo>
                    <a:pt x="4581525" y="1190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9"/>
            <p:cNvSpPr/>
            <p:nvPr/>
          </p:nvSpPr>
          <p:spPr>
            <a:xfrm>
              <a:off x="5643720" y="1676520"/>
              <a:ext cx="1004760" cy="804600"/>
            </a:xfrm>
            <a:custGeom>
              <a:avLst/>
              <a:gdLst/>
              <a:ahLst/>
              <a:rect l="l" t="t" r="r" b="b"/>
              <a:pathLst>
                <a:path w="1004887" h="804863">
                  <a:moveTo>
                    <a:pt x="0" y="0"/>
                  </a:moveTo>
                  <a:lnTo>
                    <a:pt x="0" y="681038"/>
                  </a:lnTo>
                  <a:lnTo>
                    <a:pt x="1004887" y="8048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2"/>
            <p:cNvSpPr/>
            <p:nvPr/>
          </p:nvSpPr>
          <p:spPr>
            <a:xfrm>
              <a:off x="2057400" y="1676520"/>
              <a:ext cx="3581640" cy="6858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elopment of future Army Le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pport of Army Transformation – better solutions for soldie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U-Turn Arrow 88"/>
          <p:cNvSpPr/>
          <p:nvPr/>
        </p:nvSpPr>
        <p:spPr>
          <a:xfrm rot="16200000">
            <a:off x="190440" y="1790280"/>
            <a:ext cx="1981080" cy="1752480"/>
          </a:xfrm>
          <a:custGeom>
            <a:avLst/>
            <a:gdLst/>
            <a:ahLst/>
            <a:rect l="l" t="t" r="r" b="b"/>
            <a:pathLst>
              <a:path w="1981200" h="1752600">
                <a:moveTo>
                  <a:pt x="0" y="1752600"/>
                </a:moveTo>
                <a:lnTo>
                  <a:pt x="0" y="854918"/>
                </a:lnTo>
                <a:lnTo>
                  <a:pt x="0" y="854918"/>
                </a:lnTo>
                <a:arcTo wR="854918" hR="854918" stAng="-10799996" swAng="5400000"/>
                <a:lnTo>
                  <a:pt x="959671" y="0"/>
                </a:lnTo>
                <a:lnTo>
                  <a:pt x="959671" y="0"/>
                </a:lnTo>
                <a:arcTo wR="854918" hR="854918" stAng="-5399996" swAng="5400000"/>
                <a:lnTo>
                  <a:pt x="1814589" y="1467312"/>
                </a:lnTo>
                <a:lnTo>
                  <a:pt x="1981200" y="1467312"/>
                </a:lnTo>
                <a:lnTo>
                  <a:pt x="1697139" y="1752600"/>
                </a:lnTo>
                <a:lnTo>
                  <a:pt x="1413077" y="1467312"/>
                </a:lnTo>
                <a:lnTo>
                  <a:pt x="1579688" y="1467312"/>
                </a:lnTo>
                <a:lnTo>
                  <a:pt x="1579688" y="854918"/>
                </a:lnTo>
                <a:lnTo>
                  <a:pt x="1579688" y="854918"/>
                </a:lnTo>
                <a:arcTo wR="620017" hR="620017" stAng="0" swAng="-5400000"/>
                <a:lnTo>
                  <a:pt x="854918" y="234901"/>
                </a:lnTo>
                <a:lnTo>
                  <a:pt x="854918" y="234901"/>
                </a:lnTo>
                <a:arcTo wR="620017" hR="620017" stAng="-5399994" swAng="-5400000"/>
                <a:lnTo>
                  <a:pt x="234901" y="1752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80"/>
          <p:cNvGrpSpPr/>
          <p:nvPr/>
        </p:nvGrpSpPr>
        <p:grpSpPr>
          <a:xfrm>
            <a:off x="1217520" y="3135240"/>
            <a:ext cx="5432400" cy="903240"/>
            <a:chOff x="1217520" y="3135240"/>
            <a:chExt cx="5432400" cy="903240"/>
          </a:xfrm>
        </p:grpSpPr>
        <p:sp>
          <p:nvSpPr>
            <p:cNvPr id="552" name="Freeform 76"/>
            <p:cNvSpPr/>
            <p:nvPr/>
          </p:nvSpPr>
          <p:spPr>
            <a:xfrm>
              <a:off x="1217520" y="3135240"/>
              <a:ext cx="5432400" cy="218880"/>
            </a:xfrm>
            <a:custGeom>
              <a:avLst/>
              <a:gdLst/>
              <a:ahLst/>
              <a:rect l="l" t="t" r="r" b="b"/>
              <a:pathLst>
                <a:path w="5432961" h="219693">
                  <a:moveTo>
                    <a:pt x="0" y="219693"/>
                  </a:moveTo>
                  <a:lnTo>
                    <a:pt x="3586348" y="219693"/>
                  </a:lnTo>
                  <a:lnTo>
                    <a:pt x="5432961" y="0"/>
                  </a:lnTo>
                  <a:lnTo>
                    <a:pt x="0" y="219693"/>
                  </a:lnTo>
                  <a:close/>
                </a:path>
              </a:pathLst>
            </a:custGeom>
            <a:solidFill>
              <a:srgbClr val="ccfff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7"/>
            <p:cNvSpPr/>
            <p:nvPr/>
          </p:nvSpPr>
          <p:spPr>
            <a:xfrm>
              <a:off x="4800600" y="3138120"/>
              <a:ext cx="1847880" cy="900360"/>
            </a:xfrm>
            <a:custGeom>
              <a:avLst/>
              <a:gdLst/>
              <a:ahLst/>
              <a:rect l="l" t="t" r="r" b="b"/>
              <a:pathLst>
                <a:path w="1847850" h="900112">
                  <a:moveTo>
                    <a:pt x="0" y="900112"/>
                  </a:moveTo>
                  <a:lnTo>
                    <a:pt x="0" y="219075"/>
                  </a:lnTo>
                  <a:lnTo>
                    <a:pt x="1847850" y="0"/>
                  </a:lnTo>
                  <a:lnTo>
                    <a:pt x="0" y="900112"/>
                  </a:lnTo>
                  <a:close/>
                </a:path>
              </a:pathLst>
            </a:custGeom>
            <a:solidFill>
              <a:srgbClr val="ccfff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34"/>
            <p:cNvSpPr/>
            <p:nvPr/>
          </p:nvSpPr>
          <p:spPr>
            <a:xfrm>
              <a:off x="1218960" y="3352680"/>
              <a:ext cx="3581280" cy="685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erprise Projec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erprise Level Collab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U-Turn Arrow 87"/>
          <p:cNvSpPr/>
          <p:nvPr/>
        </p:nvSpPr>
        <p:spPr>
          <a:xfrm rot="16200000">
            <a:off x="247680" y="3333600"/>
            <a:ext cx="1371600" cy="1562400"/>
          </a:xfrm>
          <a:custGeom>
            <a:avLst/>
            <a:gdLst/>
            <a:ahLst/>
            <a:rect l="l" t="t" r="r" b="b"/>
            <a:pathLst>
              <a:path w="1371600" h="1562100">
                <a:moveTo>
                  <a:pt x="0" y="1562100"/>
                </a:moveTo>
                <a:lnTo>
                  <a:pt x="0" y="613668"/>
                </a:lnTo>
                <a:lnTo>
                  <a:pt x="0" y="613668"/>
                </a:lnTo>
                <a:arcTo wR="613668" hR="613668" stAng="-10799994" swAng="5400000"/>
                <a:lnTo>
                  <a:pt x="613668" y="0"/>
                </a:lnTo>
                <a:lnTo>
                  <a:pt x="613668" y="0"/>
                </a:lnTo>
                <a:arcTo wR="613668" hR="613668" stAng="-5399994" swAng="5400000"/>
                <a:lnTo>
                  <a:pt x="1227335" y="774333"/>
                </a:lnTo>
                <a:lnTo>
                  <a:pt x="1371600" y="774333"/>
                </a:lnTo>
                <a:lnTo>
                  <a:pt x="1099200" y="1076318"/>
                </a:lnTo>
                <a:lnTo>
                  <a:pt x="826800" y="774333"/>
                </a:lnTo>
                <a:lnTo>
                  <a:pt x="971065" y="774333"/>
                </a:lnTo>
                <a:lnTo>
                  <a:pt x="971065" y="613668"/>
                </a:lnTo>
                <a:lnTo>
                  <a:pt x="971065" y="613668"/>
                </a:lnTo>
                <a:arcTo wR="357398" hR="357398" stAng="0" swAng="-5400000"/>
                <a:lnTo>
                  <a:pt x="613668" y="256270"/>
                </a:lnTo>
                <a:lnTo>
                  <a:pt x="613668" y="256270"/>
                </a:lnTo>
                <a:arcTo wR="357398" hR="357398" stAng="-5400000" swAng="-5400000"/>
                <a:lnTo>
                  <a:pt x="256270" y="15621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75"/>
          <p:cNvGrpSpPr/>
          <p:nvPr/>
        </p:nvGrpSpPr>
        <p:grpSpPr>
          <a:xfrm>
            <a:off x="1295280" y="3948120"/>
            <a:ext cx="4867560" cy="1233360"/>
            <a:chOff x="1295280" y="3948120"/>
            <a:chExt cx="4867560" cy="1233360"/>
          </a:xfrm>
        </p:grpSpPr>
        <p:sp>
          <p:nvSpPr>
            <p:cNvPr id="557" name="Freeform 74"/>
            <p:cNvSpPr/>
            <p:nvPr/>
          </p:nvSpPr>
          <p:spPr>
            <a:xfrm>
              <a:off x="4876920" y="3948120"/>
              <a:ext cx="1285920" cy="1233360"/>
            </a:xfrm>
            <a:custGeom>
              <a:avLst/>
              <a:gdLst/>
              <a:ahLst/>
              <a:rect l="l" t="t" r="r" b="b"/>
              <a:pathLst>
                <a:path w="1285875" h="1233487">
                  <a:moveTo>
                    <a:pt x="0" y="1233487"/>
                  </a:moveTo>
                  <a:lnTo>
                    <a:pt x="0" y="552450"/>
                  </a:lnTo>
                  <a:lnTo>
                    <a:pt x="1285875" y="0"/>
                  </a:lnTo>
                  <a:lnTo>
                    <a:pt x="0" y="1233487"/>
                  </a:lnTo>
                  <a:close/>
                </a:path>
              </a:pathLst>
            </a:custGeom>
            <a:solidFill>
              <a:srgbClr val="b6dcd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35"/>
            <p:cNvSpPr/>
            <p:nvPr/>
          </p:nvSpPr>
          <p:spPr>
            <a:xfrm>
              <a:off x="1295280" y="4495680"/>
              <a:ext cx="3581640" cy="6858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119160" indent="-119160">
                <a:spcBef>
                  <a:spcPts val="601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ross-organizational awar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spcBef>
                  <a:spcPts val="601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ication and linka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1301400" y="3949560"/>
              <a:ext cx="4851720" cy="552240"/>
            </a:xfrm>
            <a:custGeom>
              <a:avLst/>
              <a:gdLst/>
              <a:ahLst/>
              <a:rect l="l" t="t" r="r" b="b"/>
              <a:pathLst>
                <a:path w="4851400" h="552450">
                  <a:moveTo>
                    <a:pt x="0" y="546100"/>
                  </a:moveTo>
                  <a:lnTo>
                    <a:pt x="3568700" y="552450"/>
                  </a:lnTo>
                  <a:lnTo>
                    <a:pt x="4851400" y="0"/>
                  </a:lnTo>
                  <a:lnTo>
                    <a:pt x="0" y="546100"/>
                  </a:lnTo>
                  <a:close/>
                </a:path>
              </a:pathLst>
            </a:custGeom>
            <a:solidFill>
              <a:srgbClr val="b6dcdf">
                <a:alpha val="34000"/>
              </a:srgbClr>
            </a:solidFill>
            <a:ln w="324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U-Turn Arrow 85"/>
          <p:cNvSpPr/>
          <p:nvPr/>
        </p:nvSpPr>
        <p:spPr>
          <a:xfrm rot="16200000">
            <a:off x="285480" y="4514760"/>
            <a:ext cx="1447920" cy="1562040"/>
          </a:xfrm>
          <a:custGeom>
            <a:avLst/>
            <a:gdLst/>
            <a:ahLst/>
            <a:rect l="l" t="t" r="r" b="b"/>
            <a:pathLst>
              <a:path w="1447800" h="1562100">
                <a:moveTo>
                  <a:pt x="0" y="1562100"/>
                </a:moveTo>
                <a:lnTo>
                  <a:pt x="0" y="647760"/>
                </a:lnTo>
                <a:lnTo>
                  <a:pt x="0" y="647760"/>
                </a:lnTo>
                <a:arcTo wR="647760" hR="647760" stAng="-10799995" swAng="5400000"/>
                <a:lnTo>
                  <a:pt x="647760" y="0"/>
                </a:lnTo>
                <a:lnTo>
                  <a:pt x="647760" y="0"/>
                </a:lnTo>
                <a:arcTo wR="647760" hR="647760" stAng="-5399995" swAng="5400000"/>
                <a:lnTo>
                  <a:pt x="1295520" y="757556"/>
                </a:lnTo>
                <a:lnTo>
                  <a:pt x="1447800" y="757556"/>
                </a:lnTo>
                <a:lnTo>
                  <a:pt x="1160267" y="1076318"/>
                </a:lnTo>
                <a:lnTo>
                  <a:pt x="872734" y="757556"/>
                </a:lnTo>
                <a:lnTo>
                  <a:pt x="1025013" y="757556"/>
                </a:lnTo>
                <a:lnTo>
                  <a:pt x="1025013" y="647760"/>
                </a:lnTo>
                <a:lnTo>
                  <a:pt x="1025013" y="647760"/>
                </a:lnTo>
                <a:arcTo wR="377253" hR="377253" stAng="0" swAng="-5400000"/>
                <a:lnTo>
                  <a:pt x="647760" y="270507"/>
                </a:lnTo>
                <a:lnTo>
                  <a:pt x="647760" y="270507"/>
                </a:lnTo>
                <a:arcTo wR="377253" hR="377253" stAng="-5400000" swAng="-5400000"/>
                <a:lnTo>
                  <a:pt x="270507" y="15621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6"/>
          <p:cNvSpPr/>
          <p:nvPr/>
        </p:nvSpPr>
        <p:spPr>
          <a:xfrm>
            <a:off x="209880" y="4648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ve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9"/>
          <p:cNvSpPr/>
          <p:nvPr/>
        </p:nvSpPr>
        <p:spPr>
          <a:xfrm>
            <a:off x="171000" y="35053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90"/>
          <p:cNvSpPr/>
          <p:nvPr/>
        </p:nvSpPr>
        <p:spPr>
          <a:xfrm>
            <a:off x="1110960" y="1795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s Participating in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ent Arrow 13"/>
          <p:cNvSpPr/>
          <p:nvPr/>
        </p:nvSpPr>
        <p:spPr>
          <a:xfrm rot="10800000">
            <a:off x="2895120" y="3708000"/>
            <a:ext cx="1219320" cy="76212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Bent Arrow 15"/>
          <p:cNvSpPr/>
          <p:nvPr/>
        </p:nvSpPr>
        <p:spPr>
          <a:xfrm flipH="1" rot="10800000">
            <a:off x="5105520" y="3708000"/>
            <a:ext cx="1218960" cy="76212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Bent Arrow 18"/>
          <p:cNvSpPr/>
          <p:nvPr/>
        </p:nvSpPr>
        <p:spPr>
          <a:xfrm flipH="1" rot="16200000">
            <a:off x="3733920" y="4013280"/>
            <a:ext cx="1218960" cy="76176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Bent Arrow 20"/>
          <p:cNvSpPr/>
          <p:nvPr/>
        </p:nvSpPr>
        <p:spPr>
          <a:xfrm rot="16200000">
            <a:off x="3733920" y="2870280"/>
            <a:ext cx="1218960" cy="76176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9"/>
          <p:cNvSpPr/>
          <p:nvPr/>
        </p:nvSpPr>
        <p:spPr>
          <a:xfrm>
            <a:off x="3238560" y="3098880"/>
            <a:ext cx="2666880" cy="1447560"/>
          </a:xfrm>
          <a:prstGeom prst="ellipse">
            <a:avLst/>
          </a:prstGeom>
          <a:solidFill>
            <a:srgbClr val="669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ol of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Bent Arrow 12"/>
          <p:cNvSpPr/>
          <p:nvPr/>
        </p:nvSpPr>
        <p:spPr>
          <a:xfrm>
            <a:off x="2514600" y="3098880"/>
            <a:ext cx="1219320" cy="76176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Bent Arrow 14"/>
          <p:cNvSpPr/>
          <p:nvPr/>
        </p:nvSpPr>
        <p:spPr>
          <a:xfrm flipH="1">
            <a:off x="5409360" y="3098880"/>
            <a:ext cx="1219320" cy="76176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Bent Arrow 17"/>
          <p:cNvSpPr/>
          <p:nvPr/>
        </p:nvSpPr>
        <p:spPr>
          <a:xfrm flipH="1" rot="5400000">
            <a:off x="4190760" y="4393800"/>
            <a:ext cx="1219320" cy="76176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Bent Arrow 19"/>
          <p:cNvSpPr/>
          <p:nvPr/>
        </p:nvSpPr>
        <p:spPr>
          <a:xfrm rot="5400000">
            <a:off x="4190760" y="2489040"/>
            <a:ext cx="1219320" cy="76176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0" y="635245"/>
                </a:lnTo>
                <a:lnTo>
                  <a:pt x="0" y="635245"/>
                </a:lnTo>
                <a:arcTo wR="518015" hR="518015" stAng="-10799993" swAng="5400000"/>
                <a:lnTo>
                  <a:pt x="949566" y="117230"/>
                </a:lnTo>
                <a:lnTo>
                  <a:pt x="949566" y="0"/>
                </a:lnTo>
                <a:lnTo>
                  <a:pt x="1219200" y="252047"/>
                </a:lnTo>
                <a:lnTo>
                  <a:pt x="949566" y="504094"/>
                </a:lnTo>
                <a:lnTo>
                  <a:pt x="949566" y="386864"/>
                </a:lnTo>
                <a:lnTo>
                  <a:pt x="518015" y="386864"/>
                </a:lnTo>
                <a:lnTo>
                  <a:pt x="518015" y="386864"/>
                </a:lnTo>
                <a:arcTo wR="248382" hR="248382" stAng="-5400000" swAng="-5400000"/>
                <a:lnTo>
                  <a:pt x="269634" y="762000"/>
                </a:lnTo>
                <a:close/>
              </a:path>
            </a:pathLst>
          </a:custGeom>
          <a:solidFill>
            <a:srgbClr val="a3a3e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7" descr="http://t2.gstatic.com/images?q=tbn:ANd9GcSN7_ZHWzXkJI9EhtjL2dVuNxDqVGviJYk8rpK0vQobgkz8KE8UFnVth-q4"/>
          <p:cNvPicPr/>
          <p:nvPr/>
        </p:nvPicPr>
        <p:blipFill>
          <a:blip r:embed="rId1"/>
          <a:stretch/>
        </p:blipFill>
        <p:spPr>
          <a:xfrm>
            <a:off x="1219320" y="3327480"/>
            <a:ext cx="1641240" cy="914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http://www.aors.army.mil/images/amsaa.gif"/>
          <p:cNvPicPr/>
          <p:nvPr/>
        </p:nvPicPr>
        <p:blipFill>
          <a:blip r:embed="rId2"/>
          <a:stretch/>
        </p:blipFill>
        <p:spPr>
          <a:xfrm>
            <a:off x="6172200" y="3251160"/>
            <a:ext cx="1905120" cy="1015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3" descr="http://www.wsmr.army.mil/logos/ATEC_crest.jpg"/>
          <p:cNvPicPr/>
          <p:nvPr/>
        </p:nvPicPr>
        <p:blipFill>
          <a:blip r:embed="rId3"/>
          <a:stretch/>
        </p:blipFill>
        <p:spPr>
          <a:xfrm>
            <a:off x="3830760" y="1062000"/>
            <a:ext cx="1482480" cy="15796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1"/>
          <p:cNvSpPr/>
          <p:nvPr/>
        </p:nvSpPr>
        <p:spPr>
          <a:xfrm>
            <a:off x="4114800" y="51562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1" descr="File:ARL logo.png"/>
          <p:cNvPicPr/>
          <p:nvPr/>
        </p:nvPicPr>
        <p:blipFill>
          <a:blip r:embed="rId4"/>
          <a:stretch/>
        </p:blipFill>
        <p:spPr>
          <a:xfrm>
            <a:off x="3657600" y="5003640"/>
            <a:ext cx="1828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lo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rganize and implement a 6 month developmental assignment.  Initiate mid and final reviews to track progress.  Develop and publish white paper to document exper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February: Release Annou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arch: Applications due to HR offi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9 March: HR offices downselect to eligible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-16 March: SES Leadership review/select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April: Assignment 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6-20: Mid Poin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6: Assignment Conclusion/Fin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BP Learning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tical Savv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agement of Senior Leadership of multiple APG organizations and HR to gain support and input to program (some outside parent org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sonal Courag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rticipated in briefings with other’s senior lea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ment to program past course date (potential loss of Cohort “rigo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am Succ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nowledged differences in opinions (Adaptive Learning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recognized need to be more strategic at the start and move to tactica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 held implementation differences through a time of data gatherin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defined by stakeholders supported “leading through listening”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allowed the team to reach consensus quickly on the path a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itle 1"/>
          <p:cNvSpPr/>
          <p:nvPr/>
        </p:nvSpPr>
        <p:spPr>
          <a:xfrm>
            <a:off x="2362320" y="838080"/>
            <a:ext cx="662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Fellowship / Developmental Assign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21:11Z</dcterms:created>
  <dc:creator>Beverly Obenchain</dc:creator>
  <dc:description/>
  <dc:language>en-US</dc:language>
  <cp:lastModifiedBy>michael.j.mccarthy</cp:lastModifiedBy>
  <cp:lastPrinted>2009-02-23T23:02:36Z</cp:lastPrinted>
  <dcterms:modified xsi:type="dcterms:W3CDTF">2012-02-17T15:54:06Z</dcterms:modified>
  <cp:revision>136</cp:revision>
  <dc:subject/>
  <dc:title>PowerPoint Presentation</dc:title>
</cp:coreProperties>
</file>