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2" descr="BG_Getty2a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12" descr="BG_Getty2a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en.wikipedia.org/wiki/Image:James_Longstreet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0" descr="rebel_flag2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-30492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9e9"/>
                </a:solidFill>
                <a:latin typeface="comic"/>
              </a:rPr>
              <a:t>Confederate Comma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52680" y="1346040"/>
            <a:ext cx="160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Robert E.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63de8"/>
                </a:solidFill>
                <a:latin typeface="Times New Roman"/>
              </a:rPr>
              <a:t>USMA 18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2" descr="bio%20pic%20of%20robert%20e%20lee"/>
          <p:cNvPicPr/>
          <p:nvPr/>
        </p:nvPicPr>
        <p:blipFill>
          <a:blip r:embed="rId2"/>
          <a:stretch/>
        </p:blipFill>
        <p:spPr>
          <a:xfrm>
            <a:off x="3048120" y="457200"/>
            <a:ext cx="25365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8" descr="hill_ap"/>
          <p:cNvPicPr/>
          <p:nvPr/>
        </p:nvPicPr>
        <p:blipFill>
          <a:blip r:embed="rId3"/>
          <a:stretch/>
        </p:blipFill>
        <p:spPr>
          <a:xfrm>
            <a:off x="5181480" y="411480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149"/>
          <p:cNvPicPr/>
          <p:nvPr/>
        </p:nvPicPr>
        <p:blipFill>
          <a:blip r:embed="rId4"/>
          <a:stretch/>
        </p:blipFill>
        <p:spPr>
          <a:xfrm>
            <a:off x="7238880" y="4114800"/>
            <a:ext cx="152892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1"/>
          <p:cNvSpPr/>
          <p:nvPr/>
        </p:nvSpPr>
        <p:spPr>
          <a:xfrm>
            <a:off x="180720" y="609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James Longst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USMA 18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2606400" y="60958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Richard E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USMA 18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5294880" y="60958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A.P. 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USMA 18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7428600" y="60958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JEB St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Times New Roman"/>
              </a:rPr>
              <a:t>USMA 18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6" descr="200px-James_Longstree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114800"/>
            <a:ext cx="122076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0" descr="USACWewell"/>
          <p:cNvPicPr/>
          <p:nvPr/>
        </p:nvPicPr>
        <p:blipFill>
          <a:blip r:embed="rId7"/>
          <a:stretch/>
        </p:blipFill>
        <p:spPr>
          <a:xfrm>
            <a:off x="2743200" y="4114800"/>
            <a:ext cx="1276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8" descr="unionfla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-30492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9e9"/>
                </a:solidFill>
                <a:latin typeface="comic"/>
              </a:rPr>
              <a:t>Union Comma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meade"/>
          <p:cNvPicPr/>
          <p:nvPr/>
        </p:nvPicPr>
        <p:blipFill>
          <a:blip r:embed="rId2"/>
          <a:stretch/>
        </p:blipFill>
        <p:spPr>
          <a:xfrm>
            <a:off x="3124080" y="457200"/>
            <a:ext cx="237492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6051600" y="140796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rge G. M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MA 1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220px-GenJFRenyolds"/>
          <p:cNvPicPr/>
          <p:nvPr/>
        </p:nvPicPr>
        <p:blipFill>
          <a:blip r:embed="rId3"/>
          <a:stretch/>
        </p:blipFill>
        <p:spPr>
          <a:xfrm>
            <a:off x="152280" y="4419720"/>
            <a:ext cx="1113120" cy="1447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168840" y="5867280"/>
            <a:ext cx="10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yn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8404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hancock_ws"/>
          <p:cNvPicPr/>
          <p:nvPr/>
        </p:nvPicPr>
        <p:blipFill>
          <a:blip r:embed="rId4"/>
          <a:stretch/>
        </p:blipFill>
        <p:spPr>
          <a:xfrm>
            <a:off x="1523880" y="4419720"/>
            <a:ext cx="103824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1572840" y="3962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502280" y="586728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field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c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6" descr="Sickles"/>
          <p:cNvPicPr/>
          <p:nvPr/>
        </p:nvPicPr>
        <p:blipFill>
          <a:blip r:embed="rId5"/>
          <a:stretch/>
        </p:blipFill>
        <p:spPr>
          <a:xfrm>
            <a:off x="2743200" y="4419720"/>
            <a:ext cx="1170000" cy="144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2862360" y="39625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I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884320" y="5867280"/>
            <a:ext cx="95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ni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t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0" descr="250px-GenGS"/>
          <p:cNvPicPr/>
          <p:nvPr/>
        </p:nvPicPr>
        <p:blipFill>
          <a:blip r:embed="rId6"/>
          <a:stretch/>
        </p:blipFill>
        <p:spPr>
          <a:xfrm>
            <a:off x="4038480" y="4419720"/>
            <a:ext cx="973080" cy="1447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1"/>
          <p:cNvSpPr/>
          <p:nvPr/>
        </p:nvSpPr>
        <p:spPr>
          <a:xfrm>
            <a:off x="4017960" y="39625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V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055040" y="5867280"/>
            <a:ext cx="10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o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4" descr="John_Sedgwick"/>
          <p:cNvPicPr/>
          <p:nvPr/>
        </p:nvPicPr>
        <p:blipFill>
          <a:blip r:embed="rId7"/>
          <a:stretch/>
        </p:blipFill>
        <p:spPr>
          <a:xfrm>
            <a:off x="5105520" y="4419720"/>
            <a:ext cx="1214280" cy="144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oliver-o-howard-1-sized"/>
          <p:cNvPicPr/>
          <p:nvPr/>
        </p:nvPicPr>
        <p:blipFill>
          <a:blip r:embed="rId8"/>
          <a:stretch/>
        </p:blipFill>
        <p:spPr>
          <a:xfrm>
            <a:off x="6477120" y="4419720"/>
            <a:ext cx="1182600" cy="144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" descr="240px-Henry_Warner_Slocum"/>
          <p:cNvPicPr/>
          <p:nvPr/>
        </p:nvPicPr>
        <p:blipFill>
          <a:blip r:embed="rId9"/>
          <a:stretch/>
        </p:blipFill>
        <p:spPr>
          <a:xfrm>
            <a:off x="7848720" y="4419720"/>
            <a:ext cx="1085760" cy="1447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9"/>
          <p:cNvSpPr/>
          <p:nvPr/>
        </p:nvSpPr>
        <p:spPr>
          <a:xfrm>
            <a:off x="5230800" y="39625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V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5330520" y="5867280"/>
            <a:ext cx="10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dgew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6526440" y="39625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X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6569640" y="5867280"/>
            <a:ext cx="10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7739280" y="39625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XII 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7865280" y="5867280"/>
            <a:ext cx="108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c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MA ‘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4"/>
          <p:cNvSpPr/>
          <p:nvPr/>
        </p:nvSpPr>
        <p:spPr>
          <a:xfrm flipH="1">
            <a:off x="1828800" y="2057400"/>
            <a:ext cx="91440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743200" y="2057400"/>
            <a:ext cx="91440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1828800" y="2819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657600" y="2819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1828800" y="2971440"/>
            <a:ext cx="30492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 flipH="1" flipV="1">
            <a:off x="3352320" y="2971440"/>
            <a:ext cx="30492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H="1">
            <a:off x="1066680" y="2971800"/>
            <a:ext cx="1067040" cy="137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H="1" flipV="1">
            <a:off x="3352680" y="2971800"/>
            <a:ext cx="1067040" cy="137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1828800" y="4267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071360" y="4419720"/>
            <a:ext cx="33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iplomatic   Informational   Military   Econ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1066680" y="4343400"/>
            <a:ext cx="335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1066680" y="4343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4419720" y="4343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1066680" y="4800600"/>
            <a:ext cx="335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2208600" y="2666880"/>
            <a:ext cx="110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loud"/>
          <p:cNvSpPr/>
          <p:nvPr/>
        </p:nvSpPr>
        <p:spPr>
          <a:xfrm>
            <a:off x="1828800" y="838080"/>
            <a:ext cx="1676520" cy="11239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2134440" y="114300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1827000" y="4724280"/>
            <a:ext cx="3089160" cy="1599840"/>
            <a:chOff x="1827000" y="4724280"/>
            <a:chExt cx="3089160" cy="1599840"/>
          </a:xfrm>
        </p:grpSpPr>
        <p:sp>
          <p:nvSpPr>
            <p:cNvPr id="137" name="Oval 25"/>
            <p:cNvSpPr/>
            <p:nvPr/>
          </p:nvSpPr>
          <p:spPr>
            <a:xfrm>
              <a:off x="2926800" y="4724280"/>
              <a:ext cx="765720" cy="6858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 rot="298200">
              <a:off x="2926440" y="5238000"/>
              <a:ext cx="765720" cy="6858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2926800" y="5638320"/>
              <a:ext cx="765720" cy="6858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8"/>
            <p:cNvSpPr/>
            <p:nvPr/>
          </p:nvSpPr>
          <p:spPr>
            <a:xfrm>
              <a:off x="3872160" y="600156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tt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3871440" y="5428800"/>
              <a:ext cx="10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ampa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3872880" y="49179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31"/>
            <p:cNvSpPr/>
            <p:nvPr/>
          </p:nvSpPr>
          <p:spPr>
            <a:xfrm>
              <a:off x="1828440" y="491796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1827000" y="5373000"/>
              <a:ext cx="110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per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33"/>
            <p:cNvSpPr/>
            <p:nvPr/>
          </p:nvSpPr>
          <p:spPr>
            <a:xfrm>
              <a:off x="1906200" y="5918400"/>
              <a:ext cx="79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4"/>
          <p:cNvGrpSpPr/>
          <p:nvPr/>
        </p:nvGrpSpPr>
        <p:grpSpPr>
          <a:xfrm>
            <a:off x="5181480" y="4572000"/>
            <a:ext cx="1930680" cy="1542960"/>
            <a:chOff x="5181480" y="4572000"/>
            <a:chExt cx="1930680" cy="1542960"/>
          </a:xfrm>
        </p:grpSpPr>
        <p:sp>
          <p:nvSpPr>
            <p:cNvPr id="147" name="Freeform 35"/>
            <p:cNvSpPr/>
            <p:nvPr/>
          </p:nvSpPr>
          <p:spPr>
            <a:xfrm>
              <a:off x="5792400" y="5109120"/>
              <a:ext cx="673560" cy="641160"/>
            </a:xfrm>
            <a:prstGeom prst="pie">
              <a:avLst/>
            </a:prstGeom>
            <a:solidFill>
              <a:srgbClr val="61fd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5785560" y="4572000"/>
              <a:ext cx="1146960" cy="118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5181480" y="5124600"/>
              <a:ext cx="1930680" cy="972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5750280" y="5071320"/>
              <a:ext cx="1212480" cy="74520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39"/>
            <p:cNvSpPr/>
            <p:nvPr/>
          </p:nvSpPr>
          <p:spPr>
            <a:xfrm>
              <a:off x="5768640" y="5400720"/>
              <a:ext cx="1814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40"/>
            <p:cNvSpPr/>
            <p:nvPr/>
          </p:nvSpPr>
          <p:spPr>
            <a:xfrm>
              <a:off x="5884560" y="4722120"/>
              <a:ext cx="181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41"/>
            <p:cNvSpPr/>
            <p:nvPr/>
          </p:nvSpPr>
          <p:spPr>
            <a:xfrm>
              <a:off x="5718240" y="5798880"/>
              <a:ext cx="187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42"/>
            <p:cNvSpPr/>
            <p:nvPr/>
          </p:nvSpPr>
          <p:spPr>
            <a:xfrm>
              <a:off x="5889240" y="5873760"/>
              <a:ext cx="181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43"/>
          <p:cNvSpPr/>
          <p:nvPr/>
        </p:nvSpPr>
        <p:spPr>
          <a:xfrm>
            <a:off x="5853240" y="2409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1981080" y="4419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5550120" y="58514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5640840" y="525780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5868360" y="46483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rateg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3736080" y="1981080"/>
            <a:ext cx="48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udy in Strategy an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4647240" y="2666880"/>
            <a:ext cx="377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Strategic Level – Civil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Operational Level – The 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Tactical Level – The B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0"/>
          <p:cNvSpPr/>
          <p:nvPr/>
        </p:nvSpPr>
        <p:spPr>
          <a:xfrm>
            <a:off x="1523880" y="51055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228240" y="54100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s  of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2"/>
          <p:cNvSpPr/>
          <p:nvPr/>
        </p:nvSpPr>
        <p:spPr>
          <a:xfrm>
            <a:off x="7238880" y="47242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7391520" y="50292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s of Lead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3581280" y="60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Gettysburg Campaig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5"/>
          <p:cNvSpPr/>
          <p:nvPr/>
        </p:nvSpPr>
        <p:spPr>
          <a:xfrm flipH="1">
            <a:off x="4648320" y="5943600"/>
            <a:ext cx="914400" cy="152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6"/>
          <p:cNvSpPr/>
          <p:nvPr/>
        </p:nvSpPr>
        <p:spPr>
          <a:xfrm flipH="1">
            <a:off x="4952520" y="5410080"/>
            <a:ext cx="762120" cy="152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7"/>
          <p:cNvSpPr/>
          <p:nvPr/>
        </p:nvSpPr>
        <p:spPr>
          <a:xfrm flipH="1">
            <a:off x="4495680" y="4876920"/>
            <a:ext cx="1447920" cy="2286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0492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ategi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Bring about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itical settle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or foreign inter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ration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Seve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nion LOC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cross the Susquehanna River, captu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arrisbur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ctic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Accep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att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if obtainable under favo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ditions an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ed the Army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ize the initiativ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24"/>
          <p:cNvGrpSpPr/>
          <p:nvPr/>
        </p:nvGrpSpPr>
        <p:grpSpPr>
          <a:xfrm>
            <a:off x="5029200" y="4038480"/>
            <a:ext cx="3581280" cy="2214720"/>
            <a:chOff x="5029200" y="4038480"/>
            <a:chExt cx="3581280" cy="2214720"/>
          </a:xfrm>
        </p:grpSpPr>
        <p:pic>
          <p:nvPicPr>
            <p:cNvPr id="174" name="Picture 21" descr="Map4"/>
            <p:cNvPicPr/>
            <p:nvPr/>
          </p:nvPicPr>
          <p:blipFill>
            <a:blip r:embed="rId1"/>
            <a:stretch/>
          </p:blipFill>
          <p:spPr>
            <a:xfrm>
              <a:off x="5029200" y="4038480"/>
              <a:ext cx="358128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22"/>
            <p:cNvSpPr/>
            <p:nvPr/>
          </p:nvSpPr>
          <p:spPr>
            <a:xfrm>
              <a:off x="6939360" y="5439960"/>
              <a:ext cx="178920" cy="24480"/>
            </a:xfrm>
            <a:prstGeom prst="line">
              <a:avLst/>
            </a:prstGeom>
            <a:ln w="28440">
              <a:solidFill>
                <a:srgbClr val="042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6939360" y="5489280"/>
              <a:ext cx="178920" cy="489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Line 25"/>
          <p:cNvSpPr/>
          <p:nvPr/>
        </p:nvSpPr>
        <p:spPr>
          <a:xfrm flipH="1" flipV="1">
            <a:off x="6389640" y="5243400"/>
            <a:ext cx="573120" cy="268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6389640" y="4571640"/>
            <a:ext cx="316080" cy="671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8" descr="Lee in full dress"/>
          <p:cNvPicPr/>
          <p:nvPr/>
        </p:nvPicPr>
        <p:blipFill>
          <a:blip r:embed="rId2"/>
          <a:stretch/>
        </p:blipFill>
        <p:spPr>
          <a:xfrm>
            <a:off x="7467480" y="1752480"/>
            <a:ext cx="870120" cy="2133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9"/>
          <p:cNvSpPr/>
          <p:nvPr/>
        </p:nvSpPr>
        <p:spPr>
          <a:xfrm>
            <a:off x="1981080" y="76212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e’s Gettysburg Campa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1"/>
          <p:cNvSpPr/>
          <p:nvPr/>
        </p:nvSpPr>
        <p:spPr>
          <a:xfrm flipV="1">
            <a:off x="6705720" y="4266720"/>
            <a:ext cx="457200" cy="304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2053"/>
          <p:cNvGrpSpPr/>
          <p:nvPr/>
        </p:nvGrpSpPr>
        <p:grpSpPr>
          <a:xfrm>
            <a:off x="7848720" y="5486400"/>
            <a:ext cx="990360" cy="990720"/>
            <a:chOff x="7848720" y="5486400"/>
            <a:chExt cx="990360" cy="990720"/>
          </a:xfrm>
        </p:grpSpPr>
        <p:grpSp>
          <p:nvGrpSpPr>
            <p:cNvPr id="183" name="Group 2054"/>
            <p:cNvGrpSpPr/>
            <p:nvPr/>
          </p:nvGrpSpPr>
          <p:grpSpPr>
            <a:xfrm>
              <a:off x="7848720" y="5486400"/>
              <a:ext cx="990360" cy="990720"/>
              <a:chOff x="7848720" y="5486400"/>
              <a:chExt cx="990360" cy="990720"/>
            </a:xfrm>
          </p:grpSpPr>
          <p:pic>
            <p:nvPicPr>
              <p:cNvPr id="184" name="Picture 2055" descr="usa_blank"/>
              <p:cNvPicPr/>
              <p:nvPr/>
            </p:nvPicPr>
            <p:blipFill>
              <a:blip r:embed="rId3"/>
              <a:srcRect l="48981" t="26561" r="12098" b="14062"/>
              <a:stretch/>
            </p:blipFill>
            <p:spPr>
              <a:xfrm>
                <a:off x="7848720" y="5486400"/>
                <a:ext cx="9903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Line 2056"/>
              <p:cNvSpPr/>
              <p:nvPr/>
            </p:nvSpPr>
            <p:spPr>
              <a:xfrm>
                <a:off x="7848720" y="5486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2057"/>
              <p:cNvSpPr/>
              <p:nvPr/>
            </p:nvSpPr>
            <p:spPr>
              <a:xfrm>
                <a:off x="7848720" y="64771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2058"/>
              <p:cNvSpPr/>
              <p:nvPr/>
            </p:nvSpPr>
            <p:spPr>
              <a:xfrm>
                <a:off x="7848720" y="548640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2059"/>
              <p:cNvSpPr/>
              <p:nvPr/>
            </p:nvSpPr>
            <p:spPr>
              <a:xfrm>
                <a:off x="8839080" y="5486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Rectangle 2060"/>
            <p:cNvSpPr/>
            <p:nvPr/>
          </p:nvSpPr>
          <p:spPr>
            <a:xfrm>
              <a:off x="8457840" y="556272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b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w33"/>
          <p:cNvPicPr/>
          <p:nvPr/>
        </p:nvPicPr>
        <p:blipFill>
          <a:blip r:embed="rId1"/>
          <a:srcRect l="2135" t="2252" r="2135" b="3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"/>
          <p:cNvSpPr/>
          <p:nvPr/>
        </p:nvSpPr>
        <p:spPr>
          <a:xfrm>
            <a:off x="1557360" y="1203480"/>
            <a:ext cx="6451560" cy="5751360"/>
          </a:xfrm>
          <a:prstGeom prst="pie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1835280" y="4645080"/>
            <a:ext cx="122040" cy="149040"/>
          </a:xfrm>
          <a:prstGeom prst="pie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-380880" y="2862360"/>
            <a:ext cx="2377800" cy="3663720"/>
          </a:xfrm>
          <a:prstGeom prst="pie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959880" y="5950080"/>
            <a:ext cx="2174040" cy="900360"/>
          </a:xfrm>
          <a:prstGeom prst="rect">
            <a:avLst/>
          </a:prstGeom>
          <a:solidFill>
            <a:srgbClr val="e9e9e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eastern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Gettysburg Campa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General Situ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June 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20:23:28Z</dcterms:created>
  <dc:creator>CIO</dc:creator>
  <dc:description>Script to accompany the slide show in Bliss as pre for Gbrg Staffride</dc:description>
  <cp:keywords/>
  <dc:language>en-US</dc:language>
  <cp:lastModifiedBy>Trish Mooney</cp:lastModifiedBy>
  <cp:lastPrinted>1997-08-13T11:06:22Z</cp:lastPrinted>
  <dcterms:modified xsi:type="dcterms:W3CDTF">2012-10-11T14:16:43Z</dcterms:modified>
  <cp:revision>434</cp:revision>
  <dc:subject>Slide Show </dc:subject>
  <dc:title>The Gettysburg Campaign 1863</dc:title>
</cp:coreProperties>
</file>