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4777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97800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1915E1-FF4A-4FE5-923B-FA672C74E5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DF2592-CA13-4008-8284-03FC8A369C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Date Placeholder 4"/>
          <p:cNvSpPr/>
          <p:nvPr/>
        </p:nvSpPr>
        <p:spPr>
          <a:xfrm>
            <a:off x="3978360" y="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 corporate Examples – GE – IBM – P&amp;G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Date Placeholder 3"/>
          <p:cNvSpPr/>
          <p:nvPr/>
        </p:nvSpPr>
        <p:spPr>
          <a:xfrm>
            <a:off x="3978360" y="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7" name="Slide Number Placeholder 4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E85D12-8FB0-4FD8-B5D1-02E7899DB4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31840" indent="-231840"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 to NSA retirements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3184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31840" indent="-231840"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C – Gallup – Hackett Group – Watson Wyatt – Corporate Executive Bo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3184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31840" indent="-231840"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 performing talent management organizations posted 15% higher earnings than peer companies (Hackett Group – 200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3184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3184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49A4DB-D89C-44F8-9E71-9343C35A04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69F751-8A27-48D8-9C31-232696EF5FBA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Date Placeholder 1"/>
          <p:cNvSpPr/>
          <p:nvPr/>
        </p:nvSpPr>
        <p:spPr>
          <a:xfrm>
            <a:off x="3978360" y="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2E341A-A792-4B04-83B3-F17CB94032F3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Date Placeholder 1"/>
          <p:cNvSpPr/>
          <p:nvPr/>
        </p:nvSpPr>
        <p:spPr>
          <a:xfrm>
            <a:off x="3978360" y="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8B8279-1A70-4A72-83B3-4BBC717CA739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lent Champions spend more time on strategic talent activities – which significantly increase the bottom line – this is what they do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Date Placeholder 1"/>
          <p:cNvSpPr/>
          <p:nvPr/>
        </p:nvSpPr>
        <p:spPr>
          <a:xfrm>
            <a:off x="3978360" y="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6410B2-48C2-42E4-9EE1-2B34BB0D9F5A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e essential – and yet in your roles, the strategic activities have the highest leverage and return on your time and investment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Date Placeholder 1"/>
          <p:cNvSpPr/>
          <p:nvPr/>
        </p:nvSpPr>
        <p:spPr>
          <a:xfrm>
            <a:off x="3978360" y="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9CD7-8AD7-4921-BEF0-E35AE79C1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120E-FF20-41FA-ABC0-1A341D12A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FB5AE5-3662-4B6F-A331-08D8AD278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52F916-DF34-44BA-B31D-78B8CE0FC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F4EFBA-9D03-4E20-B726-A4C05C0B4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A32029-0365-45F6-8920-469B95BC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1A5781-54DB-4A62-9C74-E572CC67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8648E0-BC3E-49C1-B9F2-67FA7885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91A7FA-D28A-47AB-B299-A3BA1D4F5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54CD29-DD62-4A12-8A15-F19429846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65E600-E43D-4E5D-88B3-1CB92BCAD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FADD46-7359-4D15-BC24-F581D9F51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EEC9-BC82-4D0A-9132-E92DD3A50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F7E87A-F7B9-416D-8D44-44E03D0E5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56B364-FC1C-47E2-A8FD-666F9FDD7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BA5D80-B641-42EB-94D7-399D3AAFD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EA6E22-E5BC-4332-9DCE-7150437A2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6008FF-39C9-48F8-BDAE-686D0B3CF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49A430-3A3B-4815-BAB4-18E25CE8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AF4E19-7C22-486B-846D-8A9FA8C2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0115B2-1D49-4B57-9F2B-AE6CB788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D26223-FBB2-4E90-B1B7-4365A8809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29BAB7-FA18-49D3-A348-9E287FDD9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BAAA-8D40-4725-978A-FF7E01EBF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704689-C061-45BD-AF2F-1E1A97D7F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45B6DE-6BB3-4B1F-A37C-91A7CAE03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20B374-EA9F-42A0-B2CE-F98A0745F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C0DCC2-9CC3-4A19-A3AA-05D4F1325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EC9EEF-F86F-4541-832F-D21E2B41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C450D0-96FC-458E-8D07-14306A2C8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D25886-B10B-41AB-946C-9B7736881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90089C-DC4F-4C0D-B3AB-F1AE0362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F4E84A-634D-46EB-8AE4-95388FA6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A20EE2-D3A3-4F4C-8D57-D1D8FE43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869A9-5138-4F72-AF9C-33F2C344F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3775CD-5B1B-495D-8D81-06A86BB9B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76F798-4F1A-40EC-9C4F-959D19F32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8E71C2-F7FD-4D2A-9C01-BFD7FC603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AAD772-4C90-420B-B139-2A2095E75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E92DD4-94D3-41EC-AD5D-168F71B46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73868E-19E4-434D-9F66-C05C876FB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02E817-942A-4DB3-BAFF-0022BB2E3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0CB441-73F7-4C1F-87C9-74E0B643F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DB205A-8974-4998-BA29-3B5F5B07D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2A8F33-570F-499F-B20E-D030932C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DBC21-6733-4A8E-BF55-4A3B3337E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77E289-D578-428A-A34F-10494E58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658A5A-DB13-4600-82A3-15525D03A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C0A382-0385-4BF8-A8E8-923D0E348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B31BDC-1EFF-47F3-AA3A-1A04086A5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E944D5-4756-4E94-A5E9-A957D1E0A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EE0CA-9649-44D2-8447-4ADAC61AA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DDC80-6C4B-457A-AEEF-4DD3988A6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9868B-53AB-437C-816B-F5944BB03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D3935-82B7-4A47-9D85-35A6F245B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82C17-AFE1-4879-8451-112929F7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835D-A158-4D9D-9B20-CDBD362CE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40A33-FD89-4183-B0AF-02A97E11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D081E-B256-4BE6-973C-E7A100CF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7F029-10D0-4241-B8D1-C72A86C95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395FB-F3A6-44E0-B289-22366B6F5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971BE-EC25-4435-BF2A-E50B16147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0E33E-BE90-4A68-A6FF-5FFE71631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4948E-547F-4E2D-801F-9DF9712FE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FDE47-A133-4F27-988F-A657066E7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ABDE6-FDFD-4791-8212-DA3826D19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DDFB8-FD95-4317-961E-992244BAF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FE8E-21D1-4CAC-A56B-78C7AE928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7DD76-D596-4CFB-85EB-1E8DF6613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F3BBE-0155-4955-BE6C-C28C7541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D8009-49B2-4BA3-ABD4-85653A98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5B043-F02D-4E63-89CC-ED42F77C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C1E88-5405-463A-B0EB-B32AFB20D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E1904-CB4F-4E03-85C3-84F7217A1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054C8-C39E-4151-BD4D-FAF054956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0CF87-51B0-4594-B8F7-D6B2269E2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56AF4-30D1-4680-AE20-15E89DD0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C997A-F7FD-415B-B1EF-96D41A82E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DBE2-7B5D-4D4A-82F1-0E699DB68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5D7A5-AC15-45B2-8E71-B7DB4D176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B27D8-7066-414F-9CC3-C20F0007D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A5B35-14B4-411E-815D-D38BF22CE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20CB1-6E0E-4D8D-AAC7-FA37DDA1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AA3BA-5E64-4BE5-B3F7-78F5DB4D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1A806-ABDA-486F-A69C-A8E39933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1387A-E869-41F8-A875-B6242C681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8162A-BA5B-4C51-B914-096295873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8AF71-D477-48B2-8684-661DCF74B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E3DF9-A895-4363-B70E-CB15AE851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80EF-B3DD-4D96-93F0-9F84B2769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4DC6E-3B67-4E52-AD33-A837DAFDE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9AA77-D1E9-439C-A02C-E34B978EB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1F149-83CA-4C49-B546-0DD79C5A4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8C5FD-08CB-4402-8947-5EA41FB19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949E9-5F57-4938-884F-F3E80A33F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EB1BF-D826-4A96-BC40-EFEF967E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0B895-387F-4422-A8E2-1174A3D1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6F261-7A72-4682-B9F2-EE1299D9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ED08B-5BFF-4969-A959-61D602462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D5BFB-708F-453D-821A-C2D5F83AB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19CA-745B-425D-AE75-0A3E8ED81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79E27-FE3C-426A-B987-468BEA6CC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2A499-8F82-4072-8A80-0D14279F5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ACFF2-D8C5-42C7-8B99-3EC2AE23E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83158-6871-4C1B-BE21-8C945D07C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0159B-7455-4608-98F6-A7E64CD08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49899-CB47-49FB-8A04-12B7C939C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EB2C5-235A-4748-855F-351660520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5A398-E993-4C77-88EC-9040A8C8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5B8CF-AE3C-48A2-B228-71115C6E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99E82-0945-4B33-BD1F-4915247F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BCEF-6985-4E12-873C-6EB7400A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EC4D9-6B12-4BDB-AB9A-DCA9A2A4B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6D2AF-CBC1-422E-BF53-1E9A9FD0B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9518F-FC0A-42EC-A20B-6621AC6C9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76A666-81A7-4612-A0A5-CF814203A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FAF097-8FFE-4E37-AF61-6D69DB617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3FDB4E-97D0-4AF2-8F94-5946E870E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4A1DD3-BCE3-4C24-8127-111FA1762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19B117-53E2-478C-B4F2-6C22E3C86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6E2BA3-CD6D-48B9-8C9B-1985B55A6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8F7FB-8529-4016-A187-E4D61117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576C-A8DE-4738-81B9-24751CE6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AD5F05-D97E-462A-85C2-CE0D7A38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B6AD7-0984-4F80-A1D2-BC066517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BA88D-F9B9-4330-AA49-FD7E497AB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EB61A-EE02-448B-B4A8-E30A9A0DB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3AC19-9ADD-47D9-99E8-74383F46C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65D653-E9E9-411F-AE7A-EE755761E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90A879-84C5-476B-AC4C-F570CA208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56B49A-9BF2-4015-B6AA-E38B92558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0E77A9-9FCB-4710-9533-10C6681F0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EFB9BB-5F96-4313-8334-436E8843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9AE4-A97E-4F9E-BA0C-522CD4A5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D71CD4-2615-4F96-9ADE-28FA1088F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EEC906-60F1-4A8E-A050-08CF8693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B1174A-ADF6-4F4F-9D26-EF657002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1A809B-4FFF-4B17-8D0F-82869232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753389-C403-4943-9247-0205812AB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E5B7AC-D1E5-49E4-A44A-41BB589FF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2F41CB-3558-43D6-B4A6-AAF811F36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B76D57-EE7E-41E0-A376-17CEE916B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4501A7-69BB-4D29-98C1-C0E91D8B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49D838-8CE5-449F-95D8-9372EABA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6188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6CE426-15C5-4E34-AA54-101F9BA0945C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5477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54777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5477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54777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3FDA21-251C-4310-A6DE-F18D0E2901A9}" type="slidenum">
              <a:rPr b="0" lang="en-US" sz="1600" spc="-1" strike="noStrike">
                <a:solidFill>
                  <a:srgbClr val="54777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4777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a8422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0b8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61888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54777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6188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a842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5477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5477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6188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4777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a8422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0b8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61888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54777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3D96DF-4241-4EEF-ABD2-31F43A8FF955}" type="slidenum">
              <a:rPr b="0" lang="en-US" sz="1600" spc="-1" strike="noStrike">
                <a:solidFill>
                  <a:srgbClr val="54777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FDDB2B-A25A-43D8-82E0-04394883CF6E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3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6188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5477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54777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5477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4777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a8422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0b8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61888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E17037-EEE6-4A35-A342-127F1AE966E9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54777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D88883-C73D-4347-988D-C95F372F65DD}" type="slidenum">
              <a:rPr b="0" lang="en-US" sz="1600" spc="-1" strike="noStrike">
                <a:solidFill>
                  <a:srgbClr val="54777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3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6188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5477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54777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5477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4777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a8422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0b8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61888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54777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5A5E3C-E941-44E8-9604-D8C81224689D}" type="slidenum">
              <a:rPr b="0" lang="en-US" sz="1600" spc="-1" strike="noStrike">
                <a:solidFill>
                  <a:srgbClr val="54777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69293F-98E9-46F4-88E7-731844E8A70A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3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6188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54777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5477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5477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4777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a8422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0b8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61888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8414E5-A923-4FC7-9C10-2826E6B81DC5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54777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F77126-BC5D-4BF7-A62D-6E601CB29B2B}" type="slidenum">
              <a:rPr b="0" lang="en-US" sz="1600" spc="-1" strike="noStrike">
                <a:solidFill>
                  <a:srgbClr val="54777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3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6188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5477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54777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5477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4777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a8422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0b8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61888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46FC61-B6E5-402B-90BC-9AEE67337FF5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54777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B1E514-D7DA-4A64-8B0D-076230F61655}" type="slidenum">
              <a:rPr b="0" lang="en-US" sz="1600" spc="-1" strike="noStrike">
                <a:solidFill>
                  <a:srgbClr val="54777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a842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6188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5477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54777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5477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4777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a8422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0b8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61888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9453B7-7C59-401E-9240-44672F9EC402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54777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1EAC4D-37CB-44AC-A13E-6C6B1635EB8D}" type="slidenum">
              <a:rPr b="0" lang="en-US" sz="1600" spc="-1" strike="noStrike">
                <a:solidFill>
                  <a:srgbClr val="54777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3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6188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5477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54777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5477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4777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a8422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0b8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61888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5C6D55-B153-4F58-B61F-290B24AB00BA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54777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99353D-CA68-43C4-B392-A3380DE79174}" type="slidenum">
              <a:rPr b="0" lang="en-US" sz="1600" spc="-1" strike="noStrike">
                <a:solidFill>
                  <a:srgbClr val="54777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3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a842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6188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54777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5477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5477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4777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a8422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0b8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61888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5E8E9E-60CE-46FA-8EB0-7732672519F1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54777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7C8983-271C-4EAE-AB12-E30CFAC9D912}" type="slidenum">
              <a:rPr b="0" lang="en-US" sz="1600" spc="-1" strike="noStrike">
                <a:solidFill>
                  <a:srgbClr val="54777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6188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5477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54777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5477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4777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a8422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0b8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61888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F40BCE-D612-4773-9470-EADCA595CB94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54777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0DB2B6-119F-4CD8-82E0-310FC4F8EDFE}" type="slidenum">
              <a:rPr b="0" lang="en-US" sz="1600" spc="-1" strike="noStrike">
                <a:solidFill>
                  <a:srgbClr val="54777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6188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5477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4777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a8422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0b8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61888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F7440A-DA73-4371-B7B9-FC89CD2BB0E0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A1A903-31D3-4F07-8378-C68A020D3FD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6188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a842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5477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54777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5477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6188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4777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a8422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0b8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61888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54777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B11280-8563-41FF-8D2F-9C1F91A95B08}" type="slidenum">
              <a:rPr b="0" lang="en-US" sz="1600" spc="-1" strike="noStrike">
                <a:solidFill>
                  <a:srgbClr val="54777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AC6725-B9A4-4D51-92E7-282A1DDDE647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3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371600" y="3521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Garamond"/>
                <a:ea typeface="Calibri"/>
              </a:rPr>
              <a:t>APG COHOR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Garamond"/>
                <a:ea typeface="Calibri"/>
              </a:rPr>
              <a:t>2012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a8422a"/>
                </a:solidFill>
                <a:latin typeface="Garamond"/>
                <a:ea typeface="Calibri"/>
              </a:rPr>
              <a:t>Leaders Developing Leaders</a:t>
            </a:r>
            <a:endParaRPr b="0" lang="en-US" sz="4200" spc="-1" strike="noStrike">
              <a:solidFill>
                <a:srgbClr val="54777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3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db846f"/>
                </a:solidFill>
                <a:latin typeface="Georgia"/>
              </a:rPr>
              <a:t>Best Practices – CLC</a:t>
            </a: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a8422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ising leaders who receive effective development from a more senior leader outperform their peers by up to 27%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601"/>
              </a:spcBef>
              <a:buClr>
                <a:srgbClr val="a8422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ame rising leaders are also 25% more likely to stay, 25% more committed to their organizations and put forth 18% more discretionary effor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601"/>
              </a:spcBef>
              <a:buClr>
                <a:srgbClr val="a8422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ising leaders who report to senior leaders who are effective at leader-led development are not only 20% more effective at developing their own teams but their direct reports also demonstrate much higher readiness for additional responsibiliti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3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b7427"/>
                </a:solidFill>
                <a:latin typeface="Georgia"/>
              </a:rPr>
              <a:t>The Research: Leaders Developing Leaders</a:t>
            </a:r>
            <a:endParaRPr b="0" lang="en-US" sz="28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a8422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Leaders who receive effective development from their senior leaders – out perform, work harder, stay longer, are more committed and develop their people more effectivel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a8422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 more we pay attention to talent development – the more engaged the workforce – the greater impact on the bottom lin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a8422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mpanies that reinforce the role of senior leaders as talent champions realize increased engagement and organizational performanc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a8422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3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47779"/>
                </a:solidFill>
                <a:latin typeface="Georgia"/>
              </a:rPr>
              <a:t>    </a:t>
            </a:r>
            <a:r>
              <a:rPr b="0" lang="en-GB" sz="2800" spc="-1" strike="noStrike">
                <a:solidFill>
                  <a:srgbClr val="db7427"/>
                </a:solidFill>
                <a:latin typeface="Georgia"/>
              </a:rPr>
              <a:t>Obstacles to Deriving Value from Talent Management Efforts</a:t>
            </a:r>
            <a:endParaRPr b="0" lang="en-US" sz="28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75"/>
              </a:spcBef>
              <a:buClr>
                <a:srgbClr val="a8422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nior &amp; Tea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1800" indent="-270000">
              <a:spcBef>
                <a:spcPts val="499"/>
              </a:spcBef>
              <a:buClr>
                <a:srgbClr val="f0b8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Lack of shared view of critical roles for the future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1800" indent="-270000">
              <a:spcBef>
                <a:spcPts val="499"/>
              </a:spcBef>
              <a:buClr>
                <a:srgbClr val="f0b8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Lack of alignment between business and people strategy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1800" indent="-270000">
              <a:spcBef>
                <a:spcPts val="499"/>
              </a:spcBef>
              <a:buClr>
                <a:srgbClr val="f0b8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Not enough time spent on high quality talent management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marL="270000" indent="-270000">
              <a:spcBef>
                <a:spcPts val="675"/>
              </a:spcBef>
              <a:buClr>
                <a:srgbClr val="a8422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Line Managers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1800" indent="-270000">
              <a:spcBef>
                <a:spcPts val="499"/>
              </a:spcBef>
              <a:buClr>
                <a:srgbClr val="f0b8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Insufficient time devoted to people development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1800" indent="-270000">
              <a:spcBef>
                <a:spcPts val="499"/>
              </a:spcBef>
              <a:buClr>
                <a:srgbClr val="f0b8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Unwillingness to differentiate – high-mid-low performers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1800" indent="-270000">
              <a:spcBef>
                <a:spcPts val="499"/>
              </a:spcBef>
              <a:buClr>
                <a:srgbClr val="f0b8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Unwillingness to address underperformance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marL="270000" indent="-270000">
              <a:spcBef>
                <a:spcPts val="675"/>
              </a:spcBef>
              <a:buClr>
                <a:srgbClr val="a8422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los impede cross-organizational collabora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75"/>
              </a:spcBef>
              <a:buClr>
                <a:srgbClr val="a8422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uccession planning efforts not rigorous enough in matching right people to rol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TextBox 5"/>
          <p:cNvSpPr/>
          <p:nvPr/>
        </p:nvSpPr>
        <p:spPr>
          <a:xfrm>
            <a:off x="142920" y="6342120"/>
            <a:ext cx="8655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urce: Interviews with 50 CEOs, business unit leaders, and HR professionals conducted at 29 multinational companies in a large range of industries, geographic regions covering Africa, Asia, Europe and North America, McKinsey, June 2008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db846f"/>
                </a:solidFill>
                <a:latin typeface="Georgia"/>
              </a:rPr>
              <a:t>Talent Champions – Key Characteristics</a:t>
            </a:r>
            <a:br>
              <a:rPr sz="3300"/>
            </a:b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pic>
        <p:nvPicPr>
          <p:cNvPr id="623" name="Group 3" descr=""/>
          <p:cNvPicPr/>
          <p:nvPr/>
        </p:nvPicPr>
        <p:blipFill>
          <a:blip r:embed="rId1"/>
          <a:stretch/>
        </p:blipFill>
        <p:spPr>
          <a:xfrm>
            <a:off x="487440" y="1195560"/>
            <a:ext cx="8394480" cy="3717720"/>
          </a:xfrm>
          <a:prstGeom prst="rect">
            <a:avLst/>
          </a:prstGeom>
          <a:ln w="0">
            <a:noFill/>
          </a:ln>
        </p:spPr>
      </p:pic>
      <p:sp>
        <p:nvSpPr>
          <p:cNvPr id="624" name="TextBox 15"/>
          <p:cNvSpPr/>
          <p:nvPr/>
        </p:nvSpPr>
        <p:spPr>
          <a:xfrm>
            <a:off x="266760" y="6391440"/>
            <a:ext cx="675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urce: Corporate Leadership Council Talent Management Effectiveness Survey, 2008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-219240" y="390240"/>
            <a:ext cx="9144000" cy="96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db7427"/>
                </a:solidFill>
                <a:latin typeface="Calibri"/>
              </a:rPr>
              <a:t>      </a:t>
            </a:r>
            <a:r>
              <a:rPr b="0" lang="en-GB" sz="3200" spc="-1" strike="noStrike">
                <a:solidFill>
                  <a:srgbClr val="db846f"/>
                </a:solidFill>
                <a:latin typeface="Georgia"/>
              </a:rPr>
              <a:t>Strategic Talent Management Activities</a:t>
            </a:r>
            <a:endParaRPr b="0" lang="en-US" sz="32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626" name="Straight Connector 10"/>
          <p:cNvSpPr/>
          <p:nvPr/>
        </p:nvSpPr>
        <p:spPr>
          <a:xfrm>
            <a:off x="3857760" y="5572080"/>
            <a:ext cx="5000400" cy="1800"/>
          </a:xfrm>
          <a:prstGeom prst="line">
            <a:avLst/>
          </a:prstGeom>
          <a:ln w="57240">
            <a:solidFill>
              <a:srgbClr val="a842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627" name="Group 21"/>
          <p:cNvGrpSpPr/>
          <p:nvPr/>
        </p:nvGrpSpPr>
        <p:grpSpPr>
          <a:xfrm>
            <a:off x="4067280" y="1590840"/>
            <a:ext cx="5190840" cy="2925720"/>
            <a:chOff x="4067280" y="1590840"/>
            <a:chExt cx="5190840" cy="2925720"/>
          </a:xfrm>
        </p:grpSpPr>
        <p:sp>
          <p:nvSpPr>
            <p:cNvPr id="628" name="Rectangle 14"/>
            <p:cNvSpPr/>
            <p:nvPr/>
          </p:nvSpPr>
          <p:spPr>
            <a:xfrm>
              <a:off x="4067280" y="1628640"/>
              <a:ext cx="4357440" cy="285840"/>
            </a:xfrm>
            <a:prstGeom prst="rect">
              <a:avLst/>
            </a:prstGeom>
            <a:solidFill>
              <a:srgbClr val="a8422a"/>
            </a:solidFill>
            <a:ln w="11520">
              <a:solidFill>
                <a:srgbClr val="a8422a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29" name="Rectangle 22"/>
            <p:cNvSpPr/>
            <p:nvPr/>
          </p:nvSpPr>
          <p:spPr>
            <a:xfrm>
              <a:off x="4067280" y="2187720"/>
              <a:ext cx="2928960" cy="285480"/>
            </a:xfrm>
            <a:prstGeom prst="rect">
              <a:avLst/>
            </a:prstGeom>
            <a:solidFill>
              <a:srgbClr val="a8422a"/>
            </a:solidFill>
            <a:ln w="11520">
              <a:solidFill>
                <a:srgbClr val="a8422a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30" name="Rectangle 23"/>
            <p:cNvSpPr/>
            <p:nvPr/>
          </p:nvSpPr>
          <p:spPr>
            <a:xfrm>
              <a:off x="4067280" y="2687760"/>
              <a:ext cx="2428920" cy="285480"/>
            </a:xfrm>
            <a:prstGeom prst="rect">
              <a:avLst/>
            </a:prstGeom>
            <a:solidFill>
              <a:srgbClr val="a8422a"/>
            </a:solidFill>
            <a:ln w="11520">
              <a:solidFill>
                <a:srgbClr val="a8422a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31" name="Rectangle 24"/>
            <p:cNvSpPr/>
            <p:nvPr/>
          </p:nvSpPr>
          <p:spPr>
            <a:xfrm>
              <a:off x="4067280" y="3187800"/>
              <a:ext cx="2143080" cy="285480"/>
            </a:xfrm>
            <a:prstGeom prst="rect">
              <a:avLst/>
            </a:prstGeom>
            <a:solidFill>
              <a:srgbClr val="a8422a"/>
            </a:solidFill>
            <a:ln w="11520">
              <a:solidFill>
                <a:srgbClr val="a8422a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32" name="Rectangle 25"/>
            <p:cNvSpPr/>
            <p:nvPr/>
          </p:nvSpPr>
          <p:spPr>
            <a:xfrm>
              <a:off x="4067280" y="3687840"/>
              <a:ext cx="2143080" cy="285840"/>
            </a:xfrm>
            <a:prstGeom prst="rect">
              <a:avLst/>
            </a:prstGeom>
            <a:solidFill>
              <a:srgbClr val="a8422a"/>
            </a:solidFill>
            <a:ln w="11520">
              <a:solidFill>
                <a:srgbClr val="a8422a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33" name="Rectangle 27"/>
            <p:cNvSpPr/>
            <p:nvPr/>
          </p:nvSpPr>
          <p:spPr>
            <a:xfrm>
              <a:off x="4067280" y="4210200"/>
              <a:ext cx="1357200" cy="285480"/>
            </a:xfrm>
            <a:prstGeom prst="rect">
              <a:avLst/>
            </a:prstGeom>
            <a:solidFill>
              <a:srgbClr val="a8422a"/>
            </a:solidFill>
            <a:ln w="11520">
              <a:solidFill>
                <a:srgbClr val="a8422a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34" name="TextBox 17"/>
            <p:cNvSpPr/>
            <p:nvPr/>
          </p:nvSpPr>
          <p:spPr>
            <a:xfrm>
              <a:off x="8400960" y="1590840"/>
              <a:ext cx="8571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35" name="TextBox 18"/>
            <p:cNvSpPr/>
            <p:nvPr/>
          </p:nvSpPr>
          <p:spPr>
            <a:xfrm>
              <a:off x="7081920" y="2116080"/>
              <a:ext cx="8571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36" name="TextBox 19"/>
            <p:cNvSpPr/>
            <p:nvPr/>
          </p:nvSpPr>
          <p:spPr>
            <a:xfrm>
              <a:off x="6567480" y="2616120"/>
              <a:ext cx="8571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37" name="TextBox 20"/>
            <p:cNvSpPr/>
            <p:nvPr/>
          </p:nvSpPr>
          <p:spPr>
            <a:xfrm>
              <a:off x="6281640" y="3116160"/>
              <a:ext cx="8571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38" name="TextBox 21"/>
            <p:cNvSpPr/>
            <p:nvPr/>
          </p:nvSpPr>
          <p:spPr>
            <a:xfrm>
              <a:off x="6281640" y="3687840"/>
              <a:ext cx="8571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39" name="TextBox 26"/>
            <p:cNvSpPr/>
            <p:nvPr/>
          </p:nvSpPr>
          <p:spPr>
            <a:xfrm>
              <a:off x="5567400" y="4149720"/>
              <a:ext cx="8571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640" name="TextBox 28"/>
          <p:cNvSpPr/>
          <p:nvPr/>
        </p:nvSpPr>
        <p:spPr>
          <a:xfrm>
            <a:off x="179280" y="6361200"/>
            <a:ext cx="775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urce: Talent Management Effectiveness Survey; Corporate Leadership Council, 2008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TextBox 32"/>
          <p:cNvSpPr/>
          <p:nvPr/>
        </p:nvSpPr>
        <p:spPr>
          <a:xfrm>
            <a:off x="285840" y="1500120"/>
            <a:ext cx="4500360" cy="46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Identifying and managing high potential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Building a succession management plan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Building a workforce plan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Moving employees internally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Developing a performance strategy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Developing diversity plan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13840" y="250920"/>
            <a:ext cx="89298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db846f"/>
                </a:solidFill>
                <a:latin typeface="Georgia"/>
              </a:rPr>
              <a:t>Day-to-Day Talent Activities</a:t>
            </a:r>
            <a:r>
              <a:rPr b="0" lang="en-GB" sz="2900" spc="-1" strike="noStrike">
                <a:solidFill>
                  <a:srgbClr val="db846f"/>
                </a:solidFill>
                <a:latin typeface="Georgia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643" name="TextBox 49"/>
          <p:cNvSpPr/>
          <p:nvPr/>
        </p:nvSpPr>
        <p:spPr>
          <a:xfrm>
            <a:off x="2441520" y="981000"/>
            <a:ext cx="5000760" cy="76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Goal setting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Communicating organisational policie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Coaching new employee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Providing the right training opportunitie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Helping employees solve problem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Bringing new employees in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Holding performance review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Mentoring employee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Ensuring employees have the resource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Communicating compensation and benefit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Providing informal feedback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Straight Connector 51"/>
          <p:cNvSpPr/>
          <p:nvPr/>
        </p:nvSpPr>
        <p:spPr>
          <a:xfrm>
            <a:off x="3786120" y="5572080"/>
            <a:ext cx="5072040" cy="1800"/>
          </a:xfrm>
          <a:prstGeom prst="line">
            <a:avLst/>
          </a:prstGeom>
          <a:ln w="57240">
            <a:solidFill>
              <a:srgbClr val="a842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TextBox 63"/>
          <p:cNvSpPr/>
          <p:nvPr/>
        </p:nvSpPr>
        <p:spPr>
          <a:xfrm>
            <a:off x="285840" y="6429240"/>
            <a:ext cx="664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urce: Talent Management Effectiveness Survey; Corporate Leadership Council, 2008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3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db846f"/>
                </a:solidFill>
                <a:latin typeface="Georgia"/>
              </a:rPr>
              <a:t>Self Assessment</a:t>
            </a:r>
            <a:endParaRPr b="0" lang="en-US" sz="33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301320" y="1855800"/>
            <a:ext cx="850428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a8422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Calibri"/>
              </a:rPr>
              <a:t>Complete self assessment handou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f0b8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  <a:ea typeface="Calibri"/>
              </a:rPr>
              <a:t>Think about an average week or month – how much time do you spend in strategic talent activities and day to day talent activities – what percentage of your time?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f0b8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f0b8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  <a:ea typeface="Calibri"/>
              </a:rPr>
              <a:t>Identify 2-3 specific activities you’d like to spend more time on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  <a:ea typeface="Calibri"/>
              </a:rPr>
              <a:t> 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3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846f"/>
                </a:solidFill>
                <a:latin typeface="Georgia"/>
              </a:rPr>
              <a:t>Talent Assessment- Where’s Your Focus</a:t>
            </a:r>
            <a:endParaRPr b="0" lang="en-US" sz="3000" spc="-1" strike="noStrike">
              <a:solidFill>
                <a:srgbClr val="547779"/>
              </a:solidFill>
              <a:latin typeface="Georgia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spcBef>
                <a:spcPts val="550"/>
              </a:spcBef>
              <a:buClr>
                <a:srgbClr val="f0b8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nk about your organization – identify a few people that you see as the next generation of leaders and that you would like to develop … 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evelop strategies and plans to develop them … 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5T18:36:04Z</dcterms:created>
  <dc:creator>Marcia Feola</dc:creator>
  <dc:description/>
  <dc:language>en-US</dc:language>
  <cp:lastModifiedBy>Transformation Strategies</cp:lastModifiedBy>
  <cp:lastPrinted>2012-02-01T18:39:22Z</cp:lastPrinted>
  <dcterms:modified xsi:type="dcterms:W3CDTF">2013-02-05T18:51:40Z</dcterms:modified>
  <cp:revision>63</cp:revision>
  <dc:subject/>
  <dc:title>Leaders Developing Leaders</dc:title>
</cp:coreProperties>
</file>