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F2C2-5B84-439C-A73F-03F902545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0430-0C76-4792-BAD6-FE43FEE3DB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A44AB-751E-49FE-AE69-7FCC43F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E442D-A3C0-4CFC-AF1F-A861C85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327D4-3B6C-4B22-A29B-4A93494A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17443-C097-4C93-BD1E-877B23B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F56D6-F4D1-4477-8D5D-D088108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A8545-BD9D-46C4-9765-D2A4A50B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A3234-EB3D-406A-8C60-987071B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E2EEC-6A3D-4165-BA60-FFD37539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0D32F-F46F-4AAF-A278-D698EF37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29D55-2F68-48EC-8BEF-220C04B2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586C-E367-4C95-9A21-D7E0B0A701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C43AF-114E-481B-834A-1DA88C8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A1273-F614-4ED4-AE4A-A0DD68B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2709D-CD15-4E23-B52F-3201826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84C6C-9D31-43AA-940C-D551657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8A4FF-C6F4-4FAF-97E4-E31021E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E8249-5387-4B96-856F-48B11211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42A49-BE78-4ADD-B19F-1DCC96B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5C992-40AA-487D-9F72-E988806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E9D94-66CC-4F27-8E7B-253E191D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CAB16-0234-4CA5-BA1C-2FFF6786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C013-AAA9-4EDB-9DA4-090AE096560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DABDC-B06F-47E5-9D76-1153E9A3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2CBECA-ACDD-4508-BCB5-29D5D900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D2E468-53DE-49B4-8184-207D018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10C7B4-DB49-424C-A84B-62393BB9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073A65-B567-4CBA-9671-F891851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3F254-5A3D-4355-9DD6-C3310EE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A23732-56AC-4B05-88E8-068D3D0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C0710B-DAB9-40D0-84BA-A420FFB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518217-07CE-4CD7-BEDF-9CCEE5F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F43E9F-3EC8-4249-9C03-0D67F286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AE1E-E788-4584-80C2-9C26986A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8A1823-A385-4A12-82F5-87B314C7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A0449-8DEC-4932-B896-3246CB8A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EEDF6-67DB-4367-9282-533FC7F3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8A5B4-FC19-4332-964A-213D9B8A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0954F-2B4C-4233-8C07-86209E3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4A3FE-F0D3-4841-8938-25A04D9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60F85-300D-41B5-9714-594B784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7CA19-58E2-4C41-A513-687E9913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031AB-E991-4889-99A3-9EDCA8D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3422E-6F3C-41D5-A914-5D2E7E0E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3D1E-68D6-4DAA-A4A5-0EA6B33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BF5D5-3D12-4DD0-B0FC-EDA3106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B79CD-E45D-4E0D-8A38-3B99ACE0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BE41C-49C9-4AFD-ACD6-D54C946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F6DF4-01D1-47EC-99C4-1CE5B7AF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EC89D-8391-4A7A-8745-F4766567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BB7A-136F-483E-9161-7E3BA035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55313-1F3F-49CA-BBC2-705D14C9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17DFE-C599-4527-AAE5-31E63499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0702-ABA8-4F39-945F-7AC1F06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788FB-419F-423B-99C3-A3CC5F9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BCB5-9612-4C43-AC26-D63E002B3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4B93E-9ED5-45A5-97D5-A17AE5D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ACC2-2D13-4C69-9F5C-07CD595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F655-1CE8-4653-B888-16F841F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ED11-6FAE-4D7D-9875-10D15803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23F85-188D-4DD8-96AE-5D0D16C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DB40E-3F60-4201-ADEC-FC25ECD3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5B587-8F33-47C3-824B-20A64472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9F74C-B439-4453-AB37-DB6BC15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3CEFA-5B8D-438E-8235-39620AF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7A031-2E71-429E-8693-123612D6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F025-7FB0-4000-A89E-CB6D8A7CD8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81A78-E3D6-4DE6-9FEC-E73BD0F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7EDFC-13F5-412F-823D-1B22C9F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EC933-712F-48BB-8BBE-75DB9D4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5E046-5AB1-4AC7-BC8F-59E2DE1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A2376-26BF-468B-9A0A-88B567E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511FC-561D-44C1-8D64-F687E406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BA726-37F1-4323-8CDF-91DD05FE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25898-EB42-4EE6-9E40-C5890037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A945D-1EAC-45D2-BEC4-418BABF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A51AD-39A9-4254-9652-C0EC280D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6BD7-915D-493C-8974-57858F7D21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48969-DAD2-4F78-AA08-3B64E1DD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6FCAF-1670-4EB9-B48E-61E4FA6A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5D009-3FA2-47AF-AA27-F6BC776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7FEB9-4233-40C8-8EDE-5715D39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2730C-8F24-4317-962E-B9A1FA4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E7837-9F1C-4A75-83C5-EF9219F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C9BB8-5E80-4F7A-9031-06CE198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FE554-DFDD-4F35-8673-0E7403D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3CD7E-02B6-49C3-A2EC-42C49450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CE39C-0FEC-4A4A-8386-7A389FEE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0E72-3DE6-4943-B7A5-45EE528C4F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CFAF42-80F8-4542-84A5-0488296B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ED3C9-0BFC-4123-95A7-F063FC8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F8802-9D9C-4E41-B882-17BB2244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A6856F-6675-4720-93C0-45CED30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8C4E6-2A1E-4125-B09E-5BBFA97A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F0421-E594-4E30-AB79-0601F34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B7154-F13C-4FC1-99FB-F4275E80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279F5-E7D7-4916-AC8F-4422237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17AB5-3969-401D-B7CC-3A811E7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9DC18-9DBA-4A93-877A-23F1566F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152A-F967-40EA-8C78-5A43AEF47B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4D185-CDCB-4637-95BA-1C3CFEF9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AF03A0-7C2C-4FEE-9779-EE846C7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CEE02-7845-40AE-9D89-2F364DF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738EF-9D80-47D6-BE5F-0B3A535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5FDE0-871C-4704-88E4-8466DD68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771BA-9B65-4AC7-B165-4FC2242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8C0B01-6BAB-49BB-8ADF-2EBB6E9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159929-9D21-4DEF-8FD4-8128838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4B8EF-203B-44DB-80AE-0EA65D2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AD4C2-1AF8-4091-9A70-7A7942C7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9817-2A7F-47FF-A1BC-F4E22877EB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CE5BB-A184-42DC-95DC-7FB683F5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F96896-5F2A-4F11-97D2-7A82ABF9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D3DE6-58D2-46F7-87BC-3499F246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8B220-12C1-4E08-A19D-6C8693C2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C7F31-0F1E-4A30-BED3-9017A838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C07255-8348-403A-BC12-5440AF10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D84AA-8CE6-4F8C-BED2-5D0684F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76B253-582B-4FEB-89F4-DE5A8A08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D6BBE-FD56-486D-A30C-D1F9F4E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1049A-DC06-44E3-9F64-AAD3A5D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C943-7D60-484A-A3C3-BB45B24D78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75AA7B-F8E5-4212-9CA0-D4642E4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787E0D-9D7C-414B-A27D-FAB75F4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4F153F-A11E-486B-86C3-B4011223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5A5EBA-5A25-4D26-8062-8A50B3F9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7A90AD-D8D9-402C-BA3D-BF806535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EFB12-7F53-4136-A73B-2026F6AB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A45F9B-775A-4CFF-8518-7FDCC35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C0E681-6241-4F63-86B5-5C02F54B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375EAF-E906-4E15-9C4B-BCD173A6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4D4BD4-5AB3-49CD-A3DC-4D3A5EC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1E96-688A-489D-8FB1-5FEC0A197D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025096-A8FD-406E-B743-6BCCFA7A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C74EA9-792B-479C-A067-6D608B9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269B71-2F94-4EDE-9232-C184DA3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1D317-1ED3-45AC-A655-78FFBAB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7BCC1-48D3-40FB-B8A3-B71D340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6A1AD-94E0-4666-A657-3F21946E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AF691-E7B6-4942-ABE6-4AF287BE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43E2D-BCE6-4320-88A0-C7653249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AA309-0E42-47D8-950D-C10CC34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623A7-64F7-42EC-85C8-CE1945A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2AD35-E2DB-4114-AEC3-60CA76F9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A54EC-BCB0-45DD-A90E-4144A5B394C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928A-C958-4949-89F4-61A5FC2C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6A2CF-3977-4C46-9C3A-6866021233D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C6EC7-A290-4E92-8E79-66EDBE083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74C3D-7D17-46C6-8CB5-3F585ABC041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BE466-19AE-4B51-A138-4B8DDF45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AC4FE-F66D-41E4-9E32-315BAE816D7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EAEE2-BEB5-4462-A4C4-51EBAAB11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8AE79-02FA-42B8-9B07-B3855C63FE6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D0234-B9FB-40BA-9EAA-84A8E1A4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86071-6839-453A-BCA3-8A7BD4C14CA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A3697-BA34-432C-B7CE-1091A6C78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F2EA4-9E49-439E-BF77-CF6BC8C70B3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174D5-65EC-45A7-A67C-B0BD4976A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2DEA1-FAC6-41F1-9CED-0FA34533425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7A4E2-279B-4405-B267-69619681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184DA-D7AF-4827-9FB7-9B29FB5FDC9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BD88E-8922-4965-BEE7-C2B55B94F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0370E-965B-4EC4-9915-A51514DCF62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103CF-E6AB-45A3-BE25-87C57E31A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51985-66F1-4340-8093-A6597B4FF0D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B1074-7F0F-49AB-AEEF-CD93736F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milsuite.mil/book/servlet/JiveServlet/showImage/38-19444-100758/SMA_Logo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milsuite.mil/book/servlet/JiveServlet/showImage/38-19444-100758/SMA_Logo.pn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 – Term Community Based Projec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ichment of the APG Senior Management Association (E-SMA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SMA_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11440" y="2965320"/>
            <a:ext cx="21211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3683160" y="2189160"/>
            <a:ext cx="4805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-SMA CBP Tea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y Dean, C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 DeVita, A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Emanuel, EC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ri Hardin, 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m Rawlett, 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SMA_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4840" y="1635120"/>
            <a:ext cx="3257640" cy="2616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SMA_Logo.png"/>
          <p:cNvPicPr/>
          <p:nvPr/>
        </p:nvPicPr>
        <p:blipFill>
          <a:blip r:embed="rId3"/>
          <a:stretch/>
        </p:blipFill>
        <p:spPr>
          <a:xfrm>
            <a:off x="8061480" y="6059520"/>
            <a:ext cx="625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71144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Strategic Plan to formally document SMA and it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intent is to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gment the success of APG Cohort 3’s S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rafting a Strategic Plan that affords the Steering Committee with an organizational objective bas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‘lines-of-efforts’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nnual campaigns t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the dynamic needs of APG’s GS 14/15 me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concerns of the sponsoring Senior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personal and professional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within available financial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SMA offerings to attract a wider audi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85920" y="5284800"/>
            <a:ext cx="837216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a precedent for joining and supplementing prior Cohort C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SMA_Logo.png"/>
          <p:cNvPicPr/>
          <p:nvPr/>
        </p:nvPicPr>
        <p:blipFill>
          <a:blip r:embed="rId1"/>
          <a:stretch/>
        </p:blipFill>
        <p:spPr>
          <a:xfrm>
            <a:off x="8061480" y="6059520"/>
            <a:ext cx="625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harter approved, 30 Aug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a SMA sponsored CBRN Networking event announced via SMA portal, to be conducted 16 Oct @ Edgewood’s CD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ed on-going liaison with SMA Steering Committee, via weekly tel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with the set-up/conduct of (and attended) the August SMA Lunche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ing organizational Strategic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, formats, organization processes and stru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MA_Logo.png"/>
          <p:cNvPicPr/>
          <p:nvPr/>
        </p:nvPicPr>
        <p:blipFill>
          <a:blip r:embed="rId1"/>
          <a:stretch/>
        </p:blipFill>
        <p:spPr>
          <a:xfrm>
            <a:off x="8061480" y="6059520"/>
            <a:ext cx="625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trategic Plan and socialize with current SMA Steering Committee members, challenges to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 sustainability, marketing, governance, organizatio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CBRN Networking After Action Review and document lessons learned to Steering Committee &amp; SES 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host another “focused” SMA event /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on-going weekly liaison with Steering Committee, via tel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and attend future SMA Luncheons and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MA_Logo.png"/>
          <p:cNvPicPr/>
          <p:nvPr/>
        </p:nvPicPr>
        <p:blipFill>
          <a:blip r:embed="rId1"/>
          <a:stretch/>
        </p:blipFill>
        <p:spPr>
          <a:xfrm>
            <a:off x="8061480" y="6059520"/>
            <a:ext cx="625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7:36:35Z</dcterms:created>
  <dc:creator>Trish Mooney</dc:creator>
  <dc:description/>
  <dc:language>en-US</dc:language>
  <cp:lastModifiedBy>Trish Mooney</cp:lastModifiedBy>
  <cp:lastPrinted>2011-06-13T12:29:39Z</cp:lastPrinted>
  <dcterms:modified xsi:type="dcterms:W3CDTF">2012-09-20T17:38:07Z</dcterms:modified>
  <cp:revision>35</cp:revision>
  <dc:subject/>
  <dc:title>Leading with Impact</dc:title>
</cp:coreProperties>
</file>