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7F2-3DBE-4CF4-8D17-C4DA7778B0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240-BAAF-41E5-84BC-5ED40FC48D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F95-0046-4AE1-99D9-921915CF77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F94-827D-4E5B-8E68-212695C946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007-FD65-446D-A6C7-D66BBA316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D8E-3FB9-4B32-836E-C9E79511FE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D94-ECC9-498F-A196-BBC62C2F31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848-96CA-4AA1-B4CB-5692049536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148-CA0C-4150-A2CF-88CEF31975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E8E-401A-4645-953C-229FD4C1F2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8BD-5862-4E5F-922A-3B43AC88F9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281-C7DC-4027-85F9-552B3E552E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B62FE-3703-4718-A72F-F1F0F78059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4306-D4AE-44EF-8ED8-6E17EF3274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85C9E-F2EE-4E0F-B1BB-50F624697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BF985-AA35-427D-8F90-47CA07EE13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C0E65-96F9-43CB-9BAE-FC5884DC11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885E6-3C66-40D5-91DE-96520EF09F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DF128-57DF-4DB0-BB1A-DE8D50886D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5378C-1C69-42C6-9A39-6C398251F6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1DF58-3C1E-4202-8397-0F03759EEA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FAD33-35C0-4173-B3E9-1A6BAF4B8D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25FC0-DBD6-4ED4-BE57-A6C20C280F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78898-9328-4DFA-9ADB-47EE181337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971800" y="65527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mmunity-Based Project:  Mission Speed D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1FF0-870E-42BB-A9D7-BEEEC421B5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324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0" y="0"/>
            <a:ext cx="9144000" cy="68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0" y="3240"/>
            <a:ext cx="9144000" cy="68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1BD-77A7-4EF9-8B28-F5BAB05502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2971800" y="65527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ty-Based Project:  Mission Speed D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6934320" y="65527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E60-5DF9-4CBC-9DAA-88A99D9AD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545-178F-4B4F-9426-08F82502928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971800" y="65527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ty-Based Project:  Mission Speed D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5"/>
          </p:nvPr>
        </p:nvSpPr>
        <p:spPr>
          <a:xfrm>
            <a:off x="6934320" y="65527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D1C8-D633-4D6E-A5C1-104DAC9EF4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46D7-017F-4C86-A779-2B10C4C9DA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971800" y="65530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mmunity-Based Project:  Mission Speed Da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667-8DBF-4932-B725-529A6B53B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166-9D65-4CE5-AB0F-D17398F3EB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971800" y="65530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mmunity-Based Project:  Mission Speed Da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2C7E-0874-4CA2-8BAB-447AE6EA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7827-7E5B-47D5-A259-216CEAD176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971800" y="65530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mmunity-Based Project:  Mission Speed Da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930-949A-40F9-95DD-1DAA2DFD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A9A4-7C7D-426F-B7EE-90C62B41C1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971800" y="65530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mmunity-Based Project:  Mission Speed Da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93432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14E-8DC0-452B-AF42-A46D918BD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G Cohort 4 - Community Based Projec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Mission Speed-Da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33760" y="59436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("/>
              </a:rPr>
              <a:t>26 SEP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MissionSpeedDating_TeamAPG.JPG"/>
          <p:cNvPicPr/>
          <p:nvPr/>
        </p:nvPicPr>
        <p:blipFill>
          <a:blip r:embed="rId1"/>
          <a:stretch/>
        </p:blipFill>
        <p:spPr>
          <a:xfrm>
            <a:off x="5791320" y="685800"/>
            <a:ext cx="2313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883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ED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alized matchmaking process: meet a large number of new people in a very sho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228600" y="22860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SION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ssion Speed Da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tool for the APG community for focused meetings with targeted groups in a compact time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9"/>
          <p:cNvSpPr/>
          <p:nvPr/>
        </p:nvSpPr>
        <p:spPr>
          <a:xfrm>
            <a:off x="152280" y="3886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SION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AM A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-organizational and intra-organization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communication through personal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52280" y="5410080"/>
            <a:ext cx="8686800" cy="580680"/>
          </a:xfrm>
          <a:prstGeom prst="rect">
            <a:avLst/>
          </a:prstGeom>
          <a:solidFill>
            <a:srgbClr val="ffd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AM APG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verse Organizations / Common Goals / Incomplete Knowledge Within Or Between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Dating:  Definition &amp; Var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un as a formalized matchmaking process encourage people to meet a large number of new people in a very sho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typically last 90 minutes to two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used in commercial and educational sectors:  “Speed Mentoring” &amp; “Speed Network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can be one to one, one to many, or many t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prepara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Elevator speech” / Business cards / Brag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26"/>
          <p:cNvGrpSpPr/>
          <p:nvPr/>
        </p:nvGrpSpPr>
        <p:grpSpPr>
          <a:xfrm>
            <a:off x="1828440" y="3033720"/>
            <a:ext cx="833760" cy="369720"/>
            <a:chOff x="1828440" y="3033720"/>
            <a:chExt cx="833760" cy="369720"/>
          </a:xfrm>
        </p:grpSpPr>
        <p:sp>
          <p:nvSpPr>
            <p:cNvPr id="360" name="Rectangle 7"/>
            <p:cNvSpPr/>
            <p:nvPr/>
          </p:nvSpPr>
          <p:spPr>
            <a:xfrm rot="16200000">
              <a:off x="2059560" y="3035880"/>
              <a:ext cx="303120" cy="36504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6"/>
            <p:cNvSpPr/>
            <p:nvPr/>
          </p:nvSpPr>
          <p:spPr>
            <a:xfrm rot="16200000">
              <a:off x="2434320" y="3103920"/>
              <a:ext cx="226800" cy="2286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Isosceles Triangle 20"/>
            <p:cNvSpPr/>
            <p:nvPr/>
          </p:nvSpPr>
          <p:spPr>
            <a:xfrm rot="5400000">
              <a:off x="1738800" y="3123360"/>
              <a:ext cx="369720" cy="190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0"/>
          <p:cNvGrpSpPr/>
          <p:nvPr/>
        </p:nvGrpSpPr>
        <p:grpSpPr>
          <a:xfrm>
            <a:off x="3700440" y="2209320"/>
            <a:ext cx="371520" cy="822600"/>
            <a:chOff x="3700440" y="2209320"/>
            <a:chExt cx="371520" cy="822600"/>
          </a:xfrm>
        </p:grpSpPr>
        <p:sp>
          <p:nvSpPr>
            <p:cNvPr id="364" name="Rectangle 10"/>
            <p:cNvSpPr/>
            <p:nvPr/>
          </p:nvSpPr>
          <p:spPr>
            <a:xfrm rot="10800000">
              <a:off x="3733920" y="2408040"/>
              <a:ext cx="304920" cy="36684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 rot="10800000">
              <a:off x="3772080" y="2803320"/>
              <a:ext cx="228600" cy="2286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Isosceles Triangle 21"/>
            <p:cNvSpPr/>
            <p:nvPr/>
          </p:nvSpPr>
          <p:spPr>
            <a:xfrm rot="10800000">
              <a:off x="3700440" y="2209320"/>
              <a:ext cx="371520" cy="190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6"/>
          <p:cNvGrpSpPr/>
          <p:nvPr/>
        </p:nvGrpSpPr>
        <p:grpSpPr>
          <a:xfrm>
            <a:off x="4248000" y="3033360"/>
            <a:ext cx="822600" cy="369720"/>
            <a:chOff x="4248000" y="3033360"/>
            <a:chExt cx="822600" cy="369720"/>
          </a:xfrm>
        </p:grpSpPr>
        <p:sp>
          <p:nvSpPr>
            <p:cNvPr id="368" name="Rectangle 11"/>
            <p:cNvSpPr/>
            <p:nvPr/>
          </p:nvSpPr>
          <p:spPr>
            <a:xfrm rot="16200000">
              <a:off x="4530600" y="3045960"/>
              <a:ext cx="303120" cy="36684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4"/>
            <p:cNvSpPr/>
            <p:nvPr/>
          </p:nvSpPr>
          <p:spPr>
            <a:xfrm rot="16200000">
              <a:off x="4248720" y="3103920"/>
              <a:ext cx="226800" cy="2286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Isosceles Triangle 22"/>
            <p:cNvSpPr/>
            <p:nvPr/>
          </p:nvSpPr>
          <p:spPr>
            <a:xfrm rot="16200000">
              <a:off x="4790520" y="3123000"/>
              <a:ext cx="369720" cy="190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9"/>
          <p:cNvGrpSpPr/>
          <p:nvPr/>
        </p:nvGrpSpPr>
        <p:grpSpPr>
          <a:xfrm>
            <a:off x="2814480" y="2223720"/>
            <a:ext cx="371520" cy="824040"/>
            <a:chOff x="2814480" y="2223720"/>
            <a:chExt cx="371520" cy="824040"/>
          </a:xfrm>
        </p:grpSpPr>
        <p:sp>
          <p:nvSpPr>
            <p:cNvPr id="372" name="Rectangle 5"/>
            <p:cNvSpPr/>
            <p:nvPr/>
          </p:nvSpPr>
          <p:spPr>
            <a:xfrm rot="10800000">
              <a:off x="2847960" y="2422080"/>
              <a:ext cx="304920" cy="36684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 rot="10800000">
              <a:off x="2886120" y="2819160"/>
              <a:ext cx="228600" cy="2286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Isosceles Triangle 23"/>
            <p:cNvSpPr/>
            <p:nvPr/>
          </p:nvSpPr>
          <p:spPr>
            <a:xfrm rot="10800000">
              <a:off x="2814480" y="2223720"/>
              <a:ext cx="371520" cy="190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5840"/>
          <p:cNvGrpSpPr/>
          <p:nvPr/>
        </p:nvGrpSpPr>
        <p:grpSpPr>
          <a:xfrm>
            <a:off x="3700440" y="3371760"/>
            <a:ext cx="371520" cy="835560"/>
            <a:chOff x="3700440" y="3371760"/>
            <a:chExt cx="371520" cy="835560"/>
          </a:xfrm>
        </p:grpSpPr>
        <p:sp>
          <p:nvSpPr>
            <p:cNvPr id="376" name="Rectangle 9"/>
            <p:cNvSpPr/>
            <p:nvPr/>
          </p:nvSpPr>
          <p:spPr>
            <a:xfrm rot="10800000">
              <a:off x="3733920" y="3633840"/>
              <a:ext cx="304920" cy="36684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7"/>
            <p:cNvSpPr/>
            <p:nvPr/>
          </p:nvSpPr>
          <p:spPr>
            <a:xfrm rot="10800000">
              <a:off x="3772080" y="3371760"/>
              <a:ext cx="228600" cy="2286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Isosceles Triangle 24"/>
            <p:cNvSpPr/>
            <p:nvPr/>
          </p:nvSpPr>
          <p:spPr>
            <a:xfrm>
              <a:off x="3700440" y="4016880"/>
              <a:ext cx="371520" cy="190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5839"/>
          <p:cNvGrpSpPr/>
          <p:nvPr/>
        </p:nvGrpSpPr>
        <p:grpSpPr>
          <a:xfrm>
            <a:off x="2825640" y="3371760"/>
            <a:ext cx="371520" cy="835560"/>
            <a:chOff x="2825640" y="3371760"/>
            <a:chExt cx="371520" cy="835560"/>
          </a:xfrm>
        </p:grpSpPr>
        <p:sp>
          <p:nvSpPr>
            <p:cNvPr id="380" name="Rectangle 8"/>
            <p:cNvSpPr/>
            <p:nvPr/>
          </p:nvSpPr>
          <p:spPr>
            <a:xfrm rot="10800000">
              <a:off x="2870280" y="3633840"/>
              <a:ext cx="304920" cy="36684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 rot="10800000">
              <a:off x="2897280" y="3371760"/>
              <a:ext cx="228600" cy="2286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Isosceles Triangle 25"/>
            <p:cNvSpPr/>
            <p:nvPr/>
          </p:nvSpPr>
          <p:spPr>
            <a:xfrm>
              <a:off x="2825640" y="4016880"/>
              <a:ext cx="371520" cy="190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7"/>
          <p:cNvSpPr/>
          <p:nvPr/>
        </p:nvSpPr>
        <p:spPr>
          <a:xfrm>
            <a:off x="5181480" y="1828800"/>
            <a:ext cx="38862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-to-one meeting in series of 3 to 8 minutes "date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group        remains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        group ro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or keeps time and rings a bell to indicate time to 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or provides contact information after the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5842"/>
          <p:cNvSpPr/>
          <p:nvPr/>
        </p:nvSpPr>
        <p:spPr>
          <a:xfrm rot="17064600">
            <a:off x="2011320" y="2396880"/>
            <a:ext cx="787320" cy="593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5"/>
          <p:cNvSpPr/>
          <p:nvPr/>
        </p:nvSpPr>
        <p:spPr>
          <a:xfrm rot="6072000">
            <a:off x="4213080" y="3400200"/>
            <a:ext cx="787320" cy="594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6"/>
          <p:cNvSpPr/>
          <p:nvPr/>
        </p:nvSpPr>
        <p:spPr>
          <a:xfrm rot="1176600">
            <a:off x="4016160" y="2316240"/>
            <a:ext cx="787320" cy="593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7"/>
          <p:cNvSpPr/>
          <p:nvPr/>
        </p:nvSpPr>
        <p:spPr>
          <a:xfrm rot="11268000">
            <a:off x="1991880" y="3536640"/>
            <a:ext cx="785880" cy="5954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35844"/>
          <p:cNvCxnSpPr/>
          <p:nvPr/>
        </p:nvCxnSpPr>
        <p:spPr>
          <a:xfrm>
            <a:off x="3197160" y="2238120"/>
            <a:ext cx="504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Straight Arrow Connector 40"/>
          <p:cNvCxnSpPr/>
          <p:nvPr/>
        </p:nvCxnSpPr>
        <p:spPr>
          <a:xfrm flipH="1">
            <a:off x="3114360" y="4185720"/>
            <a:ext cx="605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0" name="Oval 44"/>
          <p:cNvSpPr/>
          <p:nvPr/>
        </p:nvSpPr>
        <p:spPr>
          <a:xfrm>
            <a:off x="6477120" y="2362320"/>
            <a:ext cx="228600" cy="2286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Isosceles Triangle 45"/>
          <p:cNvSpPr/>
          <p:nvPr/>
        </p:nvSpPr>
        <p:spPr>
          <a:xfrm>
            <a:off x="6172200" y="2590920"/>
            <a:ext cx="371520" cy="190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Speed Dat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457200" y="1295280"/>
            <a:ext cx="8229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message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ing an audience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 Pilot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an experience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cept relev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ort/Synerg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attempts amongst the Cohort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 – Conflict lessons learned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s, Misconceptions, &amp;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with the SES 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ing the SES Leadership Core/next level of senior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s Learned -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ent, book reviews, other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ing a product-Toolkit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ing other pilots - Effort required for an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future topics – refocused on “Mission-Speed-Dat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/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2189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demonstrations to test and refine the Mission Speed Dating t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) Within an individual organiza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(DON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(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(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("/>
                <a:ea typeface="ＭＳ Ｐゴシック"/>
              </a:rPr>
              <a:t>- Mentor/Intern Matching for Command, Power &amp; Integration Directorate of </a:t>
            </a:r>
            <a:r>
              <a:rPr b="0" lang="en-US" sz="1800" spc="-1" strike="noStrike">
                <a:solidFill>
                  <a:srgbClr val="000000"/>
                </a:solidFill>
                <a:latin typeface="Calibri(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(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("/>
                <a:ea typeface="ＭＳ Ｐゴシック"/>
              </a:rPr>
              <a:t>CER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) Between multiple APG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otential teaming with other Cohor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lanning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) Formats to explore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ne-on-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ne-on-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ny-on-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) Seeking Clients &amp;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4521240" y="3809880"/>
            <a:ext cx="4089240" cy="2787840"/>
            <a:chOff x="4521240" y="3809880"/>
            <a:chExt cx="4089240" cy="2787840"/>
          </a:xfrm>
        </p:grpSpPr>
        <p:sp>
          <p:nvSpPr>
            <p:cNvPr id="397" name="Rectangle 14"/>
            <p:cNvSpPr/>
            <p:nvPr/>
          </p:nvSpPr>
          <p:spPr>
            <a:xfrm>
              <a:off x="4521240" y="3809880"/>
              <a:ext cx="4089240" cy="278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Picture 2" descr=""/>
            <p:cNvPicPr/>
            <p:nvPr/>
          </p:nvPicPr>
          <p:blipFill>
            <a:blip r:embed="rId1"/>
            <a:stretch/>
          </p:blipFill>
          <p:spPr>
            <a:xfrm>
              <a:off x="4615200" y="3911760"/>
              <a:ext cx="152748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" descr=""/>
            <p:cNvPicPr/>
            <p:nvPr/>
          </p:nvPicPr>
          <p:blipFill>
            <a:blip r:embed="rId2"/>
            <a:stretch/>
          </p:blipFill>
          <p:spPr>
            <a:xfrm>
              <a:off x="6797880" y="3911760"/>
              <a:ext cx="1647000" cy="5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" descr=""/>
            <p:cNvPicPr/>
            <p:nvPr/>
          </p:nvPicPr>
          <p:blipFill>
            <a:blip r:embed="rId3"/>
            <a:stretch/>
          </p:blipFill>
          <p:spPr>
            <a:xfrm>
              <a:off x="4817880" y="4530960"/>
              <a:ext cx="1311120" cy="5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5" descr=""/>
            <p:cNvPicPr/>
            <p:nvPr/>
          </p:nvPicPr>
          <p:blipFill>
            <a:blip r:embed="rId4"/>
            <a:stretch/>
          </p:blipFill>
          <p:spPr>
            <a:xfrm>
              <a:off x="4709520" y="5295600"/>
              <a:ext cx="121464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6" descr=""/>
            <p:cNvPicPr/>
            <p:nvPr/>
          </p:nvPicPr>
          <p:blipFill>
            <a:blip r:embed="rId5"/>
            <a:stretch/>
          </p:blipFill>
          <p:spPr>
            <a:xfrm>
              <a:off x="6833880" y="4585680"/>
              <a:ext cx="161136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7" descr=""/>
            <p:cNvPicPr/>
            <p:nvPr/>
          </p:nvPicPr>
          <p:blipFill>
            <a:blip r:embed="rId6"/>
            <a:stretch/>
          </p:blipFill>
          <p:spPr>
            <a:xfrm>
              <a:off x="6804720" y="5414400"/>
              <a:ext cx="116496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8" descr=""/>
            <p:cNvPicPr/>
            <p:nvPr/>
          </p:nvPicPr>
          <p:blipFill>
            <a:blip r:embed="rId7"/>
            <a:stretch/>
          </p:blipFill>
          <p:spPr>
            <a:xfrm>
              <a:off x="4893120" y="5997600"/>
              <a:ext cx="304524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finish.jpg"/>
          <p:cNvPicPr/>
          <p:nvPr/>
        </p:nvPicPr>
        <p:blipFill>
          <a:blip r:embed="rId1"/>
          <a:stretch/>
        </p:blipFill>
        <p:spPr>
          <a:xfrm>
            <a:off x="5486400" y="2819520"/>
            <a:ext cx="2938320" cy="394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start.jpg"/>
          <p:cNvPicPr/>
          <p:nvPr/>
        </p:nvPicPr>
        <p:blipFill>
          <a:blip r:embed="rId2"/>
          <a:stretch/>
        </p:blipFill>
        <p:spPr>
          <a:xfrm>
            <a:off x="609480" y="2666880"/>
            <a:ext cx="4103640" cy="4191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APG news.jpg"/>
          <p:cNvPicPr/>
          <p:nvPr/>
        </p:nvPicPr>
        <p:blipFill>
          <a:blip r:embed="rId3"/>
          <a:stretch/>
        </p:blipFill>
        <p:spPr>
          <a:xfrm>
            <a:off x="533520" y="990720"/>
            <a:ext cx="81532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isors &amp; 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96880" y="2514600"/>
          <a:ext cx="8229600" cy="2600280"/>
        </p:xfrm>
        <a:graphic>
          <a:graphicData uri="http://schemas.openxmlformats.org/drawingml/2006/table">
            <a:tbl>
              <a:tblPr/>
              <a:tblGrid>
                <a:gridCol w="1523880"/>
                <a:gridCol w="2438640"/>
                <a:gridCol w="1371600"/>
                <a:gridCol w="2895480"/>
              </a:tblGrid>
              <a:tr h="37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ON SPEED DATING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ed6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d6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d6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d6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d6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Bak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OM G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.861.7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othy.s.baker30.civ@mail.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k Bey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L (Lethality Divi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.278.6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.a.beyer10.civ@mail.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 Bogn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DEC (I2W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.861.0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.s.bogner.civ@mail.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 Kra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O-C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.436.0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orah.e.kramer.civ@mail.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h Pro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y Contracting Cmd-AP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.278.0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tia.m.proctor.civ@mail.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10" name="TextBox 3"/>
          <p:cNvSpPr/>
          <p:nvPr/>
        </p:nvSpPr>
        <p:spPr>
          <a:xfrm>
            <a:off x="2286720" y="1295280"/>
            <a:ext cx="51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 Sponsor: Mr. John Will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Team Advisor:  Regina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530440" y="54864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ort Advisor:  Claire Me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21:11Z</dcterms:created>
  <dc:creator>Beverly Obenchain</dc:creator>
  <dc:description/>
  <dc:language>en-US</dc:language>
  <cp:lastModifiedBy>Trish Mooney</cp:lastModifiedBy>
  <cp:lastPrinted>2009-02-23T23:02:36Z</cp:lastPrinted>
  <dcterms:modified xsi:type="dcterms:W3CDTF">2012-09-21T13:23:27Z</dcterms:modified>
  <cp:revision>193</cp:revision>
  <dc:subject/>
  <dc:title>PowerPoint Presentation</dc:title>
</cp:coreProperties>
</file>