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wmf" ContentType="image/x-wmf"/>
  <Override PartName="/ppt/media/image4.png" ContentType="image/png"/>
  <Override PartName="/ppt/media/image13.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C1074-A680-427E-AAE3-166712EBFD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05494-A696-4BF5-A545-3AED7BDCAA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A5D9AFA-D933-4D3E-A14C-FCBD7A2DFDF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12FEF5-A6A5-4124-A598-18438BD7808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A1A7B53-9D3B-4DDF-B819-790E13F9292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CE61D6-9A8F-42A6-90A9-5B302E807A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BB4107-D89A-43A0-A3EC-3C5EEC979C8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F89034D-8856-4C0C-BC62-C15A0DE89A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29FF37-7737-4AFE-A692-AFE6916A891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A2D030B-1168-47EF-A90F-99DE1D9A184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6CDDF22-18AB-4D20-A959-84297FF186A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5A49CD4-4368-428F-84E0-E783DF45594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86F13A-62F0-4C9A-A015-C77831F779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F613889-87AB-495C-9015-08D2C22785F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71F836D-6627-4B2A-993C-3DCFF98D963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6D61400-8FE8-40D1-8712-054008B3BD1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0D76DC9-DAD5-4C83-AB24-B85CA04DE0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C0B21FA-EC9F-4C83-9D24-C5EFC23B0B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B96980-1B74-4516-A210-881837048F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DDD88A-1D9D-4281-8DE4-EBE1010187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8C2616-5C8A-4115-BAB4-69342002AC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628734F-B5AC-4042-9136-6ED0E553961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85A69E-7A39-41EA-9CB0-D368B7E2BF5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1014B-E97E-46A6-A84D-356F88C535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9136BCF-5C7F-47DF-8902-32B2D4CCB1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E1221F8-1DF2-44D2-9EFB-1A16B9A4FB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C55E97F-81C5-460E-A672-C9FE370991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81A63BA-A440-4018-91C2-3CBA5D6797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76B537A-B450-47E7-A352-F62D324317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005690E-ED0E-4428-AD5D-317D134F37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16448A1-D79A-4F1F-8696-FE2D5A216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B60FE0-90FA-4ABA-B382-031262CA46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63D34FA-E0C6-4FB1-9198-4F571F6EEC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EE94B1F-60C8-4DBA-A6A0-CA8D67C34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322D13-E9C0-4DB7-A012-EAFE4D623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0A49CF6-91AC-4BB2-801E-F09B3DA3A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07E963B-DAD5-42C8-8A5F-0DB3F66BAA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7EE5F84-A67D-4461-A982-5E00B5DEE3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98DB141-BB0B-4A46-87CA-583F89005F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0077E52-E3C4-4FCF-B914-C1B1BCB28B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24720A1-209D-46C2-8DCF-CE982367B3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ED77822-3B2E-465D-BFC7-3636D5C7F1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9D0D155-D538-4AF5-8416-90A8D5777A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3759E0-368D-454F-89D1-3ACA3D109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3F8D6DC-EDAE-4F1E-90A9-E3AC876A91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A0553D-8767-485B-B388-7E3EC0665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33EACC-0801-4FDF-94C6-48E9FCB0D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C4849B-63E6-4787-B5F6-0E370DDCD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281F0BC-D154-41E8-81D6-8E7AF8AE34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EF8A385-961B-4698-8E82-07572FB1F7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59B843B-7EE1-44FE-8013-E27D7288A3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7502BC-659B-4C9A-8B3B-2DB0493F1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96EADD-D05D-41F8-8B55-839A9E946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921FD2-69A9-480D-A7C5-074BD7042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CF9064-2FFA-40DC-9256-B9039DAD5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DAC513-6A28-4AEF-A0AB-AC49443BD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70B0D-5129-4655-B396-3DC3FAC5D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CC355-4161-465C-A3C6-25E4806B7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93AB1-7614-47C3-A447-4DB6B3ABA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B7A9DE-BAAE-4EED-B07C-8152FE0C3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9B676F-4495-4FB6-A51F-7B0E9E65A3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1912B1-9E0C-4F8A-AAD9-29C90E8BB4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D7DAF23-77D2-400A-83CB-9CD05DDBCA7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04180E-FC8B-4547-A2B8-3D99576312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F0F3F0-299F-4333-AB4F-118FC7EE8E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A83DB7-75A4-419C-A0A8-769F705179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50A12AA-C036-498F-8156-67671B08D1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33E82-5EDE-426C-9AE3-3D39BB8DB1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8CA0BB-EAD6-4F86-89CC-FA4C970AE4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7319DA-3F87-41CA-AAE3-479672BC7A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8F4886-4131-416C-B03E-95F02130D9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C06235-2870-4C86-B9D6-BB637CF640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7A43E5-8182-44AC-8865-EE781C632A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6C69973-5ADE-4CD1-B236-1620C37786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CD06772-A4A2-4C45-B051-2BDD448AB18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1BEAAE6-ED9F-4EAF-AF52-10CE0CCED74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81B238-97D0-4FE9-A699-14EC08644D8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EEBED4-C3F9-445B-B0AB-91C14A0DF2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8068E-B353-426D-A024-FF9421806F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A1A80B-8066-45FB-9164-559CFC0FF34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F1E2C8-F1BF-450A-86DA-FA6AD9109C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507D34-DB92-4B48-8FC2-E14D172FCF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943B1D-8DDF-4C18-827A-13C83A8BC2C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A5B9E0-9C81-4360-9E2A-FA0122CEA1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6518EB-2143-45ED-8EDA-4794F66030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AF9467B-BDD8-4F4F-A095-EB8B04050D9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4304FF0-307E-4BFB-BBE5-91850AF919D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DCEC0C-56D7-4434-847D-28EB1E4FF76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BFE41A0-B762-4A6F-80C4-96241BE3EA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23EC51A-753A-4BE3-9892-3A4A8F1399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FA6CF86-4B57-4FCC-A756-593E80533C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56A108-6490-4766-8DFA-785A1635EE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E822D5F-F021-449A-AB0C-5842ED6A831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C5F2242-46A6-4FAB-9F72-54BFABA9E6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05F0D7-5D93-491C-B35E-3370F8822C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C2A485-2C1A-405E-828F-C5184B16E6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25FAC1-1B18-4F31-9158-00FF27DEF9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573CC4-4F88-48DF-9EA8-8E0104BE1FA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D9893E-1879-4811-A8E5-848DD3D0CB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3EFDA7F-7305-462A-81DC-C48C2CE34D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5CC270-67A3-44CC-A52F-C82F6B874E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5F06683-E895-4274-94DD-BAD029C691C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38F7CD1-3031-40D7-A93B-B7E8FABDB7A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894678-CC2C-4EE1-83B5-190A0073A02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60CB19A-F583-4933-9C7F-32C4630B953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BACB818-833D-4940-A54A-D7E98A5E216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0385037-53DE-4026-9B7B-C148160B0FA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C5DCCB-1DBF-4950-9936-0B41AF4FC7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4BB53A5-E317-4197-946C-6653E2C608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FE92B8D-9766-4A04-94F2-5ECE331E7F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441548-5E82-40AB-B2ED-BB6F5CA5A5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45D6B-B812-4A66-BE3D-2D0298FAA6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143F682-07EE-4C4B-B46C-15CA213EEC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17829B3-1843-430B-8E71-DFC1A0F29DF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E52C31C-1302-4DE1-BF1D-CBEDB56A5B9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91329A5-A9F3-4970-96D2-027D46B8E11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F538AFF-FBCA-47C5-9A54-88E3326708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96AFF2-E12C-4375-AB42-1BA46F3906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24EF40-EB3E-4063-8529-2C2EDFF656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A1EF232-807C-42B5-B87B-5E70DD5BE2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2823D2-1E76-4E27-99D2-3D4991C956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71E3DD-2054-4416-A408-2F19FD0EF4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DDEFB-3C45-4594-A00E-B7610A160C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A190AA-AF8D-44B0-9655-4F212BD835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AE9A30-EBCE-4D0E-8FA8-E49D778D71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EC728B-8E7C-438F-9373-293FAC5F13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39ADE0-2D1D-4A5F-B1DF-D62C9BFC7F1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87A4245-DAF7-48BC-93C2-9D0E17829B3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A4A6B05-66C4-4ED0-B7DC-7B5AD187B5D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262E973-88F3-474D-B1B1-74C2529D3C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154B53-92BA-4254-B881-03CF474908F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253EC84-02C9-4963-8595-C60E9F33298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00F98A-6D9A-4432-BD68-7145A4B6F90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F7789-8D3B-4210-B5CE-8AE91C7493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7C2EF1-5DB5-454B-811D-52050862C70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058B4E-1BCF-46B1-9C70-9CF9EC50E4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51F2F7D-C767-4118-A455-7D3AEADD2C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341121-3CDF-4464-B48B-48EC6A4BEB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3F37AEA-024D-48C3-AA68-2CB9BF37CF4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BB9094F-D4CE-4066-929B-07439575545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7C7BE05-88FE-48C7-9C05-AFD4A526DC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070209B-004D-4956-B0EB-3A6E4EA8667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8599205-2D27-434C-B0F9-0D0FAAE876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5010521-7877-4C10-909D-6BF9BC3CEB8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D573A-E4C4-4C8A-9F63-913EBF0EB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38B9B-FF4B-46A7-A734-9889E6B483A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D0D24-B83B-4594-BF64-AA1641528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FADD5-6176-4989-8B6B-F7EF7681BB4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6A883-E9C4-495E-8634-D64AE9912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AB752-8908-44EF-B2B2-FCDC257BEB1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7B3C0-6DCE-4D04-8F27-54F4ABD67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918C0-9F52-4D78-BCB1-984C80784C8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8449D-5550-488D-AA01-52EAB96D7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4219F-D53E-40E1-B696-3C7C500E1DA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54E42-2A30-4344-83BF-04FCFB4E2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18626-84A1-4F2C-BBFC-C2431DF73F0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67BCE-8473-4004-92E7-1FB8158D8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893E9-146A-425D-887B-94A0DA29CE0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6F3CC-462F-4561-BB4F-90E1D63DE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1A850-FF39-462E-8E45-7CEB630D764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82666-6F55-416F-A8E2-E43DC6C17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44CBC-6643-4FE5-B3D2-46D6837C142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EAC20-2687-4EE6-ACFB-67668A2A0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1B736-97EF-412F-A497-F51FB9003B8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9C144-6AC9-46AD-ADA5-7A4083271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C9976-C842-426B-BDA6-38740D8998F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E31B0-76D5-4913-8637-1FEB759A3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1</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Emanu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hape your Oppon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ing strategy to master the compet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applicable to our type of 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1"/>
          <p:cNvSpPr>
            <a:spLocks noGrp="1"/>
          </p:cNvSpPr>
          <p:nvPr>
            <p:ph type="title"/>
          </p:nvPr>
        </p:nvSpPr>
        <p:spPr>
          <a:xfrm>
            <a:off x="13716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6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6E217-3755-41DA-956C-6CC0FD49A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 Character-based Leadership</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ing Effective Leadership in Turbulent Tim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your character, not just your imag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with actions, not just with word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 employees trails, not just their triumph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tivate emotionally, not just materiall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gn clearly, define mission to al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mission overlap and confus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strategies to drive your organization, not the reverse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7" name="PlaceHolder 1"/>
          <p:cNvSpPr>
            <a:spLocks noGrp="1"/>
          </p:cNvSpPr>
          <p:nvPr>
            <p:ph type="title"/>
          </p:nvPr>
        </p:nvSpPr>
        <p:spPr>
          <a:xfrm>
            <a:off x="12891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BA474-8753-4014-B743-3F98D9C7E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 Tzu and the Art of Bus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Mark McNeilly</a:t>
            </a:r>
            <a:endParaRPr b="0" lang="en-US" sz="2800" spc="-1" strike="noStrike">
              <a:solidFill>
                <a:srgbClr val="000000"/>
              </a:solidFill>
              <a:latin typeface="Arial"/>
            </a:endParaRPr>
          </a:p>
        </p:txBody>
      </p:sp>
      <p:pic>
        <p:nvPicPr>
          <p:cNvPr id="531" name="Picture 2" descr="http://i.walmartimages.com/i/p/09/78/01/95/13/0978019513789_500X500.jpg"/>
          <p:cNvPicPr/>
          <p:nvPr/>
        </p:nvPicPr>
        <p:blipFill>
          <a:blip r:embed="rId1"/>
          <a:stretch/>
        </p:blipFill>
        <p:spPr>
          <a:xfrm>
            <a:off x="4991040" y="1792440"/>
            <a:ext cx="4152960" cy="415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13652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33" name=""/>
          <p:cNvSpPr txBox="1"/>
          <p:nvPr/>
        </p:nvSpPr>
        <p:spPr>
          <a:xfrm>
            <a:off x="228600" y="1066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in all without Figh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your market without destroying it</a:t>
            </a:r>
            <a:endParaRPr b="0" lang="en-US" sz="2800" spc="-1" strike="noStrike">
              <a:solidFill>
                <a:srgbClr val="000000"/>
              </a:solidFill>
              <a:latin typeface="Arial"/>
            </a:endParaRPr>
          </a:p>
        </p:txBody>
      </p:sp>
      <p:pic>
        <p:nvPicPr>
          <p:cNvPr id="534" name="Picture 1" descr=""/>
          <p:cNvPicPr/>
          <p:nvPr/>
        </p:nvPicPr>
        <p:blipFill>
          <a:blip r:embed="rId1"/>
          <a:stretch/>
        </p:blipFill>
        <p:spPr>
          <a:xfrm>
            <a:off x="0" y="2209680"/>
            <a:ext cx="5878440" cy="4419720"/>
          </a:xfrm>
          <a:prstGeom prst="rect">
            <a:avLst/>
          </a:prstGeom>
          <a:ln w="0">
            <a:noFill/>
          </a:ln>
        </p:spPr>
      </p:pic>
      <p:sp>
        <p:nvSpPr>
          <p:cNvPr id="5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96EF9-3A14-4489-BB85-6849D92C7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TextBox 5"/>
          <p:cNvSpPr/>
          <p:nvPr/>
        </p:nvSpPr>
        <p:spPr>
          <a:xfrm>
            <a:off x="5334120" y="2133720"/>
            <a:ext cx="38098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Look at the difference between “</a:t>
            </a:r>
            <a:r>
              <a:rPr b="1" lang="en-US" sz="1800" spc="-1" strike="noStrike">
                <a:solidFill>
                  <a:srgbClr val="000000"/>
                </a:solidFill>
                <a:latin typeface="Arial"/>
                <a:ea typeface="MS PGothic"/>
              </a:rPr>
              <a:t>Go</a:t>
            </a:r>
            <a:r>
              <a:rPr b="0" lang="en-US" sz="1800" spc="-1" strike="noStrike">
                <a:solidFill>
                  <a:srgbClr val="000000"/>
                </a:solidFill>
                <a:latin typeface="Arial"/>
                <a:ea typeface="MS PGothic"/>
              </a:rPr>
              <a:t>” a 4000 year old Asian game and “</a:t>
            </a:r>
            <a:r>
              <a:rPr b="1" lang="en-US" sz="1800" spc="-1" strike="noStrike">
                <a:solidFill>
                  <a:srgbClr val="000000"/>
                </a:solidFill>
                <a:latin typeface="Arial"/>
                <a:ea typeface="MS PGothic"/>
              </a:rPr>
              <a:t>Chess</a:t>
            </a:r>
            <a:r>
              <a:rPr b="0" lang="en-US" sz="1800" spc="-1" strike="noStrike">
                <a:solidFill>
                  <a:srgbClr val="000000"/>
                </a:solidFill>
                <a:latin typeface="Arial"/>
                <a:ea typeface="MS PGothic"/>
              </a:rPr>
              <a:t>” a Western game. In Chess the object is to destroy the opponent in an effort to “take” the King.  In fact </a:t>
            </a:r>
            <a:r>
              <a:rPr b="0" i="1" lang="en-US" sz="1800" spc="-1" strike="noStrike" u="sng">
                <a:solidFill>
                  <a:srgbClr val="000000"/>
                </a:solidFill>
                <a:uFillTx/>
                <a:latin typeface="Arial"/>
                <a:ea typeface="MS PGothic"/>
              </a:rPr>
              <a:t>Checkmate</a:t>
            </a:r>
            <a:r>
              <a:rPr b="0" lang="en-US" sz="1800" spc="-1" strike="noStrike">
                <a:solidFill>
                  <a:srgbClr val="000000"/>
                </a:solidFill>
                <a:latin typeface="Arial"/>
                <a:ea typeface="MS PGothic"/>
              </a:rPr>
              <a:t> is derived from Persian “Shah Mat” meaning “the King is dead”. Contrast this to Go,  One Wins in go by capturing and holding the greatest amount of territory with the smallest investments in pieces.  In Go the destruction of opponents stones is secondary to the object of capturing territor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Picture 2" descr="http://modernservantleader.com/wp-content/uploads/2012/01/Southwest-Airlines-logo.jpg"/>
          <p:cNvPicPr/>
          <p:nvPr/>
        </p:nvPicPr>
        <p:blipFill>
          <a:blip r:embed="rId1"/>
          <a:stretch/>
        </p:blipFill>
        <p:spPr>
          <a:xfrm>
            <a:off x="6553080" y="878040"/>
            <a:ext cx="1930680" cy="1447560"/>
          </a:xfrm>
          <a:prstGeom prst="rect">
            <a:avLst/>
          </a:prstGeom>
          <a:ln w="0">
            <a:noFill/>
          </a:ln>
        </p:spPr>
      </p:pic>
      <p:sp>
        <p:nvSpPr>
          <p:cNvPr id="538" name=""/>
          <p:cNvSpPr txBox="1"/>
          <p:nvPr/>
        </p:nvSpPr>
        <p:spPr>
          <a:xfrm>
            <a:off x="457200" y="1601280"/>
            <a:ext cx="8229600" cy="452628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 all without Fighting</a:t>
            </a:r>
            <a:endParaRPr b="0" lang="en-US" sz="3200" spc="-1" strike="noStrike">
              <a:solidFill>
                <a:srgbClr val="000000"/>
              </a:solidFill>
              <a:latin typeface="Arial"/>
            </a:endParaRPr>
          </a:p>
          <a:p>
            <a:pPr lvl="1" marL="914400" indent="-514440">
              <a:spcBef>
                <a:spcPts val="700"/>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best Policy is to Take All-Under-Heaven Intact</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e-regulation of the airlines in 1980’s led to a “price war”</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120 airlines bankrupt, $12B lost between 1989-1995, remaining employees took a pay cut.</a:t>
            </a:r>
            <a:endParaRPr b="0" lang="en-US" sz="2800" spc="-1" strike="noStrike">
              <a:solidFill>
                <a:srgbClr val="000000"/>
              </a:solidFill>
              <a:latin typeface="Arial"/>
            </a:endParaRPr>
          </a:p>
        </p:txBody>
      </p:sp>
      <p:sp>
        <p:nvSpPr>
          <p:cNvPr id="5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E4FFF-B146-4C73-87C0-7E3C2D667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PlaceHolder 1"/>
          <p:cNvSpPr>
            <a:spLocks noGrp="1"/>
          </p:cNvSpPr>
          <p:nvPr>
            <p:ph type="title"/>
          </p:nvPr>
        </p:nvSpPr>
        <p:spPr>
          <a:xfrm>
            <a:off x="113652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void Strength &amp; Attack Weak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king where they least expect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lab can “go into emptiness, strike voids, and bypass what he defends” by creating new products, attacking new markets, or entering new geographic markets.  </a:t>
            </a:r>
            <a:endParaRPr b="0" lang="en-US" sz="2800" spc="-1" strike="noStrike">
              <a:solidFill>
                <a:srgbClr val="000000"/>
              </a:solidFill>
              <a:latin typeface="Arial"/>
            </a:endParaRPr>
          </a:p>
        </p:txBody>
      </p:sp>
      <p:sp>
        <p:nvSpPr>
          <p:cNvPr id="542" name="PlaceHolder 1"/>
          <p:cNvSpPr>
            <a:spLocks noGrp="1"/>
          </p:cNvSpPr>
          <p:nvPr>
            <p:ph type="title"/>
          </p:nvPr>
        </p:nvSpPr>
        <p:spPr>
          <a:xfrm>
            <a:off x="914400" y="-9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89DB2-06DE-4B19-9D81-FC7F33385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4" name="Picture 2" descr="http://crankyflier.com/wp-content/uploads/2011/04/cnn_01.png"/>
          <p:cNvPicPr/>
          <p:nvPr/>
        </p:nvPicPr>
        <p:blipFill>
          <a:blip r:embed="rId1"/>
          <a:stretch/>
        </p:blipFill>
        <p:spPr>
          <a:xfrm>
            <a:off x="4419720" y="4419720"/>
            <a:ext cx="2489040" cy="1866960"/>
          </a:xfrm>
          <a:prstGeom prst="rect">
            <a:avLst/>
          </a:prstGeom>
          <a:ln w="0">
            <a:noFill/>
          </a:ln>
        </p:spPr>
      </p:pic>
      <p:pic>
        <p:nvPicPr>
          <p:cNvPr id="545" name="Picture 4" descr="http://bangsandabun.com/wp-content/uploads/2011/04/MTV-Logo-MTV.jpg"/>
          <p:cNvPicPr/>
          <p:nvPr/>
        </p:nvPicPr>
        <p:blipFill>
          <a:blip r:embed="rId2"/>
          <a:stretch/>
        </p:blipFill>
        <p:spPr>
          <a:xfrm>
            <a:off x="1828800" y="4572000"/>
            <a:ext cx="1914480" cy="1657440"/>
          </a:xfrm>
          <a:prstGeom prst="rect">
            <a:avLst/>
          </a:prstGeom>
          <a:ln w="0">
            <a:noFill/>
          </a:ln>
        </p:spPr>
      </p:pic>
      <p:pic>
        <p:nvPicPr>
          <p:cNvPr id="546" name="Picture 2" descr="http://a0.twimg.com/profile_images/1164254517/RedSkyBlueWater_Transparentcolor.png"/>
          <p:cNvPicPr/>
          <p:nvPr/>
        </p:nvPicPr>
        <p:blipFill>
          <a:blip r:embed="rId3"/>
          <a:stretch/>
        </p:blipFill>
        <p:spPr>
          <a:xfrm>
            <a:off x="7696080" y="1022400"/>
            <a:ext cx="1133640" cy="11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eception &amp; Foreknowled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ing the Power of Marke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your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your compet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your market </a:t>
            </a:r>
            <a:endParaRPr b="0" lang="en-US" sz="2800" spc="-1" strike="noStrike">
              <a:solidFill>
                <a:srgbClr val="000000"/>
              </a:solidFill>
              <a:latin typeface="Arial"/>
            </a:endParaRPr>
          </a:p>
        </p:txBody>
      </p:sp>
      <p:sp>
        <p:nvSpPr>
          <p:cNvPr id="548" name="PlaceHolder 1"/>
          <p:cNvSpPr>
            <a:spLocks noGrp="1"/>
          </p:cNvSpPr>
          <p:nvPr>
            <p:ph type="title"/>
          </p:nvPr>
        </p:nvSpPr>
        <p:spPr>
          <a:xfrm>
            <a:off x="12398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77F1A-687A-4DC6-B98F-9081377F3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0" name="Picture 2" descr="http://static.guim.co.uk/sys-images/Music/Pix/pictures/2010/2/25/1267110079783/Trojan-horse-001.jpg"/>
          <p:cNvPicPr/>
          <p:nvPr/>
        </p:nvPicPr>
        <p:blipFill>
          <a:blip r:embed="rId1"/>
          <a:stretch/>
        </p:blipFill>
        <p:spPr>
          <a:xfrm>
            <a:off x="4343400" y="3809880"/>
            <a:ext cx="4444920" cy="266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peed and Prepa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swiftly to overcome your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is a substitute for Resources </a:t>
            </a:r>
            <a:endParaRPr b="0" lang="en-US" sz="28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golian Baiti"/>
                <a:ea typeface="Mongolian Baiti"/>
              </a:rPr>
              <a:t>“</a:t>
            </a:r>
            <a:r>
              <a:rPr b="0" lang="en-US" sz="2400" spc="-1" strike="noStrike">
                <a:solidFill>
                  <a:srgbClr val="000000"/>
                </a:solidFill>
                <a:latin typeface="Mongolian Baiti"/>
                <a:ea typeface="Mongolian Baiti"/>
              </a:rPr>
              <a:t>Come like the wind, go like the lightening”</a:t>
            </a:r>
            <a:endParaRPr b="0" lang="en-US" sz="2400" spc="-1" strike="noStrike">
              <a:solidFill>
                <a:srgbClr val="000000"/>
              </a:solidFill>
              <a:latin typeface="Arial"/>
            </a:endParaRPr>
          </a:p>
        </p:txBody>
      </p:sp>
      <p:sp>
        <p:nvSpPr>
          <p:cNvPr id="5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26752-3232-4740-9F72-A3D2EFA8F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4" name="Picture 4" descr="http://www.fprado.com/armorsite/Challenger2_Pics/Challenger2-Speeding.jpg"/>
          <p:cNvPicPr/>
          <p:nvPr/>
        </p:nvPicPr>
        <p:blipFill>
          <a:blip r:embed="rId1"/>
          <a:stretch/>
        </p:blipFill>
        <p:spPr>
          <a:xfrm>
            <a:off x="1600200" y="3886200"/>
            <a:ext cx="5715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Speed and Prepar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ing customer satisfaction cycle tim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has shown that when a customer has a problem but the company fixes it to the customer’s satisfaction that customer will buy again from the company 92% of the time. They will also recommend that company 94% of the time and tell an average of 3 people about how the company made things right. However, if it is not fixed to their satisfaction they will repurchase from that company only 46% of the time and recommend that company 48% of the time. Worse, they will tell 7 people about the problems they had.</a:t>
            </a:r>
            <a:endParaRPr b="0" lang="en-US" sz="22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sp>
        <p:nvSpPr>
          <p:cNvPr id="5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46705-7D52-4800-B904-34CFD33C4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txBox="1"/>
          <p:nvPr/>
        </p:nvSpPr>
        <p:spPr>
          <a:xfrm>
            <a:off x="533520" y="1317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peed and Prepa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provides the ability to sustain and exploit market momentum once a breakthrough has been achie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epsi’s repeated failures with Crystal Pepsi</a:t>
            </a:r>
            <a:endParaRPr b="0" lang="en-US" sz="2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imSun"/>
                <a:ea typeface="SimSun"/>
              </a:rPr>
              <a:t>“</a:t>
            </a:r>
            <a:r>
              <a:rPr b="1" i="1" lang="en-US" sz="2000" spc="-1" strike="noStrike">
                <a:solidFill>
                  <a:srgbClr val="ff0000"/>
                </a:solidFill>
                <a:latin typeface="SimSun"/>
                <a:ea typeface="SimSun"/>
              </a:rPr>
              <a:t>Reinforce Success, Starve Failure”</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1"/>
          <p:cNvSpPr>
            <a:spLocks noGrp="1"/>
          </p:cNvSpPr>
          <p:nvPr>
            <p:ph type="title"/>
          </p:nvPr>
        </p:nvSpPr>
        <p:spPr>
          <a:xfrm>
            <a:off x="1376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Narkisim"/>
                <a:ea typeface="Narkisim"/>
              </a:rPr>
              <a:t>Sun Tzu and the Art of Business</a:t>
            </a:r>
            <a:endParaRPr b="0" lang="en-US" sz="3600" spc="-1" strike="noStrike">
              <a:solidFill>
                <a:srgbClr val="000000"/>
              </a:solidFill>
              <a:latin typeface="Arial"/>
            </a:endParaRPr>
          </a:p>
        </p:txBody>
      </p:sp>
      <p:pic>
        <p:nvPicPr>
          <p:cNvPr id="560" name="Picture 2" descr="http://images3.makefive.com/images/entertainment/culture/long-lost-soda-brands/crystal-pepsi-7.jpg"/>
          <p:cNvPicPr/>
          <p:nvPr/>
        </p:nvPicPr>
        <p:blipFill>
          <a:blip r:embed="rId1"/>
          <a:stretch/>
        </p:blipFill>
        <p:spPr>
          <a:xfrm>
            <a:off x="6629400" y="3581280"/>
            <a:ext cx="2133720" cy="2810160"/>
          </a:xfrm>
          <a:prstGeom prst="rect">
            <a:avLst/>
          </a:prstGeom>
          <a:ln w="0">
            <a:noFill/>
          </a:ln>
        </p:spPr>
      </p:pic>
      <p:sp>
        <p:nvSpPr>
          <p:cNvPr id="5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AE6BB-8234-487E-83C1-3E98DE07D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2" name="TextBox 5"/>
          <p:cNvSpPr/>
          <p:nvPr/>
        </p:nvSpPr>
        <p:spPr>
          <a:xfrm>
            <a:off x="457200" y="5072040"/>
            <a:ext cx="5867280" cy="1557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Black"/>
                <a:ea typeface="MS PGothic"/>
              </a:rPr>
              <a:t>If you wish to act with speed, you must focus on improving your </a:t>
            </a:r>
            <a:r>
              <a:rPr b="0" i="1" lang="en-US" sz="2400" spc="-1" strike="noStrike">
                <a:solidFill>
                  <a:srgbClr val="666666"/>
                </a:solidFill>
                <a:latin typeface="Arial Black"/>
                <a:ea typeface="MS PGothic"/>
              </a:rPr>
              <a:t>information/decision/action</a:t>
            </a:r>
            <a:r>
              <a:rPr b="0" i="1" lang="en-US" sz="2400" spc="-1" strike="noStrike">
                <a:solidFill>
                  <a:srgbClr val="000000"/>
                </a:solidFill>
                <a:latin typeface="Arial Black"/>
                <a:ea typeface="MS PGothic"/>
              </a:rPr>
              <a:t> cycle tim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08-22T16:47:54Z</dcterms:modified>
  <cp:revision>13</cp:revision>
  <dc:subject/>
  <dc:title>Leading with Impact</dc:title>
</cp:coreProperties>
</file>