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366F3-0ED7-4E0D-872E-800557BE5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31309-B571-4CFF-8D5B-7435D70550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A810C-9B80-4F83-BFB1-4F82898872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E6F4A-DDD2-4333-868D-EC4F7215FF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86D3C-770C-4BAE-9ABA-DEE15A415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6AA33-AB6B-4438-BA46-D04DFEC6B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4DC69-185F-4DAD-A7F2-AA38B96C4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95696-0421-4B3B-BF04-09FFEA743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4B10B-FEF7-40EE-913E-D8BD2F30E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F73AB-7F85-48F0-A25F-7C14971679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9AB1A7-BCF5-40B3-A187-3983FE3092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361819-E90D-4910-9F18-9A32B0A7ED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50D5A-B425-42C7-A012-4060060DF8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4DD0A4-E8A2-4329-970D-B0E3171F1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A20368-65F4-403A-890E-BA53D4EB9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B5ED9-504C-4613-9F04-399F28A7C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515AF6-7D02-4C3F-972A-E9237AAC69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FEFAFA-37F7-417F-BDAC-C1DBA174F8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9C1EE-57D7-43F7-BB4B-DC530D9E1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E3A97-12EF-4EC0-857E-364BE836F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B775F-CEFA-4338-8387-9512F4FF0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59B64-023D-45B6-8657-E3E4554C2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A6B37C-B87A-422A-BA13-7BFD8E0C8A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6F7D9-81AB-4955-BB19-2376796BE5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9FBF1-3309-4E09-A5F9-D1079DE00B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59FBED-0FAD-4EA9-B417-CD4763058C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E83C63-7786-4F23-B6A4-2304751AAE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BD65AC-48AF-4FFC-A329-9E0CEE4C1D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D2720B-5229-4C72-B162-F5A9DD3AC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CE54E-A8A3-4FA3-A88D-9E450E07BE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D6FFAD-A570-4B24-B274-0BF514A501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AEB854-493E-4EF0-92EE-151D63323A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1B52DD-8C44-4995-AD79-01DA67B7BC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4902AA-04A8-4169-B47F-1F9925C57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9745C-32C8-4160-A00F-F73E0124627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151C3D-99D3-47F4-BC38-8D2469BFE3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85816F-E9DD-4948-8545-34F4A0311A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BDE80A-859D-4326-B373-8F6C78E990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DABDE7-A282-4F7C-A519-FD7F1294F4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557FE0-5695-4AA9-B02D-D3D7396262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276262-29A7-44D9-89DD-4550544395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B0BFC5-B834-4F98-91B6-9AB18A3F98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23DFF0-AC3E-4CA3-A8DB-BBFEB41448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68B62D-82FA-4303-ADA9-42664B101A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F4D43B-6978-4DDD-97E3-D4782A6251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AB2DC-BA4D-4A3C-B87A-D61EC83281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7396B4-1971-4363-9DCF-2383926E05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2B14A5-04DB-49C8-B529-1B3B2F84FC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DF9FDC-F765-4C21-8F41-7DC02A4DE7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C50F5B-09ED-469A-B8EB-4D97FE4311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3CA22A-D3BD-497A-9753-07197F143C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BF6BCB-FC6A-4549-8743-F45156BD3B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4CA146-8626-4D4B-8F8E-AF81315520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EBF10E-98D8-408A-9191-7FD6029CCE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0F2237-5D16-416B-93F9-DABD53763B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C7F419-E1F1-4EA9-9FAB-5E00C66ABC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7E29-48F3-4F37-97BA-63C04342FCC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C47747-5E96-4C3B-B831-9DE08364A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D95BB9-2C70-47BC-AB9B-FDAB30DE69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C3CC09-3DEC-4326-A334-736A2D7286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D0DD12-A263-4907-9D5A-AFADAA2045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9C5829-4026-42D8-998C-0FA16A243F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0DE1C9-48D4-4A8D-94E5-D4E5A80B80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2DA4BD-FF48-4CF8-8005-B24FC918BB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588238-9350-4428-B679-6C2F1434E3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C372D3-F2B4-4CF8-99C3-13A4DA98EA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400AB5-1BD3-43B5-9C0C-5741B98E2D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EA74-A648-4F9F-88CE-E9876EDB2D8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CB1EAF-97AE-4BC7-B584-813500B148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278090-ED95-4411-8FD5-05D9FCE373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0B6237-2C1D-4874-A7F2-2F471C3FDB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5EB042-DD7A-4DD6-9A10-6F44C3B044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7CD667-8F71-494D-8C9D-BDA5E6112F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ED8564-2EC5-4172-BD5A-87E2F4963F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FD59B2-D537-42C6-BADE-296C653693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849AB2-9EB3-43B6-A914-6790A3F091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06E4FB-08B3-40B7-B2E4-987138B8F71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2222BA1-ECD5-41F9-AFB5-A58EBD97A3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BA55-8D7D-4211-A2A1-1016D34BC97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2E202C8-3AE0-40F4-AEA0-4E40717CD8C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2CDC1BD-B6BC-4B02-A7DA-FBF6296D261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91ACDEF-5E81-4EAD-9876-2E854BDD2D3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21D26AE-B4EC-4484-AE3C-B057008FB5D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9578886-F679-4EDA-BDEC-42CB0479A79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D940CC6-9F29-4A99-A4AC-4979CDE23CD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CE18ECC-D4CB-43A7-915D-34279A288EB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CD96BB3-8E86-4701-B438-356516E256E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94A6914-B77D-4B70-8699-10D220173EC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E9B04C3-FB99-4D98-B033-2A79D03ED5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69BD-C0EC-46DA-92D4-34F466ACD32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A5FB0AC-584D-46F0-BA29-2D9E8A3C70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119F-16D5-47F6-B874-4548CDCAEA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FBAA-A7DC-43C2-A232-460FF7E40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3502-86F2-42D4-8327-80C435654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FF36-0C4F-436B-904A-1A5851798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FF64-2FE8-413F-9FD4-85FF15303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6FE5B-E42E-49BD-9B0D-4AE0F2EBD3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7CE9-E3C5-42A7-8C3C-DC60623176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00F3A-97B3-48F1-A1F1-59FF7B902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44C3B-DF71-4507-9A17-4CF3DBE2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7AB71-450F-4DAE-B496-0A7953A2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7EAB6-1945-47E8-B899-34795EFFB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A4D42-679D-43A1-9148-AE5319500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2FF2-0336-4A2C-8D45-7F898833D1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4E23-BABD-4B8C-B0C0-45F84B893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347B9-010B-42B9-BA7E-7E79C0142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E421-7156-4539-A3C2-16A339315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59D02-B7CD-485C-841E-28B7AA05C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4FADE-C828-45A1-A712-146BDEDE2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2CA44-D72D-4346-93C5-5A1E7382A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D4BC7-62FC-4E11-B1DC-A5BB17ADE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D344BF-F495-4FDB-8069-3DD51D633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4C2E0-9DBE-4B12-B5F9-F7FBF49F7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A5CFA-6616-4F21-99C9-D0E03E17A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034B6-346B-4380-8890-00C13520D0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D9611-C6D1-4FA9-95A6-64B401EBA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7C516-B08E-48D0-820D-9C412CA9B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936FB-8333-48DD-ABFF-CE099A3CE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F768D-835C-4F3E-8EFA-726ED6BEE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3D248-8C23-4969-B456-B31D3699A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E61ED-D380-4E4D-90A2-1EBB771FF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109F0-ED5E-4961-90BB-96B8F9322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D14C5A-EA5D-4309-B1FF-CD10EA609A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AB7B9-B59C-4837-8E5B-C398D222A2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8F981-A086-40CF-BB4A-5F7F96381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8701F23-8B14-447C-A559-78740C5A5F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EAFBC-4241-4C60-878D-02F327C74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5D397-F79C-4F65-9CC4-F934A54C7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25D07-4C7B-4847-BBD7-FF0FBD71B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5A162-8FD5-4C16-BD19-805844DCC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4B958-1DF6-4FCF-B3BF-A5538ADF8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E4437-3475-4954-A1E7-24069A670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452A7-0E24-4177-A9CC-5F7732143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71EAC-6B3F-4F33-8A65-19AB90005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60BFB-2FFB-4C2C-A987-F4999B66EF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EE16A0-850A-49F0-9D00-AFB0BA259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6E90C2-A1E6-4B94-BCB7-7F5D5A97DC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834370-C6A3-470E-B458-080319A2F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D41AAD-75B5-441A-8601-630D6BCD7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A775B-9FD1-4663-8334-4D5C6F690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29D24-1CB5-4AD9-A955-3546F7A32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ED887-1031-4AA0-A831-7275B3117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DBEEA-7109-4B55-9192-20BAC01E2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79352-DF99-4A77-8E53-014B05120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2CE5D-14A4-4366-AFC1-0464D376D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AB88B-74E5-4075-8113-9E0183E94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372AB-A53F-4CB0-A9E2-E5CF72142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879E2-5A5A-4036-B1B2-6932B2A0BD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6577C-1928-470D-A9B4-608E6F88E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0B43D-D35A-4BAA-9B7D-B39665ED42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F8CFC6-945A-4FE9-AA30-AFE7DE13A4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9F364-0DA7-4AF3-9871-D0E493EFC8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93939-C475-4666-AB45-EE558AB2F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CD238-903B-4BE1-BA8C-0369B1F81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89182-15C8-40C0-AACF-1F3DA9E97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D711F5-68D6-4EA7-A0D6-D1773D979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4F912-D1DF-4871-8AED-353D4B244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9B235-6184-463E-A436-C90FBD38F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2417B-7F47-4345-B48E-E989619E75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A960C-D604-42BF-A879-55E7BA854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64E33-9B38-4B66-BA30-67669E8CB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1C64D-54D4-460A-800A-BDBD7E3F5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6D9151-9F5C-4339-91B3-9FF3C3957C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BC3D1D-A7EA-4051-AE64-99F77C527C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0E5EF-81E7-4A39-8D15-DF7E34B289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48473-B2B6-4F1F-B161-20A6CA12F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FBC5D-BBFA-4695-ABD0-5413810DC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89D89D-8719-4F91-B998-785B41D04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12168-3CE0-482F-B6F3-3010E467C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30DCE-2FAC-4B08-9508-D8324490BF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A76EA-A03D-470C-BC2B-E6082774C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1DB9B-1B1E-44A6-85A0-AC217B0D6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3FE16-71ED-4ED2-80B5-18FEEE2BE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0B54C-D4D1-4563-BC9C-2A65231BD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27DC5-F514-4DF8-B46E-1EB51198C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BF02D4-2D21-4FAA-95F6-7E06549A95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D6CC1F-7403-4554-862D-9DC26DC2F7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939504-7395-4FCB-99C2-6E6FD18871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0F0A3-1A6A-4E38-978E-FF6616F08C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3B1F35-C454-4C35-8AAA-40EFD69431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61E4-446B-4FB9-AE63-EE63D35B4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C70B-7225-4835-ADFE-7ED3A2A16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3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706E-C8E8-438D-B059-0A1DDDB37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7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7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FE1C-6850-4957-AA8B-3690DC5DA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2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2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2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294A-4578-42BC-AA04-752E2ADDD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6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6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6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3D65-C170-4B2A-92DE-E91BB0650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Line 7"/>
          <p:cNvSpPr/>
          <p:nvPr/>
        </p:nvSpPr>
        <p:spPr>
          <a:xfrm>
            <a:off x="304920" y="304920"/>
            <a:ext cx="0" cy="594360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8"/>
          <p:cNvSpPr/>
          <p:nvPr/>
        </p:nvSpPr>
        <p:spPr>
          <a:xfrm>
            <a:off x="304920" y="304920"/>
            <a:ext cx="8458200" cy="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3" name="PlaceHolder 3"/>
          <p:cNvSpPr>
            <a:spLocks noGrp="1"/>
          </p:cNvSpPr>
          <p:nvPr>
            <p:ph type="ftr" idx="40"/>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614" name="PlaceHolder 4"/>
          <p:cNvSpPr>
            <a:spLocks noGrp="1"/>
          </p:cNvSpPr>
          <p:nvPr>
            <p:ph type="sldNum" idx="41"/>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EC7D-5D53-47FE-B5CA-C67FD03FC3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2"/>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45" name="PlaceHolder 4"/>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5980-7883-4417-BC33-537199E106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8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D13D-3A99-49C1-B5BB-7D66BF575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2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2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2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A78E-5E1A-4805-A381-F9716B991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509F-8699-4028-8EE6-76FE5CBCB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1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899F-F849-44D4-8209-749743095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5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5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88D2-5B7F-4F05-93FA-2452F1E68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B548-C318-4BCD-91B3-8D66FD85D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4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4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4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CB5E-EC3B-498A-99A2-1BB0A917A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980720" y="1220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M 360 Competencies</a:t>
            </a:r>
            <a:endParaRPr b="0" lang="en-US" sz="3600" spc="-1" strike="noStrike">
              <a:solidFill>
                <a:srgbClr val="000000"/>
              </a:solidFill>
              <a:latin typeface="Arial"/>
            </a:endParaRPr>
          </a:p>
        </p:txBody>
      </p:sp>
      <p:sp>
        <p:nvSpPr>
          <p:cNvPr id="652" name=""/>
          <p:cNvSpPr txBox="1"/>
          <p:nvPr/>
        </p:nvSpPr>
        <p:spPr>
          <a:xfrm>
            <a:off x="457200" y="1447920"/>
            <a:ext cx="822960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6 Dimensions from “When Teams Work Best” ar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Go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lim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Conf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Sufficient Technical “Know-H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Prior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904760" y="1220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M 360 Competencies</a:t>
            </a:r>
            <a:endParaRPr b="0" lang="en-US" sz="3600" spc="-1" strike="noStrike">
              <a:solidFill>
                <a:srgbClr val="000000"/>
              </a:solidFill>
              <a:latin typeface="Arial"/>
            </a:endParaRPr>
          </a:p>
        </p:txBody>
      </p:sp>
      <p:sp>
        <p:nvSpPr>
          <p:cNvPr id="654" name=""/>
          <p:cNvSpPr txBox="1"/>
          <p:nvPr/>
        </p:nvSpPr>
        <p:spPr>
          <a:xfrm>
            <a:off x="457200" y="1646280"/>
            <a:ext cx="8229600" cy="452592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BUILDING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es and fosters team commitment, spirit, pride, and trust.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cooperation and motivates team members to accomplish group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y is demonstrated by consistently:</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eating an atmosphere of cooperation among team memb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piring pride and team spirit among team memb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ishing teams when appropriate.</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ing teams of appropriate size and structure to accomplish work goal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suing that the roles of team members are clearly defined.</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legating authority to team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904760" y="1220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M 360 Competencies</a:t>
            </a:r>
            <a:endParaRPr b="0" lang="en-US" sz="3600" spc="-1" strike="noStrike">
              <a:solidFill>
                <a:srgbClr val="000000"/>
              </a:solidFill>
              <a:latin typeface="Arial"/>
            </a:endParaRPr>
          </a:p>
        </p:txBody>
      </p:sp>
      <p:sp>
        <p:nvSpPr>
          <p:cNvPr id="656" name=""/>
          <p:cNvSpPr txBox="1"/>
          <p:nvPr/>
        </p:nvSpPr>
        <p:spPr>
          <a:xfrm>
            <a:off x="457200" y="1569960"/>
            <a:ext cx="8229600" cy="452592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COALITIONS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is core qualification involves the ability to build coalitions internally and with other Federal agencies, State and local governments, nonprofit and private sector organizations, foreign governments, or international organizations to achieve common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 Develops networks and builds alliances; collaborates across boundaries to build strategic relationships and achieve common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y is demonstrated by consistently:</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couraging a collaboration across organization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ing a network of constituents, stakeholders, and decision-mak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eloping professional relationships with colleagues inside and outside of the organization.</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9:31:28Z</dcterms:created>
  <dc:creator>Beverly Obenchain</dc:creator>
  <dc:description/>
  <dc:language>en-US</dc:language>
  <cp:lastModifiedBy>mustangally</cp:lastModifiedBy>
  <cp:lastPrinted>2009-02-23T23:02:36Z</cp:lastPrinted>
  <dcterms:modified xsi:type="dcterms:W3CDTF">2011-06-01T13:19:33Z</dcterms:modified>
  <cp:revision>77</cp:revision>
  <dc:subject/>
  <dc:title>PowerPoint Presentation</dc:title>
</cp:coreProperties>
</file>