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jpeg" ContentType="image/jpeg"/>
  <Override PartName="/ppt/media/image6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CF3F9A-A176-44BF-838F-8375C5CB63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3FCFE5-0B91-483B-B0A4-64A020C66A2B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E959AA2-E5CA-4CD0-BD72-055FD14E5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238E1F2-5896-4F9A-A0DA-6E53152D9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ubTitle"/>
          </p:nvPr>
        </p:nvSpPr>
        <p:spPr>
          <a:xfrm>
            <a:off x="2361960" y="75960"/>
            <a:ext cx="66294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92F6D15-E08D-4021-A36E-E71DA0CD3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AF84D9D-AD80-49CF-8501-7B99F12E5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B3521CB-70F3-4629-ABA3-4644A21E1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FCF93ED-100C-40E2-9A9B-0B0DEDA8A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C379375-F09F-4776-BF1B-D47F6848D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26BE3F1-DED1-4017-AD17-AAFB1399E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C58F7BE-DF37-4A92-846C-222678FEB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802701B-59AE-4EDC-84A8-A2821B9E6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B91986-A021-4FB0-9545-F8799106067B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95DD30C-1BAA-43A6-819F-20183C168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86E869D-02D4-4FA7-8734-56FC75B9A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B923B05-2C39-4D6C-BCAE-BED0B442E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0F343E0-5DFF-44EA-AD5F-FA4D8FAB7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ubTitle"/>
          </p:nvPr>
        </p:nvSpPr>
        <p:spPr>
          <a:xfrm>
            <a:off x="2361960" y="75960"/>
            <a:ext cx="66294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A245459-92FD-40BF-A7D6-E46C3A3E4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7AD2A37-0AA7-40D3-8124-4C6E6FFA5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0A08020-4304-4C7B-8C45-D27CF3B7F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E260B52-3812-4C8F-9742-4E09B2C9A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C091FFD-DF61-4BD6-88FC-ED2E87D60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A6916AE-8D22-4C43-BD7D-4A37EDD41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78E931-2339-4BAD-92E6-F1EB36D7CEC3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C1FCAD2-EA93-4788-9F91-F091E2008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E2A7480-D3B1-4970-AD12-AE77EF8BE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1604E56-1AF7-4A2B-85CC-5F6697367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866D356-657C-412D-84C4-9B4A5EB13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37F07F4-418D-4CD7-A843-3A7300222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4AFA60C-7E95-48ED-995B-0687AF1F5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ubTitle"/>
          </p:nvPr>
        </p:nvSpPr>
        <p:spPr>
          <a:xfrm>
            <a:off x="2361960" y="75960"/>
            <a:ext cx="66294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74EE4E8-EB25-4858-9AB5-4899C6F29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4C5DAB3-207C-4089-B599-D0435ABFE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4F74163-AE8D-4D5A-9D0D-042609757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2B176C9-7F8D-46F5-979E-59C01A38A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6F3384-E689-49DB-BA16-18AC94BA7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6B81DE9-55E0-42F3-8E60-22B1935F7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A1B078F-0919-4D3D-9DEA-BCB420A8F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10D79AA-11A5-45A3-B1CA-D8C627E5E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C1E003A-6DF3-4A0F-B387-4709E18A7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98C7962-9A29-4182-AC70-6F2134AFF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0C2C15B-671B-478C-9859-F5785CE83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FCCCCA3-36BB-4F5B-927D-1AFDA07D8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EAF140D-EBD7-445D-A483-E785CA22F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ubTitle"/>
          </p:nvPr>
        </p:nvSpPr>
        <p:spPr>
          <a:xfrm>
            <a:off x="2361960" y="75960"/>
            <a:ext cx="66294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48527F0-32B7-4F07-B64D-1A30C2561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0C7E14D-17BA-43D4-9A6F-43EC66A82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0895F9-EBE1-4062-8669-A9CD738C3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8A797E5-0DCD-4388-9B9B-7D00F2034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172BB5E-AD67-4E85-8187-7DB611CE8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0C890CD-4EB5-4702-AC8D-E1B7F9468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7BE9DA5-91C8-40A8-B26D-EF7364970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6E8600E-CFCF-439D-AC4A-15710FFF8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08A35A-1C66-40B5-B31D-5DAE1DE94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06C80D-BB1F-412D-9E34-6B1B4D38F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49AA6C-09FC-4CED-BAF3-4DB8ED2B5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361960" y="75960"/>
            <a:ext cx="66294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4596A1-BDBD-4431-BCE9-16689B23F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BBE6A6-1806-4845-8879-756C11E5C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2E204-0639-48C0-B79C-7B5E25E942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D0F024-7F74-4957-B3FC-CF9379375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FC931A-694B-4ADA-B12F-A2C349E5E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E2F1F6-A23C-49A1-9988-A325628F5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6283B8-8E47-40DE-A166-225032F09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B69494-0F2D-4DF8-A290-BF814338A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C05F7E0-670D-43F7-9958-DDFF76AE0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76BCCC6-EE05-4F77-BD64-DC120A9DD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C31E849-6BD0-4621-BD6A-7A654610D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A6E5155-2236-4778-BDE0-C058674C7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0C0FDA7-48E9-4CA3-BDCB-A9039CBF0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2877A3-55F7-4922-89C2-679E95B65F5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2361960" y="75960"/>
            <a:ext cx="66294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719CCBB-38FB-4E8F-9E83-41A694E27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176101D-70AE-4CC2-A7B8-D065A8377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3BDB839-8117-42B7-AF62-EF7DA1326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ECFA59E-AC4C-4AE1-A8C8-C6F286305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D5EA7DD-4C46-4CDE-AF08-E3FAA8E00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5F0E6F7-4C25-410A-87E0-8A7C7AF81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4F012CF-6AC2-4B07-8B4E-E52856F6B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4DDD781-188A-46E0-85C1-BB83DF63B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0E94965-211E-4906-919B-0D98E011D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BD34875-1E0F-46C7-AB28-9DBD0DD83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4D3150-21D7-4E49-A392-888F502595E5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D19F93C-6D06-4BC8-805F-410662981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270EF4E-58C4-4718-8FE2-E0A498263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2361960" y="75960"/>
            <a:ext cx="66294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107906E-B420-44B3-8C51-3B873ED63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B445244-9471-4040-B8F9-54FB8AD2B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833862C-4C0F-4999-86E2-C854ACC34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227DBA1-59F6-44E8-AA2B-CBDC25467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29863ED-D426-42BB-94F3-477BC779B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498EA45-FF4E-4479-BE25-281761476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260DB2C-A8CE-497D-A99E-A1894DDB7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8D223E6-E58A-4E32-AA68-1D4BB7340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452DCF-CDEA-4598-B6ED-B478EEEB0476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DF8DE31-A3B8-48D9-AFBD-4E35CB478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60F83C3-6883-467C-A227-66A533F0C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0761833-0D6F-4F3E-9C38-200DF1B80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B9F38ED-C052-4015-A289-6B8A3420C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2361960" y="75960"/>
            <a:ext cx="66294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F915E26-29AD-467B-88A1-68BD671E6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5490348-82F5-4D8E-AF7D-5E3AE303A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FB9C3B0-EE61-4FEA-A201-CDE295ACC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099396F-C9EE-4AB6-9E42-A9F8CA26F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E057706-999A-453D-98F7-CF1B2981B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60928DA-C2C3-44E9-904E-F1C94E969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361960" y="75960"/>
            <a:ext cx="66294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F7A0F9-88DF-47E7-AB78-BC8118EFB9E4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E3406B4-5C8A-4198-A095-83FD155B6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BF82B4E-5980-4F6C-938B-61B252870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929B281-61BF-4174-A012-7B05545ED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44A13AB-25CD-4B4B-8776-964ED92F9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C577FB5-007F-4FF6-8AFD-8A01890FD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2623A69-0DA7-4704-9BC8-B775F895D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2361960" y="75960"/>
            <a:ext cx="66294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FCB7608-CD49-4886-BEFE-ECF65B876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CA3A739-B554-47C3-8F59-1F0C57A61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5AC7425-2C46-4C73-BCBD-353DF9B9A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A93BC46-63DA-4641-A1F7-C32F4F9FA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600221-E47C-43DF-9BD5-07952BE0825B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6130D66-3123-4420-A75A-1F89D4756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ABAA634-CCAA-4A39-878B-B2A00D5A6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60B3F0E-588B-4BA2-A421-B45076773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BBDBD40-1FAE-477C-BB6A-8BAA6707D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F3632ED-E42C-4C20-9454-E9D287DA9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D82F660-1C44-4A1E-8018-839C32512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ABECA66-8C2A-4339-98EE-631B9E078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8E1FC14-049F-4537-A28A-396ED4FDC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2361960" y="75960"/>
            <a:ext cx="66294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6A09E73-D171-4668-A868-9B84861B5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0F433E2-924F-4458-8C92-9004DFC1E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A5FE1D-D39B-4412-9699-50B1D5D2D1B7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12393FE-9BF6-480E-B161-E830048CE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77BD7F6-583F-4AA0-ABBF-D2EE0149A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9C90550-EB93-43F8-9512-E745A96BC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1370568-00E1-4F31-9B3E-8820349C4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E14AE1D-5FBF-4BF2-9B07-0EBB06973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A3B2106-408A-42A6-914C-5D74AF680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B4BF183-643D-4322-9229-57A6B56BE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3B1B502-180D-4F33-89AE-8D98A5F09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A537399-6FAD-42FB-8328-381CC3F88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E7851EB-303A-40B9-BA51-005B1DDC3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4B9B6E-7755-4F6F-8961-BADB53A85F9F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2361960" y="75960"/>
            <a:ext cx="66294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F49A2CF-BB3B-4D4D-9148-85BB85194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BFA7F10-576C-4586-A0CB-FE77739DD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A18B647-404D-498C-B949-E341B56D0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C1C7DCE-3AAA-4E4A-B9F9-D1B801D15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A7B26E3-38A5-4F9B-9717-3DAC5499F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E9D9084-4795-4A49-AC4E-757D13FEB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95C5F7A-1D62-407A-9D16-C4550A176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606C024-9180-4232-9F2A-DE39AE057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68673AC-69D3-45C3-9330-6D12CECEF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76961FF-50BF-41F0-AA8A-75910CCDD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CMA_ppt_wDUI_inside_bkgrnd_top"/>
          <p:cNvPicPr/>
          <p:nvPr/>
        </p:nvPicPr>
        <p:blipFill>
          <a:blip r:embed="rId2"/>
          <a:srcRect l="756" t="6667" r="8507" b="0"/>
          <a:stretch/>
        </p:blipFill>
        <p:spPr>
          <a:xfrm>
            <a:off x="0" y="0"/>
            <a:ext cx="9144000" cy="12952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324BA9-8A43-45F5-8166-87C27A996F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8" descr="COHORT Logo by Toby Cisneros 2 16 2010"/>
          <p:cNvPicPr/>
          <p:nvPr/>
        </p:nvPicPr>
        <p:blipFill>
          <a:blip r:embed="rId3"/>
          <a:stretch/>
        </p:blipFill>
        <p:spPr>
          <a:xfrm>
            <a:off x="228600" y="152280"/>
            <a:ext cx="1871640" cy="962280"/>
          </a:xfrm>
          <a:prstGeom prst="rect">
            <a:avLst/>
          </a:prstGeom>
          <a:ln w="0">
            <a:noFill/>
          </a:ln>
        </p:spPr>
      </p:pic>
      <p:sp>
        <p:nvSpPr>
          <p:cNvPr id="5" name="Text Box 9"/>
          <p:cNvSpPr/>
          <p:nvPr/>
        </p:nvSpPr>
        <p:spPr>
          <a:xfrm>
            <a:off x="0" y="6553080"/>
            <a:ext cx="3124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APG Senior Leadership Cohort Progr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Picture 7" descr="CMA_ppt_wDUI_inside_bkgrnd_top"/>
          <p:cNvPicPr/>
          <p:nvPr/>
        </p:nvPicPr>
        <p:blipFill>
          <a:blip r:embed="rId2"/>
          <a:srcRect l="756" t="6667" r="8507" b="0"/>
          <a:stretch/>
        </p:blipFill>
        <p:spPr>
          <a:xfrm>
            <a:off x="0" y="0"/>
            <a:ext cx="9144000" cy="129528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8" descr="COHORT Logo by Toby Cisneros 2 16 2010"/>
          <p:cNvPicPr/>
          <p:nvPr/>
        </p:nvPicPr>
        <p:blipFill>
          <a:blip r:embed="rId3"/>
          <a:stretch/>
        </p:blipFill>
        <p:spPr>
          <a:xfrm>
            <a:off x="228600" y="152280"/>
            <a:ext cx="1871640" cy="962280"/>
          </a:xfrm>
          <a:prstGeom prst="rect">
            <a:avLst/>
          </a:prstGeom>
          <a:ln w="0">
            <a:noFill/>
          </a:ln>
        </p:spPr>
      </p:pic>
      <p:sp>
        <p:nvSpPr>
          <p:cNvPr id="395" name="Text Box 9"/>
          <p:cNvSpPr/>
          <p:nvPr/>
        </p:nvSpPr>
        <p:spPr>
          <a:xfrm>
            <a:off x="0" y="6553080"/>
            <a:ext cx="3124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APG Senior Leadership Cohort Progr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 type="dt" idx="2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5F229E3-A9C9-420E-A3CF-E14C3FF64BE4}" type="datetime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 type="ftr" idx="2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 type="sldNum" idx="2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A4BE9D-836A-4C4E-B38B-DEF266DC70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Picture 7" descr="CMA_ppt_wDUI_inside_bkgrnd_top"/>
          <p:cNvPicPr/>
          <p:nvPr/>
        </p:nvPicPr>
        <p:blipFill>
          <a:blip r:embed="rId2"/>
          <a:srcRect l="756" t="6667" r="8507" b="0"/>
          <a:stretch/>
        </p:blipFill>
        <p:spPr>
          <a:xfrm>
            <a:off x="0" y="0"/>
            <a:ext cx="9144000" cy="1295280"/>
          </a:xfrm>
          <a:prstGeom prst="rect">
            <a:avLst/>
          </a:prstGeom>
          <a:ln w="0">
            <a:noFill/>
          </a:ln>
        </p:spPr>
      </p:pic>
      <p:pic>
        <p:nvPicPr>
          <p:cNvPr id="438" name="Picture 8" descr="COHORT Logo by Toby Cisneros 2 16 2010"/>
          <p:cNvPicPr/>
          <p:nvPr/>
        </p:nvPicPr>
        <p:blipFill>
          <a:blip r:embed="rId3"/>
          <a:stretch/>
        </p:blipFill>
        <p:spPr>
          <a:xfrm>
            <a:off x="228600" y="152280"/>
            <a:ext cx="1871640" cy="962280"/>
          </a:xfrm>
          <a:prstGeom prst="rect">
            <a:avLst/>
          </a:prstGeom>
          <a:ln w="0">
            <a:noFill/>
          </a:ln>
        </p:spPr>
      </p:pic>
      <p:sp>
        <p:nvSpPr>
          <p:cNvPr id="439" name="Text Box 9"/>
          <p:cNvSpPr/>
          <p:nvPr/>
        </p:nvSpPr>
        <p:spPr>
          <a:xfrm>
            <a:off x="0" y="6553080"/>
            <a:ext cx="3124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APG Senior Leadership Cohort Progr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 type="dt" idx="2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C31E1E-C1B2-4CEF-BB9D-30CED5B94AC9}" type="datetime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 type="ftr" idx="3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 type="sldNum" idx="3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299663E-E286-4966-9EAB-986720AEDF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1" name="Picture 7" descr="CMA_ppt_wDUI_inside_bkgrnd_top"/>
          <p:cNvPicPr/>
          <p:nvPr/>
        </p:nvPicPr>
        <p:blipFill>
          <a:blip r:embed="rId2"/>
          <a:srcRect l="756" t="6667" r="8507" b="0"/>
          <a:stretch/>
        </p:blipFill>
        <p:spPr>
          <a:xfrm>
            <a:off x="0" y="0"/>
            <a:ext cx="9144000" cy="1295280"/>
          </a:xfrm>
          <a:prstGeom prst="rect">
            <a:avLst/>
          </a:prstGeom>
          <a:ln w="0">
            <a:noFill/>
          </a:ln>
        </p:spPr>
      </p:pic>
      <p:pic>
        <p:nvPicPr>
          <p:cNvPr id="482" name="Picture 8" descr="COHORT Logo by Toby Cisneros 2 16 2010"/>
          <p:cNvPicPr/>
          <p:nvPr/>
        </p:nvPicPr>
        <p:blipFill>
          <a:blip r:embed="rId3"/>
          <a:stretch/>
        </p:blipFill>
        <p:spPr>
          <a:xfrm>
            <a:off x="228600" y="152280"/>
            <a:ext cx="1871640" cy="962280"/>
          </a:xfrm>
          <a:prstGeom prst="rect">
            <a:avLst/>
          </a:prstGeom>
          <a:ln w="0">
            <a:noFill/>
          </a:ln>
        </p:spPr>
      </p:pic>
      <p:sp>
        <p:nvSpPr>
          <p:cNvPr id="483" name="Text Box 9"/>
          <p:cNvSpPr/>
          <p:nvPr/>
        </p:nvSpPr>
        <p:spPr>
          <a:xfrm>
            <a:off x="0" y="6553080"/>
            <a:ext cx="3124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APG Senior Leadership Cohort Progr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 type="dt" idx="3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8F8A95E-D9EB-4413-8672-15566833B87F}" type="datetime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 type="ftr" idx="3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 type="sldNum" idx="3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F21F8CB-815D-4CBC-A699-B43A46A7D2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0" descr="CMA_ppt_wDUI_front_bkgrnd"/>
          <p:cNvPicPr/>
          <p:nvPr/>
        </p:nvPicPr>
        <p:blipFill>
          <a:blip r:embed="rId2"/>
          <a:srcRect l="242" t="0" r="826" b="846"/>
          <a:stretch/>
        </p:blipFill>
        <p:spPr>
          <a:xfrm>
            <a:off x="0" y="-17640"/>
            <a:ext cx="9144000" cy="68756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1" descr="COHORT Logo by Toby Cisneros 2 16 2010"/>
          <p:cNvPicPr/>
          <p:nvPr/>
        </p:nvPicPr>
        <p:blipFill>
          <a:blip r:embed="rId3"/>
          <a:stretch/>
        </p:blipFill>
        <p:spPr>
          <a:xfrm>
            <a:off x="609480" y="457200"/>
            <a:ext cx="3733920" cy="19191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CC85C2-238D-440B-8CCB-B966A19DF78E}" type="datetime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3E498EF-E75F-4E85-9422-CCC39390FA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7" descr="CMA_ppt_wDUI_inside_bkgrnd_top"/>
          <p:cNvPicPr/>
          <p:nvPr/>
        </p:nvPicPr>
        <p:blipFill>
          <a:blip r:embed="rId2"/>
          <a:srcRect l="756" t="6667" r="8507" b="0"/>
          <a:stretch/>
        </p:blipFill>
        <p:spPr>
          <a:xfrm>
            <a:off x="0" y="0"/>
            <a:ext cx="9144000" cy="12952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8" descr="COHORT Logo by Toby Cisneros 2 16 2010"/>
          <p:cNvPicPr/>
          <p:nvPr/>
        </p:nvPicPr>
        <p:blipFill>
          <a:blip r:embed="rId3"/>
          <a:stretch/>
        </p:blipFill>
        <p:spPr>
          <a:xfrm>
            <a:off x="228600" y="152280"/>
            <a:ext cx="1871640" cy="962280"/>
          </a:xfrm>
          <a:prstGeom prst="rect">
            <a:avLst/>
          </a:prstGeom>
          <a:ln w="0">
            <a:noFill/>
          </a:ln>
        </p:spPr>
      </p:pic>
      <p:sp>
        <p:nvSpPr>
          <p:cNvPr id="87" name="Text Box 9"/>
          <p:cNvSpPr/>
          <p:nvPr/>
        </p:nvSpPr>
        <p:spPr>
          <a:xfrm>
            <a:off x="0" y="6553080"/>
            <a:ext cx="3124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APG Senior Leadership Cohort Progr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ED3FE2D-92EC-4064-9F02-F5669605F79C}" type="datetime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417F62-8679-4A9A-989A-57A2747AA2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7" descr="CMA_ppt_wDUI_inside_bkgrnd_top"/>
          <p:cNvPicPr/>
          <p:nvPr/>
        </p:nvPicPr>
        <p:blipFill>
          <a:blip r:embed="rId2"/>
          <a:srcRect l="756" t="6667" r="8507" b="0"/>
          <a:stretch/>
        </p:blipFill>
        <p:spPr>
          <a:xfrm>
            <a:off x="0" y="0"/>
            <a:ext cx="9144000" cy="12952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8" descr="COHORT Logo by Toby Cisneros 2 16 2010"/>
          <p:cNvPicPr/>
          <p:nvPr/>
        </p:nvPicPr>
        <p:blipFill>
          <a:blip r:embed="rId3"/>
          <a:stretch/>
        </p:blipFill>
        <p:spPr>
          <a:xfrm>
            <a:off x="228600" y="152280"/>
            <a:ext cx="1871640" cy="96228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9"/>
          <p:cNvSpPr/>
          <p:nvPr/>
        </p:nvSpPr>
        <p:spPr>
          <a:xfrm>
            <a:off x="0" y="6553080"/>
            <a:ext cx="3124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APG Senior Leadership Cohort Progr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F4B0EC-62FB-40CC-8E31-9D74B5E85A3C}" type="datetime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061FB8-93EE-40AF-A14D-3C2300096D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7" descr="CMA_ppt_wDUI_inside_bkgrnd_top"/>
          <p:cNvPicPr/>
          <p:nvPr/>
        </p:nvPicPr>
        <p:blipFill>
          <a:blip r:embed="rId2"/>
          <a:srcRect l="756" t="6667" r="8507" b="0"/>
          <a:stretch/>
        </p:blipFill>
        <p:spPr>
          <a:xfrm>
            <a:off x="0" y="0"/>
            <a:ext cx="9144000" cy="129528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8" descr="COHORT Logo by Toby Cisneros 2 16 2010"/>
          <p:cNvPicPr/>
          <p:nvPr/>
        </p:nvPicPr>
        <p:blipFill>
          <a:blip r:embed="rId3"/>
          <a:stretch/>
        </p:blipFill>
        <p:spPr>
          <a:xfrm>
            <a:off x="228600" y="152280"/>
            <a:ext cx="1871640" cy="96228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9"/>
          <p:cNvSpPr/>
          <p:nvPr/>
        </p:nvSpPr>
        <p:spPr>
          <a:xfrm>
            <a:off x="0" y="6553080"/>
            <a:ext cx="3124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APG Senior Leadership Cohort Progr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1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1A2FE98-4748-49FA-92CE-7CE091606A3F}" type="datetime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1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1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40C154-DB80-41E7-B9E8-771BA98F63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7" descr="CMA_ppt_wDUI_inside_bkgrnd_top"/>
          <p:cNvPicPr/>
          <p:nvPr/>
        </p:nvPicPr>
        <p:blipFill>
          <a:blip r:embed="rId2"/>
          <a:srcRect l="756" t="6667" r="8507" b="0"/>
          <a:stretch/>
        </p:blipFill>
        <p:spPr>
          <a:xfrm>
            <a:off x="0" y="0"/>
            <a:ext cx="9144000" cy="12952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8" descr="COHORT Logo by Toby Cisneros 2 16 2010"/>
          <p:cNvPicPr/>
          <p:nvPr/>
        </p:nvPicPr>
        <p:blipFill>
          <a:blip r:embed="rId3"/>
          <a:stretch/>
        </p:blipFill>
        <p:spPr>
          <a:xfrm>
            <a:off x="228600" y="152280"/>
            <a:ext cx="1871640" cy="962280"/>
          </a:xfrm>
          <a:prstGeom prst="rect">
            <a:avLst/>
          </a:prstGeom>
          <a:ln w="0">
            <a:noFill/>
          </a:ln>
        </p:spPr>
      </p:pic>
      <p:sp>
        <p:nvSpPr>
          <p:cNvPr id="219" name="Text Box 9"/>
          <p:cNvSpPr/>
          <p:nvPr/>
        </p:nvSpPr>
        <p:spPr>
          <a:xfrm>
            <a:off x="0" y="6553080"/>
            <a:ext cx="3124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APG Senior Leadership Cohort Progr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1AB73D5-8A58-4141-9491-3EC276DA56B5}" type="datetime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D986F1-FBDC-44BF-8CF0-A69E0ECF55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7" descr="CMA_ppt_wDUI_inside_bkgrnd_top"/>
          <p:cNvPicPr/>
          <p:nvPr/>
        </p:nvPicPr>
        <p:blipFill>
          <a:blip r:embed="rId2"/>
          <a:srcRect l="756" t="6667" r="8507" b="0"/>
          <a:stretch/>
        </p:blipFill>
        <p:spPr>
          <a:xfrm>
            <a:off x="0" y="0"/>
            <a:ext cx="9144000" cy="129528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8" descr="COHORT Logo by Toby Cisneros 2 16 2010"/>
          <p:cNvPicPr/>
          <p:nvPr/>
        </p:nvPicPr>
        <p:blipFill>
          <a:blip r:embed="rId3"/>
          <a:stretch/>
        </p:blipFill>
        <p:spPr>
          <a:xfrm>
            <a:off x="228600" y="152280"/>
            <a:ext cx="1871640" cy="962280"/>
          </a:xfrm>
          <a:prstGeom prst="rect">
            <a:avLst/>
          </a:prstGeom>
          <a:ln w="0">
            <a:noFill/>
          </a:ln>
        </p:spPr>
      </p:pic>
      <p:sp>
        <p:nvSpPr>
          <p:cNvPr id="263" name="Text Box 9"/>
          <p:cNvSpPr/>
          <p:nvPr/>
        </p:nvSpPr>
        <p:spPr>
          <a:xfrm>
            <a:off x="0" y="6553080"/>
            <a:ext cx="3124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APG Senior Leadership Cohort Progr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D414ADC-67E3-44B6-B4D0-685D3A31AFC1}" type="datetime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17AB13-B033-4DCB-BA55-748FB165D0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Picture 7" descr="CMA_ppt_wDUI_inside_bkgrnd_top"/>
          <p:cNvPicPr/>
          <p:nvPr/>
        </p:nvPicPr>
        <p:blipFill>
          <a:blip r:embed="rId2"/>
          <a:srcRect l="756" t="6667" r="8507" b="0"/>
          <a:stretch/>
        </p:blipFill>
        <p:spPr>
          <a:xfrm>
            <a:off x="0" y="0"/>
            <a:ext cx="9144000" cy="129528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8" descr="COHORT Logo by Toby Cisneros 2 16 2010"/>
          <p:cNvPicPr/>
          <p:nvPr/>
        </p:nvPicPr>
        <p:blipFill>
          <a:blip r:embed="rId3"/>
          <a:stretch/>
        </p:blipFill>
        <p:spPr>
          <a:xfrm>
            <a:off x="228600" y="152280"/>
            <a:ext cx="1871640" cy="962280"/>
          </a:xfrm>
          <a:prstGeom prst="rect">
            <a:avLst/>
          </a:prstGeom>
          <a:ln w="0">
            <a:noFill/>
          </a:ln>
        </p:spPr>
      </p:pic>
      <p:sp>
        <p:nvSpPr>
          <p:cNvPr id="307" name="Text Box 9"/>
          <p:cNvSpPr/>
          <p:nvPr/>
        </p:nvSpPr>
        <p:spPr>
          <a:xfrm>
            <a:off x="0" y="6553080"/>
            <a:ext cx="3124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APG Senior Leadership Cohort Progr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2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28DF51E-C509-4EF8-84C6-6D68E1EB1A38}" type="datetime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ftr" idx="2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 type="sldNum" idx="2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B7C223A-B9E9-48BB-8B6A-7B19D2498F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Picture 7" descr="CMA_ppt_wDUI_inside_bkgrnd_top"/>
          <p:cNvPicPr/>
          <p:nvPr/>
        </p:nvPicPr>
        <p:blipFill>
          <a:blip r:embed="rId2"/>
          <a:srcRect l="756" t="6667" r="8507" b="0"/>
          <a:stretch/>
        </p:blipFill>
        <p:spPr>
          <a:xfrm>
            <a:off x="0" y="0"/>
            <a:ext cx="9144000" cy="129528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8" descr="COHORT Logo by Toby Cisneros 2 16 2010"/>
          <p:cNvPicPr/>
          <p:nvPr/>
        </p:nvPicPr>
        <p:blipFill>
          <a:blip r:embed="rId3"/>
          <a:stretch/>
        </p:blipFill>
        <p:spPr>
          <a:xfrm>
            <a:off x="228600" y="152280"/>
            <a:ext cx="1871640" cy="962280"/>
          </a:xfrm>
          <a:prstGeom prst="rect">
            <a:avLst/>
          </a:prstGeom>
          <a:ln w="0">
            <a:noFill/>
          </a:ln>
        </p:spPr>
      </p:pic>
      <p:sp>
        <p:nvSpPr>
          <p:cNvPr id="351" name="Text Box 9"/>
          <p:cNvSpPr/>
          <p:nvPr/>
        </p:nvSpPr>
        <p:spPr>
          <a:xfrm>
            <a:off x="0" y="6553080"/>
            <a:ext cx="3124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APG Senior Leadership Cohort Progr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dt" idx="2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79A0F3-BB96-4B53-BA1D-964A1D859A37}" type="datetime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ftr" idx="2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sldNum" idx="2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5BB6586-A447-4295-A240-FA22B00F56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G Senior Leadership Cohort Program 20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subTitle"/>
          </p:nvPr>
        </p:nvSpPr>
        <p:spPr>
          <a:xfrm>
            <a:off x="457200" y="4800600"/>
            <a:ext cx="83059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ok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Picture 4" descr="OPM Seal"/>
          <p:cNvPicPr/>
          <p:nvPr/>
        </p:nvPicPr>
        <p:blipFill>
          <a:blip r:embed="rId1"/>
          <a:stretch/>
        </p:blipFill>
        <p:spPr>
          <a:xfrm>
            <a:off x="3886200" y="327672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528" name="Rectangle 7"/>
          <p:cNvSpPr/>
          <p:nvPr/>
        </p:nvSpPr>
        <p:spPr>
          <a:xfrm>
            <a:off x="1055520" y="4003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dership Book Review – (Sampl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ractice of Adaptive Leader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thors:  Ron Heifetz and Marty Lins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1" name="Content Placeholder 6" descr="41FMIpGQe+L._SL500_AA300_.jpg"/>
          <p:cNvPicPr/>
          <p:nvPr/>
        </p:nvPicPr>
        <p:blipFill>
          <a:blip r:embed="rId1"/>
          <a:srcRect l="0" t="-6022" r="0" b="-6022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Key Messages from this Boo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otes I Would Like To Sh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This Book Meant To 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ll Your Stor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26T12:32:45Z</dcterms:created>
  <dc:creator>Trish Mooney</dc:creator>
  <dc:description/>
  <dc:language>en-US</dc:language>
  <cp:lastModifiedBy>Claire  Meany</cp:lastModifiedBy>
  <cp:lastPrinted>2011-06-13T12:29:39Z</cp:lastPrinted>
  <dcterms:modified xsi:type="dcterms:W3CDTF">2011-06-27T14:35:00Z</dcterms:modified>
  <cp:revision>11</cp:revision>
  <dc:subject/>
  <dc:title>Leading with Impact </dc:title>
</cp:coreProperties>
</file>