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AC519-30FF-4141-A941-8F5F130A15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BCD81-4EA7-43FC-85DA-6B3A16ED18A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6214BE-AD6F-4040-8CE7-F1BA4952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6B3EE1-E918-41A6-865B-05A4DB44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FB14C8-86CF-4A92-A691-A9AD5D81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AD6C13-2BA2-461A-B254-BB01CAA5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A677DA-AF66-4F7F-A8DC-4CDA5C3F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FF7F3A-B14B-4614-AF1F-E59B6AC1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8AADE8-66DF-4A03-8819-9D8306A0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267667-1F9D-4DD0-B2DD-EAC5EDE4E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F79261-51CA-497C-A11C-5D5696F99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D883FA-E9FA-4508-85DF-10F5F2064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B7657-0B40-4114-A0A4-52C6B21F099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7E8307-E87A-4C92-9D4C-E8F9D808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A4D563-8B02-49FD-992C-AECB1C66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578D54-0C1A-4AA9-B049-3B0DBBF4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BB8C5A-CB5C-4041-9DAC-BFE814AB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9C951C-EF31-4038-82CE-56B5E360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72C193-BE4F-4906-ADDE-B5A28ECC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FB3815-E588-4C5A-8C65-EA60B78D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2DC9A1-E68B-496D-8CDD-F65C66A7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35A569-7C23-4174-A07A-C3A1CB43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B68EB6-89E1-4CD4-AF06-7FD7DC297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C9DA4-FC2F-4C4B-91D3-F1AF2E7146F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274705-46E8-42FD-BB16-455038C65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4978B4E-07A9-4138-AF45-60463881D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015DEF5-D4A4-421E-90C0-EF1F4A40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8A758F5-C467-4842-92D0-FE93C611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4EA27C0-FE88-4242-8897-1B70AD58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3433621-B780-40CF-8FB8-A91C38FB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3022107-C2D6-415A-9A34-DB126883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5CFE0CD-0B10-4C71-987A-E0FEDD45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DE8FB0-5A9E-4F71-B98B-D7EF71DC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2C06CB0-C2D1-49CC-9E24-3B8538A2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A14DF8-E9E8-479D-92CC-2A2D8C700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97268D3-09D3-4F3E-8BCC-44F154FA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91B4170-D2B8-4EA3-84A5-55C0CE53B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0220697-575C-4CA3-8DA0-52DF10E4D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A34699-9173-4FC6-BCDD-7A88D3F76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4EE915-B972-4140-92E2-13DE5D91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1444B1-DAE0-4488-9896-CF9807DC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4A963D-CF8F-45C5-A2C2-30F0DBAA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2740FD-1C5D-493A-BA21-385803A6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30D2E8-135F-47B7-9785-AB0964FB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9BB26A-CECA-4157-8B52-606F5916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93712-1B0B-41BF-A5D5-0E6022A9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E31730-9039-4777-ABF1-37BDB82A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6FCF12-5425-4D1F-A69A-CA321B9F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104BAC-A497-4545-A4FF-9E8F83F5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8E6D4F-47EF-4356-A54E-EBB366167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AF82B7-8246-4D85-8DDA-18CDD24B7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49F99-3E9A-45DE-930E-1AEDF8E4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DCDE4-B155-4862-90D6-8C967CA0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C02DF-059B-4187-93CA-D7D6A8E9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89E61-1061-49E1-BB68-08526376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9A6B0-9D03-4D6A-A4A1-4DA729AC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4C4EB-3467-4BD6-BEB8-92994769FD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15F84-A3EB-4C5A-A2DC-87F4D34B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C8C9CD-B9C6-48AC-96E6-24E11569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040DB-AE8D-42E8-A73C-0BE72CE4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A6ED2-E6E4-4B77-919F-DF8533CA2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B72F8-19C1-4709-B13F-E44A47B7E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E85C14-6BAE-4697-8D7E-D21087F1D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5D9A7F-6DB2-446A-9FE2-78F7B9E5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38D01A-59CD-4D0B-9914-B960AA51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5E5D88-002C-4A2F-8568-AD566824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B17207-4871-40CB-9A8E-FA1DD4DE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94D6F-EF43-4876-9530-F08C0A61917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3C104D-99E7-4C18-A1F9-51B16CBF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52ED34-EEAF-4EEE-A739-91E13E4E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D48A25-A82A-48A8-AC93-3DF8E84A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F3606D-2F3B-4C4C-84EB-14541659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32732B-335E-428B-A0FF-A630CC42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496999-0BCE-4EF6-9965-60C50607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F93A27-DC5C-4260-AE9F-3AB939AE9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628CBB-78BF-4948-A830-200F55CB6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1E7CE7-204B-4E40-996E-53BBADCA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B25616-8EBF-41F3-BBBC-5E33842E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8B31E-0A17-45F0-A3AA-AC089D6AB78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7FE5D8-9C64-4129-B164-62665190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798232-0165-4E49-9723-1953D729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F178FB-C6DB-416B-8618-4C18CCB6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203837-C58A-44E2-8865-2FC41E52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5A9EE4-2D0D-4D55-92BD-4CCDA1B7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17A133-9E6B-4284-B764-B6D230E4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652E98-460F-4B88-9204-A15E0A90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6D5B16-40CF-4759-BE46-E30194174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F8BDF7-F957-4B43-8942-DC87F06B3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EBE1B3-EF4E-46CA-BF2E-01C147011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10856-A719-4DA3-BE09-7557493E900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229135-3CC0-4407-AA6C-01225658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8ADF75-A9F4-4113-BC1B-268D619D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2F7A5B-EC15-47B4-BF7B-92F62911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F0377B-3A12-4B73-8908-C39E7917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2010BC-FCC4-4F57-B267-76E3FB71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51B6A2-30DF-4380-B907-204B2DCE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C3F76E-7C2D-4F91-9735-E3148880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BDD72D-7F7F-427E-B8CF-79DDA9A5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6954A7-4367-4B2D-BB8C-E68C8C3C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FFCF85-D1AE-4372-BA28-2464E6F7F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3E6FF-0806-4208-AFAC-A39AFA8DC60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935905-419E-4A58-9EB7-E71B852CE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96D449-1ABE-4EAD-A40B-4E3A6E0F4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53BF36-9EA1-4A59-BE6D-80A40714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1BDA0C-D57F-4DFA-9974-E17EBA6D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B2E423-D578-4CEA-A2C6-FB483572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8890CD-6FC8-4922-A205-D9126AD8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C1B17D-7373-46B5-8FD4-55A78641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6E1BDA-975A-4C30-898A-18CC4D4F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DFBB55-D3A9-47F7-A1B1-E1D3DB9A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C933E0-C3AF-42F6-AF2F-90C3B701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10696-019D-4DF5-BD47-D973911A561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FCE00E-EAC4-4FCB-B1AF-D8650F29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AFF073-DB95-48BB-A3FD-B51CBEF9A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EE3E6F-3B1C-4663-A32F-94F5C37A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3B59DC-EF83-40FE-9A02-BEF1B8F47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A5792E-60A8-4C31-A011-3D17F946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092622-2F06-48F6-A074-8CCBA59B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BC45E6-8838-4F65-9C51-1E774986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D80387-E82B-48C2-BDC4-CBB826AA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FEC698-566D-485E-BD8E-97D34982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FF81F8-323D-405F-87E4-33A56B57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ED1C0-D5AB-4997-8E0C-D09397154BC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56648C-A24E-45B6-85D2-CFBD87DF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A222D6-6380-4AF8-BEB9-3CE41187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EBA7E9-18EC-4CB3-A803-C50F5B2A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3DB23E-9A65-4DD1-B42B-B28978451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D7B36B-CAA6-4C1B-A81D-72E214917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2B1F0F-D569-4DCD-B0EA-E637D7AAF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332764-C735-4163-ABF1-406A5202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2F6577-C513-4E8D-932E-771C8AE7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EDFA5C-0750-47B4-B679-D156C270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45F1B5-7126-41A1-B499-2759B2AC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0ADF3-D7EB-4949-AF24-EE479791137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E7EE77-DB78-4E0B-894A-B8391923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DE2EB2-9CAC-4C97-A599-959B613E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5A2D7C-C60F-4FD5-BAD4-09E9C45B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0C083F-D4DB-4656-80C4-95ABF3C1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2FA3F3-2852-4D8C-B084-C6F2600A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D97DC3-6112-4682-A20E-816DD1826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6E180C-4FAD-4F49-B146-373AAFB9C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0E2CFD-E76B-484A-82F0-E9F384B79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6DAB26-ED2B-4404-9F3D-2634FECF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66438C-4892-4D5B-8C6F-122474D4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1695-F653-4B2E-8505-16FFA9BFA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A8FF-9A6D-4331-8F9F-07F2880BC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CC3A-02DE-4AD5-B5ED-A25ED43DD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FEEA-402F-41E1-8FA9-876F572EF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CMA_ppt_wDUI_front_bkgrnd"/>
          <p:cNvPicPr/>
          <p:nvPr/>
        </p:nvPicPr>
        <p:blipFill>
          <a:blip r:embed="rId2"/>
          <a:srcRect l="242" t="0" r="826" b="846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COHORT Logo by Toby Cisneros 2 16 2010"/>
          <p:cNvPicPr/>
          <p:nvPr/>
        </p:nvPicPr>
        <p:blipFill>
          <a:blip r:embed="rId3"/>
          <a:stretch/>
        </p:blipFill>
        <p:spPr>
          <a:xfrm>
            <a:off x="609480" y="457200"/>
            <a:ext cx="3733920" cy="1919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C99C-D84A-488E-A61F-72B913AEB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8756-B18C-4BAE-9A5F-57D882914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A2FF-67CD-4E93-AD60-3860BBA37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3DC4-1E9F-4C68-B564-B57AF530E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5B64-8C31-4121-99F8-975EFDA7A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EABC-C959-4530-8EAB-03DA2E087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B29D-892D-46C7-A604-180F1494B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8B84-AE5E-44BA-989E-4264B115E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rl.m.eissner.civ@mail.mil" TargetMode="External"/><Relationship Id="rId2" Type="http://schemas.openxmlformats.org/officeDocument/2006/relationships/hyperlink" Target="mailto:michael.j.mccarthy.civ@mail.mil" TargetMode="External"/><Relationship Id="rId3" Type="http://schemas.openxmlformats.org/officeDocument/2006/relationships/hyperlink" Target="mailto:todd.e.rosenberger.civ@mail.mil" TargetMode="External"/><Relationship Id="rId4" Type="http://schemas.openxmlformats.org/officeDocument/2006/relationships/hyperlink" Target="mailto:wayne.a.schoonveld.civ@mail.mil" TargetMode="External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609480" y="192852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G Senior Leadership Cohor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11692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TY-BASED PROJECT –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G Fellowship / Developmental Assignment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itle 3"/>
          <p:cNvSpPr/>
          <p:nvPr/>
        </p:nvSpPr>
        <p:spPr>
          <a:xfrm>
            <a:off x="588960" y="4876920"/>
            <a:ext cx="796464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l Eissner, AMSAA,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arl.m.eissner.civ@mail.m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410-278-63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ke McCarthy, AMSAA,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ichael.j.mccarthy.civ@mail.m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410-278-647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dd Rosenberger, ARL,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odd.e.rosenberger.civ@mail.m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410-306-066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yne Schoonveld, CERDEC,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ayne.a.schoonveld.civ@mail.m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410-306-32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ris Wilcox, ATEC, christopher.m.wilcox4.civ@mail.mil, 410-306-21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ject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i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Creation of a program that facilitates the advertisement and staffing of fellowship or developmental assignments across participating APG organ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fic Cohort Go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process and gain senior-level approv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several tracks (eg, leadership, technical, administrative) to serve as pilot progra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transition strategy to ensure post-Cohort vi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itle 1"/>
          <p:cNvSpPr/>
          <p:nvPr/>
        </p:nvSpPr>
        <p:spPr>
          <a:xfrm>
            <a:off x="2362320" y="838080"/>
            <a:ext cx="66294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d2d8a"/>
                </a:solidFill>
                <a:latin typeface="Arial"/>
              </a:rPr>
              <a:t>Fellowship / Developmental Assignment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Benef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Group 46"/>
          <p:cNvGrpSpPr/>
          <p:nvPr/>
        </p:nvGrpSpPr>
        <p:grpSpPr>
          <a:xfrm>
            <a:off x="4876920" y="2057400"/>
            <a:ext cx="4098960" cy="3962520"/>
            <a:chOff x="4876920" y="2057400"/>
            <a:chExt cx="4098960" cy="3962520"/>
          </a:xfrm>
        </p:grpSpPr>
        <p:sp>
          <p:nvSpPr>
            <p:cNvPr id="533" name="Oval 5"/>
            <p:cNvSpPr/>
            <p:nvPr/>
          </p:nvSpPr>
          <p:spPr>
            <a:xfrm>
              <a:off x="4876920" y="2057400"/>
              <a:ext cx="4098960" cy="3962520"/>
            </a:xfrm>
            <a:prstGeom prst="ellipse">
              <a:avLst/>
            </a:prstGeom>
            <a:solidFill>
              <a:srgbClr val="006600"/>
            </a:solidFill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6"/>
            <p:cNvSpPr/>
            <p:nvPr/>
          </p:nvSpPr>
          <p:spPr>
            <a:xfrm>
              <a:off x="6652800" y="2240280"/>
              <a:ext cx="582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rm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7"/>
            <p:cNvSpPr/>
            <p:nvPr/>
          </p:nvSpPr>
          <p:spPr>
            <a:xfrm>
              <a:off x="5267160" y="2776680"/>
              <a:ext cx="3319920" cy="3243240"/>
            </a:xfrm>
            <a:prstGeom prst="ellipse">
              <a:avLst/>
            </a:prstGeom>
            <a:solidFill>
              <a:srgbClr val="ffffcc"/>
            </a:solidFill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8"/>
            <p:cNvSpPr/>
            <p:nvPr/>
          </p:nvSpPr>
          <p:spPr>
            <a:xfrm>
              <a:off x="5657760" y="3495960"/>
              <a:ext cx="2538720" cy="2523960"/>
            </a:xfrm>
            <a:prstGeom prst="ellipse">
              <a:avLst/>
            </a:prstGeom>
            <a:solidFill>
              <a:srgbClr val="3333ff"/>
            </a:solidFill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9"/>
            <p:cNvSpPr/>
            <p:nvPr/>
          </p:nvSpPr>
          <p:spPr>
            <a:xfrm>
              <a:off x="5951880" y="4215600"/>
              <a:ext cx="1950840" cy="1804320"/>
            </a:xfrm>
            <a:prstGeom prst="ellipse">
              <a:avLst/>
            </a:prstGeom>
            <a:solidFill>
              <a:srgbClr val="ffcc66"/>
            </a:solidFill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2"/>
            <p:cNvSpPr/>
            <p:nvPr/>
          </p:nvSpPr>
          <p:spPr>
            <a:xfrm>
              <a:off x="6324480" y="5028840"/>
              <a:ext cx="1197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dividua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3"/>
            <p:cNvSpPr/>
            <p:nvPr/>
          </p:nvSpPr>
          <p:spPr>
            <a:xfrm>
              <a:off x="6162480" y="3729240"/>
              <a:ext cx="1526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rganiz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4"/>
            <p:cNvSpPr/>
            <p:nvPr/>
          </p:nvSpPr>
          <p:spPr>
            <a:xfrm>
              <a:off x="6681240" y="2940480"/>
              <a:ext cx="49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P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66"/>
          <p:cNvGrpSpPr/>
          <p:nvPr/>
        </p:nvGrpSpPr>
        <p:grpSpPr>
          <a:xfrm>
            <a:off x="1790640" y="5232240"/>
            <a:ext cx="4533840" cy="1168560"/>
            <a:chOff x="1790640" y="5232240"/>
            <a:chExt cx="4533840" cy="1168560"/>
          </a:xfrm>
        </p:grpSpPr>
        <p:sp>
          <p:nvSpPr>
            <p:cNvPr id="542" name="Freeform 54"/>
            <p:cNvSpPr/>
            <p:nvPr/>
          </p:nvSpPr>
          <p:spPr>
            <a:xfrm>
              <a:off x="1803240" y="5232240"/>
              <a:ext cx="4515120" cy="482760"/>
            </a:xfrm>
            <a:prstGeom prst="pie">
              <a:avLst/>
            </a:prstGeom>
            <a:solidFill>
              <a:srgbClr val="ffcc66">
                <a:alpha val="34000"/>
              </a:srgbClr>
            </a:solidFill>
            <a:ln w="3240">
              <a:solidFill>
                <a:srgbClr val="b6dcdf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55"/>
            <p:cNvSpPr/>
            <p:nvPr/>
          </p:nvSpPr>
          <p:spPr>
            <a:xfrm>
              <a:off x="5359320" y="5232240"/>
              <a:ext cx="965160" cy="1162440"/>
            </a:xfrm>
            <a:prstGeom prst="pie">
              <a:avLst/>
            </a:prstGeom>
            <a:solidFill>
              <a:srgbClr val="ffcc66">
                <a:alpha val="34000"/>
              </a:srgbClr>
            </a:solidFill>
            <a:ln w="3240">
              <a:solidFill>
                <a:srgbClr val="b6dcdf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36"/>
            <p:cNvSpPr/>
            <p:nvPr/>
          </p:nvSpPr>
          <p:spPr>
            <a:xfrm>
              <a:off x="1790640" y="5715000"/>
              <a:ext cx="3581280" cy="6858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marL="119160" indent="-119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ilds strategic think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19160" indent="-119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vides broadening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19160" indent="-119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creases current job perform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Title 1"/>
          <p:cNvSpPr/>
          <p:nvPr/>
        </p:nvSpPr>
        <p:spPr>
          <a:xfrm>
            <a:off x="2362320" y="838080"/>
            <a:ext cx="66294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d2d8a"/>
                </a:solidFill>
                <a:latin typeface="Arial"/>
              </a:rPr>
              <a:t>Fellowship / Developmental Assignment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81"/>
          <p:cNvGrpSpPr/>
          <p:nvPr/>
        </p:nvGrpSpPr>
        <p:grpSpPr>
          <a:xfrm>
            <a:off x="2057400" y="1676520"/>
            <a:ext cx="4591080" cy="804600"/>
            <a:chOff x="2057400" y="1676520"/>
            <a:chExt cx="4591080" cy="804600"/>
          </a:xfrm>
        </p:grpSpPr>
        <p:sp>
          <p:nvSpPr>
            <p:cNvPr id="547" name="Freeform 78"/>
            <p:cNvSpPr/>
            <p:nvPr/>
          </p:nvSpPr>
          <p:spPr>
            <a:xfrm>
              <a:off x="2057400" y="2362320"/>
              <a:ext cx="4581720" cy="118800"/>
            </a:xfrm>
            <a:prstGeom prst="pie">
              <a:avLst/>
            </a:prstGeom>
            <a:solidFill>
              <a:srgbClr val="006600">
                <a:alpha val="34000"/>
              </a:srgbClr>
            </a:solidFill>
            <a:ln w="3240">
              <a:solidFill>
                <a:srgbClr val="b6dcdf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79"/>
            <p:cNvSpPr/>
            <p:nvPr/>
          </p:nvSpPr>
          <p:spPr>
            <a:xfrm>
              <a:off x="5643720" y="1676520"/>
              <a:ext cx="1004760" cy="804600"/>
            </a:xfrm>
            <a:prstGeom prst="pie">
              <a:avLst/>
            </a:prstGeom>
            <a:solidFill>
              <a:srgbClr val="006600">
                <a:alpha val="34000"/>
              </a:srgbClr>
            </a:solidFill>
            <a:ln w="3240">
              <a:solidFill>
                <a:srgbClr val="b6dcdf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22"/>
            <p:cNvSpPr/>
            <p:nvPr/>
          </p:nvSpPr>
          <p:spPr>
            <a:xfrm>
              <a:off x="2057400" y="1676520"/>
              <a:ext cx="3581640" cy="68580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marL="119160" indent="-119160">
                <a:buClr>
                  <a:srgbClr val="fffff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velopment of future Army Lead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19160" indent="-11916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upport of Army Transformation – better solutions for soldier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U-Turn Arrow 88"/>
          <p:cNvSpPr/>
          <p:nvPr/>
        </p:nvSpPr>
        <p:spPr>
          <a:xfrm rot="16200000">
            <a:off x="190440" y="1790280"/>
            <a:ext cx="1981080" cy="1752480"/>
          </a:xfrm>
          <a:prstGeom prst="pie">
            <a:avLst/>
          </a:prstGeom>
          <a:solidFill>
            <a:srgbClr val="eaeaea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80"/>
          <p:cNvGrpSpPr/>
          <p:nvPr/>
        </p:nvGrpSpPr>
        <p:grpSpPr>
          <a:xfrm>
            <a:off x="1217520" y="3135240"/>
            <a:ext cx="5432400" cy="903240"/>
            <a:chOff x="1217520" y="3135240"/>
            <a:chExt cx="5432400" cy="903240"/>
          </a:xfrm>
        </p:grpSpPr>
        <p:sp>
          <p:nvSpPr>
            <p:cNvPr id="552" name="Freeform 76"/>
            <p:cNvSpPr/>
            <p:nvPr/>
          </p:nvSpPr>
          <p:spPr>
            <a:xfrm>
              <a:off x="1217520" y="3135240"/>
              <a:ext cx="5432400" cy="218880"/>
            </a:xfrm>
            <a:prstGeom prst="pie">
              <a:avLst/>
            </a:prstGeom>
            <a:solidFill>
              <a:srgbClr val="ccffff">
                <a:alpha val="34000"/>
              </a:srgbClr>
            </a:solidFill>
            <a:ln w="3240">
              <a:solidFill>
                <a:srgbClr val="b6dcdf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77"/>
            <p:cNvSpPr/>
            <p:nvPr/>
          </p:nvSpPr>
          <p:spPr>
            <a:xfrm>
              <a:off x="4800600" y="3138120"/>
              <a:ext cx="1847880" cy="900360"/>
            </a:xfrm>
            <a:prstGeom prst="pie">
              <a:avLst/>
            </a:prstGeom>
            <a:solidFill>
              <a:srgbClr val="ccffff">
                <a:alpha val="34000"/>
              </a:srgbClr>
            </a:solidFill>
            <a:ln w="3240">
              <a:solidFill>
                <a:srgbClr val="b6dcdf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34"/>
            <p:cNvSpPr/>
            <p:nvPr/>
          </p:nvSpPr>
          <p:spPr>
            <a:xfrm>
              <a:off x="1218960" y="3352680"/>
              <a:ext cx="3581280" cy="685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marL="119160" indent="-119160">
                <a:spcBef>
                  <a:spcPts val="60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erprise Project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19160" indent="-119160">
                <a:spcBef>
                  <a:spcPts val="60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erprise Level Collabo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U-Turn Arrow 87"/>
          <p:cNvSpPr/>
          <p:nvPr/>
        </p:nvSpPr>
        <p:spPr>
          <a:xfrm rot="16200000">
            <a:off x="247680" y="3333600"/>
            <a:ext cx="1371600" cy="1562400"/>
          </a:xfrm>
          <a:prstGeom prst="pie">
            <a:avLst/>
          </a:prstGeom>
          <a:solidFill>
            <a:srgbClr val="b2b2b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Group 75"/>
          <p:cNvGrpSpPr/>
          <p:nvPr/>
        </p:nvGrpSpPr>
        <p:grpSpPr>
          <a:xfrm>
            <a:off x="1295280" y="3948120"/>
            <a:ext cx="4867560" cy="1233360"/>
            <a:chOff x="1295280" y="3948120"/>
            <a:chExt cx="4867560" cy="1233360"/>
          </a:xfrm>
        </p:grpSpPr>
        <p:sp>
          <p:nvSpPr>
            <p:cNvPr id="557" name="Freeform 74"/>
            <p:cNvSpPr/>
            <p:nvPr/>
          </p:nvSpPr>
          <p:spPr>
            <a:xfrm>
              <a:off x="4876920" y="3948120"/>
              <a:ext cx="1285920" cy="1233360"/>
            </a:xfrm>
            <a:prstGeom prst="pie">
              <a:avLst/>
            </a:prstGeom>
            <a:solidFill>
              <a:srgbClr val="b6dcdf">
                <a:alpha val="34000"/>
              </a:srgbClr>
            </a:solidFill>
            <a:ln w="3240">
              <a:solidFill>
                <a:srgbClr val="b6dcdf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35"/>
            <p:cNvSpPr/>
            <p:nvPr/>
          </p:nvSpPr>
          <p:spPr>
            <a:xfrm>
              <a:off x="1295280" y="4495680"/>
              <a:ext cx="3581640" cy="6858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marL="119160" indent="-119160">
                <a:spcBef>
                  <a:spcPts val="601"/>
                </a:spcBef>
                <a:buClr>
                  <a:srgbClr val="fffff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ross-organizational awaren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19160" indent="-119160">
                <a:spcBef>
                  <a:spcPts val="601"/>
                </a:spcBef>
                <a:buClr>
                  <a:srgbClr val="fffff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mmunication and linkag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71"/>
            <p:cNvSpPr/>
            <p:nvPr/>
          </p:nvSpPr>
          <p:spPr>
            <a:xfrm>
              <a:off x="1301400" y="3949560"/>
              <a:ext cx="4851720" cy="552240"/>
            </a:xfrm>
            <a:prstGeom prst="pie">
              <a:avLst/>
            </a:prstGeom>
            <a:solidFill>
              <a:srgbClr val="b6dcdf">
                <a:alpha val="34000"/>
              </a:srgbClr>
            </a:solidFill>
            <a:ln w="3240">
              <a:solidFill>
                <a:srgbClr val="b6dcdf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U-Turn Arrow 85"/>
          <p:cNvSpPr/>
          <p:nvPr/>
        </p:nvSpPr>
        <p:spPr>
          <a:xfrm rot="16200000">
            <a:off x="285480" y="4514760"/>
            <a:ext cx="1447920" cy="1562040"/>
          </a:xfrm>
          <a:prstGeom prst="pie">
            <a:avLst/>
          </a:prstGeom>
          <a:solidFill>
            <a:srgbClr val="dddddd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86"/>
          <p:cNvSpPr/>
          <p:nvPr/>
        </p:nvSpPr>
        <p:spPr>
          <a:xfrm>
            <a:off x="209880" y="464832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vel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89"/>
          <p:cNvSpPr/>
          <p:nvPr/>
        </p:nvSpPr>
        <p:spPr>
          <a:xfrm>
            <a:off x="171000" y="35053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up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90"/>
          <p:cNvSpPr/>
          <p:nvPr/>
        </p:nvSpPr>
        <p:spPr>
          <a:xfrm>
            <a:off x="1110960" y="179532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n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s Participating in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itle 1"/>
          <p:cNvSpPr/>
          <p:nvPr/>
        </p:nvSpPr>
        <p:spPr>
          <a:xfrm>
            <a:off x="2362320" y="838080"/>
            <a:ext cx="66294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Bent Arrow 13"/>
          <p:cNvSpPr/>
          <p:nvPr/>
        </p:nvSpPr>
        <p:spPr>
          <a:xfrm rot="10800000">
            <a:off x="2895120" y="3708000"/>
            <a:ext cx="1219320" cy="762120"/>
          </a:xfrm>
          <a:prstGeom prst="pie">
            <a:avLst/>
          </a:prstGeom>
          <a:solidFill>
            <a:srgbClr val="6699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Bent Arrow 15"/>
          <p:cNvSpPr/>
          <p:nvPr/>
        </p:nvSpPr>
        <p:spPr>
          <a:xfrm flipH="1" rot="10800000">
            <a:off x="5105520" y="3708000"/>
            <a:ext cx="1218960" cy="762120"/>
          </a:xfrm>
          <a:prstGeom prst="pie">
            <a:avLst/>
          </a:prstGeom>
          <a:solidFill>
            <a:srgbClr val="6699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Bent Arrow 18"/>
          <p:cNvSpPr/>
          <p:nvPr/>
        </p:nvSpPr>
        <p:spPr>
          <a:xfrm flipH="1" rot="16200000">
            <a:off x="3733920" y="4013280"/>
            <a:ext cx="1218960" cy="761760"/>
          </a:xfrm>
          <a:prstGeom prst="pie">
            <a:avLst/>
          </a:prstGeom>
          <a:solidFill>
            <a:srgbClr val="6699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Bent Arrow 20"/>
          <p:cNvSpPr/>
          <p:nvPr/>
        </p:nvSpPr>
        <p:spPr>
          <a:xfrm rot="16200000">
            <a:off x="3733920" y="2870280"/>
            <a:ext cx="1218960" cy="761760"/>
          </a:xfrm>
          <a:prstGeom prst="pie">
            <a:avLst/>
          </a:prstGeom>
          <a:solidFill>
            <a:srgbClr val="6699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9"/>
          <p:cNvSpPr/>
          <p:nvPr/>
        </p:nvSpPr>
        <p:spPr>
          <a:xfrm>
            <a:off x="3238560" y="3098880"/>
            <a:ext cx="2666880" cy="1447560"/>
          </a:xfrm>
          <a:prstGeom prst="ellipse">
            <a:avLst/>
          </a:prstGeom>
          <a:solidFill>
            <a:srgbClr val="6699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ol of Candi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Bent Arrow 12"/>
          <p:cNvSpPr/>
          <p:nvPr/>
        </p:nvSpPr>
        <p:spPr>
          <a:xfrm>
            <a:off x="2514600" y="3098880"/>
            <a:ext cx="1219320" cy="761760"/>
          </a:xfrm>
          <a:prstGeom prst="pie">
            <a:avLst/>
          </a:prstGeom>
          <a:solidFill>
            <a:srgbClr val="a3a3e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Bent Arrow 14"/>
          <p:cNvSpPr/>
          <p:nvPr/>
        </p:nvSpPr>
        <p:spPr>
          <a:xfrm flipH="1">
            <a:off x="5409360" y="3098880"/>
            <a:ext cx="1219320" cy="761760"/>
          </a:xfrm>
          <a:prstGeom prst="pie">
            <a:avLst/>
          </a:prstGeom>
          <a:solidFill>
            <a:srgbClr val="a3a3e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Bent Arrow 17"/>
          <p:cNvSpPr/>
          <p:nvPr/>
        </p:nvSpPr>
        <p:spPr>
          <a:xfrm flipH="1" rot="5400000">
            <a:off x="4190760" y="4393800"/>
            <a:ext cx="1219320" cy="761760"/>
          </a:xfrm>
          <a:prstGeom prst="pie">
            <a:avLst/>
          </a:prstGeom>
          <a:solidFill>
            <a:srgbClr val="a3a3e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Bent Arrow 19"/>
          <p:cNvSpPr/>
          <p:nvPr/>
        </p:nvSpPr>
        <p:spPr>
          <a:xfrm rot="5400000">
            <a:off x="4190760" y="2489040"/>
            <a:ext cx="1219320" cy="761760"/>
          </a:xfrm>
          <a:prstGeom prst="pie">
            <a:avLst/>
          </a:prstGeom>
          <a:solidFill>
            <a:srgbClr val="a3a3e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7" descr="http://t2.gstatic.com/images?q=tbn:ANd9GcSN7_ZHWzXkJI9EhtjL2dVuNxDqVGviJYk8rpK0vQobgkz8KE8UFnVth-q4"/>
          <p:cNvPicPr/>
          <p:nvPr/>
        </p:nvPicPr>
        <p:blipFill>
          <a:blip r:embed="rId1"/>
          <a:stretch/>
        </p:blipFill>
        <p:spPr>
          <a:xfrm>
            <a:off x="1219320" y="3327480"/>
            <a:ext cx="1641240" cy="9144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5" descr="http://www.aors.army.mil/images/amsaa.gif"/>
          <p:cNvPicPr/>
          <p:nvPr/>
        </p:nvPicPr>
        <p:blipFill>
          <a:blip r:embed="rId2"/>
          <a:stretch/>
        </p:blipFill>
        <p:spPr>
          <a:xfrm>
            <a:off x="6172200" y="3251160"/>
            <a:ext cx="1905120" cy="10159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3" descr="http://www.wsmr.army.mil/logos/ATEC_crest.jpg"/>
          <p:cNvPicPr/>
          <p:nvPr/>
        </p:nvPicPr>
        <p:blipFill>
          <a:blip r:embed="rId3"/>
          <a:stretch/>
        </p:blipFill>
        <p:spPr>
          <a:xfrm>
            <a:off x="3830760" y="1062000"/>
            <a:ext cx="1482480" cy="157968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21"/>
          <p:cNvSpPr/>
          <p:nvPr/>
        </p:nvSpPr>
        <p:spPr>
          <a:xfrm>
            <a:off x="4114800" y="515628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11" descr="File:ARL logo.png"/>
          <p:cNvPicPr/>
          <p:nvPr/>
        </p:nvPicPr>
        <p:blipFill>
          <a:blip r:embed="rId4"/>
          <a:stretch/>
        </p:blipFill>
        <p:spPr>
          <a:xfrm>
            <a:off x="3657600" y="5003640"/>
            <a:ext cx="182880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ilot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rate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Organize and implement a 6 month developmental assignment.  Initiate mid and final reviews to track progress.  Develop and publish white paper to document experie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li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February: Release Announ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March: Applications due to HR offic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-9 March: HR offices downselect to eligible candi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-16 March: SES Leadership review/select candi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April: Assignment Beg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 16-20: Mid Point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ober 16: Assignment Conclusion/Final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itle 1"/>
          <p:cNvSpPr/>
          <p:nvPr/>
        </p:nvSpPr>
        <p:spPr>
          <a:xfrm>
            <a:off x="2362320" y="838080"/>
            <a:ext cx="66294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d2d8a"/>
                </a:solidFill>
                <a:latin typeface="Arial"/>
              </a:rPr>
              <a:t>Fellowship / Developmental Assignment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BP Learning Outco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litical Savv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gagement of Senior Leadership of multiple APG organizations and HR to gain support and input to program (some outside parent org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sonal Courag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participated in briefings with other’s senior leader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itment to program past course date (potential loss of Cohort “rigor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am Succes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nowledged differences in opinions (Adaptive Learning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m recognized need to be more strategic at the start and move to tactical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bers held implementation differences through a time of data gathering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h defined by stakeholders supported “leading through listening”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ach allowed the team to reach consensus quickly on the path ahe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itle 1"/>
          <p:cNvSpPr/>
          <p:nvPr/>
        </p:nvSpPr>
        <p:spPr>
          <a:xfrm>
            <a:off x="2362320" y="838080"/>
            <a:ext cx="66294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d2d8a"/>
                </a:solidFill>
                <a:latin typeface="Arial"/>
              </a:rPr>
              <a:t>Fellowship / Developmental Assignment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11:21:11Z</dcterms:created>
  <dc:creator>Beverly Obenchain</dc:creator>
  <dc:description/>
  <dc:language>en-US</dc:language>
  <cp:lastModifiedBy>Claire  Meany</cp:lastModifiedBy>
  <cp:lastPrinted>2009-02-23T23:02:36Z</cp:lastPrinted>
  <dcterms:modified xsi:type="dcterms:W3CDTF">2012-02-20T22:52:37Z</dcterms:modified>
  <cp:revision>137</cp:revision>
  <dc:subject/>
  <dc:title>PowerPoint Presentation</dc:title>
</cp:coreProperties>
</file>