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4BE-7E0D-4E1D-B088-A154A063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0F2-DDE0-4AC2-9978-2BE031E6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C80-C1B7-45F8-89AF-72FF0F86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FD9-0811-4672-98DB-E59778F8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4707-0423-4C6E-8848-C64AA782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8F86-513A-4860-954D-8B0D6E14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64A4-50BE-47F3-9AB3-76315B21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1202-D87A-498B-AF96-F7CE21D9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7244-82B3-452B-A45A-5DC52C93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DA95-7D5E-4B33-B467-5B04EE4C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6DA2-16C7-4B70-9534-A17B41C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B52-5024-4A35-80F6-512D05E0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FCEE-31F9-4ED4-8506-6FB5B65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6735-8EBE-4B85-80A9-24B4E627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13AA-C0C4-4BBB-A16C-4314A1B4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02A-EFA7-4ABA-BD0B-6923D0B8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1B46-8381-48CE-A460-FDC05545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684E-ABE0-4432-9BBD-DF259B98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557C-9A36-442C-BBDF-4916C116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6EEE-9BCF-4383-AE2E-B4E53523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AAC1-A175-4EF4-BC8F-9D55D336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DEBF-6E46-421D-B899-E0B39A6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602-2D66-4BAC-8AC0-4FE9C0DD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63BC-89F7-41C5-9E43-E1522007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8AAE-E1A1-4AAC-B9FD-F4DE286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2152-FE73-4B47-B4BA-81DB360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94FA-89DB-4D8B-8BFD-90D3D439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F08E-27B5-40EE-A7C3-DD0EE5C9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E927-7C5A-4191-B438-AA48B5C0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8A67-AB02-4EE8-BBCF-D95F7A7D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1A7-1D61-41E1-98FD-6180241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C3D-F4D3-4419-8569-781DD444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8A4-91C6-4057-8D7F-82DC6D5E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854-BA64-4033-ACE6-E4DDB6C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C42-43C6-4C37-87F0-91119F9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D17-BFFD-47E1-9EF9-5CC23D5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9B43-3A06-4682-B180-95B5C47440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3118-39A0-43C0-80E7-05BE5BC3D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6FB-4478-40F9-A670-2933AF3E2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810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1C22-A0AE-45A4-A5BC-01D1F044D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FD23-A704-4DA7-BDD6-DF8EF19267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810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4898-D410-4FAB-B946-F932FCF72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NERGY AWARENESS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SAVINGS ENTERPRI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(EA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SE COHORT TEAM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rry Cook (CERDE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yl Cosenzo (AR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idi Maupin (AR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redith Reed (AR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rupam Trivedi (AR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Users\jerry.cook\AppData\Local\Microsoft\Windows\Temporary Internet Files\Content.Outlook\6LNKN00T\COSENZA ease logo 0712 a.jpg"/>
          <p:cNvPicPr/>
          <p:nvPr/>
        </p:nvPicPr>
        <p:blipFill>
          <a:blip r:embed="rId1"/>
          <a:stretch/>
        </p:blipFill>
        <p:spPr>
          <a:xfrm>
            <a:off x="228600" y="380880"/>
            <a:ext cx="1454040" cy="112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jerry.cook\AppData\Local\Microsoft\Windows\Temporary Internet Files\Content.Outlook\6LNKN00T\COSENZA ease logo 0712 a.jpg"/>
          <p:cNvPicPr/>
          <p:nvPr/>
        </p:nvPicPr>
        <p:blipFill>
          <a:blip r:embed="rId2"/>
          <a:stretch/>
        </p:blipFill>
        <p:spPr>
          <a:xfrm>
            <a:off x="7238880" y="380880"/>
            <a:ext cx="1454400" cy="112392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5"/>
          <p:cNvSpPr/>
          <p:nvPr/>
        </p:nvSpPr>
        <p:spPr>
          <a:xfrm>
            <a:off x="259092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Aberdeen Proving Ground as the model government facility for energy awareness and con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energize the existing APG 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tain Buy-In from APG ten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Energy Action to Installation Commander’s top prio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strategy to successfully implement facets of the APG 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 Energy Champions for each ten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C:\Users\jerry.cook\AppData\Local\Microsoft\Windows\Temporary Internet Files\Content.Outlook\6LNKN00T\COSENZA ease logo 0712 a.jpg"/>
          <p:cNvPicPr/>
          <p:nvPr/>
        </p:nvPicPr>
        <p:blipFill>
          <a:blip r:embed="rId1"/>
          <a:stretch/>
        </p:blipFill>
        <p:spPr>
          <a:xfrm>
            <a:off x="228600" y="380880"/>
            <a:ext cx="1454040" cy="112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jerry.cook\AppData\Local\Microsoft\Windows\Temporary Internet Files\Content.Outlook\6LNKN00T\COSENZA ease logo 0712 a.jpg"/>
          <p:cNvPicPr/>
          <p:nvPr/>
        </p:nvPicPr>
        <p:blipFill>
          <a:blip r:embed="rId2"/>
          <a:stretch/>
        </p:blipFill>
        <p:spPr>
          <a:xfrm>
            <a:off x="7391520" y="380880"/>
            <a:ext cx="1454040" cy="11239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5"/>
          <p:cNvSpPr/>
          <p:nvPr/>
        </p:nvSpPr>
        <p:spPr>
          <a:xfrm>
            <a:off x="2666880" y="6356520"/>
            <a:ext cx="381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G ENERGY AND WATER ACTION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G will minimize energy use, water consumption, and cost; while striving to reduce reliance on non-renewable energy resourc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G Energy and Water Action Plan Go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and exceed the requirements of the 2005 Energy Policy 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uce electric energy usage by 30% by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uce consumption of petroleum fuels by 2% per y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uce water usage by 16% by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crease the use of renewable resources to 7.5% of the total 2015 energy u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onstruction and major renovation complies with the Guiding Principles for Federal Leadership in High Performance and Sustainable Build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C:\Users\jerry.cook\AppData\Local\Microsoft\Windows\Temporary Internet Files\Content.Outlook\6LNKN00T\COSENZA ease logo 0712 a.jpg"/>
          <p:cNvPicPr/>
          <p:nvPr/>
        </p:nvPicPr>
        <p:blipFill>
          <a:blip r:embed="rId1"/>
          <a:stretch/>
        </p:blipFill>
        <p:spPr>
          <a:xfrm>
            <a:off x="0" y="380880"/>
            <a:ext cx="1454040" cy="112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jerry.cook\AppData\Local\Microsoft\Windows\Temporary Internet Files\Content.Outlook\6LNKN00T\COSENZA ease logo 0712 a.jpg"/>
          <p:cNvPicPr/>
          <p:nvPr/>
        </p:nvPicPr>
        <p:blipFill>
          <a:blip r:embed="rId2"/>
          <a:stretch/>
        </p:blipFill>
        <p:spPr>
          <a:xfrm>
            <a:off x="7689960" y="380880"/>
            <a:ext cx="1454040" cy="112392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5"/>
          <p:cNvSpPr/>
          <p:nvPr/>
        </p:nvSpPr>
        <p:spPr>
          <a:xfrm>
            <a:off x="2666880" y="6356520"/>
            <a:ext cx="381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 WILL DECREASE ENERGY CONSUMPTION AT AP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ify Current Energy Usage and Monitoring Eff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stall alternative energy sour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e new buildings as a pilot 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PG Vehicles (Hybrid or Electric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stall energy usage met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nants might opt to pay if there is a cost benef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nge how tenants are charged for energy us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y for actual usage not an aver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ergy Awareness Activities at A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ergy usage billboards on po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ticles in APG N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all energy saving features in existing buil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tomatic  ligh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ating/Cooling Temps for Week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graded Win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datory RDOs,  Tele-work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C:\Users\jerry.cook\AppData\Local\Microsoft\Windows\Temporary Internet Files\Content.Outlook\6LNKN00T\COSENZA ease logo 0712 a.jpg"/>
          <p:cNvPicPr/>
          <p:nvPr/>
        </p:nvPicPr>
        <p:blipFill>
          <a:blip r:embed="rId1"/>
          <a:stretch/>
        </p:blipFill>
        <p:spPr>
          <a:xfrm>
            <a:off x="0" y="304920"/>
            <a:ext cx="1454040" cy="1123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jerry.cook\AppData\Local\Microsoft\Windows\Temporary Internet Files\Content.Outlook\6LNKN00T\COSENZA ease logo 0712 a.jpg"/>
          <p:cNvPicPr/>
          <p:nvPr/>
        </p:nvPicPr>
        <p:blipFill>
          <a:blip r:embed="rId2"/>
          <a:stretch/>
        </p:blipFill>
        <p:spPr>
          <a:xfrm>
            <a:off x="7689960" y="304920"/>
            <a:ext cx="1454040" cy="112392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5"/>
          <p:cNvSpPr/>
          <p:nvPr/>
        </p:nvSpPr>
        <p:spPr>
          <a:xfrm>
            <a:off x="2666880" y="6356520"/>
            <a:ext cx="381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GRESS TO DATE</a:t>
            </a:r>
            <a:br>
              <a:rPr sz="36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t with Col McClinton and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d verbal acknowledgement of EASE’s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to Installation Commander (pend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t with APG building custodians (20 Sep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ief APG Senior 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G Comma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hort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XT STEP:  BUILD A SELF-SUSTAIN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tain senior leadership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y Energy Champ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sue 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y and prioritize initi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C:\Users\jerry.cook\AppData\Local\Microsoft\Windows\Temporary Internet Files\Content.Outlook\6LNKN00T\COSENZA ease logo 0712 a.jpg"/>
          <p:cNvPicPr/>
          <p:nvPr/>
        </p:nvPicPr>
        <p:blipFill>
          <a:blip r:embed="rId1"/>
          <a:stretch/>
        </p:blipFill>
        <p:spPr>
          <a:xfrm>
            <a:off x="228600" y="380880"/>
            <a:ext cx="1454040" cy="112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jerry.cook\AppData\Local\Microsoft\Windows\Temporary Internet Files\Content.Outlook\6LNKN00T\COSENZA ease logo 0712 a.jpg"/>
          <p:cNvPicPr/>
          <p:nvPr/>
        </p:nvPicPr>
        <p:blipFill>
          <a:blip r:embed="rId2"/>
          <a:stretch/>
        </p:blipFill>
        <p:spPr>
          <a:xfrm>
            <a:off x="7467480" y="380880"/>
            <a:ext cx="145440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5"/>
          <p:cNvSpPr/>
          <p:nvPr/>
        </p:nvSpPr>
        <p:spPr>
          <a:xfrm>
            <a:off x="2666880" y="6356520"/>
            <a:ext cx="381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hort IV - Energy Awareness and Savings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4:47:34Z</dcterms:created>
  <dc:creator>jerry.cook</dc:creator>
  <dc:description/>
  <dc:language>en-US</dc:language>
  <cp:lastModifiedBy>jerry.cook</cp:lastModifiedBy>
  <dcterms:modified xsi:type="dcterms:W3CDTF">2012-09-20T20:05:49Z</dcterms:modified>
  <cp:revision>31</cp:revision>
  <dc:subject/>
  <dc:title>ENERGY AWARENESS AND           SAVINGS ENTERPRISE   (EASE)</dc:title>
</cp:coreProperties>
</file>