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9.jpeg" ContentType="image/jpeg"/>
  <Override PartName="/ppt/media/image3.wmf" ContentType="image/x-wmf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10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dt" idx="3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C43A17-0734-4A29-84BF-CC9B3C27EFE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 type="ftr" idx="3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 type="sldNum" idx="3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37EAD7-E37D-4F0B-BAD3-2A545D4A36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2FAD66-EAFF-4AE7-B97F-ECF0DD6384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F77CEE-2184-4C50-B202-6E025A41BF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E9723-2766-47B8-BEC9-6AA310A118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E8F85-C6B4-40D8-B36C-EB6C2772AE18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EF9A08-7B58-415C-87C6-1326D6DAA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6AB9F0-5560-449B-B442-DDDA5A24F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09F8C3-87C0-435A-8FB4-0E055894B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804B31-945A-452B-969A-D749117A3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30CB8C-86DC-4651-BB93-3CDDE1222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7ABECB-888A-455F-BAA8-D1BB1A24E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382585-F037-4970-AC4D-4CAA0C0B5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77E560-EE5D-45A0-BABD-1F4010C06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9CCF1C-336E-404A-AA2E-8072C3AEA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730658-1962-4793-A75B-41235DDAE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CD95C-F03D-4087-9830-AEA8530F31A4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8D1AA4-B011-442D-B381-6155A6E65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DDEBBA-AD51-456C-835A-0B9214EE6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5B7480-E1B3-477D-93D9-3EDEC88D7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851FC6-7986-4DDD-837E-107992AD1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136F29-8006-42A2-BF5D-2A3FA3524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92CCB5-2579-473B-926F-519D892AF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7CC6A5-5421-4DC6-A48D-3E16CB25C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DE6B81-BFF1-4C6F-BA86-0A81A69F6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724095-07D8-4D63-9F48-7BCEFB371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973C47-9E18-44A4-8EF7-46C646905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C9AE8-F451-4F26-9FC9-9D9CC155B2DF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034A1C-C132-491D-831A-36D3F2B1F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05CFCE8-EFDD-4FD0-928D-B81FDF69B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197F970-7071-41E8-8A69-C83090B95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5BC4F7E-1D6B-4367-92E4-7821C8874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A6A842D-59B7-4018-816A-D6FE69F0C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08814EE-F825-4365-BF9D-398B6154A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5372925-215F-4035-8D25-35E7BBC84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D50D631-8659-42C6-B263-F7719BF6D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EF906AC-DBAC-4394-B1F0-DF7ED3BA4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44A015F-34B2-4516-B47D-D213D283C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DA2C56-BD08-4C5F-B28B-82D107CA9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786ADF8-1FC1-455D-B8C2-C204EBCDF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1A276D5-BDDE-4756-95D0-54DE5D7F2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1EF35A5-305B-46EB-9434-F9A0B6DA2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AE056E-E92E-4726-AE7A-F5CCEE472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1AC6FDF-1C1A-4AAF-A139-CF6F01B80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2A3F16-B6B3-407C-A8B5-A6EA09EEE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E32439-13BA-4826-910C-C692008DD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A9F79C-B119-4A87-B2C0-2B4CF8FE6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936471-D183-4ACD-AC4A-E46C8A57D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E87D6C-819E-43E7-9948-50EADF703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C2943B-5088-4556-ABF3-B1D9B9C45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9C57A3-2D13-4E69-B4FC-262A925CE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305FD1-4BF7-49F7-9051-D3CBB178F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F61FB9-A906-4AB1-8F36-A4802AC7A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36A938-0A74-48BF-AA25-0EB792252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5B5414-DE2D-4E26-85D8-9CD404D83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557AF6-D44F-4C48-AC48-086A3AC90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AA8BF4-2D1E-49A9-9C2E-62122641B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D1BB8A-03CA-47A6-B1AA-D1D620FDE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6A5652-EA87-4890-A907-BFBBB9477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5AEEB5-C097-4096-9788-4478B709A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FAD18-3376-4E38-BA94-E1C2EE6F79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C11EC7-AF1E-48BD-A153-ED9A9E2C4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5B079A-FF05-41D3-9C8F-3852973D5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7816E1-E2DA-43CE-B94E-8F6CADEF2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760805-8E29-495D-A7D0-086F22414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6F3DF3-CA09-42AE-9301-52CFDE583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A4385A1-2A95-4A51-BCE1-495CAA837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FF6281D-4412-4BE6-B579-A3534B6FA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653E782-B843-4EEB-929D-6F45CC199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B949C76-DE29-451F-9143-46EF9B95B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F051AF8-BAC8-4109-A110-E421BAA58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477D2-B7C5-493E-9155-87E90BA5F74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7A16F25-799A-4531-B215-16FDD5B5B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D4C4DB2-344D-4FCC-B942-0A53F0EBC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35CA2C2-D93E-4020-914A-3AFFBE2AF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B88B574-87BD-46E0-BA0F-B615A29D6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E724497-D8B7-439F-9051-5CC620235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5E2CF0E-38B3-459D-8A46-768C312D3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224E240-D615-421C-A049-B58878E09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10DCF68-228F-4CA6-8FEC-BBFFD684A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2164CA0-1817-47DB-AB33-A839C2CC3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1C349DD-0F66-4E0D-A3A7-AF53B97FD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24181-8F04-4006-87D3-5E9B61AAB9F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2E451D7-2A44-45B1-B6E4-804CD980D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89398B5-B654-4306-BD64-EC45B69F7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B1B1254-98FE-45B2-BF89-498241529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9403C39-2A69-4DF1-AA48-D86E9F274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01CC51E-7669-4ACB-BF31-4EB093E60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67041DA-5CCF-4683-A69D-20D0B4FBF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888F0CA-88F8-46FE-B4DC-4C5CFFD04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55190AE-7E1C-4624-AB48-3FED43966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6E6814B-50DC-40B2-9753-DAFB77752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5FF35AA-733F-4426-8195-31B8EA5B3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DA501-F99A-4041-8CDC-E9115D048BAB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41F44D7-B3F8-49F8-8CA1-83F5D6954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963F40B-49E6-4913-ADDF-2BFBA3D97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FE45F53-59EE-48CA-A2B7-747935F3F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B5DECF4-A861-4450-B818-F2796A78E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14B0C59-AA87-406A-B10C-D1B1B6A3A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1AC36BE-C421-4AAC-88C4-C64EE7B2D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37A01E6-3B50-4FDA-94C3-B9D2909E6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2F9A83C-80F0-47EC-8519-4F7CA479E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C663487-DA55-4005-A9ED-34D93D833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AF4D4D3-F9AF-4C72-87E1-5D0631C3B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E5A16-1E18-4FE3-8778-2A254DAFBF7B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20C10D0-5009-4E79-9F1F-AB1C5826E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5143B6D-1A91-4A53-8B1B-BD47319E5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FC24DA0-0244-4E70-BB16-D68B7D504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81EA616-5AFF-48C3-8BCD-78BC01ECF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7CE4F8E-C345-444C-BDD1-D87247E1A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F864818-9728-4372-81CC-F18CF69B0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26B3239-F7FF-4286-8385-BC7219906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FC0B17C-6B05-4DD0-83D8-0F898630B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57DD499-903C-43AE-B234-28CA02DD6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79B4DB9-C574-4EB2-B7A6-03BC359F1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4F342-0980-479F-BD95-2EF7D69203BC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9D823E5-B6BB-4CFA-9082-5FCB5DC16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229419B-CE40-401E-AE44-0CAFAA435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B49BCA4-8831-4EF7-A92C-00C960173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1DA4D7E-203D-4691-BFD8-0A55BE89D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39811CC-657B-496B-9383-EF2248F35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D6186E9-AEB5-4F1F-A783-041256FA1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64EDCBA-C2A9-49D9-AA08-70E9044E0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8A2D24F-B76B-40A5-A989-76E30D103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438046F-94F7-4BC4-91BE-A0E664121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EE4976A-49A6-4E0C-A804-50CD0FC90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B236C-F50C-430C-8FFE-46C3C4CD1EF0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8E8EAB8-D7AE-4D80-8D7B-B52DD28AC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DA3B22D-2F7C-400B-957C-EDEDAB774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F199995-D337-4BCA-BD5F-90009A47B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1508EBE-959D-4567-B767-E3517743C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536F3B1-5995-47C4-BBF5-645CC6500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F591223-3083-4E13-AA3D-5913744B3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F99101A-C30F-404F-8F58-8E2A89ED3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5943B4F-BEF7-46EC-B521-8B4E07A79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67AF451-250D-4E87-AD21-E163A382A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439FE71-C1EB-4C21-A131-6B833E299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3C8D5-2B76-4F14-9610-49383EBE85C0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091A203-9ADD-4BEF-B267-8B40622D2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1B89C3F-952E-40B7-92F5-CCB79F978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55E2BCC-A273-4342-A9FC-02CDDB42B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934F3F9-84E3-4F12-B655-567E42C5A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61ED087-3C24-408A-82E1-D269AD7C4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99E5400-6F4B-489A-ACD5-FE60A399E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66521D0-AEC0-4412-BF9D-C4FADC8AA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D81095-ACAB-4297-BE6A-012DC0E78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4444EB-5E9E-474D-BD10-177185ABA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B24A0A-3837-4560-9458-91153969D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AA29C0-736D-417D-8DF7-EB6C0E5E37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5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395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dt" idx="2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ECA58A-A0FF-425D-AFE3-D81CB81F2EEF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 type="ftr" idx="2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 type="sldNum" idx="2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72190F-F9E9-4E06-B436-C6CD4B6306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439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dt" idx="2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97D839-10B9-4910-9FD5-4861388A1B60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ftr" idx="3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 type="sldNum" idx="3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40F60B-87AF-4AB1-936B-5F3FCAF3C4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483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dt" idx="3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E4651A-0852-43F6-A4CF-568295E89747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ftr" idx="3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 type="sldNum" idx="3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CD8114-8964-4631-931E-23E4E8580E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0" descr="CMA_ppt_wDUI_front_bkgrnd"/>
          <p:cNvPicPr/>
          <p:nvPr/>
        </p:nvPicPr>
        <p:blipFill>
          <a:blip r:embed="rId2"/>
          <a:srcRect l="242" t="0" r="826" b="846"/>
          <a:stretch/>
        </p:blipFill>
        <p:spPr>
          <a:xfrm>
            <a:off x="0" y="-17640"/>
            <a:ext cx="9144000" cy="68756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1" descr="COHORT Logo by Toby Cisneros 2 16 2010"/>
          <p:cNvPicPr/>
          <p:nvPr/>
        </p:nvPicPr>
        <p:blipFill>
          <a:blip r:embed="rId3"/>
          <a:stretch/>
        </p:blipFill>
        <p:spPr>
          <a:xfrm>
            <a:off x="609480" y="457200"/>
            <a:ext cx="3733920" cy="19191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4DE757-2A20-4C6B-8FEB-CA2259ACAC88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06D322-07E6-47FC-82E0-C3464C9A0F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87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34E445-6BDF-4721-B6E0-FB59D232D7BA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010C8E-B3B9-4420-9304-2E0CEA9603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1EB6A1-69B9-4CB8-8DF8-60F9BC171A9C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17A303-8FAA-461C-AFA3-BD62057D74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92460C-5F7C-449B-96C2-32B88432F9D0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D626FE-AE5E-41EE-8E06-0E9E234F71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0A4E70-F8A7-4684-8426-1A11C5C5EEF9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CE6DFA-D90D-46C3-AD54-52FA5644E6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263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075752-DC42-434A-9A8A-D695C1163DE1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75B05F-B8E8-489B-822A-69FAFC4A8E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307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2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58F08C-41B8-4F0B-BDEE-EEA6ADDF7615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4EA0A4-138F-4EBF-B725-90A56523F7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351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dt" idx="2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A832FB-B86A-4417-842A-AB855C065FF1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ftr" idx="2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sldNum" idx="2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A16CF0-74D5-4A12-99D6-BB63D51B9D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www.amazon.com/gp/product/images/0786439203/ref=dp_image_0?ie=UTF8&amp;n=283155&amp;s=books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G Senior Leadership Cohort 4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subTitle"/>
          </p:nvPr>
        </p:nvSpPr>
        <p:spPr>
          <a:xfrm>
            <a:off x="457200" y="4800600"/>
            <a:ext cx="83059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ok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y Schulze, 16 JAN 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4" name="Picture 4" descr="OPM Seal"/>
          <p:cNvPicPr/>
          <p:nvPr/>
        </p:nvPicPr>
        <p:blipFill>
          <a:blip r:embed="rId1"/>
          <a:stretch/>
        </p:blipFill>
        <p:spPr>
          <a:xfrm>
            <a:off x="3886200" y="327672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535" name="Rectangle 7"/>
          <p:cNvSpPr/>
          <p:nvPr/>
        </p:nvSpPr>
        <p:spPr>
          <a:xfrm>
            <a:off x="1055520" y="4003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dership Book Re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luating Baseball’s Mana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hor:  Chris Jaf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8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6" descr="Evaluating Baseball's Managers: A History and Analysis of Performance in the Major Leagues, 1876-2008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403880" y="1477800"/>
            <a:ext cx="4533840" cy="453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ey Messages from this Bo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agers are primarily managers of men, not of the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 is on people skills and management portions of the job, not just decisions made during the ga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ople and coaching skills are more important than player stat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a manager treats their players impacts their level of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ey Messages from this Bo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 Most Important Qualities of a Mana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 Self Awar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) Ability to Priorit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4" name="Picture 4" descr="http://julielomoe.files.wordpress.com/2009/06/baseball-diamond.jpg"/>
          <p:cNvPicPr/>
          <p:nvPr/>
        </p:nvPicPr>
        <p:blipFill>
          <a:blip r:embed="rId1"/>
          <a:stretch/>
        </p:blipFill>
        <p:spPr>
          <a:xfrm>
            <a:off x="5060880" y="2825640"/>
            <a:ext cx="376560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rporate Athle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45684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ager Skills analyz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aling with players (employe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ablishing and reinforcing r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aling with Front Office (Upper Managem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ing stress, fans (customers), and media (Public Affairs Offi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ac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eg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7" name="Picture 6" descr="https://twimg0-a.akamaihd.net/profile_images/611761585/APG_logo.jpg"/>
          <p:cNvPicPr/>
          <p:nvPr/>
        </p:nvPicPr>
        <p:blipFill>
          <a:blip r:embed="rId1"/>
          <a:stretch/>
        </p:blipFill>
        <p:spPr>
          <a:xfrm>
            <a:off x="6753240" y="968400"/>
            <a:ext cx="1965240" cy="1963800"/>
          </a:xfrm>
          <a:prstGeom prst="rect">
            <a:avLst/>
          </a:prstGeom>
          <a:ln w="0">
            <a:noFill/>
          </a:ln>
        </p:spPr>
      </p:pic>
      <p:sp>
        <p:nvSpPr>
          <p:cNvPr id="548" name="AutoShape 5"/>
          <p:cNvSpPr/>
          <p:nvPr/>
        </p:nvSpPr>
        <p:spPr>
          <a:xfrm>
            <a:off x="0" y="-411120"/>
            <a:ext cx="85716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9" name="Picture 7" descr="http://www.sullivanil.us/SYB/baseball.jpg"/>
          <p:cNvPicPr/>
          <p:nvPr/>
        </p:nvPicPr>
        <p:blipFill>
          <a:blip r:embed="rId2"/>
          <a:stretch/>
        </p:blipFill>
        <p:spPr>
          <a:xfrm>
            <a:off x="6745320" y="4559400"/>
            <a:ext cx="1973160" cy="197964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9" descr="http://images.wikia.com/analytical/images/4/40/Baseballbat.jpg"/>
          <p:cNvPicPr/>
          <p:nvPr/>
        </p:nvPicPr>
        <p:blipFill>
          <a:blip r:embed="rId3"/>
          <a:stretch/>
        </p:blipFill>
        <p:spPr>
          <a:xfrm>
            <a:off x="4354560" y="4621320"/>
            <a:ext cx="192240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0 Best Managers of All Ti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45684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e McCarth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) Al Lope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n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Russ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)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ar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ll McKechni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)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illy Mart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ter Alst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) Frank Ch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hn McGra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10) Fred Clar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AutoShape 5"/>
          <p:cNvSpPr/>
          <p:nvPr/>
        </p:nvSpPr>
        <p:spPr>
          <a:xfrm>
            <a:off x="0" y="-411120"/>
            <a:ext cx="85716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ote I Would Like To Sh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457200" y="2060640"/>
            <a:ext cx="5246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indispensible quality of a baseball manager, their players must respect them.  This is an absolute, everything else is negotiabl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6" name="Picture 5" descr="http://ajiacomix.files.wordpress.com/2012/06/uncle-sam-respect.jpg"/>
          <p:cNvPicPr/>
          <p:nvPr/>
        </p:nvPicPr>
        <p:blipFill>
          <a:blip r:embed="rId1"/>
          <a:stretch/>
        </p:blipFill>
        <p:spPr>
          <a:xfrm>
            <a:off x="5842080" y="987480"/>
            <a:ext cx="3132000" cy="41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This Book Meant To 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00s of players performed better under certain manag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istics of runs scored vs runs against proved that managers who managed &gt;2000 games were more successf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agers come from all walks of life; as long as they treat people right, they will gain their respect and trust, resulting in hard work and increased produ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AutoShape 2"/>
          <p:cNvSpPr/>
          <p:nvPr/>
        </p:nvSpPr>
        <p:spPr>
          <a:xfrm>
            <a:off x="0" y="-411120"/>
            <a:ext cx="85716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AutoShape 4"/>
          <p:cNvSpPr/>
          <p:nvPr/>
        </p:nvSpPr>
        <p:spPr>
          <a:xfrm>
            <a:off x="0" y="-411120"/>
            <a:ext cx="85716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6T12:32:45Z</dcterms:created>
  <dc:creator>Trish Mooney</dc:creator>
  <dc:description/>
  <dc:language>en-US</dc:language>
  <cp:lastModifiedBy>Trish Mooney</cp:lastModifiedBy>
  <cp:lastPrinted>2011-06-13T12:29:39Z</cp:lastPrinted>
  <dcterms:modified xsi:type="dcterms:W3CDTF">2013-02-01T16:20:40Z</dcterms:modified>
  <cp:revision>71</cp:revision>
  <dc:subject/>
  <dc:title>Leading with Impact</dc:title>
</cp:coreProperties>
</file>