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3D964-7CAA-4C10-8835-A6C452F6B5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517C7-6A8F-419D-A60C-E01154570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mmend removal of “told Project Not needed”…….we can state that in the brief. (AGREE - DELET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roject name “Computers for Kids”……kids and puppies …..everybody loves them. (WOULD LIKE TO STAY WITH DoD CPL AS THAT IS OFFICIAL NAME OF PROGRAM – WHAT DOES EVERYONE ELSE THINK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meet with the school system. (AGREE – BRIAN IS WORKING THIS THROUGH HIS WIF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B8676-12B7-481A-9224-FFE1000E7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mmend removal of “told Project Not needed”…….we can state that in the brief. (AGREE - DELET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roject name “Computers for Kids”……kids and puppies …..everybody loves them. (WOULD LIKE TO STAY WITH DoD CPL AS THAT IS OFFICIAL NAME OF PROGRAM – WHAT DOES EVERYONE ELSE THINK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meet with the school system. (AGREE – BRIAN IS WORKING THIS THROUGH HIS WIF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CF96B-A43E-492C-9475-D2D4DA60E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levels of management become more guarded and protective of mission.  We must share and get them to see the bigger picture as le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ue leadership is hard especially without resources or authority to direct or manag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6414B-5A01-4501-A3CD-E2A4294AB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92FC-23D1-45C5-BEE2-E8BF9C7D7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C5B0-89B8-4F4D-82EE-C51C95EE3F1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04304-3405-42F3-B673-D41C7776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58AEB-EC54-4F76-936C-709E5153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91018-A200-4467-B620-2821DDC7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0C2C2-9139-43CA-8C03-A1A499CF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0D15F-C669-4E1C-8CCB-D9FCC729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E62A1-BE6A-4352-B40C-6469DCA0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190DB-8C90-46E0-A110-EEA8F47E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5E2FF-7703-4429-AEDC-B56870E1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56B53-8436-4710-BB5A-2C12870F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20876-B3F1-417A-AF9A-6F255E2B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2B6E-436E-4F6D-82CC-0CC22472A8D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08C5D-F6FF-460F-924B-7C69B942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E7BFA-7FA5-47D0-98F6-DD540BFD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FC0AA-9ED0-47CE-B5F4-138AB69A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2E816-5343-4915-8FC6-59A94FAE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D4F0A-3949-4AC3-A556-8FEBF625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58EF3F-44F4-4DA7-952B-4B0CA37B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61A52-3FBB-46F6-97D1-C3EE0930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460FA-A6AC-453E-B6C5-EA945428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A6F11-3BC4-4D18-AE7B-5BDCC8CE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AF0EA1-78A1-4B98-8872-76B3B80E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CE41-4FA2-4534-9F58-60C7FADEDA5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B7EC82-DAF5-4B8E-B88E-A61390DF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5BCF6A-EA50-478F-934A-91DB18AD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4EEFCF-1112-4D20-8E84-904415E2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319A20-7E39-4F37-BD1F-B2B609D6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2ECD94-6022-4C6F-AF2A-51C47D53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2948AE-5F94-4C07-955D-3412CFA9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8CA438-4A12-4324-BB69-74694722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B33EED-22A1-4CA5-B2C7-557C3961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843636-0306-4589-A128-ABD81773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DF7E4A-CF6A-4A11-A455-9807DDBD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12E59-1AB9-4ACC-9FA2-19E41DE0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F605C0-6BA2-44D1-868B-ACACC6B2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0937A7-AA4C-4FA3-9205-556CC547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8577F3-3B20-4414-990D-BABA9B33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F3520-1C9C-4519-AC98-E6D19DEB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EAE47-DC3F-4098-BE85-A5B00335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C0891-CD91-4FD4-9B8F-F4958509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E3C59-EBB0-4983-9167-C9C3E179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E3C4D-3862-4F80-A621-AC81638C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184E77-3338-425C-A41D-65B5DEEF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0EA46-C678-4EEE-8B37-E28C3EAA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8053F-110D-41B6-A085-33FED153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B1EF8-90B1-41D6-90CC-523CE18F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23338-DD53-44AE-8A15-201B9376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9F220-16FB-41F2-8531-2AFF08F3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0132F-5C27-4F23-8935-E175322D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69DB3-BE4A-45F2-AA79-F7FEEA54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46E16-A0A7-4144-B9AC-F8EFB8BE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DD20B-C7D1-413C-8C7A-C49D6DC0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AD8EE-FC72-436D-B824-52178A54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6BB15-5B36-4D29-A8AA-A01AC5A1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C052E-3C50-4E02-B64B-3AA2C793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A1F0-8A8A-4007-875D-9478D462C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8AB92-BD1E-4B0E-9A83-E06DCC56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B1B6E-C5E6-4956-8E87-FB35B7B9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8DDAE-65CA-4504-A5C3-C194AD1C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C040C-9984-4E8E-B935-09BE0314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23D03-CE0B-4662-B3CD-76B85966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B86215-E661-4762-93B3-25949470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F8C0EC-7070-47E4-B006-F2A68CB0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6AC328-4197-4D71-9063-A1673F18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2A6CB7-2890-4556-9270-FC9D0739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3BB335-B1BA-4B2C-BB81-D5C93C4B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5BA5-AF59-4487-8FA7-AE58DEC86C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EF01E4-38B2-4E42-B771-968B3C5F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3ED9A8-0965-4328-B7EF-2A42F218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131F87-5CB7-40D8-B9A8-FD326E8B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4F3B7B-CDC6-473E-9722-9538F116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4EF6D4-7E10-4334-B332-0528E2D9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12B066-EFBB-4C16-BFC8-D41388FF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6B908-9D17-4C83-831F-7112D20F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F0CB82-E9B6-46D0-98FE-DA3BA3AB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960F14-4901-4513-A8F7-67C7BD72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FF754A-6AE0-411B-ACF9-952B82C8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4ABC-8622-4A92-A8EA-9A4DDD7B05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8BFA5B-C610-4F9A-9033-4001AFF1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87FAE5-CAF8-49EA-BB2D-05DEBFCC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7DC9D-C0CF-4F05-AAEF-C2A07C3C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6DB7F5-EF54-4A0B-835B-539DAD7C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BC9003-40BE-466F-BBB5-D57C9235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684119-87D4-4A31-B3F6-380C5E75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EC9328-5F96-4C7D-BAD8-1A798568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DD15C-93A4-4751-AF88-9845309E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E8A595-2EC1-4CA7-9268-414F0C0B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F75B92-0149-4FC9-BA55-74A62B75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A9CB-AD9C-4E70-A891-CA2CC8F48F2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F78D6E-CF32-48B6-AFF2-8F580DD8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D70E5D-8B70-4F2C-ACF6-05A91E0D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ED0D9A-6EBF-4D92-A31A-850EF6FC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5A65E2-7F33-478B-BD38-E2A48A1D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D82217-0C15-4901-BA18-D3A2DE12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30191B-47CF-4E31-9064-234704E6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FC9327-B88F-4ECB-9CB7-FDED09F0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5B32F6-F4C2-4264-920E-6F3A501D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F820C2-B5BD-4A7E-B94A-64929BD3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733392-0DBE-442B-BA95-970C69BD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CFE5-539B-4984-9948-C655DC10D88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B3005C-43EB-430D-8D4B-7DCB7723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BD69D3-A717-4C67-84EA-391A8571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26F783-DBBE-40C3-996E-82AA6893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C3037C-8B18-43A1-BC3A-3C3D3379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3C2CD4-0C28-4301-8B00-60610508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0D5688-DD4A-43F9-91C0-3DC88096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9F66FC-FE4C-4F28-B860-00A894F5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9B6166-7AAF-4CC5-9512-A3D249A1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624A27-940E-4F8A-B7F5-9C6003FA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5D4730-0295-48E3-9A66-0EB6C53A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CF32-53DE-4C7C-8FF3-AF7EEC04D2B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37968E-5D4C-4504-8792-50D1CD66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FB9A2B-6D9B-4DC6-8072-85958D91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72D159-42F4-4038-8243-595B40B7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BC304B-95B8-4CD7-BBA6-B7303791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E8AFDF-16D1-4E81-85B0-1330E636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782A53-5F1C-4A58-8979-21E366F5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0DBD6C-8723-4072-A79D-6AA3E1F3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004598-8B05-4EC3-A0AC-929E48A8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E4636D-21D4-423A-B2C2-650118CC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FAD96C-71D0-4EB6-9E8E-853499AE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7024-4303-473A-AA2C-CE06D411F96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1A3079-22DD-4986-BDFA-529AADB1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F045E8-BBAD-4714-94ED-369EB081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2C82FF-230C-4B57-B788-AF4524AD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2DA11F-DB08-4D3D-AE4F-C5A75151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728945-A6CD-490E-AF4C-0B8F6059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0471E0-A66E-4B36-9A59-26C6C7CD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F0F2C9-637E-4BFD-BC1B-1BA582A5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40C686-3665-49E2-808E-3AD75A58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2B2A7B-7532-4343-B521-96C8ECF8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8AC080-4048-449D-B62E-70ED14ED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657C-E775-44D8-95E4-6C3403251EB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26E64F-8429-4BD0-B5FA-469B52CC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9FF88A-563A-415C-BBC8-7D1C6E6D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0358DA-F7B7-479A-82A3-6D2A3E03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BA02D1-70C5-4B6C-9CA7-DAFE5CD2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A4ABE9-3999-4F10-8B1E-2DB6E6DA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B28D42-F709-4B67-977E-768ECF95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5C6849-694D-47A1-9C68-3A2D3C68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BB878-4579-4072-8F5C-0F12BBC6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7AFEB-30C9-4B45-9319-B3000C67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21896-B506-4C11-8C69-2D101B5A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9B149-2AE2-493B-82B8-BD2A2C9AB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60D46-00C4-4450-B0B1-4266A84534A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7CF8D-B32C-42C2-8C93-3D88D2C74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5883F-8D10-48A4-B8F0-186804C0C1E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05138-C5CF-4385-8798-CFA68DBC5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F7C90-C81D-443D-9463-3D53B362BE2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818E6-89B7-43D8-987D-F46E2739C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72670-8074-465D-A470-44A7F703DFD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72165-A8C9-42CC-9D55-061BBD622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17A1E-FC49-43D2-AE6E-40C83F0DCCF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22C20-A065-4628-9C9C-0F2E31E61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B7D75-C799-4A32-87EB-87659D2EF35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A1953-7BB3-4981-9707-07AA78046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7D858-859E-4D37-9476-5A507AFC34B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F2B7B-61B6-4AA5-A5B6-44376F409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90874-14F1-4283-A2B0-D59164523B1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79A64-1B9C-4691-BBAD-2B8C856CE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63203-E206-47F0-A6DF-C765F0CB93C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A841F-D9BF-4702-975A-1D4172DF4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E614D-1167-4F47-9047-5BD45438A75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23D5D-7F06-40B4-A711-EC7E52059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48046-631F-4BED-883E-56E8BD0A08A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7D5E7-98D3-4048-A83F-67DE8CE2C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2057040"/>
            <a:ext cx="817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1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69920" y="48006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 Computers for Learning Program at A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y Goldsmith - Dave Hoffman - Brian O’Donnell - Sue Nap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19024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re “D’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” Dominance, a leadership style in which tendencies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immediat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ing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ing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quick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ing the status q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ing tr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gine then, what happens when this group of “D’s” find they can’t overcome the opposition to accomplish their expected result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3"/>
          <p:cNvSpPr/>
          <p:nvPr/>
        </p:nvSpPr>
        <p:spPr>
          <a:xfrm>
            <a:off x="4734000" y="2544840"/>
            <a:ext cx="311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 GET THINGS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9192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Journe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74600" y="1698480"/>
            <a:ext cx="6378480" cy="54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roject: APG Volunteer Cor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Intent:  Establish APG Army Volunteer Corps as the premier DoD program; providing unfailing support to APG and surrounding communities while building relationships/networks across APG orgs that result in improved work relationshi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ed APG Garrison Managem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with APG Lead for Volunteer Co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" descr="C:\Users\Susan.L.Nappi\AppData\Local\Microsoft\Windows\Temporary Internet Files\Content.IE5\1ATZ235U\MC900439384[1].jpg"/>
          <p:cNvPicPr/>
          <p:nvPr/>
        </p:nvPicPr>
        <p:blipFill>
          <a:blip r:embed="rId1"/>
          <a:stretch/>
        </p:blipFill>
        <p:spPr>
          <a:xfrm>
            <a:off x="6553080" y="2417760"/>
            <a:ext cx="291636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5" descr="C:\Users\Susan.L.Nappi\AppData\Local\Microsoft\Windows\Temporary Internet Files\Content.IE5\1ATZ235U\MP900433172[1].jpg"/>
          <p:cNvPicPr/>
          <p:nvPr/>
        </p:nvPicPr>
        <p:blipFill>
          <a:blip r:embed="rId1"/>
          <a:stretch/>
        </p:blipFill>
        <p:spPr>
          <a:xfrm>
            <a:off x="6539040" y="3044880"/>
            <a:ext cx="2795400" cy="280332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9192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Journe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69920" y="1056960"/>
            <a:ext cx="723744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roject:  DoD Computers for Learning Program (CPL) at A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Intent:  Establish the DoD Computers for Learning Program at APG; improve how APG is viewed by the community, while building relationships/ networks across APG orgs that result in improved work relationshi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ed APG DLA Disposition Services support and produced process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o identify schools (private/public) and non-profit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ed Command M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4"/>
          <p:cNvSpPr/>
          <p:nvPr/>
        </p:nvSpPr>
        <p:spPr>
          <a:xfrm>
            <a:off x="7205760" y="362592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cutive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Journe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62000" y="1844640"/>
            <a:ext cx="367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a Brick W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nd Private schools not interested i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GEEF, a non-profit found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plan to loan out laptops through GEEF was rejected by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F now working on a partnership with Community Centers in disadvantaged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" descr="C:\Users\Susan.L.Nappi\AppData\Local\Microsoft\Windows\Temporary Internet Files\Content.IE5\E4LVMKO1\MC900157041[1].wmf"/>
          <p:cNvPicPr/>
          <p:nvPr/>
        </p:nvPicPr>
        <p:blipFill>
          <a:blip r:embed="rId1"/>
          <a:stretch/>
        </p:blipFill>
        <p:spPr>
          <a:xfrm>
            <a:off x="4137120" y="1461960"/>
            <a:ext cx="48546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8237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 in agreement that unless GEEF can implement a partnership(s) with Community Centers, we ran the project to its 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any constraints associated with implementing Executive Order 12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 strategic intent:  making a difference outside of the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will continue to support GEEF and act as unofficial liaisons with the AP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ORT 3 supported the Career and College Fest on 18 Feb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 that COHORT 4 considers implementing an APG-specific project in support of GE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71720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262080" y="1324080"/>
            <a:ext cx="86198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it is the journey and learnings along the way that matters and not th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be hard for a “D” to 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ntentions are not enough to get a program off of the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to be in compliance with law/policies/regulations and you need senior management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working relationships ar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and maintain your networks, can’t do it all by yourse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levels of management can become more guarded and protective of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l your vision and help them to see the bigger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heck what is stated as fact – go to the regulation/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’t “assum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G is a community of many talents and abilities and we all need to be open to leverage help when off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need to work as one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 is a challenge when you step into an area that you don’t have the authority or resources to direct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y to exercise REAL lead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Claire  Meany</cp:lastModifiedBy>
  <cp:lastPrinted>2011-06-13T12:29:39Z</cp:lastPrinted>
  <dcterms:modified xsi:type="dcterms:W3CDTF">2012-02-20T22:54:19Z</dcterms:modified>
  <cp:revision>62</cp:revision>
  <dc:subject/>
  <dc:title>Leading with Impact</dc:title>
</cp:coreProperties>
</file>