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8D1C-EA51-4736-8CD2-61EE6AE32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E9E8-8DCD-4676-B49C-483929C342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7EEC0-05C9-443C-AA91-61BD0FFB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08E87-5F86-4471-8785-59C5662E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39639-EF6C-43F5-ABEB-5DBB14B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46F19-735E-4B31-950F-9D7F193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BED10-9826-4A6B-B208-1C5B43D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67A6F-2ECD-43CD-B897-AC3D2890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66837-C926-4897-8225-C6F37586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17540-C9A6-41EC-A4AC-37AA5D1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2AB7B-F8D2-41BC-91CF-31B374C4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A7BB1-B945-4421-AB2B-FE108001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D016-D631-4968-B7AD-26F35D6BCB0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515D2-3579-4D2B-A5EC-B601D28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23631-C59A-43DD-B942-DC3BBCD4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DC51D-B0A2-4231-8F05-231945A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4412E-65F0-4EB2-9AD6-F428A2C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75F06-631F-4463-A06A-A1FE3A6C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0C9F1-5A6D-459A-BDD3-36092BC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F50D3-C2B1-4AFC-8287-D869321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E2C47-B9FC-4DC6-98AC-199ED96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D5AFD-99FA-4D94-A7DF-B6BADBA1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975F1-3E3F-4E1B-8325-46D2367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5CC7-945D-4EF2-B883-CBC6F4EE3CB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41481-62CD-42BC-8D93-F87418FB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7ADF88-CD59-46F0-8590-353E54B7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185502-4F5C-48D9-A0E6-8D296C4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ACD009-4280-41C9-B79A-AB4E407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517A35-367A-4874-9699-7FB10A1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DD97C6-60F3-43FC-B560-DD21C00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B3E12D-2C48-46DA-9F5F-456DD3B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5D9567-3A5E-401A-9017-DAC2CBA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922ACF-A716-4F07-BBD2-8093FFC6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D98112-0BDE-422C-B8B5-DDAC65D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C33E3-D09E-4F17-A868-DC9ECA89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CDC635-82C2-4B51-96D4-E06C8D40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0811D5-9245-4B7B-8985-24137E7C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CF4A6-EA1B-44AD-8A4D-BEE8D78E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8F98D-30F6-47DB-9E0B-7A79954B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98B83-7052-4A02-9593-14E2293F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75C0D-E46C-4AA4-97F7-6C1019C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05DF0-B945-44C1-9040-C1EEA413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C8C87-D195-4B99-8822-EC5B7F3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62184-5941-4E0E-935F-AF119D1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8F2A8-953D-4122-BA3F-D51697B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237D4-40BC-4E4A-BC4D-1A164A43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8608C-92AA-4BF9-BAFC-3B8B8E4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B528E-8788-4289-96A1-11859E8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1229A-50C2-4F14-905E-DAC44ECB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18E61-1162-47A9-AFC6-EAC820EA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9BB81-9847-4755-849A-05C5B447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C8C76-AA2E-4D67-9C75-4928606E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8146C-331A-43BC-915D-F2B98AD8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E46D-A047-4BC1-986E-A1F952A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D2B93-961F-46D7-B3DB-FCC3639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61667-3A63-4DE9-AF1A-45BD2C6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FBA1-A6B2-4356-94D7-7C76CDE28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27DDE-176A-4AD8-B663-AB61A27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9207-0D2B-4CB7-A7C1-47DEEF2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A044-5775-4F45-BE1A-983BAAE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39238-720B-4F21-9B83-9CD2DCD0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FDFBB-0D2E-4864-BFC0-913712E1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B7F02-241D-441B-8924-D4A28FF3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EC1DC-7A2A-4E63-8E88-525C8E2B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D129B-40E0-4624-9DBF-6DD00A4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3B795-BE23-4FBC-A246-D8CF4C8E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A6010-A2BF-491D-B895-49A8F30B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2B9F-A38E-427F-A845-6A287F18A7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CF5A3D-96AD-4A4A-B891-5F52AEBF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BB745-249A-44AC-87F9-2A7FE59F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1AC06-9047-48C9-A80A-2FCD0C9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7E04D-C364-4525-A350-D342D5B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8C883-1999-488B-A4CD-8AC5F584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1ED56-B52B-4969-81C6-0C6C6DF0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FE63D-C0ED-482C-8069-0B4FF8AD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73811-EBF3-4045-BBE5-9221A6A7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C16E6-E4DA-4DE8-B691-4835BED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E309B-239A-4A68-AFF0-32791247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50E3-B737-4599-98DD-3983DA0400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79B6F-5FF1-4FE3-ABB7-1B1062D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C2373-165B-4B6F-A723-7D14070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D0DE5-D6BB-4F3B-A0B5-7E7E0461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7CA73-F569-48C8-9C82-2A3F57F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05E69-AF5E-4410-BE88-B579D54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4D4EE-DE85-42A7-A67A-4CBA9A15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5F607-A790-4451-B3AE-3F0F0B7C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403A1-0C86-4925-A00A-4005C16B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9A320-19D9-492F-B7AB-B7DC8366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7D400-CE25-4C5D-B4ED-A236E069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15E1-ED0B-459B-9101-BB47865540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B7291-21F9-46A5-9AFA-2DF24F2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B82CD-2E37-476B-A937-FE6D4201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B8B74-BB4D-4646-9D2A-58FBB54C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A1E32-AEF6-46F0-A7C4-151964C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DA1F9-8BF9-4C5D-AC5B-899E682B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95253-5058-47AE-98DB-532C8B3D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EC091-09EC-4F34-8F6A-93EBDC8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EA626-E8B7-49AB-9840-E34E942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B31A6-13C8-4BB7-9F98-F35E847D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4CAEF-7BC3-434C-B2B1-8EBA8A7F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0FA3-0009-46E7-8D28-B47ACF4A72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10987-9E63-4FE8-9FDD-35BA20C9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CF9349-54CD-46EF-979C-D80D12C7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D3281-6652-4A74-92DD-508BB829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DE4A8-35BC-4C9B-9C5F-DAA4F6F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A8466-D87F-4ED3-8327-FBF1CD04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BC6A3-930B-45C5-A8E5-5F94FF5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E1CD2-4FB0-49D8-88C7-DC500219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A04C3A-21BB-4626-A040-D7654D3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A179BB-5CAD-482C-ADD5-B6F48C5A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A89F19-B6F4-4135-BB57-E1F5767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8456-6706-498E-BC64-D55D4FCC88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184FA-625E-4E53-9343-56503573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2FA5BB-A2C0-444D-AC08-6422210A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9A2E7-B73D-40B7-B551-F0AF434B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7B456B-B88F-48F6-9D81-42D38A19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A65F07-60A5-4F92-8B2E-E29AF65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064A3-1AEB-4140-85C9-C2106865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D7467-0240-4160-83D3-DAAB342D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AE440-CA17-4B33-BD82-592EC21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C1F9B3-99C6-4871-92E0-6BEBC21B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40EB80-8E06-49F1-8AAC-C0791D9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FB88-F626-494A-BD7D-7B64291C54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0FA41F-2109-4C82-824B-921D0FF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E47226-11C2-4739-8F55-8D3819F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E4EF1-EE55-4355-854E-DB663050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07BDD9-1243-4A33-A76B-4FBFC915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CE7CC-2262-4602-BA42-A0ACBDC7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C7CA71-F451-4280-ABCA-8BE95BFE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F5B8D6-8FEE-4503-B29F-2CC99F1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324176-AB52-4ED7-89FB-FF420EC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79A49-5670-4089-9857-D4AE4A28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4EB7E-15E1-4266-AFA9-FEAA159C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44FB-2DD8-4A0F-B5EE-CF0E84F85E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6F2CE5-036E-479A-9947-3365B70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7851D-131E-41AF-9453-AA1087E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87D55-B8C3-4408-B172-63E89EE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4913ED-1BBE-4538-BFFE-68CD12E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232C40-2458-43F7-AEF2-C8FC611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4C66A-61F6-4232-B0FF-00258F12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AD4EF-B3FF-401E-9796-1EFE35AE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6C33D-1E05-407D-B67D-83FFC94F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1FE36-8442-4E27-BE6B-A7EC8304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ADFE6-9CF0-4A56-BDCA-9E1703C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1715E-A939-475D-84A7-002AEF05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40A13-D9F9-4E95-A1B5-761852977C8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C894F-4B8A-4F7D-A646-B80D37EE4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9492A-1B34-401B-8854-18DFCE31669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ACF36-AB83-4F4F-BC5D-2D810EB25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1C6AD-9E52-46F6-9C78-64990B0D83D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90509-7AAD-4ECC-A74D-889C2BB19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01CC7-CFA6-426E-82F8-070860FD745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9C14C-0006-4FFA-B127-B6CD4A363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71E78-C12D-40C6-BB2E-C0AA458A7F0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CA1E0-3C12-4D65-BD17-4A0172909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18A2A-4739-495B-9C59-C95FE9C70A3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E1B82-545C-4AE8-9F32-4FF01C926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38A2E-E47C-4FA9-8DD6-29A1081FBC5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48886-2E2F-4183-BD2F-457B6D16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54A31-8DF1-4615-A5F9-BB05FEDE06A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AB3BC-F45D-47A2-A217-50325ACAC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638C1-0B07-4E06-9211-BD05E43B9A9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B900D-F866-455E-9247-02702A86F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9C791-21E5-4585-99DF-5C21311D707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C3E0E-51FB-4E8C-A158-16D875BD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427CD-459D-4E3B-8E4A-69E7BA61594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5EDD5-2027-4C72-B4C4-91A5A66F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actice of Adaptive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n Heifetz and Marty Lin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6" descr="41FMIpGQe+L._SL500_AA300_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Claire  Meany</cp:lastModifiedBy>
  <cp:lastPrinted>2011-06-13T12:29:39Z</cp:lastPrinted>
  <dcterms:modified xsi:type="dcterms:W3CDTF">2011-06-27T14:35:00Z</dcterms:modified>
  <cp:revision>11</cp:revision>
  <dc:subject/>
  <dc:title>Leading with Impact </dc:title>
</cp:coreProperties>
</file>