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B576-9461-426D-9FA8-D79FF1842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15C9-2F12-46D9-98FB-83AE766216D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51A32-9919-4FF8-B0EF-E8F3C12E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2EA4D-0EB9-48C3-BDC5-5E7A525D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65185-34A0-4721-B448-0BC46F23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3122F-FF8E-4A1E-8BCF-C7F78EF8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EDC1C-B7D5-473C-A018-80A755E2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104D6-FB16-4AE1-B9D1-6CDC7BAC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B5DF4-B76E-4953-8EC1-CAFF9AA5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6D162-1D03-4AF5-8F4F-B368CC3E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2337B-AF36-4DCD-B09B-A665C7C8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9FF0F-2393-4247-BD06-FAB4DCD8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B922-B1BC-4D47-A903-AA0571BB975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229DF0-CFFB-43AA-92D8-C4F1043D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313C6-6EA8-43B0-BB98-4194F390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71EE9E-CAB6-4BCD-B8B3-FCD1A3E3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CC8D7-6361-4656-970A-82872CB5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0F14C-77EB-46D0-BB78-50E50092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1E386-365B-4439-8B7F-E99B7810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262C7-2E11-41C7-ACBE-41CDCD87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EE9D8-CD45-493F-942D-3AB7BC86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D04CF-9928-401A-B9B1-00EA0B35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026D3-BEEB-45D1-A1BF-A78ECDB1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8C9A-AD90-4DBC-BF36-1F0AD3F8320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AFA1F-9AE8-4B6E-90F1-4C146762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5EF366-8916-49D8-8DA1-EF7166E3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FCA970-F3C7-4694-B364-21FC3CCC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93572F-E46E-4068-ACB8-7C2CF4F8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4062B7-853B-4B4C-A359-1472D2D4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22B1CF-C631-45CD-9AC4-66CB52E9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A0AF50-64D5-4E62-87F5-E3066447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5A8939-6AA8-488D-9048-EB9DF2ED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E819F1-56FC-41CD-A7F2-AB4B0265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DA1241-059B-4399-9A3F-B27F5F86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52CA1-5D3C-4FC3-B035-57823525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CB7A16-9D15-4C62-9F39-952E473A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5E647A-CD53-47BF-9093-9F4645B2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89AA67-CE79-4589-B421-4DD19055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C50992-C53D-43E4-A8D0-25B4AF6E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063E7-14BE-4AE8-9E90-095758ED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96838-8AF4-49DC-BEAB-9DD9646C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BCD5A-0E5A-4BDA-BA2F-7776C42E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8A954-6F5D-4049-9722-1CCE3E67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CD5EE-EF5D-4943-988D-23182E30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4AA58-169A-4A83-BA7B-F1A1AC98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4AE90-53D0-4755-8DEB-DEE05BB6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338AD-B410-4343-A352-4D7EABB6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1B14B-A882-4EE4-8CAC-F108F35C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59DBA-D4D8-4428-ABE8-533C40DD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11CBE-AA0F-46A2-8B0C-2C955509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24D0D-BDF6-45A6-970E-4FE5BB97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79A02-9F1E-4643-9C0D-04337E02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8B9A7-869B-4205-866F-7852AD34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AB2C0-3C32-4179-A5AA-E155B794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10F01-AB37-4E01-A435-207100C4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46AD0-517E-4591-B376-ABCF8F9B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D764-2A2F-47A9-BAD1-E9BB29D76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B3A82-3C07-436D-A036-D2437ECB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544A8-0040-4E85-AB55-E6F8DD7F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9AC90-96B5-4D4C-97AE-11658A70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B739D-07C3-48FF-9E41-02391780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D9579-64DE-40DA-A8C0-186EA323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DB52CC-6875-4B73-AF3B-AC851CAB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EC1821-1959-4964-94E8-2544D735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EF0888-1C82-419A-A901-7D2B7BD5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0A7453-832C-4062-8D01-A176EA81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4B1C6D-05FD-4A84-9F45-9999EAF4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FAC7-88C9-4FBB-BDC4-3D91D39013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228947-2648-4815-A47B-08C47379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CAE366-4802-432A-9F72-225002B0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FC7622-4CB9-4299-BA63-BDB0F90D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F9BEEE-BDA7-40DC-B859-0BF95A75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3842B3-46F1-4093-91C4-63E60F58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12A85D-6460-4AEA-BB22-7FD06BC0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CC826F-BA90-4D7F-8E3E-07E292BD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7D26B4-0811-47CC-A749-259F6843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37FF29-4F83-4D9F-B650-62F84338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BD0173-2FF8-40EB-B49A-4DED6B7A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4BDC-6B24-4A26-99B1-56755618C5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167B68-A4DD-4395-BF18-4AC0D295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F36B81-9091-478D-AF5C-99A6D584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1F3AD0-FB6C-4239-83E6-3557C1C7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F66E68-C090-4C79-BD57-F2FCAB97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DF2C40-8CC8-49E9-9337-C0667343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0B0ED-8C64-4413-95AC-7CBE8918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7B03E-4551-482F-8DBF-BB02D591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A130A-9DB8-456D-B731-C66DB16C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E43653-082F-45DF-9CFD-068BC8BC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D20558-9130-4945-968D-6DAFC9B2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C193-7834-4187-A7E2-F9B77C54532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19EF9A-D1FB-4F7A-8BDA-35D7857F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7BD8D3-58E4-426B-84FB-B282463A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EC8CAE-C5C4-4F85-AC60-E55E4DC7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B704CF-84EC-409A-BF27-57E9890A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418DBC-A59F-400C-AD52-F574FF10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C02CF1-70B6-4447-B3F6-0A1B3197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E79863-219D-4289-9437-A677AA6C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B0C4B4-BB03-42DD-B89D-BC06E954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10490F-868C-4837-BC86-9F95E6FC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6AB2F0-1CAF-4817-90FC-FD82C804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76EC-168B-4E12-B8BE-47154B41B27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A7B0AD-8725-4CA2-839E-FA058E3F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0FE127-0ACF-4DBD-83B8-1D4221C2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BDC57D-6108-48A9-A94F-7C2A51FC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7EE9AB-B936-4975-AFB2-DB898F10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CAC03E-B1B4-4CED-A8A8-B7FC1382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445890-EA04-4DF9-AFD2-1B050661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C43DB0-9F5E-480A-B4D5-B10CDC1F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D5F29F-D281-4845-85CD-93C8F777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B7861A-7AFF-4724-B6F4-92B55E1D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B0BB39-7C51-4199-87B7-DF2C7448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9C8C-F97B-4987-B161-821A37382B0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288F50-5B38-4C94-8C87-D54329D0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01382C-22DF-4966-8CE3-C5141847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B37A62-335E-49DE-B8C9-2F21B2DA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C7D81C-E6CA-47F1-9679-BD870B51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CC110D-7A25-4384-BFDD-09A8AC73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DA5193-6434-407F-812E-A3306029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1BA6D3-D310-450E-B6DE-517EC925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32667A-F913-474C-8D80-13D92753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77D86D-E6D9-4B5E-AF4C-22220229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F32FE1-E5A1-47A5-A24D-BDDA229C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1359-07FF-4208-A8AF-09D96ED9C2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B237FD-7715-43D1-AF3D-D80936F1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E34691-1335-4F4B-89DF-B3913B5D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96037A-6CB4-4C1D-8125-0726D03B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DAC401-B5A9-46F9-AC0B-0D790B35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C84861-5B73-46B1-A4DE-FFFFEE6C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434C53-8136-422F-8750-1562FB44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F21656-47A6-4331-9DF2-73744038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110A07-3C0D-416E-83BD-7E3611C0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3A12B4-D3A5-4CEA-A88A-85822C25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0ABFEE-CDDF-4AE1-9C07-19E8E68C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C446-6B86-4897-B6D8-0FD3675E8F6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3E0C29-4E95-4E02-A2B4-39CDE58B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94DE9E-C1F2-4172-ABE8-84BB4C5C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989341-B0E8-45CE-B196-03AF14C6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8270C6-8E38-46E8-B081-3A8E7F6B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967A04-068E-4A27-B5B3-05A02F0F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24E30B-5122-45C0-AAC9-7EDF5BE1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BB34C3-6CE2-4F54-A3BB-4D4341AD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139CF-D12E-4F63-8166-DFA91818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63F8B-B78B-4C8F-A95D-56D31EBF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DAF80-4CA0-4DF2-BA46-A7528767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90896-51AC-48FA-8FEB-527F51725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91331-1A82-4511-9669-BBD687EDE37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A7D70-F7BE-4FDD-98E3-37C21050A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AE316-F91A-4B78-A89E-2FD0F1418F4D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0FBAD-3B3F-48F3-A223-BDEED3117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6D7B1-FF9A-4A2A-BCE8-4965A50BF7C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4A06E-E7EE-4F25-BC5B-F1D84A968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8280E-F8DD-47E6-A3C7-2A0F574B55D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37427-163A-411B-AAA5-94D491995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81D22-8DF6-4D23-AA84-9955A9C9C6F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DEDA4-63D6-44A3-A65A-CD65E8493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34E33-08F1-4CCC-BF81-F612557B495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A199C-3A74-4681-BC7A-B8D7B7B49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B6F6F-2F1F-409F-A6E0-3F76B0E7FC3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E7CFC-DC45-4DA0-BC90-CD0087F8F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13766-8DA0-4D60-AC30-30529673F05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5BEB3-DFF1-45D8-A9F9-5D44D7E1A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90CE3-010F-489A-9811-4D181A825ED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408EA-B22C-49C7-8D50-2E0CEE519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6FF79-3235-46F3-BD05-A5BB5F1EFC7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C6B60-867F-4E7C-8DA7-3A3314241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622FB-AA63-41D8-A35A-0C8F369ADE8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2BDFD-91D3-40AD-A0A3-80D182F18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rupam J. Trive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599840"/>
            <a:ext cx="822960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cellent cast study in how to turn a bureaucratic organization a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s Learned (by LVG and applicable to m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– You have to know and love you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on – Strategies only go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hip is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TextBox 3"/>
          <p:cNvGrpSpPr/>
          <p:nvPr/>
        </p:nvGrpSpPr>
        <p:grpSpPr>
          <a:xfrm>
            <a:off x="2023920" y="5334120"/>
            <a:ext cx="4327560" cy="554040"/>
            <a:chOff x="2023920" y="5334120"/>
            <a:chExt cx="4327560" cy="554040"/>
          </a:xfrm>
        </p:grpSpPr>
        <p:pic>
          <p:nvPicPr>
            <p:cNvPr id="552" name="TextBox 3" descr=""/>
            <p:cNvPicPr/>
            <p:nvPr/>
          </p:nvPicPr>
          <p:blipFill>
            <a:blip r:embed="rId1"/>
            <a:stretch/>
          </p:blipFill>
          <p:spPr>
            <a:xfrm>
              <a:off x="2023920" y="5334120"/>
              <a:ext cx="432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039760" y="5351400"/>
              <a:ext cx="43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phants can da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dership Book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Says Elephants Can’t Dance? Inside IBM Turn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: Louis V. Gerstner,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http://www.strandbooks.com/resources/strand/images/products/partitioned/c/e/2/0007170874.1.largeThumb.jpg"/>
          <p:cNvPicPr/>
          <p:nvPr/>
        </p:nvPicPr>
        <p:blipFill>
          <a:blip r:embed="rId1"/>
          <a:stretch/>
        </p:blipFill>
        <p:spPr>
          <a:xfrm>
            <a:off x="5349960" y="1836720"/>
            <a:ext cx="252396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 picked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was considered a big bureaucratic organization that was not competitive in 198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stayed with big servers market and ignored the emerging PC mar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ons from Apple, SGI, Sun Microsystems, Dell and Gateway were eroding reven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s continued to improve performance to match big ser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al challenge to turnaround a big organization like IB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from this example (case study) are applicable to Government organ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 on Louis Gerst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42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raduate degree from Dartmouth College in Engineering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te of Harvard Business School (at the age of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ed McKinsey &amp; Co. in 1965 as analyst and rose to Senior Partner in 9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ed American Express in 1977 to head Travel Related Services Group of American Exp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ed RJR Nabisco as CEO in 198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ed IBM as CEO in 19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broad strategy and define personal management philosophy very 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VG did that in his very first meeting with IBM’s senior 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 with Customers early and set and manage expec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VG met with mainframe customers (IBM’s 90% of the business at the time) and laid out his expectations and issues with mainfram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Messages from this Book (con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the (financial) Bleeding and Hold the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organization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fundamental economic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ngineer how the business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(get rid off) underproductive assets in order to raise c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new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oriented strategy and financi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t work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s of a Post-PC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Messages from this Book (con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339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p a leadership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by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064040" y="1760400"/>
          <a:ext cx="4825800" cy="4521240"/>
        </p:xfrm>
        <a:graphic>
          <a:graphicData uri="http://schemas.openxmlformats.org/drawingml/2006/table">
            <a:tbl>
              <a:tblPr/>
              <a:tblGrid>
                <a:gridCol w="2421000"/>
                <a:gridCol w="24048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Out (I tell yo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it my 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it the customer’s 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 to mor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 to 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onships driv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driven &amp; measu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orm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sity of Ideas &amp; opin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 Driv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le driv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me (the Sil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Us (the who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 Paralysis (100+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decisions &amp; move forward (80%/2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vented H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 everyth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43" name="TextBox 6"/>
          <p:cNvSpPr/>
          <p:nvPr/>
        </p:nvSpPr>
        <p:spPr>
          <a:xfrm>
            <a:off x="4700160" y="127620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d Behavioral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Messages from this Book (con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Leadership 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8320" y="1092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’s Leadership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to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ins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through Th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ve to Achi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ze to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m lead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ght ta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 Momen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ing organizational cap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al de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on for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about Business Process Reenginee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ngineering is difficult, boring and painful. Reengineering is like starting a fire on your head, and putting it out with a hamme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press conference with repor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has been a lot of speculation as to when I am going to deliver  a vision of IBM, and what I would like to say to all of you is that the last thing IBM needs right now is a visio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BM needs right now is a series of very tough minded, market-driven , highly effective strategies for each of its business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Trish Mooney</cp:lastModifiedBy>
  <cp:lastPrinted>2011-06-13T12:29:39Z</cp:lastPrinted>
  <dcterms:modified xsi:type="dcterms:W3CDTF">2012-08-28T14:18:18Z</dcterms:modified>
  <cp:revision>30</cp:revision>
  <dc:subject/>
  <dc:title>Leading with Impact</dc:title>
</cp:coreProperties>
</file>