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990E-F2D5-4BDF-851E-29A9E76AA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5B76-0427-44B3-96C3-D1EB3D0FE99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C866B-ACE6-4D12-B55E-4808FC1F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DF134-48F5-49F3-8136-56ECC129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369F2-9BE5-41F7-9EE9-894804FA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51840-4B55-4075-B474-EF9A65B2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B3979-77B8-4F85-AE0E-321B04B2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F40FB-7EB2-42FA-83C6-9D229677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E019A-A2DB-477D-836B-282D8152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1E39B-C9FD-4943-8C25-CD962743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AD774-D27E-4376-A6A2-F1C35BE7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96212-6A68-4906-8E8E-CF2E6C53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4337-8984-4ED5-8DC8-D6AE170C204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4045F-34EB-495A-A247-12722589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EDFF8-8F5E-4D4B-9D7F-9A414F93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6EA4B-6CCB-4BBE-8417-DAA6C199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AA85A-9CD3-4EA7-BAB3-7CD0CFA5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D34A0-A6DD-43F4-9E84-B7636C9C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3776B-517E-4CBE-B882-4F907B6A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8661C-8EB2-4CE3-BCDE-8092B82C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A2406-898E-486C-908E-568C5D3F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2A64C-8CEB-4A45-8031-629E7982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162BD-8D1D-4E3B-BBD0-A84A8111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69F1-A7FB-4F93-88D8-84F9EE83DF9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D18C3-5060-4B71-8EB1-F40E5E29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E71143-30CA-4350-AC38-006A47EA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AAB4D1-4CFE-46FE-BA2B-4231B93E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9C4683-B853-4D81-9DC8-2AA4B8C4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274129-1B4C-4B7D-B51D-D4016A01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D86790-5A61-49C7-A057-369479CC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FD72C4-63C3-44B4-ADD2-977733A1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9D3076-456C-4F59-A52B-3005FEF4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2E687C-1696-429E-AF4C-0A62D6FA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2E45A2-2425-4AD5-97C9-E683F03C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6635A-A037-41A4-82AE-94A1E98B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1F8C75-EA88-4E01-B929-B5CACABF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7B27B5-0C28-4AD4-BB09-125FD59E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75A390-E1DE-4CA2-B4BB-B3493797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E75B7-FBFF-41EA-9DA3-53D33098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D105A-F017-4556-98C8-90692C10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6DBAA-B189-4708-9EA8-52DB60A0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49160-98D5-4B83-8EA5-3D09127A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17F3D-4EA4-4819-B41C-DE676A2B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B99A5-018F-49D2-B3C3-CDF86FF7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BDCE9-1684-44B2-828D-ED309283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5F9D3-EF3E-4F57-95FA-C1AF104A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CE561-EB00-4E61-8958-09A29FBF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C96E0-96C5-4A00-AB1D-6DCD82E3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70068-F9F2-4587-AF57-5E8965E4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6AB6A-4918-4291-AEE2-29E28EE6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7A8A1-329E-472C-AF28-2E2DB8D6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25D4C-CC1A-410E-B355-61AB4946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22A72-E401-4FBA-81BF-34089719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400A4-4730-4FD0-ABA3-749475D2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FFAAF-DCDB-4E2A-B1DB-B683330A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8BD24-6395-46B8-9A53-BBED6818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5727-B2BF-406C-8B91-33F7DF3D8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3348D-EB10-44B4-9DC7-1488B3AC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8EB1B-3E12-4852-B412-A3397AAF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AA820-D741-41F0-A07B-C1BF5A2C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4BA7C-4368-43C7-8200-21A8A5F8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7EFDB-7EC3-44FF-8F8E-6817AA4B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E98ED9-A0CF-4343-B9E7-69A11511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832D4F-7280-4E8D-8134-D56CDBB5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709F3-55B4-4948-B13F-3BEFF368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FE2EEA-5CC6-4AD0-B82D-0F0BB410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2F019-A23E-44F8-B17D-43EC49F2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03E3-7DEC-446D-BECB-2784F58D63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F115E8-7860-4B42-A788-34AAE6E1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DB2CF-38AD-4252-800C-B884FF34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40A7BB-71D5-4460-A49C-8F9977B2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45B92-8739-4190-932B-C312424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09C24C-531E-4574-A76F-ABE67CC4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7B7B0-0B2C-41BB-941D-D94F0EFE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9F8786-DFFF-4DDA-9920-B207487A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2A40D0-34BB-4524-9038-AC9F5680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1A8DE9-697E-4076-A4E0-5C7E52AD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76F82-E59E-4CDF-BFEF-E8DA35A8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839E-9702-49A7-9512-32B56F19CD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B985D-0023-47C0-ADAC-E9548457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BF1BFF-A959-4529-A73B-29A29752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CDFA4-4677-4817-9B53-63698DE0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4BDE5-D242-4279-934B-4059B02B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17868-4CA0-48FF-B36F-7CE35FD9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C9B3D-FA5D-4895-9873-BEAEDBF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71FDE-1662-49C2-B336-E6C88397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68AF2-4470-468F-9D2E-D0466474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A493E-6CD7-4C79-A4F2-E1643CF1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3B14EC-473F-4A9A-AEEF-4573BB06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7296-B51C-462A-82FB-F8EBEC5B1F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1AEDE3-06C3-46B0-BDB4-9ECA4327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065735-A35D-493A-B64D-1E614D45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81C7CC-22D3-4929-9CA1-FA9591FF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D1B77E-9DFC-4394-9E80-7044A2BF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440D92-5C71-49E4-8B4E-1CF5C674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5A539A-966C-41CE-8188-5DF6E32C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9F5664-4C13-4AF1-BB9B-CCAD938A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F4ACDC-0DA3-4C5A-A80C-FC1A6B20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1DFE8E-1D4B-4D27-B61E-E286D443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CF1C4D-7E3A-4D1A-BCCA-A0532BCC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1BB5-E5DF-4DFE-96EE-3B157789B3F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2451B8-0F8A-4B8C-B565-1BA4E15F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913603-26C6-4568-B657-E237B27C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8FAB78-7BB2-49A4-9632-95BA135E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BE84D3-2FAE-4BC5-9EBE-C84030F9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26FE97-115A-4305-A4A8-1AEBBF30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07E854-CFD9-4284-9AB2-06EB34B2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488A8C-686E-4328-AA53-EF307751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344C9E-1A5E-4A83-ADFE-6BDBFF4B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0B289D-0D37-469C-9CC0-1D67BC64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26C156-3C52-485B-AA67-13C8CA44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8D35-130B-4539-8455-5FBCF93A90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54BDE3-0672-499B-851A-BE6AC468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48F08D-75A6-4F13-968A-6F037D69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8A120B-EFFB-481D-9FFB-87088140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5006D8-FAE7-42B4-B4B1-34860361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A19562-6412-4375-8FDE-129791AB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E7A8B8-3275-474E-B4DC-E0D59248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F9B381-C312-4F25-A275-2D1652E7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20551E-1F31-4D1E-9DF1-C65B6E3B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673EDC-CDC3-4D87-9467-F2885654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39C172-8166-42A2-817A-ECA024F6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D1A2-4CB7-47C6-B261-C1D33F5DF5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03BC0A-EDF1-454B-85CF-DF966D2C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64848D-ED33-4974-9B79-3B2EEC56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3BE60A-DA8F-43D6-A9B5-6B3C1923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A20C59-DD16-43BF-851D-6E2F6E67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930823-CF9B-426E-B55F-B7E34DD7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528333-099A-478B-B1E9-FBFD8CF0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64E7FB-D871-473A-976D-42C7A5C5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A6561A-6272-45C8-BE30-255CB4A1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A5469E-92B6-44FA-AA8E-186481CB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37B12C-3636-4557-90B0-A2157FD4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178D-CF8C-414E-A9A6-B9A9DC72525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60E1B1-A4F4-401E-97B9-22F7D0B9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F59CD0-9706-43F8-87D0-D7351F2C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0E57E4-DE81-41E2-9C68-804C74EC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FB8B44-8527-402C-860A-81AB96C5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3C27B1-EB97-4FD9-8BA6-BD628852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01A083-0195-4ABC-81CB-12894DB5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61F9C0-9FB9-4689-B571-150F4500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B06E3-062F-4BD8-A4F4-97E1E480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9178D-2C29-4756-838A-ECDC26FF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70A11-4368-4B55-838E-22AD61CF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0B82C-BE8C-44EB-BB77-AFED2DE8F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6386E-C23A-467C-BC96-3A0DFE6AC11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8B169-C963-429A-9371-36DA41D8B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4D7E4-4321-4AB8-AE18-59D98B61A8F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B1F9E-5B64-4489-A26E-C4CB23197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FFE49-AABA-4F68-B03E-B870A527C3F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78534-1BA7-44F9-BCDF-DE55C1199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62B2F-6223-4E7A-A48C-355C868C26E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E680C-DC1D-47D0-AD64-FE8565CE5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4968A-06C9-45CE-A618-7DDA0FC12E3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45F0F-8337-4CCD-9066-3A7DA1DE2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DEAD9-84C7-4AD6-8237-398397D55FF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98412-76DD-48F3-B169-7AF0AF513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1F292-A2C7-4E91-9238-A3F2D3C53D5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9453B-DFED-41A2-9CDC-9E47432F5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08BBF-1B02-4AF6-8429-1CDAA8D74C2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FAAE7-BCD5-479A-B642-CDC869642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BF17F-9B93-4DA8-8254-28FE3396EA5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80180-A900-4A45-A733-A958F7B6A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E52CA-40FE-4B63-84D1-1781AFBDF26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11A7C-B66D-46C8-8CD7-755089722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F0C86-3C94-49B2-9FA3-F71A30F281A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1D29E-6A18-4E1B-A6DB-9DC7CA09E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Discuss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ance and Persu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and Persua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Eric S. Knowles and Jay A. Li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Content Placeholder 2" descr=""/>
          <p:cNvPicPr/>
          <p:nvPr/>
        </p:nvPicPr>
        <p:blipFill>
          <a:blip r:embed="rId1"/>
          <a:stretch/>
        </p:blipFill>
        <p:spPr>
          <a:xfrm>
            <a:off x="4834080" y="907920"/>
            <a:ext cx="35701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my defines leadership as the ability to influ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ance is a nature reaction to persua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human reaction of resistance to persuasion allows leaders to shape their messages for the greatest infl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Random Drug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Scenarios with various levels of endorsements for a proposal to begin random drug 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:  You may not like this but it may be good for th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:  You may not like this but it could be very good for th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:  You may not like this but it is absolutely necessary for the good of th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Content Placeholder 6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8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derstanding of resistance and persuasion might help people overcome their resistance and fulfill their desired purpos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rother co-authored this book.  I am very prou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jerold.linn@gmail.com</cp:lastModifiedBy>
  <cp:lastPrinted>2011-06-13T12:29:39Z</cp:lastPrinted>
  <dcterms:modified xsi:type="dcterms:W3CDTF">2013-01-29T21:09:31Z</dcterms:modified>
  <cp:revision>17</cp:revision>
  <dc:subject/>
  <dc:title>Leading with Impact</dc:title>
</cp:coreProperties>
</file>