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707-F719-4AED-80D4-89B4B25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063-0FB8-42EF-A7AC-856DAA6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1E2-56DB-435F-9F51-8B995E8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045-67CF-4121-951B-5BB553A7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644C-80E7-430B-882E-90BE428F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F86-33E6-4BB9-A00A-611DC602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D27-66EF-4215-9008-1852BEA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F19D-9697-4B6C-80D5-4915142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8ED-9EC8-4912-9A7F-A5E48E1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5AC-00D3-4D31-8F10-EE89FAC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C42-D0E3-482D-B36E-EDE0088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ECD-B58D-418D-8DD5-15B3E9F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3088-73D6-4A74-AF10-37C898F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C4E3-A795-4A36-93D9-CB0B5C2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13A-4B3D-44F8-A752-DAF67B6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6C4-2716-47F5-9C92-322D8F1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0319-BD20-4C2A-B679-61B1C013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216-FD3E-43E1-B5CC-CCB58608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CC0-E3CC-43B4-87EB-6CAFE424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874-A190-4225-A120-A634AE69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F69-BDAB-46B9-A45C-0F4BD186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7EC-100B-49F2-A52A-2ABB52C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3C2-A3CF-4C50-89FE-724B7BB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428-B425-428F-98E5-AF8B0D4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BC1-402C-435F-AF40-1C5AF11D897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8276-0B68-4A0F-8640-15F7CA1B496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Role of Positivity and Connectivity in the Performance of Business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Nonlinear Dynamics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98989"/>
                </a:solidFill>
                <a:latin typeface="Calibri"/>
              </a:rPr>
              <a:t>From: Marcial Losada, Emily Heapy, Barbara Fredricks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Capture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83920"/>
            <a:ext cx="84960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auses some teams to flourish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the key variables in explaining high performan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iversity of Michig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0 Strategic Business Unit (SBU) Management Teams (8 per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peech acts observed, timed, coded and analys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haviour cross-referenced against business performance: Profitability, Customer satisfaction, 360 Feedb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ams subdivided into high, medium and low performance categ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3 Bi-polar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1483920"/>
            <a:ext cx="7921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ositive vs Negativ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tive; support, appreciation, encouragement. (VB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gative; disapproval, sarcasm, cynicism. (V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nquiry vs Advocacy (Questions vs State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quiry; question to explore or examine a 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vocacy; arguing in favour of a viewpo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elf vs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f; referring to speaker,  or group present, or comp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; referring to person outside group or comp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3 Bi-polar Variables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ios, not quantities, were found to be important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2049480"/>
          <a:ext cx="8229600" cy="341136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3 Bi-polar Variables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ios, not quantities, were found to be important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2049480"/>
          <a:ext cx="8229600" cy="343836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quiry /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Questions / Stat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 :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3 Bi-polar Variables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ios, not quantities, were found to be important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2049480"/>
          <a:ext cx="8229600" cy="362124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quiry /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Questions / Stat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/ Se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rom 3 to 11 as 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 :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3 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7:08:33Z</dcterms:created>
  <dc:creator>eleamoor</dc:creator>
  <dc:description/>
  <dc:language>en-US</dc:language>
  <cp:lastModifiedBy>Claire  Meany</cp:lastModifiedBy>
  <dcterms:modified xsi:type="dcterms:W3CDTF">2012-06-11T23:46:10Z</dcterms:modified>
  <cp:revision>25</cp:revision>
  <dc:subject/>
  <dc:title>Slide 1</dc:title>
</cp:coreProperties>
</file>