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6858000" cy="9144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10DD-B67F-410D-B8CD-8BA1B6B3A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080" y="36612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7184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3080" y="5285880"/>
            <a:ext cx="617184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7990-21EF-4292-A95F-4D795D8F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080" y="36612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176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680" y="2133720"/>
            <a:ext cx="301176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3080" y="5285880"/>
            <a:ext cx="301176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680" y="5285880"/>
            <a:ext cx="301176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F7A4-9BCD-419D-ACC6-4EE94FA63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080" y="36612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198720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30000" y="2133720"/>
            <a:ext cx="198720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920" y="2133720"/>
            <a:ext cx="198720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3080" y="5285880"/>
            <a:ext cx="198720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30000" y="5285880"/>
            <a:ext cx="198720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920" y="5285880"/>
            <a:ext cx="198720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C696-FCE7-45B0-AB4C-E207A7A85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721A-4EE6-42CB-A677-165232ECD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3080" y="36612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3080" y="2133720"/>
            <a:ext cx="6171840" cy="60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1444-1AE3-4D7C-B3A3-E4146E5A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3080" y="36612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71840" cy="60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304C-BA00-4B96-A237-19DA85FD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3080" y="36612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1760" cy="60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5680" y="2133720"/>
            <a:ext cx="3011760" cy="60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F3DCC-8BDA-448F-998F-E95E5CF0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3080" y="36612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1529-346F-4F83-96B8-1F78B3AC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43080" y="366120"/>
            <a:ext cx="61718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8CD5-8661-41E6-A17C-BFF001DB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3080" y="36612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176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05680" y="2133720"/>
            <a:ext cx="3011760" cy="60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3080" y="5285880"/>
            <a:ext cx="301176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15A3-E789-452E-8071-A2C69077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3080" y="36612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3080" y="2133720"/>
            <a:ext cx="6171840" cy="60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E188-668F-472C-B57F-3CA34BB6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3080" y="36612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1760" cy="60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05680" y="2133720"/>
            <a:ext cx="301176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05680" y="5285880"/>
            <a:ext cx="301176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A249-1D74-4749-BBFB-597138CF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3080" y="36612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176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05680" y="2133720"/>
            <a:ext cx="301176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3080" y="5285880"/>
            <a:ext cx="617184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73A7-2B76-4E64-AD15-068671D3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3080" y="36612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7184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3080" y="5285880"/>
            <a:ext cx="617184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E617-02BE-4C98-870B-ECDC71BF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3080" y="36612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176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05680" y="2133720"/>
            <a:ext cx="301176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3080" y="5285880"/>
            <a:ext cx="301176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505680" y="5285880"/>
            <a:ext cx="301176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4DD8-FB11-494A-A1AA-48A25E42D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3080" y="36612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198720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30000" y="2133720"/>
            <a:ext cx="198720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16920" y="2133720"/>
            <a:ext cx="198720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3080" y="5285880"/>
            <a:ext cx="198720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30000" y="5285880"/>
            <a:ext cx="198720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516920" y="5285880"/>
            <a:ext cx="198720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D6D3-298E-4C19-8862-57D114D9F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080" y="36612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71840" cy="60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C0C0-A335-4D6B-8076-84EA7C56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080" y="36612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1760" cy="60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680" y="2133720"/>
            <a:ext cx="3011760" cy="60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CA83-C774-4CCA-BD05-F44A820B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080" y="36612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534F-8120-4AA4-A539-32CB4E52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3080" y="366120"/>
            <a:ext cx="61718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D1B0-59D8-43F5-9B91-7A73C18A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080" y="36612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176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680" y="2133720"/>
            <a:ext cx="3011760" cy="60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3080" y="5285880"/>
            <a:ext cx="301176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CFD7-F48D-4A68-815A-0031B6AF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080" y="36612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1760" cy="60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680" y="2133720"/>
            <a:ext cx="301176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680" y="5285880"/>
            <a:ext cx="301176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2334-6C36-47C3-BDFB-5113899C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080" y="36612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176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680" y="2133720"/>
            <a:ext cx="301176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3080" y="5285880"/>
            <a:ext cx="617184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C74B-F255-48E8-B3B5-D4C2FB7B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2840400"/>
            <a:ext cx="5829120" cy="195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43080" y="8475120"/>
            <a:ext cx="1599840" cy="48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343240" y="8475120"/>
            <a:ext cx="2171520" cy="48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915080" y="8475120"/>
            <a:ext cx="1599840" cy="48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18B20E7-A45E-4010-8124-3647FA3738C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3080" y="36612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3080" y="2133720"/>
            <a:ext cx="6171840" cy="603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43080" y="8475120"/>
            <a:ext cx="1599840" cy="48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43240" y="8475120"/>
            <a:ext cx="2171520" cy="48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915080" y="8475120"/>
            <a:ext cx="1599840" cy="48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7A2D6B8-CCA4-4809-AE07-BAD4933CD58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8" descr="Gettysburg_Campaign"/>
          <p:cNvPicPr/>
          <p:nvPr/>
        </p:nvPicPr>
        <p:blipFill>
          <a:blip r:embed="rId1"/>
          <a:stretch/>
        </p:blipFill>
        <p:spPr>
          <a:xfrm>
            <a:off x="0" y="0"/>
            <a:ext cx="6857640" cy="9143640"/>
          </a:xfrm>
          <a:prstGeom prst="rect">
            <a:avLst/>
          </a:prstGeom>
          <a:ln w="9525">
            <a:solidFill>
              <a:srgbClr val="0000ff"/>
            </a:solidFill>
            <a:prstDash val="sysDot"/>
            <a:miter/>
          </a:ln>
        </p:spPr>
      </p:pic>
      <p:sp>
        <p:nvSpPr>
          <p:cNvPr id="83" name="Text Box 5"/>
          <p:cNvSpPr/>
          <p:nvPr/>
        </p:nvSpPr>
        <p:spPr>
          <a:xfrm>
            <a:off x="3962520" y="7086600"/>
            <a:ext cx="2895120" cy="1095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Confederate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Marc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Union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4724280" y="8229600"/>
            <a:ext cx="609120" cy="228240"/>
          </a:xfrm>
          <a:prstGeom prst="rightArrow">
            <a:avLst>
              <a:gd name="adj1" fmla="val 50000"/>
              <a:gd name="adj2" fmla="val 66667"/>
            </a:avLst>
          </a:prstGeom>
          <a:solidFill>
            <a:srgbClr val="ff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85" name="AutoShape 7"/>
          <p:cNvSpPr/>
          <p:nvPr/>
        </p:nvSpPr>
        <p:spPr>
          <a:xfrm>
            <a:off x="6172200" y="8229600"/>
            <a:ext cx="609120" cy="228240"/>
          </a:xfrm>
          <a:prstGeom prst="rightArrow">
            <a:avLst>
              <a:gd name="adj1" fmla="val 50000"/>
              <a:gd name="adj2" fmla="val 66667"/>
            </a:avLst>
          </a:prstGeom>
          <a:solidFill>
            <a:srgbClr val="0000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3987720" y="8204040"/>
            <a:ext cx="5986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Infant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5590800" y="8213760"/>
            <a:ext cx="6274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Infantr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3999600" y="8610480"/>
            <a:ext cx="56520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Caval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3581280" y="7238880"/>
            <a:ext cx="3276360" cy="1904760"/>
          </a:xfrm>
          <a:prstGeom prst="rect">
            <a:avLst/>
          </a:prstGeom>
          <a:noFill/>
          <a:ln w="349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5599800" y="8610480"/>
            <a:ext cx="56520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Caval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8"/>
          <p:cNvSpPr/>
          <p:nvPr/>
        </p:nvSpPr>
        <p:spPr>
          <a:xfrm>
            <a:off x="4724280" y="8686800"/>
            <a:ext cx="533160" cy="151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820" y="0"/>
                </a:moveTo>
                <a:lnTo>
                  <a:pt x="17820" y="10800"/>
                </a:lnTo>
                <a:lnTo>
                  <a:pt x="3375" y="10800"/>
                </a:lnTo>
                <a:lnTo>
                  <a:pt x="17820" y="10800"/>
                </a:lnTo>
                <a:lnTo>
                  <a:pt x="1782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10800"/>
                </a:moveTo>
                <a:lnTo>
                  <a:pt x="1350" y="10800"/>
                </a:lnTo>
                <a:lnTo>
                  <a:pt x="2700" y="10800"/>
                </a:lnTo>
                <a:close/>
              </a:path>
              <a:path w="21600" h="21600">
                <a:moveTo>
                  <a:pt x="0" y="10800"/>
                </a:moveTo>
                <a:lnTo>
                  <a:pt x="0" y="10800"/>
                </a:lnTo>
                <a:lnTo>
                  <a:pt x="675" y="10800"/>
                </a:lnTo>
                <a:close/>
              </a:path>
            </a:pathLst>
          </a:custGeom>
          <a:solidFill>
            <a:srgbClr val="ff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AutoShape 19"/>
          <p:cNvSpPr/>
          <p:nvPr/>
        </p:nvSpPr>
        <p:spPr>
          <a:xfrm>
            <a:off x="6248520" y="8610480"/>
            <a:ext cx="456840" cy="228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820" y="0"/>
                </a:moveTo>
                <a:lnTo>
                  <a:pt x="17820" y="10800"/>
                </a:lnTo>
                <a:lnTo>
                  <a:pt x="3375" y="10800"/>
                </a:lnTo>
                <a:lnTo>
                  <a:pt x="17820" y="10800"/>
                </a:lnTo>
                <a:lnTo>
                  <a:pt x="1782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10800"/>
                </a:moveTo>
                <a:lnTo>
                  <a:pt x="1350" y="10800"/>
                </a:lnTo>
                <a:lnTo>
                  <a:pt x="2700" y="10800"/>
                </a:lnTo>
                <a:close/>
              </a:path>
              <a:path w="21600" h="21600">
                <a:moveTo>
                  <a:pt x="0" y="10800"/>
                </a:moveTo>
                <a:lnTo>
                  <a:pt x="0" y="10800"/>
                </a:lnTo>
                <a:lnTo>
                  <a:pt x="675" y="10800"/>
                </a:lnTo>
                <a:close/>
              </a:path>
            </a:pathLst>
          </a:custGeom>
          <a:solidFill>
            <a:srgbClr val="0000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7 map"/>
          <p:cNvPicPr/>
          <p:nvPr/>
        </p:nvPicPr>
        <p:blipFill>
          <a:blip r:embed="rId1"/>
          <a:stretch/>
        </p:blipFill>
        <p:spPr>
          <a:xfrm>
            <a:off x="2520" y="0"/>
            <a:ext cx="6855120" cy="87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8 map"/>
          <p:cNvPicPr/>
          <p:nvPr/>
        </p:nvPicPr>
        <p:blipFill>
          <a:blip r:embed="rId1"/>
          <a:stretch/>
        </p:blipFill>
        <p:spPr>
          <a:xfrm>
            <a:off x="2520" y="0"/>
            <a:ext cx="6855120" cy="87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11 map"/>
          <p:cNvPicPr/>
          <p:nvPr/>
        </p:nvPicPr>
        <p:blipFill>
          <a:blip r:embed="rId1"/>
          <a:stretch/>
        </p:blipFill>
        <p:spPr>
          <a:xfrm>
            <a:off x="2520" y="0"/>
            <a:ext cx="6855120" cy="87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12 map"/>
          <p:cNvPicPr/>
          <p:nvPr/>
        </p:nvPicPr>
        <p:blipFill>
          <a:blip r:embed="rId1"/>
          <a:stretch/>
        </p:blipFill>
        <p:spPr>
          <a:xfrm>
            <a:off x="0" y="0"/>
            <a:ext cx="6855120" cy="87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13 map"/>
          <p:cNvPicPr/>
          <p:nvPr/>
        </p:nvPicPr>
        <p:blipFill>
          <a:blip r:embed="rId1"/>
          <a:stretch/>
        </p:blipFill>
        <p:spPr>
          <a:xfrm>
            <a:off x="0" y="0"/>
            <a:ext cx="6855120" cy="87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16 map"/>
          <p:cNvPicPr/>
          <p:nvPr/>
        </p:nvPicPr>
        <p:blipFill>
          <a:blip r:embed="rId1"/>
          <a:stretch/>
        </p:blipFill>
        <p:spPr>
          <a:xfrm>
            <a:off x="0" y="0"/>
            <a:ext cx="6855120" cy="87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21 map"/>
          <p:cNvPicPr/>
          <p:nvPr/>
        </p:nvPicPr>
        <p:blipFill>
          <a:blip r:embed="rId1"/>
          <a:stretch/>
        </p:blipFill>
        <p:spPr>
          <a:xfrm>
            <a:off x="2520" y="0"/>
            <a:ext cx="6855120" cy="87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  <Words>10</Words>
  <Paragraphs>6</Paragraphs>
  <Company>USAWC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14:16:47Z</dcterms:created>
  <dc:creator>dustin.weinle</dc:creator>
  <dc:description/>
  <dc:language>en-US</dc:language>
  <cp:lastModifiedBy>Trish Mooney</cp:lastModifiedBy>
  <dcterms:modified xsi:type="dcterms:W3CDTF">2012-10-11T14:20:58Z</dcterms:modified>
  <cp:revision>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8</vt:r8>
  </property>
</Properties>
</file>