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EB3DBD-2CA0-4C6B-AB79-13C49257E3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C2587D-DBB8-4C39-AE6A-1B6DF52EAFB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CEA4792-EE3D-4984-B369-3026BF4606B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5992A09-83C5-4F44-AA6C-D401369A57D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5330C5B-027F-4A1F-8C01-9CFDD1C64EC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1A19A46-9051-417F-B948-521CC7651FC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85274AD-615B-406C-AE1F-0863F5FA53F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22AF20B-197A-42FF-BC5E-2DC028841EF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3A443D2-3A41-43C9-9D1A-FE61B1CA4F5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FD549A0A-7C71-485A-B9EA-E461D9469619}"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7B91167C-5B91-4426-BB25-9FF126558474}"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2A9EB501-1675-41F8-8650-4E61D3BA6A0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E0C7D1-0770-42E6-BA29-5F820B1E8CF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B96D407-A8BC-4737-8A9A-612D460227F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7F4F7A9-3802-4AC9-A994-EE5BE7C7978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592CB4C-E710-4175-8A70-AFFBB945D20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1D2F4E87-8895-464B-AD71-D69CB482561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74C53BA0-87CC-4003-A0B8-9062A472122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55252D0-8C7B-4022-9DF1-E0A042259FF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E4E6CA8-31A3-4E1D-A7F8-2C5268625C8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E9C98DB-24CD-4B18-B771-FE33E8BD213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F8B169A-2AC0-484E-BC41-10172307CA8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96948B8C-0328-4EC3-8B60-AC012E89BF2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6CFA18-BBE8-4C16-9E58-F8D1A99C2A5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5D7D5261-F894-4ECA-85FA-EF0C561598E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85CB5D58-6580-4078-87BF-60EDFDAFC14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3E4DBFF-32E4-40E1-A6BA-6C1D0F8DD2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0F94696-51E1-49A2-AE44-A482000D703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865E17ED-7389-48EB-B527-D2A8955D30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8A99EEC5-C48E-4FE8-9CF1-280FE13778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E8BB3E39-BC22-4281-BA3B-96213DCAF8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C66F5D1-DC09-49C5-9381-3F7D80E1C1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CDC7D5F-278B-43FD-8008-C8A65CFD62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9EA888F-BFF0-46E8-A9B2-1B628E763A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F01302A-7807-43A9-AC63-5952259335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A38B8FB-8381-4FB6-9400-EA78E6328DC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D6040377-D414-4538-9886-52E1763B269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E0253DBF-AB6E-4181-905E-8E41966EA44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C57099B7-9FB9-4717-8E04-9F918426514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BF3ED641-E1AB-47FE-8041-CBD1C103C28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DF9A7CBA-0D75-4712-A907-835DAFA376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60961509-300B-4C8F-A604-5B65C581C5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82ECFED-BF2D-450B-A126-59A62309FD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D631919D-A482-4DB4-ADB4-0AC890089C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14B6136-99FC-4263-8070-B483528D0F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279BE3D-3890-4907-9DC8-778FA9DD73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B7F6130-E4F5-4417-8579-9CF6941CE9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9600540-9884-4FE2-A69F-6565125182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56786943-65D5-49C9-B55C-7D298B30F3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AE47119B-C34C-487E-AF0F-64BEE561DC0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1F8685C6-0629-414A-A9D3-56DA76578D6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E7C49F9-2AAB-47E5-8BAD-3DC89E9A52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41DB64A-31C0-4290-B65F-2B03D5E03E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D0094AD-5748-494D-B734-FF2E682B66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3E3A76D-F15B-4F7F-943D-65338DD2A6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9263561-E261-47F3-A2E2-3EC205499D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54DF9-FAA3-416C-AB7F-2A674E3883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2479AC9-4C4B-45AB-83B0-16B8703B81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DAD34F5-1B8C-49CC-AAFD-0D28583E82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F7CCBBE-7D8D-414F-BADA-84A37A66F1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34CF9FE-DB31-4A36-963B-516FA088707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02FFD25-8C4D-4689-8959-95A332351B8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F1E5D7F-5B47-4731-B63C-C9A5680F634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1E0C66D-C4F2-44E0-B55E-A7391A9DC81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0FF4CE3-95C0-48EF-8F9F-308145929FB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376B254-C4CD-473A-B57A-5FDA6DD6BBC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07596EE-BCB1-4CB6-BC6E-F5B849E6162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20336-B84E-4D3C-A31C-9E7752E70EE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9021042-FC79-4C36-A9A1-3EA72856E19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94D31F0-F34E-4A37-8F15-23658B9C65F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3ECB4A7-5E19-4E70-9C5A-F2D326ACB38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EA686E8-B156-4A41-8293-6604C5F79F0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E385610-A1B9-4FEB-845B-93F92B5C931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B08D63F-1394-4845-BF52-4EB3CDACA36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FDBCB00-41AC-4F88-AD13-E2923B8E98F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A3D7455-22BA-4BF3-88F6-47F75F3678F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493CDE1-1B7E-4478-823B-0C32A518BF4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DEAA0C9-6AEF-496F-849B-00B232D2722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4398D6-36EA-4664-9082-EC0C3FCF3C2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E11A7C7-0057-4A6D-9774-C70A2829121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5E2C928-0DFE-4708-B610-E0FBFF71557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45C9F13-5D5D-4BEE-9239-791DE92708A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FD40335-253D-4121-99AA-44197556934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8ABF1F0-B62C-475F-AB90-07529F27042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63A8953-F339-4EC8-8C2C-066BD499039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1E2F74B-91D0-4867-B4CD-A9E46763101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9D7A33D0-E17F-494D-8EF5-9589F63D83F7}"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1643F7F2-8AC3-4F9E-9AFE-283FF11C2AED}"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A83917C3-5EB5-4FFD-9DDD-9D0620B0A5B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AD5D25AD-1C59-41CE-B2F6-B744E992801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F47AB99-B96C-4EF2-B1B5-7B912755732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3040B69-F386-4226-9111-F4807784B20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D7ED335-AD2E-4179-84E6-23893B91ECE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C5B0E19-E229-4352-BFD8-B30F9348C5B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42B0D8E-9749-46E7-987A-035AB48476C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5C1F4C4-F96E-4DDE-9FAB-70DCCBFCAC2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E8402E6-6349-4E68-8FB4-45ABE0E8390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CAB3E26-3148-4FD8-B555-B19F99793CD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0AE3F0C-59D5-496B-9F21-BF8DCD13900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51A47FCA-74A6-47A0-A5B8-C14228D8FC2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14ABE6B-321B-4FA6-BE96-B960F839230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0DD536D-CA3E-40C8-9066-57E03BCC3E8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5E6AE7D7-1A31-4EAA-80B7-C21DDF6897D7}"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099EF98-05EB-46A1-AE01-F259A9DB2E3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25B6F82-35D8-432E-A383-9E9B80A91D5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9A1DBAE-772B-4A4F-A652-8622144F9F8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BAFC2BB-99B6-4F79-A0BE-D0698C61319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B2BA33B-970B-4278-BCD7-990F25189F5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C6C46CA-ADD6-459C-81AD-B1BB2E7FAE3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9B60530-2A7F-482B-8B0A-2FCCA4F29A2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8484FA9-5AAA-469A-BAB7-0AE6F81F75B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1E1EF2-4FBE-4438-B0EC-4D6C74DE642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DDD2DE1-6FDC-42CA-9659-6AB4A6A7F13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C73F8474-837C-4684-9554-95ED63C0D15A}"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2E52999F-1C4A-46B8-AA43-D399CC361512}"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F475BB0A-115A-4E9C-8CA7-F9628919715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90C707C-F713-47BC-8525-57189A5497B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F3AE35F-E456-4CB5-9C05-BB814D1FF8F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6265067-4FA8-4C0D-89DA-A529D0F6C22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391D2AB-8201-434B-AA83-2BEA12D8F85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12181CE-C879-4C78-B06A-4944FE6E12A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84F24D3-D842-4AF6-B730-5DBDEA7FDED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6D3E1E-5FBB-4DDA-A3A9-365022D2B09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42B29B5-1065-4A48-818A-640C121FC4F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E523029-8261-4F5D-8D57-DFB3FF5BCDF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FCEE469-E670-4C62-BE30-9717554937E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F1A0AF46-491E-473B-828C-77B1C95FE618}"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62B34B78-BE7A-48B2-9023-6A9DDC941599}"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6E26651E-1D0B-4C35-B543-84603FBFD340}"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C5219EC-A9ED-4EFB-9A0F-010C1AB4C83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2086494-3D29-46D0-AFDA-BB3620074B1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5DC791F-2744-4D1E-8506-92F2E20B513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97878A2-AE87-4D9D-A511-A16F0019B63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91FA46-9554-4990-B7DC-8CA252092DA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7B84DDD-E462-4A4F-905E-82F24DC7701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210A895-58A0-4626-887D-C0CF067C4A1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9E139FB-68B7-4F57-AB49-263B951C595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386AB29-92D6-4513-ADE8-1C68EFAC54A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52C787A-DF8B-4A75-BD52-439FC4FD0C3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D96EDE35-EE54-42CA-84D8-FBA2F3A28B1D}"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76A74E98-EF00-49B6-9BC1-DE8A6074907D}"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9E3FF2FE-D1B9-4B07-9886-2EA70768DBA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0797BE2-DA8A-4D1B-80F5-6907E074BA6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45C8D1C-FC01-4569-8B03-35AF9460294F}"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6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69313A-21EB-40CA-A2BA-79B1E35748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9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9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40E62A-EA62-4BF9-A94C-B132721986FF}"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99"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0"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4E49DD-398F-41DE-93AA-191989574A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3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4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35E8D9-5C5E-412E-AF67-4F62034A5903}"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43"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4"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02CD51-D12C-4958-AA92-39C812F9A9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8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8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6E9104-03C3-4D28-BC9E-CDDF22A3BEBE}"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87"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8"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10325E-C72D-4C9B-86CB-1674652562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MA_ppt_wDUI_front_bkgrnd"/>
          <p:cNvPicPr/>
          <p:nvPr/>
        </p:nvPicPr>
        <p:blipFill>
          <a:blip r:embed="rId2"/>
          <a:srcRect l="242" t="0" r="826" b="846"/>
          <a:stretch/>
        </p:blipFill>
        <p:spPr>
          <a:xfrm>
            <a:off x="0" y="-17640"/>
            <a:ext cx="9144000" cy="6875640"/>
          </a:xfrm>
          <a:prstGeom prst="rect">
            <a:avLst/>
          </a:prstGeom>
          <a:ln w="0">
            <a:noFill/>
          </a:ln>
        </p:spPr>
      </p:pic>
      <p:pic>
        <p:nvPicPr>
          <p:cNvPr id="4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4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5D94A3-0793-4FA3-A667-CE60A28EF7BE}"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F878D1-26C4-4A06-B85C-24022E4BB7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8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8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8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0817E7-E55B-44D0-98F6-EE9C984DC8BA}"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832EAA-EE76-42A8-81B2-6D0D909C51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3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3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3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F8DAE2-49B2-4F05-BC1C-7DADB83167BE}"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135"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656070-44A8-461A-A14D-EB300A1480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7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7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7482BF-5728-4BE8-82AD-31597B700259}"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17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87CC24-6E89-4F7F-83CB-88EFA6E0D1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1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2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8FCC37-F7CF-4C94-9754-37FB611DC1DC}"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223"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20FFF9-8D81-4F46-927F-9EE2EE2FD9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6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6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6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C6A848-0280-4254-83F1-8E546D0ADCDC}"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267"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8"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64BB58-CD84-443D-BD64-1DAD4F8D86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0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0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0C83AF-FC64-42FE-9360-2B0B56248942}"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1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3C8C37-942E-4941-AD21-88BC16F318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5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5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5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2095AB-54C1-41AC-A2FA-D5ADD769E8D1}"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5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749D19-5F47-44C3-9AE1-D32B7EAA0E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G Senior Leadership Cohort Program 2012</a:t>
            </a:r>
            <a:endParaRPr b="0" lang="en-US" sz="2800" spc="-1" strike="noStrike">
              <a:solidFill>
                <a:srgbClr val="000000"/>
              </a:solidFill>
              <a:latin typeface="Arial"/>
            </a:endParaRPr>
          </a:p>
        </p:txBody>
      </p:sp>
      <p:sp>
        <p:nvSpPr>
          <p:cNvPr id="526" name="PlaceHolder 2"/>
          <p:cNvSpPr>
            <a:spLocks noGrp="1"/>
          </p:cNvSpPr>
          <p:nvPr>
            <p:ph type="subTitle"/>
          </p:nvPr>
        </p:nvSpPr>
        <p:spPr>
          <a:xfrm>
            <a:off x="457200" y="4800600"/>
            <a:ext cx="83059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 Presentation</a:t>
            </a:r>
            <a:endParaRPr b="0" lang="en-US" sz="3200" spc="-1" strike="noStrike">
              <a:solidFill>
                <a:srgbClr val="000000"/>
              </a:solidFill>
              <a:latin typeface="Arial"/>
            </a:endParaRPr>
          </a:p>
        </p:txBody>
      </p:sp>
      <p:pic>
        <p:nvPicPr>
          <p:cNvPr id="527" name="Picture 4" descr="OPM Seal"/>
          <p:cNvPicPr/>
          <p:nvPr/>
        </p:nvPicPr>
        <p:blipFill>
          <a:blip r:embed="rId1"/>
          <a:stretch/>
        </p:blipFill>
        <p:spPr>
          <a:xfrm>
            <a:off x="3886200" y="3276720"/>
            <a:ext cx="1371600" cy="1371600"/>
          </a:xfrm>
          <a:prstGeom prst="rect">
            <a:avLst/>
          </a:prstGeom>
          <a:ln w="0">
            <a:noFill/>
          </a:ln>
        </p:spPr>
      </p:pic>
      <p:sp>
        <p:nvSpPr>
          <p:cNvPr id="528" name="Rectangle 7"/>
          <p:cNvSpPr/>
          <p:nvPr/>
        </p:nvSpPr>
        <p:spPr>
          <a:xfrm>
            <a:off x="1055520" y="4003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k Review</a:t>
            </a:r>
            <a:endParaRPr b="0" lang="en-US" sz="2800" spc="-1" strike="noStrike">
              <a:solidFill>
                <a:srgbClr val="000000"/>
              </a:solidFill>
              <a:latin typeface="Arial"/>
            </a:endParaRPr>
          </a:p>
        </p:txBody>
      </p:sp>
      <p:sp>
        <p:nvSpPr>
          <p:cNvPr id="53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RK: The Revolutionary Science of Exercise and the Bra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s:  John J. Ratey and Eric Hagerman</a:t>
            </a:r>
            <a:endParaRPr b="0" lang="en-US" sz="2800" spc="-1" strike="noStrike">
              <a:solidFill>
                <a:srgbClr val="000000"/>
              </a:solidFill>
              <a:latin typeface="Arial"/>
            </a:endParaRPr>
          </a:p>
        </p:txBody>
      </p:sp>
      <p:pic>
        <p:nvPicPr>
          <p:cNvPr id="531" name="Picture 3" descr="http://ecx.images-amazon.com/images/I/41DdJ%2BVS4pL._SS500_.jpg"/>
          <p:cNvPicPr/>
          <p:nvPr/>
        </p:nvPicPr>
        <p:blipFill>
          <a:blip r:embed="rId1"/>
          <a:srcRect l="17787" t="0" r="17945" b="0"/>
          <a:stretch/>
        </p:blipFill>
        <p:spPr>
          <a:xfrm>
            <a:off x="5207040" y="988920"/>
            <a:ext cx="3638520" cy="5661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Messages from this Book</a:t>
            </a:r>
            <a:endParaRPr b="0" lang="en-US" sz="3600" spc="-1" strike="noStrike">
              <a:solidFill>
                <a:srgbClr val="000000"/>
              </a:solidFill>
              <a:latin typeface="Arial"/>
            </a:endParaRPr>
          </a:p>
        </p:txBody>
      </p:sp>
      <p:sp>
        <p:nvSpPr>
          <p:cNvPr id="533" name=""/>
          <p:cNvSpPr txBox="1"/>
          <p:nvPr/>
        </p:nvSpPr>
        <p:spPr>
          <a:xfrm>
            <a:off x="456840" y="1599840"/>
            <a:ext cx="8534520" cy="4910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rcise has direct mental, emotional, physical and spiritual benefi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tes chemical changes that cause brain cell growth</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d focu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ADH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s down and protects against Alzheimer’s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ss/recovery cycle leads to growth</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ess has mental benefits that protects against mental stres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in changes mitigate psychological issues such as anxiety, depression, and addic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s self esteem, increases confidence and self mastery</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s hormonal effects of pms, pregnancy, and menopau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ys deterioration, both mental and physical due to aging</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bone density</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benefi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d healthcare costs: most chronic illnesses can be prevented or ameliorated with lifestyle chang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ds immune system – increases efficacy of cancer treat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s I Would Like To Share</a:t>
            </a:r>
            <a:endParaRPr b="0" lang="en-US" sz="3200" spc="-1" strike="noStrike">
              <a:solidFill>
                <a:srgbClr val="000000"/>
              </a:solidFill>
              <a:latin typeface="Arial"/>
            </a:endParaRPr>
          </a:p>
        </p:txBody>
      </p:sp>
      <p:sp>
        <p:nvSpPr>
          <p:cNvPr id="53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ferring to the fact that exercise increases BDNF (brain derived neurotrophic factor) –”BDNF is like Miracle-Gro for the brain!”</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r>
              <a:rPr b="0" lang="en-US" sz="2700" spc="-1" strike="noStrike">
                <a:solidFill>
                  <a:srgbClr val="000000"/>
                </a:solidFill>
                <a:latin typeface="Arial"/>
              </a:rPr>
              <a:t>The great thing about exercise is that it fires up the recovery process in our muscles and our neurons. It leaves our bodies and minds stronger and more resilient, better able to handle future challenges, to think on our feet and adapt more easily.”</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r>
              <a:rPr b="0" lang="en-US" sz="2700" spc="-1" strike="noStrike">
                <a:solidFill>
                  <a:srgbClr val="000000"/>
                </a:solidFill>
                <a:latin typeface="Arial"/>
              </a:rPr>
              <a:t>Similarly, I think of exercise as administering the transmission fluid for the basal ganglia, which, again, is responsible for the smooth shifting of the attention syste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his Book Meant To Me</a:t>
            </a:r>
            <a:endParaRPr b="0" lang="en-US" sz="3600" spc="-1" strike="noStrike">
              <a:solidFill>
                <a:srgbClr val="000000"/>
              </a:solidFill>
              <a:latin typeface="Arial"/>
            </a:endParaRPr>
          </a:p>
        </p:txBody>
      </p:sp>
      <p:sp>
        <p:nvSpPr>
          <p:cNvPr id="53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ggle to balance work and family and take care of myself.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gained and lost in the past (WW, after birth of son, daught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ed to avoid criticism for taking time away from family to exerci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lt guilty taking time from wor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ed to convince myself that I’m just “too focused on my work”</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 really got from this, was reasons to be very committed to exerci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in cells, I highly value brain cell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struggle with attention and focus – this book convinced me that I could be MORE productive by taking the time to exerci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zheimer’s prevalent in famil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ncreatic cancer killed my mother at 61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 rather feel sore from strength training than entropied muscles – and I really want to be active and functioning in my old ag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h, and yeah, my clothes fit a heck of a lot bet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neral Comments</a:t>
            </a:r>
            <a:endParaRPr b="0" lang="en-US" sz="3600" spc="-1" strike="noStrike">
              <a:solidFill>
                <a:srgbClr val="000000"/>
              </a:solidFill>
              <a:latin typeface="Arial"/>
            </a:endParaRPr>
          </a:p>
        </p:txBody>
      </p:sp>
      <p:sp>
        <p:nvSpPr>
          <p:cNvPr id="5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book presents a lot of research that supports its messag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s it hard to ignore mess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ed in a readable way – not dry – lots of examples and stories to support their poin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e been telling EVERYONE about this book – rare for m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12:32:45Z</dcterms:created>
  <dc:creator>Trish Mooney</dc:creator>
  <dc:description/>
  <dc:language>en-US</dc:language>
  <cp:lastModifiedBy>Trish Mooney</cp:lastModifiedBy>
  <cp:lastPrinted>2011-06-13T12:29:39Z</cp:lastPrinted>
  <dcterms:modified xsi:type="dcterms:W3CDTF">2012-08-24T17:17:09Z</dcterms:modified>
  <cp:revision>23</cp:revision>
  <dc:subject/>
  <dc:title>Leading with Impact</dc:title>
</cp:coreProperties>
</file>