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EEAD-52DD-41B3-B4E1-B8DCF72810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F4B0-0F8B-4518-A8DB-A045981D7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BA97-F9D7-40D7-8C05-14EF440D7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F17B-6C68-441C-B131-2C270DA89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367D-3A38-4BB9-8C0A-377CBAB13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363B-CB62-4DA7-8E37-8B07C6997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832E-7297-49CF-AB83-E5A50F7AF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70F-514F-40F8-8A83-5FE3EAEA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B12-9287-4389-9C95-14F90715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074-8414-4E93-A060-98289A8D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B24-F233-4758-A836-9AFBBF18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EC3-08C6-4C17-9D92-9B741284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713-DE26-4AAF-B2F4-F4907EA7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6FB-8DCB-4A5C-88A2-7DCC752C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427-1C2A-4362-90B1-FE41EA01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B40-2F26-4BA8-B8C5-63CA49AB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270-BEB1-4B6C-8568-58CCBEFC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773-3B4B-4AF9-9394-3CBA9D90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241-8429-413A-AE50-E95B16A2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02E9-3870-4570-BFE7-2584D9B38D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0C68-8F55-4F0A-91FB-3823D348B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MA_ppt_wDUI_inside_bkgrnd_top"/>
          <p:cNvPicPr/>
          <p:nvPr/>
        </p:nvPicPr>
        <p:blipFill>
          <a:blip r:embed="rId1"/>
          <a:srcRect l="756" t="6667" r="8507" b="0"/>
          <a:stretch/>
        </p:blipFill>
        <p:spPr>
          <a:xfrm rot="10800000">
            <a:off x="0" y="556236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64960" y="1828800"/>
            <a:ext cx="85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G Senior Leadership Cohort Program 2012-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238480" y="3733920"/>
            <a:ext cx="4379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urageous Foll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ing Up To &amp; For Our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649200" y="5715000"/>
            <a:ext cx="17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ri D. Hard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hort 4, track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ok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4" name="Straight Connector 10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4a452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1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9360">
            <a:solidFill>
              <a:srgbClr val="4a452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CMA_ppt_wDUI_inside_bkgrnd_top"/>
          <p:cNvPicPr/>
          <p:nvPr/>
        </p:nvPicPr>
        <p:blipFill>
          <a:blip r:embed="rId1"/>
          <a:srcRect l="756" t="6667" r="8507" b="0"/>
          <a:stretch/>
        </p:blipFill>
        <p:spPr>
          <a:xfrm rot="10800000">
            <a:off x="0" y="556236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The Courageous Follower - 3rd Edition"/>
          <p:cNvPicPr/>
          <p:nvPr/>
        </p:nvPicPr>
        <p:blipFill>
          <a:blip r:embed="rId2"/>
          <a:stretch/>
        </p:blipFill>
        <p:spPr>
          <a:xfrm>
            <a:off x="457200" y="1293840"/>
            <a:ext cx="3733920" cy="4726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4952880" y="1231920"/>
            <a:ext cx="3810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:  Ira Chale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a is President of Executive Coaching &amp; Consulting Associates in Washington, D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has been named one of the top 100 thinkers on leadership by Leadership Excellence Magaz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serves on the board of International Leadership Associ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CMA_ppt_wDUI_inside_bkgrnd_top"/>
          <p:cNvPicPr/>
          <p:nvPr/>
        </p:nvPicPr>
        <p:blipFill>
          <a:blip r:embed="rId3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OHORT Logo by Toby Cisneros 2 16 2010"/>
          <p:cNvPicPr/>
          <p:nvPr/>
        </p:nvPicPr>
        <p:blipFill>
          <a:blip r:embed="rId4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124880" y="0"/>
            <a:ext cx="272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ook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CMA_ppt_wDUI_inside_bkgrnd_top"/>
          <p:cNvPicPr/>
          <p:nvPr/>
        </p:nvPicPr>
        <p:blipFill>
          <a:blip r:embed="rId1"/>
          <a:srcRect l="756" t="6667" r="8507" b="0"/>
          <a:stretch/>
        </p:blipFill>
        <p:spPr>
          <a:xfrm rot="10800000">
            <a:off x="0" y="556236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1997280" y="0"/>
            <a:ext cx="55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0" y="1300320"/>
            <a:ext cx="9144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five dimensions of courageous followershi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rage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 responsibility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demonstrates leadership and can help mold a cul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leader needs a “staff” or “follower” that will make decisions when necessary and the judgment to know when not to as w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pecially when it is a behavior that you are challenging of a lea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e in transformation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difficult and requires introsp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moral action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nging actions of leaders and the organization into alig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914560" y="0"/>
            <a:ext cx="552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messages of the bo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CMA_ppt_wDUI_inside_bkgrnd_top"/>
          <p:cNvPicPr/>
          <p:nvPr/>
        </p:nvPicPr>
        <p:blipFill>
          <a:blip r:embed="rId1"/>
          <a:srcRect l="756" t="6667" r="8507" b="0"/>
          <a:stretch/>
        </p:blipFill>
        <p:spPr>
          <a:xfrm rot="10800000">
            <a:off x="0" y="556236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1997280" y="0"/>
            <a:ext cx="55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2"/>
          <p:cNvGrpSpPr/>
          <p:nvPr/>
        </p:nvGrpSpPr>
        <p:grpSpPr>
          <a:xfrm>
            <a:off x="3581280" y="914400"/>
            <a:ext cx="2667240" cy="2590920"/>
            <a:chOff x="3581280" y="914400"/>
            <a:chExt cx="2667240" cy="2590920"/>
          </a:xfrm>
        </p:grpSpPr>
        <p:pic>
          <p:nvPicPr>
            <p:cNvPr id="71" name="Picture 6" descr="http://flylib.com/books/2/69/1/html/2/images/follower.jpg"/>
            <p:cNvPicPr/>
            <p:nvPr/>
          </p:nvPicPr>
          <p:blipFill>
            <a:blip r:embed="rId2"/>
            <a:stretch/>
          </p:blipFill>
          <p:spPr>
            <a:xfrm>
              <a:off x="3763080" y="1099440"/>
              <a:ext cx="2364120" cy="222048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b9cde5"/>
              </a:outerShdw>
            </a:effectLst>
          </p:spPr>
        </p:pic>
        <p:sp>
          <p:nvSpPr>
            <p:cNvPr id="72" name="Rectangle 4"/>
            <p:cNvSpPr/>
            <p:nvPr/>
          </p:nvSpPr>
          <p:spPr>
            <a:xfrm>
              <a:off x="3581280" y="914400"/>
              <a:ext cx="2667240" cy="2590920"/>
            </a:xfrm>
            <a:prstGeom prst="rect">
              <a:avLst/>
            </a:prstGeom>
            <a:solidFill>
              <a:srgbClr val="4f81bd">
                <a:alpha val="49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TextBox 5"/>
          <p:cNvSpPr/>
          <p:nvPr/>
        </p:nvSpPr>
        <p:spPr>
          <a:xfrm>
            <a:off x="268200" y="3657600"/>
            <a:ext cx="8782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oth followers and leaders are connected to the same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fi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owerful relationship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the follower into a strong lea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right” balan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CMA_ppt_wDUI_inside_bkgrnd_top"/>
          <p:cNvPicPr/>
          <p:nvPr/>
        </p:nvPicPr>
        <p:blipFill>
          <a:blip r:embed="rId3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OHORT Logo by Toby Cisneros 2 16 2010"/>
          <p:cNvPicPr/>
          <p:nvPr/>
        </p:nvPicPr>
        <p:blipFill>
          <a:blip r:embed="rId4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9"/>
          <p:cNvSpPr/>
          <p:nvPr/>
        </p:nvSpPr>
        <p:spPr>
          <a:xfrm>
            <a:off x="2914560" y="0"/>
            <a:ext cx="552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messages of the bo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CMA_ppt_wDUI_inside_bkgrnd_top"/>
          <p:cNvPicPr/>
          <p:nvPr/>
        </p:nvPicPr>
        <p:blipFill>
          <a:blip r:embed="rId1"/>
          <a:srcRect l="756" t="6667" r="8507" b="0"/>
          <a:stretch/>
        </p:blipFill>
        <p:spPr>
          <a:xfrm rot="10800000">
            <a:off x="0" y="556236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1999440" y="0"/>
            <a:ext cx="55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2537280" y="0"/>
            <a:ext cx="610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this book meant to 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28600" y="116352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nestly, the book was a little disappoint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as first introduced to the concept of the “follower” in the context of the “tango”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this danc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imperative that the partners are equally balanc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trength and energy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hoose the book to elaborate on this concep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while it addressed it, it was indir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not the metaphor of the tang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had first peaked my inter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00:39:12Z</dcterms:created>
  <dc:creator>MICK</dc:creator>
  <dc:description/>
  <dc:language>en-US</dc:language>
  <cp:lastModifiedBy>Trish Mooney</cp:lastModifiedBy>
  <dcterms:modified xsi:type="dcterms:W3CDTF">2013-01-30T14:34:33Z</dcterms:modified>
  <cp:revision>9</cp:revision>
  <dc:subject/>
  <dc:title>Slide 1</dc:title>
</cp:coreProperties>
</file>