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73F18-39DE-47CD-9CB0-C8D41A959B73}"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F6832-E0C4-4C51-A74B-F92B530869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was well educated on the Word of God. When the enemy came to decisive him, the combat him with the Word of God. Antiterrorism classes, Management controls established against fraud, waste and abu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asked the people to repent against bad behavio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showed compassion to others and multitudes of people followed him. He healed the sick, draw out demons, feed the hungr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people needed help, Jesus went out of the way to help them, i.e. when the servant of the Centurion was lying at home paralyzed, in terrible agony, Jesus immediately offered to go to the house to heal him. Jesus went to the house of a Jewish leader to resurrect his dead daught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lead by example.  He did not sin, he preached the good news of the Kingdom, he helped people.  He wanted his disciples to do the sa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vision was to go to the world and make disciples, preaching the gospel and baptizing people in the name of the Father, the Son and the Holy Spirit.  Today the gospel is preached around the world.  We are celebrating 2012 years after Jesus was born in Bethlehe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taught the disciples and the people that followed him.  Jesus mentored his disciples-answered their questions and concerns. He also guided the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gave authority to his disciples to heal people and cast away demons.  He also encouraged them not to fear but to have faith.</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was focus of the mission. His mission was to do the will of the Father, who meant to die in the cross for humanity for the forgiveness of sins. He then resurrected on the 3</a:t>
            </a:r>
            <a:r>
              <a:rPr b="0" lang="en-US" sz="1200" spc="-1" strike="noStrike" baseline="30000">
                <a:solidFill>
                  <a:srgbClr val="000000"/>
                </a:solidFill>
                <a:latin typeface="Calibri"/>
              </a:rPr>
              <a:t>rd</a:t>
            </a:r>
            <a:r>
              <a:rPr b="0" lang="en-US" sz="1200" spc="-1" strike="noStrike">
                <a:solidFill>
                  <a:srgbClr val="000000"/>
                </a:solidFill>
                <a:latin typeface="Calibri"/>
              </a:rPr>
              <a:t> day gaining victory over the death.</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told the disciples that whoever left family or property because of Him, will receive 100 times more and would inherit eternal lif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sus was a Visionary leader.  He commanded the disciples to make disciples of all nations, baptizing them in the name of the Father, and of the Son and of the Holy Spirit, teaching them to observe everthing that he had commanded and remembering that he will be with them (us) alway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DD8EC-42C4-45FA-B1E0-1F81FE5B5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FA466-B014-4C91-A0A2-B99D03E61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16016-B46C-44B9-8EDD-2C4ACC11A2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16678DD-F2C9-483D-9CE3-50E396E523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37C134-F2B0-4E0F-8058-D195244EAE2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FA40084-3010-416D-B3AF-FC6DBBD96C4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F0B93B-95E5-418A-9ED9-E188A31A25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A8641D-943B-4605-8774-29E6B4BC7C0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F8AFC7-C47F-4876-AADF-2BB2CC5002E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AC312EF-AA3D-406A-B69B-230ED51733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208F8C-C44F-4D62-8CA0-EC63F1CED38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DE49AD-F1CE-467B-87F3-BBB2961EBC9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7CD18E8-0079-4DED-84BC-1091CEB9337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80032-87FB-4CDE-8C77-3982AE5B8F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923FD9D-0798-4114-BED7-347A5B0604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655ED6-8882-4F23-92E0-C3DE38F86B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1355BB8-D717-40A4-BC3B-85D005328F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0B75D98-926A-4708-8B1A-F2E24DBE5E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D35A6E-10E4-431C-A811-4112F288C6E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0AFBAF0-07F3-4F44-9E08-1F4DB42388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D8604C7-6EB1-42EC-9491-91F00EEEAE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D85B0DD-39B6-4A11-AC92-3EED3ADF6A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91EA5C-DBD9-4AFF-A7E8-A65A084425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2F2A792-C544-40EE-8897-C77857AC85B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6C2A7-FA5C-4EB4-9604-50125FC2F1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1220A04-2D6B-4CE2-9366-C8331874AA3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BDC9D94-E237-4AC8-AA72-BEC5B630A6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C51457E-3319-40A1-AF8C-B02AC42860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A64CE3D-45AE-4059-A998-BA461329B3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391C213-23FC-4863-B4DF-27D84787FA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F927F31-7EF9-4CA1-963A-A2E76D1A40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3D2AAF6-0B79-4C05-8FD0-B942375EC2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03DD0DD-96ED-4259-9AA9-2220916601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5B23FD2-CB7B-4961-8449-909F75517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94EFD2B-6BD4-4120-A3AE-1031B49D1A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F30233-454B-4876-B115-033011F51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AB5F778-65B6-4774-AA32-F1DB51150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788E451-39AD-4657-A9D6-65D2C2F4DB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AFA1942-B461-4234-B7B0-2C9A9C57A9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C2C2940-CDFE-46A6-A4AC-C0FDD5FACE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179E5B-E943-4899-BC0A-722E258341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A74F17A-4226-4DCB-AE56-58E6F84A11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A3C1D21-9A41-46B2-B048-E463A44B9F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840F68D-B0B9-4529-A365-733A8D648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DB9969C-C14C-44F6-96EF-855C998889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E6EB85-ED49-4508-A801-5F9C34A932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F3D3BB-CB49-4D41-80BB-6ADC01479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5077DF-6150-4AAA-8124-288708631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A3B8FB-8132-4F2D-A21D-E3C7589847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0C94ACD-682F-4CB3-91FD-EEC3951042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80E79FE-122E-4ABD-9D5B-FE486C3F65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7A8DA02-EF2D-4887-992D-D8A8E7977E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87ED5D-4401-431D-B8A5-5F0820740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6F3E1E-79DB-47F8-AEC6-DA3E0EA20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D25E45-6579-4701-A505-F1BF48309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C5F25D-994E-4CC2-8D10-761A933A9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57C3E2-C97F-4800-9C3E-14EB32927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99A5-9792-405A-B98D-0D624E3A0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A96644-48D6-4A5C-95EA-A99BEF0E5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6DC8C3-CF75-451A-B8FE-4156A3C2B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570A2D-DEF6-4492-8376-4CCADE708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255B33-F78F-44A0-9A82-A95B0734F1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EFA6F2-AB78-495C-8C25-55B6C0C44CE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2C7E98E-92DB-45F3-804A-E084008AA1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0BC62A5-2B91-46B1-9689-D090205380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38330C-D4E1-4D22-9425-24C1D11F43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D593FF-2993-49A5-890A-96FF9956DB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E6C04A-F1EF-4F65-8101-45221F76AB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21AA-ED36-43FB-BCFC-CDCE4CB41F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E8A2CC-DC8A-4EF4-B01B-432A31D28C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3E65C7-8B4F-4019-A443-E5730742B9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AEEC16-174C-4C3C-8544-8F674BE81D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1EB633-45EC-4307-9BBE-5D147F581F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53325B6-89D4-4A29-9AB0-16EEB98493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A30680-A397-4B2B-B403-2310A27984E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BB93F6-A1C5-42EF-9BC8-FAD4F20C2D1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016E2D7-0102-4A15-A918-22834E01CA4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A107FF-C4BC-46E0-BCB9-397E8523F8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C22922-180C-4948-A127-7F58DC0C05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16322-2027-4360-B605-2D0B041004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3164DE-92D1-42DD-9A15-9E80B8D5213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D4F1DB-A0DE-44B1-B7B7-C4BCBFF3453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DC60D8-80CB-4A62-A5F6-A6BE963DEF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A3CD05-5D98-4123-840C-036D20A665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0B5913-20E8-492A-8966-D248BE491B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84099F-97A6-4B58-942C-C4E1C2B4C27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BEB8F9-FE69-48F4-AD8F-71AC53D7C5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0485C3-D699-4AAF-9427-FD15AA95F4F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AEB99BB-34BC-467B-84B9-621AFCEFBA3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7074BF8-23B1-403E-BC77-35DB89EBEA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4F65607A-F77F-4F59-9F48-2F58FD8910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324294-030D-40DD-91B2-1DA6B6267A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1DB77C3-21D7-4007-85E1-E8D2F18D4C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929F7A2-A3D9-4120-9D3F-899396683F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47D9B20-05E2-402E-A48A-AC7FC3BDFF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6FCCCA4-8D01-4759-B35A-F18D94BB6D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760BA2-4971-48BB-B4C3-60082D0E40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D4E18E-A2C8-49F9-AD8D-AF7E5EAC2A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82572B-E4EC-4D9B-B5E4-9F4BA40032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375D84-83F9-4A42-A108-A0456E8DB0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1D3C0CD-8599-42EB-A236-2EA06E5D44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D7C6069-1BA7-482D-A729-385D639863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598A90B-B7AA-43B2-AEDB-9D64CDB0BCC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74D9A22-1E75-43EB-A203-546E90BFEA8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70A7E6C-972C-4EA3-B7FC-EEA0ABE0A38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E1944B5-3679-4CB2-BD93-5620D7FE326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24B3160-BDAD-4259-AEAA-866A9AE58C0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E922C2-E6B2-49C2-BB64-F03DAF853AC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525DA2-1FD9-4EBE-A5C2-7E3C294E589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832892-CBAF-413D-AA84-A883155F948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60B8CC7-9615-4593-89B1-34C664E6CE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AA9FA8-6271-42BB-96D8-04B5EA33F48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6E645-2A01-433B-AD3A-A4A07E98D6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50161A-6569-494B-A22C-84C72BC4EF6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4539962-245C-41EA-93CB-BD8C869EE09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8F78DCE-85B9-457B-9E0E-B7CB8B00CA3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B7F9E94-00BF-4B61-B4C8-8DD8FDA60B9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14FF98B-533B-41A9-9CCE-ED40ADD908F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C7FD719-C566-41EA-9181-5ADA232C07E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4C0E298-2988-444E-8DBB-CFA51258FC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7162FE-A78D-45BB-917D-76080060C3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3F7B2A-4F5C-43F2-9A67-6A4F51D6F87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EC7AF2-262D-497E-8168-410E4F2C9C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0C234-8805-4344-BCE1-6D8F802FB2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2564526-0080-4695-B89F-4B8CF17E40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EB1F87-A8F7-41ED-80BF-EE9966A1E5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5D0B2D-5C8F-4018-AE71-EFF65829CD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6D4470-8DCA-4C90-9394-8E0DAF9A56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2D84A2D-AAFD-4516-9141-A076653027C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94FA7DF-B5C5-4885-A132-D0EA06628D0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128C67-CCCA-4D41-935E-AA15F934CE6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680EEBC-7C80-4878-A4EF-A69E6C6111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E2C3689-EFA1-4E52-935E-DC751D8A1FB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CDB3906-F8EB-4CF2-9BFA-BC400BF317D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1489E-2187-42EC-AE7C-150BF1A4D0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0814900-9C56-4382-A38F-980A2A77B19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AEAEE2-C5A4-4D84-A328-722CDED8B6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6F155A-F62A-4304-8275-671D587B14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456EC8-8F46-4C8E-855D-4D3D2F6A0A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EB06780-9345-4810-87BE-F3AEE54D8B4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C2BA505-41D2-497B-B40D-55DE9F4D3EE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9DC3D71-B63D-4FEA-A3BA-D3415EAC4D7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E5C89AE-CF85-436F-9893-C8CF0B8A738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489EEEE-9926-4555-BEFC-3C49A9D972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207C8C-4EBF-4458-A2EA-AFB02CCD31E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F7AF4-9A70-4A25-9D6D-E9E47D20D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0CC62-F6CC-4155-B4F6-FE2FA21BA4A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ABE55-A5DA-4B29-B178-6436DA50E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E9DFC-D716-4B85-B81F-6E5E3AEED2B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8B210-5BC5-448A-AA42-DFACE5254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0CAD2-E99E-4882-AF3F-85BED3EE79F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A73B9-1AFD-401D-B51D-632B92022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84C79-6F49-40F5-95AD-BC76AF7A29B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FAA8D-77F6-4927-B339-5A1EF5524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CD17B-CCA8-423E-8044-E72D813EA7B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C62A3-5775-4216-A8B2-8CEB62C60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FFB57-8663-4203-914A-A7FE316FE3D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9DD14-EFB9-4D42-A649-173957FFE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E999D-D6E8-4241-AA50-27F12F09E88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BCBA5-CDE0-4B92-A73F-E845288CC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58957-1752-4F12-95A4-78844AF83A6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66439-16B7-4941-8047-DE722EBA0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9DDD8-E4A6-4C79-BBC5-B6F4508DEFE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8DF51-CCDF-45C5-B8C2-B777FCA32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C8E99-C0AE-40C2-B717-4F6EE4E2AE7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B6071-141F-472C-9D6F-A48A7F7F9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A89A3-9B30-4D5A-9032-2C9498A0D96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E855D-A391-4437-B82C-F1ED7E7E5D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ma Y. Soliv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y Bible: the book of Matth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Matthew, one of the original twelve disciples of the Lord Jesus Christ.</a:t>
            </a:r>
            <a:endParaRPr b="0" lang="en-US" sz="2800" spc="-1" strike="noStrike">
              <a:solidFill>
                <a:srgbClr val="000000"/>
              </a:solidFill>
              <a:latin typeface="Arial"/>
            </a:endParaRPr>
          </a:p>
        </p:txBody>
      </p:sp>
      <p:pic>
        <p:nvPicPr>
          <p:cNvPr id="538" name="Picture 4" descr="Picture of Bible - Free Pictures - FreeFoto.com"/>
          <p:cNvPicPr/>
          <p:nvPr/>
        </p:nvPicPr>
        <p:blipFill>
          <a:blip r:embed="rId1"/>
          <a:stretch/>
        </p:blipFill>
        <p:spPr>
          <a:xfrm>
            <a:off x="4648320" y="1789200"/>
            <a:ext cx="4343400" cy="310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352160"/>
            <a:ext cx="8229600" cy="51260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Educate yourself.</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thic behavio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ompassion to oth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ustomer oriente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 by exampl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 teacher and a mento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and encourage your peopl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he miss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 Visionary lead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457200" y="1609560"/>
            <a:ext cx="8229600" cy="451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oever wants to become great among you must be your servant, and whoever wants to be first among you must be your sla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fore, whatever you want others to do for you, do also the same for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tes I Would Like To Share</a:t>
            </a:r>
            <a:endParaRPr b="0" lang="en-US" sz="3600" spc="-1" strike="noStrike">
              <a:solidFill>
                <a:srgbClr val="000000"/>
              </a:solidFill>
              <a:latin typeface="Arial"/>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lessed are the merciful, because they will be shown mercy.”</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ut seek first the kingdom of God and His righteousness, and all these things will be provided to you. Therefore don’t worry about tomorrow, because tomorrow will worry about itself. Each day has enough trouble of its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6" name=""/>
          <p:cNvSpPr txBox="1"/>
          <p:nvPr/>
        </p:nvSpPr>
        <p:spPr>
          <a:xfrm>
            <a:off x="457200" y="1445760"/>
            <a:ext cx="8229600" cy="4838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ble is the Word of God and is the guide to my life.  The Bible teaches leadership principles.  I thought, why not to learn from the perfect leader-the Lord Jesus Christ?  I selected the book of Mathew because it portraits the Lord Jesus as the “King of Kings”.  We are kings in the sense that we are leaders in our organizations.  I learned that many of the leadership principles that I have learned through out the years, have been principles already written in the Bible, exemplified in the life of the Lord Jesus Ch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Wilma.Solivan</cp:lastModifiedBy>
  <cp:lastPrinted>2011-06-13T12:29:39Z</cp:lastPrinted>
  <dcterms:modified xsi:type="dcterms:W3CDTF">2012-09-07T00:30:01Z</dcterms:modified>
  <cp:revision>49</cp:revision>
  <dc:subject/>
  <dc:title>Leading with Impact</dc:title>
</cp:coreProperties>
</file>