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CFE-DBD0-4EBC-8B6C-5D9868A0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AE03-F082-4EC3-8380-E01B77F9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39B-86F7-4EF0-BB79-73760D2E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536B-1C5C-4A76-B290-8A80AFC9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135A-FFB4-4A61-BEC4-658C69EF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4A5-D180-4D37-80E9-F0586AD0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BE1-25F5-454A-B1E9-AB067454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DE6-37B0-4CE6-93B9-4B9227B1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E15E-6D15-4761-AA06-5D0C5831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B06-AF2D-44EB-9FF6-30B05320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A94-ADEA-4AB5-B651-AAC0C24E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376-29CD-4A3C-A3E8-C5BCDA86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2A0C-0828-48C3-AC1F-200B28B8D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ight from the Start:</a:t>
            </a:r>
            <a:br>
              <a:rPr sz="40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aking Charge in a New Leadership Role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y: Dan Ciampa, Michael Watki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port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. Gordon Br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154880" y="624852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-10 January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ght from the St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otential to fail is very high.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/3 outside within 4 years lef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Advise from leaders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ke advantage of transition period (homewo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ical, cultural, politic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ek advise and counsel (avoid pitfall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mpathize with outgoing le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ways look to improve your leadership skil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rst 6 months are critic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7920" y="2057400"/>
          <a:ext cx="3809880" cy="109692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  <a:gridCol w="952560"/>
                <a:gridCol w="9525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mo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ght from the St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ing right doesn’t lead to success, need to motivate and don’t become isolat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nge… leader is a catalyst, create momentum during transition peri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ure early wi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e, leverage, measurement, specific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y foundation for chan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vision, focus leads to momentu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ild credi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personal skills a must, (want to strict but flexib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 self-aw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Exper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1</a:t>
            </a:r>
            <a:r>
              <a:rPr b="0" lang="en-US" sz="3000" spc="-1" strike="noStrike" baseline="30000">
                <a:solidFill>
                  <a:srgbClr val="00b050"/>
                </a:solidFill>
                <a:latin typeface="Calibri"/>
              </a:rPr>
              <a:t>st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 Bran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mall, new, w/ little customer fu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new customer base and technical 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rted early with recognition and ide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ed change and began 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de good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2</a:t>
            </a:r>
            <a:r>
              <a:rPr b="0" lang="en-US" sz="3000" spc="-1" strike="noStrike" baseline="30000">
                <a:solidFill>
                  <a:srgbClr val="e46c0a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 Bran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rge, established, w/ large customer fu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knowledge of technical 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t customers and learned technical 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rted to refocus research to fundament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18:55:48Z</dcterms:created>
  <dc:creator>Tg.Brown</dc:creator>
  <dc:description/>
  <dc:language>en-US</dc:language>
  <cp:lastModifiedBy>Tg.Brown</cp:lastModifiedBy>
  <dcterms:modified xsi:type="dcterms:W3CDTF">2013-01-23T20:09:42Z</dcterms:modified>
  <cp:revision>8</cp:revision>
  <dc:subject/>
  <dc:title>Right from the Start: Taking Charge in a New Leadership Role by: Dan Ciampa, Michael Watkins</dc:title>
</cp:coreProperties>
</file>