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5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63F1E-3FBE-42D2-8ABA-C353502408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36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7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A615C-7255-4852-B31D-225DC85D6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1971F-FC6A-4E89-8EF5-E2E02CB9F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C5D5-3E27-4902-96FC-539C4A984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C110-78D1-4B5F-BA6C-1954A619BE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493B6-C744-4B69-8424-4DBDD50C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CDCEE-3F75-4FCA-9E82-BAE1EC63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65C20-BFF2-434B-985F-384FAC17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61B84-D7D9-4B1D-8EC0-D24A9E37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ADF7A-9C67-4031-B8A5-19C375D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EF5B6-A243-4205-9116-B024005B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FD04E-AE20-4ABB-B43D-D3381E4B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D3D9B-691F-4955-AAAF-AA6A0C2B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84E0D-EBDC-4126-82D5-95F9563D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16876-DC89-4364-B44A-DB50B8E6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BC56-D1D5-49CB-A8A3-4F96DE42759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01311-4D82-4F62-9946-2477B0D9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B2BF6-013C-4C8D-BD1E-FAB8E164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13007-4EBF-4380-AF85-FF003EC1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B8D80-BF7C-477D-AABA-D5D458F8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3BE1F-8FB4-467B-96E7-2AF02030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4DD52-7878-4B82-A7F7-D17A05B6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C7FD8-5004-49E5-AA2A-D6D63FE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C57DD-6604-4E52-852A-2CB122ED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3B00E-A61A-4569-A380-CBDE8CB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0C0E6-F003-407C-9E59-A7A0CB20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30DF-BDBB-4E3B-B5FF-33CCBCA2FFC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D4B27-0A62-4838-8799-0D5C331A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1B15D9-AE22-46EC-B9A5-8AFB4237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CF30B4-6C76-4CD9-8D34-0FBA4B8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0CB467-3A11-4CBE-9B00-91ACACBF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4B272D-3096-417B-9E68-1B134D1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779884-B98E-4896-9C1B-C8BD6A65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D78DE8-B374-4C61-A539-DD7706A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BDA561-2105-4519-A9E3-5C747D1F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2DF5BB-7815-442B-B682-7CA09CF9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CDBD04-2CE6-4ACE-86FD-0ECB7BAD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2A172-C2C9-42A6-B1D2-E8194313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1A9AEF-F5A6-4C6B-8FED-8EE06EEE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B39D42-821D-44EB-8D73-516821FF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167CFB-02CB-4603-A765-815255A8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F05A7-C245-45FD-BB1D-A3269267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12996-D81A-4DD5-9B73-CF3422F9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77E9D-DCA5-44C6-9E44-4AE85C6F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20023-7DA9-4533-81F3-DA7A790C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EC03E-37B9-481C-B5DE-EA31683A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69D35-8C29-4125-9B21-E40B7DAA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18104-D478-4DA2-BB89-332DBD1E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A0162-504F-4225-8262-4343C107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4A28F-F5DE-48FA-A220-1AF20FD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B1CE2-BF9D-4773-B4CF-B9EC36C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81A82-7A2B-4280-A5B0-E3003B18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2D560-147B-41B3-9213-B9C9C15E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42A22-A6B5-4A3D-81BB-6198BE09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B1F01-ACDF-4E27-949E-C64B3FDE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C8473-E974-42B7-9E64-2DA05E9C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97028-04EF-4BF7-AAD0-44AE138E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D3B4A-A103-45BA-8638-9137A3AF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E545D-9156-4692-98A9-E4960823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F540-CF74-42A7-94F8-94E5987EF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DC946-B78C-462B-9DC5-0335C02E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BBBFC-82D4-4709-B8B9-E803C0BB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2A704-5842-491C-9A36-AE10DED6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33264-31FB-4F7C-9A96-EBEBC7D2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A32E8-2969-4F06-A305-F7F7ECAD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65669-29D4-434E-83DC-F16F86FB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0C95D-1C4D-44B7-854A-BA0703FD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7A928-99F0-42C1-9864-E6BC972B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2609F0-AA00-4491-B2F7-BDA5AEDC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59837-E4D7-4FEA-B2E2-D43E82B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C78E-78EB-4B7F-B9AF-62F62EC579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79ABD-6089-460A-AB33-B2758A72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033E6-1665-4449-9BD7-5A62BF06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A1C42-E5EA-4BE8-9EAE-945F1CD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6C578-5D84-4295-9A55-B2FECAB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193CF-D789-43A8-93FE-28E9BCD5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96C987-7537-423B-B21F-CD496D30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CF4B3-2A23-4FE5-B800-07186FE0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634B3-4427-4C0D-9A2B-5375DD26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6AFDA-FAEC-4B0D-B3F5-4AD43789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519B1-99D0-4575-B530-15354CD5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AEFE-EE45-47C9-B9D7-3A3A43EA45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DE4DA-29B3-4757-A040-DF14B61E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6AC3B-9425-40BD-8EC3-8501A99B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9006E-0FBB-45E3-887B-F43810D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65080-D40F-46C0-B89A-3226F79F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FF560-54DD-499C-B9BD-3BE8C626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58BC7-4150-4B84-9839-EDA8D42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65523-7AE5-4F43-8EA1-2337A44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1504C-A3BC-471A-A2EE-BFC151B7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0A863-C200-4326-93E1-5E9D6F87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0B4C8-21F6-4E8E-BC6F-4D401C13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FF77-FF93-42E3-8FE2-5A08B9EADC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4A306-AFC2-4BDE-A1C4-8C6B1FB8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6A8217-449B-4C4E-8761-717C38BC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A6D659-A22E-44BE-B34D-1F3761BA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5AE0D3-10CB-444F-8886-68334EF6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3D683A-ADA6-484C-9604-FAF82D02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DEE14B-5140-4DA6-8098-28FD09A7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94E5E8-2405-4EBA-BDAC-C807DC46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6A67E5-4113-45FD-B735-C77F7509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ABEE5B-089B-4CDF-9F7D-404C9842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0ABE3A-9D3B-44AC-BFD7-AE4D2871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A868-B4A5-4EB7-B0CF-A6DCA54B77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5928A-139A-4ED3-9D28-A63A4FDB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D42C2D-31D0-4C4C-B3ED-0485720C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8C7555-868A-434F-BCCF-4815A633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C25245-B620-49B7-B101-F03A20F7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6191D1-9579-44ED-BE4F-FEDDF980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24E34C-9E63-451F-BEB3-9BA56BA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3474CE-2D28-44A2-83E3-A5193A97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14214-F5DA-4EEE-BD50-A4B0C3E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110C2D-58F3-4882-885C-21FCA158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F280B2-C7F7-4CF4-A736-1BB9F12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5470-EBB1-468B-BD79-5BFF8E14193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631D59-159F-4449-8C79-F57AC0C7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308A3C-0D86-49ED-8577-63899818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01E4EB-6590-43C2-B348-02A18ACA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AB0C2F-0D7D-451B-A275-0789456F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86FCD5-503D-4DFE-8974-A5FA538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051A43-B2C6-43A2-B090-A3E4662A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1ADE2A-0069-4B9C-AB0A-375C867B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2D3F42-30D1-4C33-81F0-33E34A1F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B510E9-8733-4851-8FE7-2D7FC6F6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F8548E-C418-4241-AC3F-B49ED41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9630-153C-4831-875B-8A6AF02057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63012B-4A9B-4D71-9FF9-275B74B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65C3C6-1848-4016-A65E-7AD79D6F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09B169-7D62-4C01-9D2C-505B5BC8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F7D419-699E-4703-8158-1D6EC133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0B131B-2A1D-4042-AE9B-EF3CCFC8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974402-E268-457D-8AB1-B8AF94DD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2F4BF0-E3B0-4B76-A781-8D8D49C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4AA0D1-9DF2-46AA-A95C-E3A0FD5C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E0E2E8-80EB-454D-B53E-68250194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F9ADF1-B5FF-4535-87D7-EA04FBE9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85CB-B6D4-45EF-BFC3-EE70F8D354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9739D9-A7E8-480B-A707-12B263A7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C81A69-DDAA-44C6-8234-330254D0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FF93AD-F568-4925-9FDC-228EBFBB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D29845-DCAC-4910-91F7-0B59F9F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27B707-0B02-4163-9109-C1127F80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6F53FB-9ADA-4443-AC77-139BC8C2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198D39-7C26-4F5D-B4F3-07948F13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DE633-79FD-498C-A9CC-3D52C352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FC3CF-ABCF-4B93-8077-74355EB8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91DCF-2CE4-4523-8943-A5A554BF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955D1-FB9D-4714-AFD5-5740063E0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F9019-49ED-4D32-8273-163251305C1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22F63-3E99-44B0-835D-8F3D86AD4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17E55-10F8-4849-A17B-10C39173010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19AF6-6025-4EE7-87E8-5B482EE5D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F8682-76B1-47DD-B23C-5FE82EE0F81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67080-0816-461C-9F34-9091D8940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04A4E-B583-4569-B0DF-C6CB66BE542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63C0D-A9CF-4D37-8F1C-3D0181C0A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36AF3-B1A2-4996-A982-BE1D56754AF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9216E-DCF8-4CE8-8199-35E630DE0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8E437-F229-45B7-9517-67A3D3AE59C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3F888-1CBB-4FC5-A253-151BB7388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D2DF2-9E85-4B88-AB3A-7D9DA27C173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64EB4-98CD-4F32-80D6-320CFA86B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22861-86B9-44C1-881F-BEC77C1D0ED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C0C7E-2A59-45E5-9829-63A48DC74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F0EE8-3168-4A57-A17E-294D6372B9D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C7E1C-6603-448C-AD67-BDEFEA2C9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9BC6A-D3F2-475F-8918-89275D5B896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78375-2078-4D9D-AE87-65B66BBE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DB872-2EFE-402D-9D2C-A664E2A2D62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CB832-424A-4B57-BE20-BAAFF80C7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4896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el Sal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itle: Decis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 George W.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cellent account of George W. Bush’s journey to the White House and key decisions he made throughout his life that impacted him, his family, and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956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dn’t spent a lifetime planning to run for president. If I had, I probably would have done a few things differently when I was younger.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g. 37 ¶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sponse to claims he was a racist, following the Federal response to Katrina, President Bush stated, “…it was the worst moment of my presidency.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g. 326 ¶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can debate the decisions I made, the policies I chose, and the tools I left behind.  But there can be no debate about one fact: After the nightmare of September 11, America went seven and a half years without another successful terrorist attack on our soil.  If I had to summarize my most meaningful accomplishment as president in one sentence, that would be it.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g. 181 ¶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352160"/>
            <a:ext cx="83487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nning his battle with alcoh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eping the Nation safe following 9-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r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cription drug benef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ing firm against the “Axis of Evil” (Iran, Iraq, &amp; North Kore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d the Nation through 9-11 and our respon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15 billion spent on combating AIDS epidemic via PEPFAR (President’s Emergency Plan for AIDS Relief); largest international health initiative to combat a specific dise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abel.salgado</cp:lastModifiedBy>
  <cp:lastPrinted>2011-06-13T12:29:39Z</cp:lastPrinted>
  <dcterms:modified xsi:type="dcterms:W3CDTF">2012-11-07T21:18:13Z</dcterms:modified>
  <cp:revision>74</cp:revision>
  <dc:subject/>
  <dc:title>Leading with Impact</dc:title>
</cp:coreProperties>
</file>