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D0A8-2AB0-4C80-951E-7CEB1C74B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F64C-3F44-4D31-AD74-A943E142DE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28B05-91D5-488D-93AB-3921B5E5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CC45F-9161-4978-9D0F-AF26A3B8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7F583-B12E-4798-AEFB-4771275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7AC5A-FA6C-4D8C-9857-9863C3A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D2661-6E7C-4A5A-8836-FEA6ABD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C6804-53A0-4F48-B06C-9069349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97118-BE30-47D8-8366-63A21059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F3258-FA84-4598-B47F-A11859D6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8DA5C-058F-4493-81BD-3FDE383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F28A9-D45B-49DF-9140-76407777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7AA4-690B-44D4-9D3F-35253560F22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EC085-131E-46FD-A7E4-7A926BE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E69C1-D501-4C16-9E95-C6988480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CE255-BF57-4F63-817F-794231D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E6252-95D2-4FD1-9130-0945540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0FA8C-648B-45F0-B853-DF7E26E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FB3AE-E241-4856-9B83-682CD77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55C15-F5CF-4994-BDEF-ACD2322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F50AF-2D2D-4101-84D6-F4022DA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437B9-B014-4BC8-9D05-6FA2D46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493F3-AB34-4BB4-AA81-6B03BC7C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EFDB-9D07-4B7F-8E56-A8020DCE40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F3D2C-52AB-47D7-BAE3-A5001EE5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49B8DA-9279-4A75-9A8C-A38EC285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2DDA40-B5AA-4B28-965C-BAEE7789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1880BC-ED90-41D1-91C2-92CF257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EA73DA-C912-43ED-96F3-FA7F59FD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28A196-7CA8-44F2-821C-1E8291E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EFA04-E423-433D-863D-12A71FD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1DE44-081A-4FC9-B186-5E9038E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8D3316-438C-4405-8445-E1763E38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E20A0-F7A9-4A9E-8372-597BC0C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1393C-1480-44D2-9768-2FFE9A25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799D00-F099-4713-A07A-545F9CD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246A77-5EE6-464B-B920-F537A7B4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24C83E-7C83-4D81-8225-F9238395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72E1B-026B-4BA2-8BC4-11CFE2A5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21F8C-69E5-4D52-A844-DCABFF38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6A0B9-078C-4597-A5A7-20386111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2DE87-C147-4C35-8306-A6FAA029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443B8-254D-4472-A4FE-3ED16167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33EFD-D535-4DEF-9B8A-E2CC71B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C44C8-EA89-4C0A-94A8-1510C9E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31DB6-2B90-40F9-9AFF-D3659B1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9002E-25DF-4A96-8665-FB7BAE1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D00FB-E6CB-4FBD-93DC-21F236E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857C1-6F89-442C-9E24-6E4B552B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AB8DD-C4A2-4EAD-90B6-D135F43E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20FF5-FBDE-47EA-AAED-4611478F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C3FB-B081-4201-8E92-77843904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EF5C-41F9-4FC5-970F-9ACADEF9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A74EA-D33C-4830-8C67-5D18D07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61B1E-781F-483F-B1F0-20A13A4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32FAA-20C0-404C-B8F1-801ED97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2806-AE99-4833-BED4-0987C789E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8A88F-D0C1-493A-A5E2-8A511B9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768C4-676F-4ECE-BF87-38F6661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C1BBC-DBC1-443A-8BF3-D579CBCC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A8B15-9FA7-40D4-9B08-3BFB427D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7A715-B407-42D9-A04D-9ECDF858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D5873-2F84-4C81-8A8F-C2D7CA5D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C6932-779F-4AAC-BBAE-88CAE3E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04B49-28CF-4F81-A5E1-C84C1C3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84DE7-160D-4D5E-897A-700FD06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4FEA6-DA11-4C0B-A08B-DD31A3E5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849E-D4FE-4FE3-89C7-8E9FC4A606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55F753-F89D-40CA-970B-F405810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C0F3A-0601-45BF-AB4F-0A09BC4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CFCD9-F39C-4AF0-AE5D-094C90B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1F580-6AA9-4911-95D4-CEC50884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87EBD-8EBF-4FFB-BA3C-717490C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75A0A-4928-470F-9B41-DCAB2AF9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10DF0-15AA-4468-8A0F-C74B7CF4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0043E-610E-44E7-9182-55406D37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5D377-1ABE-4307-8272-B7D8D90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8D54A-4ED5-4AB9-8D49-81399D9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3C22-7BF7-4C1B-BCE9-082F9E5717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D67D0-5731-4E80-847E-2A9B777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DEF41-7D68-48E9-A7B5-17CDD703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29C71-70BC-44AF-81B9-EB690F3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A7F2B-CDBD-4F3D-ABC4-EA07B53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36A82-C4F7-4AED-8A02-C4C838C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35213-D8AA-4857-9426-848ABB3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9C5F1-D6C0-4F4D-BE07-E4C33834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BC3D4-11A7-49E9-AE75-C8A1EA99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A2C04-EAD1-4376-9688-961D0EA6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2C6CF-E718-447C-ABB5-05B2C5E7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38AA-6DAC-4C9B-8A56-64728C9372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57D75-9B5D-451E-A60F-9D289A9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E08AA-C670-497E-AC25-D1C6C26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DD449-D327-49AD-A7DE-B779CC7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26075-B1E4-4C4C-8C42-F3653D0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F34F7-F39B-464A-8A31-E9F8874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43815-136D-4C69-8C34-46F91A0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77F8C-520E-4AE7-9277-0FB11D7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22E12-941E-441E-8F33-85D893BA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C015F-2D8A-40BD-9159-352134C0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2E7E2-3AE8-4AD0-BEFB-922EFA96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B017-9C00-46B5-A5E8-85DF6F78EC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C1FCA-3D23-4F63-A557-64B01DB8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4DD74-5F2E-4A79-AE78-EAF2AEBA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F0218-288F-4D1F-A87A-997DC5FA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E5B08-878D-4607-ACB9-51A1F04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317FB-D3E9-4515-BDF1-AC8F63C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CBD0D-7EB5-4D95-8A2E-5E194A6E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E883F4-ACF2-460F-ADA4-4CFF6CF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A2216-674B-4975-A20E-65A7ED0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CDDE6-8A56-4639-B482-B74BC51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F6985-3200-461C-82B4-857533D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C334-4A8E-4A71-A8FD-31BE7621B3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6E79A-3529-4D58-B0A9-1F6CD359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1C39E-7A28-4B25-A6F7-5F54AB48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6FCE1-8E7F-4212-AA0C-8FAF4619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29876-1425-4861-B151-AE0E9F45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2B651-9882-447B-B271-56B41CF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7DE45-5DA7-4C9C-8034-06A067C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BCE112-81D4-4A32-9E90-DC9D2F3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F3AB5C-C318-48A6-A4D1-177A46F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1B14A-5B13-42EA-9E68-4BA59F8A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A7647-83C6-4741-9CD4-B764FA6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5EF8-9C99-45F6-B55F-2766A2C73B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43933A-CED1-40E0-A57F-6C07FD8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0266D-D03E-4061-A719-9AF70AF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22B5A-DB34-465C-AC83-FBBA00F3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C2C1D-83EB-4172-A4F4-4C220EAE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47C5C-2575-4FAC-884B-659E8907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D7DCF-5515-4958-BAEA-0888C83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6361E-8E58-46D8-AB71-786F7F4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3E3783-709B-4FA9-B5A5-70AFA815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6602CD-2CBF-4CE2-A3F5-A4263FD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3A8BB-AB5B-462B-9010-E769C16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B4B5-7B05-4E93-BBA6-E8D6DF5FED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90CD2-D244-47D7-B616-A938A891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7C70A-438C-43B1-820A-DD62D421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31A31-3910-46B4-8134-4CC8769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F10D3-9E58-4899-9705-3849764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1E0E3-8182-431F-928F-35EBE14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C257F-339A-4303-A76C-5C907535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954A0-3346-45C9-8721-59392022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A9149-AD60-4ED9-8D75-55FC203B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0CFE4-00D0-49B1-ABE6-B420537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B76A8-58BE-4E44-BA19-0670960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3BF6D-12C8-4577-812F-2C847386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A47DC-E174-4AC1-B73C-16EEC93B07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16469-BF48-4EB3-A8FC-1358BA738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3E4BA-CE4A-454B-B0B6-10182494591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B6D21-AA41-4117-894E-C7FD306C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7298F-9917-453C-9528-48EED5B13A5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4D21B-1D33-4F2C-814E-DBC815A79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D5C9F-6430-4833-9CAA-F2AF6BF349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1F3B3-135C-4304-A9A1-7B88AE81C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FEBF5-CEA0-4E96-9E42-FCB8A072F50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CB928-B0AA-479D-B879-0506F35A1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9011D-E148-43A4-9205-5308308683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BA413-EE26-4157-8178-0E5698B1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EC63E-085D-424B-B5AA-ACC740103A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26209-7B03-4B8F-83D3-9D89953F6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0106B-65EB-4AED-8EB4-5E5A5274F7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D93ED-BBEC-42E9-A531-82A1F7E5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8777E-0A78-47F9-92C5-F5A7D23CB09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9FC2D-B435-4EA0-838E-AAAB11ED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56231-E2CB-4CC6-8DBF-2139531EDC7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30C5E-4CD0-4F9B-B80D-C7B790A1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41B49-0EE5-4FB9-A9E8-CBFC4A1E9A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AC144-EE32-4E90-AA48-2F08A1E7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en A Au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 Book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28320" y="160020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F. Kennedy on Leadership The Lessons and Legacy of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:  John A. Ba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C:\Users\stephen.aubert\Documents\Cohort Training\kennedy leadership bookcover001.jpg"/>
          <p:cNvPicPr/>
          <p:nvPr/>
        </p:nvPicPr>
        <p:blipFill>
          <a:blip r:embed="rId1"/>
          <a:stretch/>
        </p:blipFill>
        <p:spPr>
          <a:xfrm>
            <a:off x="4791240" y="822240"/>
            <a:ext cx="4005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Lessons for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981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what’s most important &amp; set the path to realize its fru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your own L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Resi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liabilities into 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You Persona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 the art of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e Ideas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Speech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You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Stop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your Right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ck Stop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t your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from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your Poise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es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390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 is rightly esteemed the first of human qualities, because it is the quality which guarantees all others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 Winston Churc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ity is the jailer of freedom, and the enemy of growth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F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61800" y="75960"/>
            <a:ext cx="6829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is Book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840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 is part inherent, part learned, part manufactured &amp; part cont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essential component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are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ible, Flawed &amp; Im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 Capable of leveraging immense power through those they ins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Stephen Aubert</cp:lastModifiedBy>
  <cp:lastPrinted>2011-06-13T12:29:39Z</cp:lastPrinted>
  <dcterms:modified xsi:type="dcterms:W3CDTF">2012-08-01T19:22:47Z</dcterms:modified>
  <cp:revision>35</cp:revision>
  <dc:subject/>
  <dc:title>Leading with Impact</dc:title>
</cp:coreProperties>
</file>