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366EEE-6EE1-4800-8036-2854D7D50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37303-AE7E-4117-B195-6367604103F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276D7C6-93AC-4957-B143-D43013E9E72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8BEFD7A-9E81-4AFD-8904-7C871B51C3A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4E71FEB-5E5F-402A-8365-B5CF23E2409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A39FF3D-77EE-4A2A-8EAF-2860D8FC7E8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C1EC64B-03FE-4A62-8469-3997A1946D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5F56441-C08F-4A73-8C54-688ECB79040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E630CCE-F710-4B7C-8638-EF78C6E42F8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D6A40E9-52A9-45C7-A359-671926B0524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8EF9693-324C-4BEC-A941-171338935D9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0F8314B-EAF5-4C5E-A8B9-8F56D11FD8F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44EB86-259C-4816-8EF6-DB1F0A8B4D9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E120E81-D3E6-4609-9AEA-58FBFB8BD9B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8E2FF36-BA9E-4F93-A6EE-F5306FFEC4E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A0094A1-8497-4BC2-9516-B19BE79B75D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05F1C74-684F-4CA7-BFBA-D2FB9DF9665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5382DC6-92DF-4FF6-9E38-D31B9EBA58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A35ED3D-B904-408B-B3DC-9A35269D510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B7A077F-820B-4B7D-90E5-6911EECF12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DE81B3B-7FD8-4C56-AC3B-4F1F086080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17DA27D-9A42-4777-BD61-9135898A578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6B7E4C1-9E47-430A-BD8C-2C5015A9089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A2E86B-A9A7-427E-9BF8-D0C83C9663F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150DB0B-C6E6-4BAD-A23F-0CDC22D4E5A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1E726AF-8B77-4989-A0B1-E59D15EA87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9383493-60E9-4614-BBC4-DA8A943A2D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C38813A-634A-460B-AABC-270A164AF2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9C0B9A1-A9F2-4BDF-BB60-B524DC59F0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1074DE1-98A5-42C5-8827-D048027527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53F82F8-27D3-4440-B235-EFFF5A2335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DBB4175-0971-441E-95A0-24334CE4D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51F368F-4FEB-4409-83A2-696CAFC18E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D999E7D-312C-427C-A91C-19987FAEF4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638717-62F7-4654-BA30-B7E5FF6D0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8004EDD-E537-4C76-BB61-A5E00BC1FB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0B17E45-B2AD-49EE-A302-C3C022E764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068C929-9554-4791-A0BB-5B56F20AEC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CF5E30B-926A-4858-B0DD-4DEF58A3BB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DC20740-BB91-40A5-9E8B-2A5E46574B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48F055F-B215-4857-99C7-B333E709EA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77BF8B2-6480-4638-B02A-A59E7D3E78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7C6F68F-17B5-4F72-8A68-CF47C2E0FA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3FBDF80-548F-46CB-B6F7-909E1D23D2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9BCC0E8-F0E2-43B4-A710-969D94DEEF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C49DAD-21D5-4BA5-A4D4-6B51D020D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E0A9F2F-06A5-4F0D-80E3-BD2CF84D3D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4BF440B-D67C-466A-8745-72396BFCBD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DA47F32-325D-44C8-B761-3AB6E5E0A4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AE283CC-F206-4E67-AFBC-87FBD55DB6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CAA3EDB-CB54-47B4-83F0-0A4C494656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7EF455-A5C8-417F-9D54-7F13AD899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71818D-4807-4D5D-8CD5-A103F152F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0D14D5-7300-496E-9380-4E928DFB8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D971D9-0CEA-4C0B-B5A1-D4550FEDF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39BDE2-8302-4BA3-975B-9627BB6F47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7444C-D33C-4C9E-9B50-E2FA7388D8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CB5DDC-39B8-4CD0-8E3F-68643C7A73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BD3F1C-4D11-4509-BD5F-29251896C5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94B7A9-19E5-438B-A975-030361F70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537B25-96D4-4D73-95AB-9DB1193BF16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AFB26A-9825-4AE2-90CA-CBAC32C447D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D68835D-393E-4E51-8CB8-4BA3CB54635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D3337F2-1A92-4C10-8A35-94C1805AA66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024D178-B4A0-46DF-819D-DE46840664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034E153-B2D3-4747-84E7-8CFEF838F2E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8B552AE-1FA2-4BAC-A50C-ADC74C8C27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FA601-BF02-41C3-8BA3-DA51C44567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6B3460B-78C2-4790-9A18-47ADD445E7C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3D2E7F9-4EC0-4E43-A751-CA3A94B12C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2370B5C-A7B9-408A-9A5A-233E41029F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111A8D-E6BA-477A-B7D7-514E19D9DB3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C647207-7140-41CF-B320-1909100360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AA5EB51-09EB-4A85-BFC0-C8B9E9F8286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AD127FB-7B1C-4C9E-841D-91C81304BD8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DF123FA-922E-4393-A68D-4A6C66333F4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F49A7FC-FD8E-4D1D-8759-D335A229455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70AFC99-ECE4-454B-8EA4-AA5F3808A66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6D44F-7073-40C8-842F-7B4B859C85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811699B-0566-44E6-B56E-3B757D21A3B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B8D127D-2928-49C7-B561-332BBAA7049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491BFDC-AE0E-4540-91C9-F7964DB5AC1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3B68B70-0ADC-4BB1-AD77-94C9B40366E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F2D27B6-7471-4863-8ABB-83619FB94A4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D609249-45E9-41F7-AE38-EAE0AA1A526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C894816-F5E0-41DE-93E6-A74A586B5A8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4548607-E103-4591-87D0-4FA1185DFD2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6CD3D92-2032-4648-A258-BE5CF333BEC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D03D7FA-6EB4-4BD9-8B65-0AD10D5E3F7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21A783CC-FB88-4B90-974C-9E4FAC8358B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3E47475-EA0E-4248-97CC-163C3F1201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7B7E96B-0B97-47D6-9A70-9F5726FF86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F8E0038-6163-4507-967D-832E70C3AB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85861A7-1287-40E6-ACF6-4CC1FB5F5C3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B6E4EE5-E8E2-4144-9947-C01DCEDF043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E7D5C87-FB82-4FBD-B4A4-135435A2C9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753081E-8679-4F67-9042-5EAE1DB221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784921D-D450-4480-875E-BCB13773A2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0AFB02B-4B6E-4010-9D1F-E9C6BAA4357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EA25244-B5B9-4B7D-8B58-54C4695B587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0859001-183E-4789-9383-57AD121C87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07CC61B-39D0-4CF7-B0E7-4C30755304B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1060814-E8AE-41EC-964B-F69B2BA3999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30D43F7-6C8E-416C-B16F-9B68BFEFD98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499E8D3-8006-4C21-A8C7-D4B10A1F01F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94100EA-31B6-4283-AAE5-EE45DB4028B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6E8C9F0-4029-45A4-BE2B-0B1796D4319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2754CC3-14E5-4C64-BDF8-D2FEEFFBE38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4243FF0-96A9-4E92-B746-4BA983100B3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818A2D5-471E-4CE8-AED1-76C7B2F9F73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08A8EB8-CC83-4A97-8624-E00BEDE3CF3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E6FBB-C3ED-4632-B12D-9A85E159795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F5472D5-B285-4462-BE4F-3141EE1E37C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383C4AB-137D-4F69-8B9F-7CD07141EF1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857290A-E897-4C1A-AF0E-B8A7A41A2E1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587227D-48D8-4A9C-8D23-E335D61003C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B6D1847-FBCA-47A3-8F16-DD6885E9531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D2D8BD1-4598-491F-9DA3-67AAC07B492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1C4A0CF-89A8-440A-AEDA-7E936443DD3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3B8FDF7-68E7-4357-88D3-EC7305B09CD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D096679-1D38-4DED-91E2-19CC11128D2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9FE4674-3A12-4D5F-9CCF-5B460A7490A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1C973-73C1-4BAA-B9D3-8E66100513E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B43EC4B-56BA-4FBD-82C3-8F5F7787B3A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A9C6EE8-8783-4830-BB47-67D1BDC2CAC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B7F2FCC-069B-4DB8-BF80-C9030CF1B01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A3CFADA-FB1D-480A-A61D-15A5A7A5A5A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8B2E5D8-1FBD-495A-89D5-A79C87F4ECA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C16DDA6-14E7-4876-84C6-B49CEA276AE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FD1F2C8-F7BE-4EF6-9FE4-3BB18B5F22F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643B27D-6B2E-42FB-905D-4DF3AC963B9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93216D0-7EC8-48D6-9FBA-2CBE4F4845B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0B29B61-65E5-4F70-9ECC-AD6D2D96827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D2898-12FD-4FE4-87C2-8497DB5FEA0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E179770-64C0-456B-8C33-EE5702EC28E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5C6CF92-A496-457A-B2D5-D20509FADAD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9B6E4DD-9975-490F-A094-45955C16C94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9E1547E-8C90-4988-B251-D317392A164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1A94B9B-EFD7-4D57-A668-6978F8A644D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427EA24-BB00-4630-B4DD-53BB4632ADB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BAD13D4-7ACF-4D86-97AC-CE420A6FC77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4A97395-1975-432B-9D4C-1106B18F7BE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BD8E1B2-E902-4829-B556-56FEF048271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06818A9-930C-43C9-AB1E-1809F1D1183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D081D-0400-4121-866E-76CDDBEA1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C2D0A-26C4-433F-87F4-E3BC5932C3A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61944-03D2-44E2-837A-1E76A6E00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93B33-2E1F-4EDC-9697-AD91F287324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50776-FA3D-47B6-B847-C1C5A537EB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F7939-2CCC-4C68-BAD2-C6CA1B54061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99179-2B9E-434A-B1EC-DF06CE224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D0C13-BE05-4569-A012-CE30BE08ED6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BB92B-4057-4FE3-BF3D-37C553435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64650-FA27-4BD4-8809-F1222EA04B9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03FF7-ED68-47D6-8702-D3C04EE07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5A2E5-71EB-42B4-AF50-5BA232CA17A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65D1B-FA36-4194-BFCF-A36B6F8B4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081B7B-CB3C-4A2F-989F-E0B519F0E49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9F146-1A7F-4470-BA73-BA7359647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C4F1B-916A-46E9-9980-A1E90282D93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BA2EA-8A78-451B-B347-0854FC80DA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D21DD-AB69-4E0B-99B2-DC6511FE7B0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658B4-2985-4784-BF03-25AAC44A9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1B8C8-6B21-4560-8FFA-EC00C3F024D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67961-0415-4137-A8D6-E77DA48EA7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05282-15DA-4D27-8715-2FCFFCB5A71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40346-59B9-4D27-B64A-EE4DC3564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1</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entin Novikov</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Self-Deception:  Getting Out of the Bo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The Arbinger Institute</a:t>
            </a:r>
            <a:endParaRPr b="0" lang="en-US" sz="2800" spc="-1" strike="noStrike">
              <a:solidFill>
                <a:srgbClr val="000000"/>
              </a:solidFill>
              <a:latin typeface="Arial"/>
            </a:endParaRPr>
          </a:p>
        </p:txBody>
      </p:sp>
      <p:pic>
        <p:nvPicPr>
          <p:cNvPr id="531" name="Picture 6" descr="C:\Users\Luv Luv\Pictures\Book Cover.jpg"/>
          <p:cNvPicPr/>
          <p:nvPr/>
        </p:nvPicPr>
        <p:blipFill>
          <a:blip r:embed="rId1"/>
          <a:stretch/>
        </p:blipFill>
        <p:spPr>
          <a:xfrm>
            <a:off x="4325760" y="1060560"/>
            <a:ext cx="4818240" cy="505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457200" y="1382760"/>
            <a:ext cx="8229600" cy="2333520"/>
          </a:xfrm>
          <a:prstGeom prst="rect">
            <a:avLst/>
          </a:prstGeom>
          <a:noFill/>
          <a:ln w="0">
            <a:noFill/>
          </a:ln>
        </p:spPr>
        <p:txBody>
          <a:bodyPr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two different leaders can exhibit the same outward behaviors towards their teams, the influence they have and the response they illicit can be very different</a:t>
            </a:r>
            <a:endParaRPr b="0" lang="en-US" sz="2000" spc="-1" strike="noStrike">
              <a:solidFill>
                <a:srgbClr val="000000"/>
              </a:solidFill>
              <a:latin typeface="Arial"/>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s upon how the leaders actually feel about their subordinates </a:t>
            </a:r>
            <a:endParaRPr b="0" lang="en-US" sz="2000" spc="-1" strike="noStrike">
              <a:solidFill>
                <a:srgbClr val="000000"/>
              </a:solidFill>
              <a:latin typeface="Arial"/>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respond primarily to how we feel about them regardless of  what we d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 feel about others depends on whether we are “in” or “out of the box” concerning them.</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34" name="Group 15"/>
          <p:cNvGrpSpPr/>
          <p:nvPr/>
        </p:nvGrpSpPr>
        <p:grpSpPr>
          <a:xfrm>
            <a:off x="5027760" y="5348160"/>
            <a:ext cx="3659040" cy="1351080"/>
            <a:chOff x="5027760" y="5348160"/>
            <a:chExt cx="3659040" cy="1351080"/>
          </a:xfrm>
        </p:grpSpPr>
        <p:sp>
          <p:nvSpPr>
            <p:cNvPr id="535" name="Cube 1"/>
            <p:cNvSpPr/>
            <p:nvPr/>
          </p:nvSpPr>
          <p:spPr>
            <a:xfrm>
              <a:off x="5123880" y="5365800"/>
              <a:ext cx="3562920" cy="1333440"/>
            </a:xfrm>
            <a:prstGeom prst="cube">
              <a:avLst>
                <a:gd name="adj" fmla="val 25000"/>
              </a:avLst>
            </a:prstGeom>
            <a:gradFill rotWithShape="0">
              <a:gsLst>
                <a:gs pos="0">
                  <a:srgbClr val="cbffff"/>
                </a:gs>
                <a:gs pos="100000">
                  <a:srgbClr val="b5e5e9"/>
                </a:gs>
              </a:gsLst>
              <a:lin ang="5400000"/>
            </a:gradFill>
            <a:ln w="9360">
              <a:solidFill>
                <a:srgbClr val="3c8c9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6" name="TextBox 2"/>
            <p:cNvSpPr/>
            <p:nvPr/>
          </p:nvSpPr>
          <p:spPr>
            <a:xfrm>
              <a:off x="6147360" y="5348160"/>
              <a:ext cx="151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
              </a:r>
              <a:r>
                <a:rPr b="1" lang="en-US" sz="1800" spc="-1" strike="noStrike">
                  <a:solidFill>
                    <a:srgbClr val="000000"/>
                  </a:solidFill>
                  <a:latin typeface="Arial"/>
                </a:rPr>
                <a:t>In the Box”</a:t>
              </a:r>
              <a:endParaRPr b="0" lang="en-US" sz="1800" spc="-1" strike="noStrike">
                <a:solidFill>
                  <a:srgbClr val="000000"/>
                </a:solidFill>
                <a:latin typeface="Arial"/>
              </a:endParaRPr>
            </a:p>
          </p:txBody>
        </p:sp>
        <p:sp>
          <p:nvSpPr>
            <p:cNvPr id="537" name="TextBox 3"/>
            <p:cNvSpPr/>
            <p:nvPr/>
          </p:nvSpPr>
          <p:spPr>
            <a:xfrm>
              <a:off x="5027760" y="5738040"/>
              <a:ext cx="3318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a:t>
              </a:r>
              <a:r>
                <a:rPr b="0" i="1" lang="en-US" sz="1800" spc="-1" strike="noStrike">
                  <a:solidFill>
                    <a:srgbClr val="000000"/>
                  </a:solidFill>
                  <a:latin typeface="Arial"/>
                </a:rPr>
                <a:t>I see myself and others in a systematically distorted way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0000"/>
                  </a:solidFill>
                  <a:latin typeface="Arial"/>
                </a:rPr>
                <a:t>Others Are Mere Objects”</a:t>
              </a:r>
              <a:r>
                <a:rPr b="1"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38" name="Group 14"/>
          <p:cNvGrpSpPr/>
          <p:nvPr/>
        </p:nvGrpSpPr>
        <p:grpSpPr>
          <a:xfrm>
            <a:off x="790560" y="5353200"/>
            <a:ext cx="2941560" cy="1474560"/>
            <a:chOff x="790560" y="5353200"/>
            <a:chExt cx="2941560" cy="1474560"/>
          </a:xfrm>
        </p:grpSpPr>
        <p:sp>
          <p:nvSpPr>
            <p:cNvPr id="539" name="TextBox 10"/>
            <p:cNvSpPr/>
            <p:nvPr/>
          </p:nvSpPr>
          <p:spPr>
            <a:xfrm>
              <a:off x="1267560" y="5353200"/>
              <a:ext cx="198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
              </a:r>
              <a:r>
                <a:rPr b="1" lang="en-US" sz="1800" spc="-1" strike="noStrike">
                  <a:solidFill>
                    <a:srgbClr val="000000"/>
                  </a:solidFill>
                  <a:latin typeface="Arial"/>
                </a:rPr>
                <a:t>Out of the Box”</a:t>
              </a:r>
              <a:endParaRPr b="0" lang="en-US" sz="1800" spc="-1" strike="noStrike">
                <a:solidFill>
                  <a:srgbClr val="000000"/>
                </a:solidFill>
                <a:latin typeface="Arial"/>
              </a:endParaRPr>
            </a:p>
          </p:txBody>
        </p:sp>
        <p:pic>
          <p:nvPicPr>
            <p:cNvPr id="540" name="Diagram 6" descr=""/>
            <p:cNvPicPr/>
            <p:nvPr/>
          </p:nvPicPr>
          <p:blipFill>
            <a:blip r:embed="rId1"/>
            <a:stretch/>
          </p:blipFill>
          <p:spPr>
            <a:xfrm>
              <a:off x="790560" y="5898960"/>
              <a:ext cx="2941560" cy="928800"/>
            </a:xfrm>
            <a:prstGeom prst="rect">
              <a:avLst/>
            </a:prstGeom>
            <a:ln w="0">
              <a:noFill/>
            </a:ln>
          </p:spPr>
        </p:pic>
        <p:sp>
          <p:nvSpPr>
            <p:cNvPr id="541" name="Rectangle 7"/>
            <p:cNvSpPr/>
            <p:nvPr/>
          </p:nvSpPr>
          <p:spPr>
            <a:xfrm>
              <a:off x="846360" y="5688360"/>
              <a:ext cx="28292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a:t>
              </a:r>
              <a:r>
                <a:rPr b="0" i="1" lang="en-US" sz="1800" spc="-1" strike="noStrike">
                  <a:solidFill>
                    <a:srgbClr val="000000"/>
                  </a:solidFill>
                  <a:latin typeface="Arial"/>
                </a:rPr>
                <a:t>I see myself and others more or less as we are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6600"/>
                  </a:solidFill>
                  <a:latin typeface="Arial"/>
                </a:rPr>
                <a:t>As People</a:t>
              </a:r>
              <a:r>
                <a:rPr b="0" i="1"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542" name="Oval 13"/>
          <p:cNvSpPr/>
          <p:nvPr/>
        </p:nvSpPr>
        <p:spPr>
          <a:xfrm>
            <a:off x="3533760" y="4368960"/>
            <a:ext cx="1647720" cy="750600"/>
          </a:xfrm>
          <a:prstGeom prst="ellipse">
            <a:avLst/>
          </a:pr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Behaviors</a:t>
            </a:r>
            <a:endParaRPr b="0" lang="en-US" sz="1800" spc="-1" strike="noStrike">
              <a:solidFill>
                <a:srgbClr val="000000"/>
              </a:solidFill>
              <a:latin typeface="Arial"/>
            </a:endParaRPr>
          </a:p>
        </p:txBody>
      </p:sp>
      <p:sp>
        <p:nvSpPr>
          <p:cNvPr id="543" name="Straight Connector 19"/>
          <p:cNvSpPr/>
          <p:nvPr/>
        </p:nvSpPr>
        <p:spPr>
          <a:xfrm>
            <a:off x="4940280" y="5010120"/>
            <a:ext cx="1965240" cy="33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Straight Connector 23"/>
          <p:cNvSpPr/>
          <p:nvPr/>
        </p:nvSpPr>
        <p:spPr>
          <a:xfrm flipH="1">
            <a:off x="2262240" y="5010120"/>
            <a:ext cx="1512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grpSp>
        <p:nvGrpSpPr>
          <p:cNvPr id="546" name="Group 24"/>
          <p:cNvGrpSpPr/>
          <p:nvPr/>
        </p:nvGrpSpPr>
        <p:grpSpPr>
          <a:xfrm>
            <a:off x="1862280" y="1098720"/>
            <a:ext cx="4797360" cy="642600"/>
            <a:chOff x="1862280" y="1098720"/>
            <a:chExt cx="4797360" cy="642600"/>
          </a:xfrm>
        </p:grpSpPr>
        <p:sp>
          <p:nvSpPr>
            <p:cNvPr id="547" name="Rectangle 9"/>
            <p:cNvSpPr/>
            <p:nvPr/>
          </p:nvSpPr>
          <p:spPr>
            <a:xfrm>
              <a:off x="1862280" y="1127520"/>
              <a:ext cx="4674240" cy="565920"/>
            </a:xfrm>
            <a:prstGeom prst="rect">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8" name="TextBox 5"/>
            <p:cNvSpPr/>
            <p:nvPr/>
          </p:nvSpPr>
          <p:spPr>
            <a:xfrm>
              <a:off x="1883880" y="1098720"/>
              <a:ext cx="4775760" cy="642600"/>
            </a:xfrm>
            <a:prstGeom prst="rect">
              <a:avLst/>
            </a:prstGeom>
            <a:noFill/>
            <a:ln w="0">
              <a:noFill/>
            </a:ln>
          </p:spPr>
          <p:style>
            <a:lnRef idx="0"/>
            <a:fillRef idx="0"/>
            <a:effectRef idx="0"/>
            <a:fontRef idx="minor"/>
          </p:style>
          <p:txBody>
            <a:bodyPr lIns="0" rIns="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eeling</a:t>
              </a:r>
              <a:r>
                <a:rPr b="0" lang="en-US" sz="1800" spc="-1" strike="noStrike">
                  <a:solidFill>
                    <a:srgbClr val="000000"/>
                  </a:solidFill>
                  <a:latin typeface="Arial"/>
                </a:rPr>
                <a:t>:  “Do my best to help my organization and the people within it achieve results”</a:t>
              </a:r>
              <a:endParaRPr b="0" lang="en-US" sz="1800" spc="-1" strike="noStrike">
                <a:solidFill>
                  <a:srgbClr val="000000"/>
                </a:solidFill>
                <a:latin typeface="Arial"/>
              </a:endParaRPr>
            </a:p>
          </p:txBody>
        </p:sp>
      </p:grpSp>
      <p:grpSp>
        <p:nvGrpSpPr>
          <p:cNvPr id="549" name="Group 16"/>
          <p:cNvGrpSpPr/>
          <p:nvPr/>
        </p:nvGrpSpPr>
        <p:grpSpPr>
          <a:xfrm>
            <a:off x="3560760" y="1843200"/>
            <a:ext cx="1276200" cy="498240"/>
            <a:chOff x="3560760" y="1843200"/>
            <a:chExt cx="1276200" cy="498240"/>
          </a:xfrm>
        </p:grpSpPr>
        <p:sp>
          <p:nvSpPr>
            <p:cNvPr id="550" name="Flowchart: Decision 12"/>
            <p:cNvSpPr/>
            <p:nvPr/>
          </p:nvSpPr>
          <p:spPr>
            <a:xfrm>
              <a:off x="3560760" y="1843200"/>
              <a:ext cx="1276200" cy="498240"/>
            </a:xfrm>
            <a:prstGeom prst="flowChartDecision">
              <a:avLst/>
            </a:pr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1" name="TextBox 8"/>
            <p:cNvSpPr/>
            <p:nvPr/>
          </p:nvSpPr>
          <p:spPr>
            <a:xfrm>
              <a:off x="3703320" y="190080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hoice</a:t>
              </a:r>
              <a:endParaRPr b="0" lang="en-US" sz="1800" spc="-1" strike="noStrike">
                <a:solidFill>
                  <a:srgbClr val="000000"/>
                </a:solidFill>
                <a:latin typeface="Arial"/>
              </a:endParaRPr>
            </a:p>
          </p:txBody>
        </p:sp>
      </p:grpSp>
      <p:sp>
        <p:nvSpPr>
          <p:cNvPr id="552" name="Straight Connector 22"/>
          <p:cNvSpPr/>
          <p:nvPr/>
        </p:nvSpPr>
        <p:spPr>
          <a:xfrm>
            <a:off x="4199040" y="169380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53" name="Group 29"/>
          <p:cNvGrpSpPr/>
          <p:nvPr/>
        </p:nvGrpSpPr>
        <p:grpSpPr>
          <a:xfrm>
            <a:off x="2284560" y="2511360"/>
            <a:ext cx="1793880" cy="754200"/>
            <a:chOff x="2284560" y="2511360"/>
            <a:chExt cx="1793880" cy="754200"/>
          </a:xfrm>
        </p:grpSpPr>
        <p:sp>
          <p:nvSpPr>
            <p:cNvPr id="554" name="Oval 32"/>
            <p:cNvSpPr/>
            <p:nvPr/>
          </p:nvSpPr>
          <p:spPr>
            <a:xfrm>
              <a:off x="2284560" y="2511360"/>
              <a:ext cx="1793880" cy="754200"/>
            </a:xfrm>
            <a:prstGeom prst="ellipse">
              <a:avLst/>
            </a:prstGeom>
            <a:solidFill>
              <a:srgbClr val="0066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5" name="TextBox 33"/>
            <p:cNvSpPr/>
            <p:nvPr/>
          </p:nvSpPr>
          <p:spPr>
            <a:xfrm>
              <a:off x="2652120" y="254016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Honor It</a:t>
              </a:r>
              <a:endParaRPr b="0" lang="en-US" sz="1800" spc="-1" strike="noStrike">
                <a:solidFill>
                  <a:srgbClr val="000000"/>
                </a:solidFill>
                <a:latin typeface="Arial"/>
              </a:endParaRPr>
            </a:p>
          </p:txBody>
        </p:sp>
      </p:grpSp>
      <p:sp>
        <p:nvSpPr>
          <p:cNvPr id="556" name="Straight Connector 35"/>
          <p:cNvSpPr/>
          <p:nvPr/>
        </p:nvSpPr>
        <p:spPr>
          <a:xfrm>
            <a:off x="4199040" y="2341440"/>
            <a:ext cx="45396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Straight Connector 38"/>
          <p:cNvSpPr/>
          <p:nvPr/>
        </p:nvSpPr>
        <p:spPr>
          <a:xfrm flipH="1">
            <a:off x="3814560" y="2341440"/>
            <a:ext cx="38412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TextBox 3"/>
          <p:cNvSpPr/>
          <p:nvPr/>
        </p:nvSpPr>
        <p:spPr>
          <a:xfrm>
            <a:off x="5629320" y="4022640"/>
            <a:ext cx="2978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When I betray myself, I enter the box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 become self-deceived</a:t>
            </a:r>
            <a:endParaRPr b="0" lang="en-US" sz="1800" spc="-1" strike="noStrike">
              <a:solidFill>
                <a:srgbClr val="000000"/>
              </a:solidFill>
              <a:latin typeface="Arial"/>
            </a:endParaRPr>
          </a:p>
        </p:txBody>
      </p:sp>
      <p:sp>
        <p:nvSpPr>
          <p:cNvPr id="559" name="TextBox 4"/>
          <p:cNvSpPr/>
          <p:nvPr/>
        </p:nvSpPr>
        <p:spPr>
          <a:xfrm>
            <a:off x="5400720" y="5376960"/>
            <a:ext cx="34354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flate others’ faults</a:t>
            </a:r>
            <a:endParaRPr b="0" lang="en-US" sz="18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flate my own virtue</a:t>
            </a:r>
            <a:endParaRPr b="0" lang="en-US" sz="18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flate the value of things that justify my self-betrayal</a:t>
            </a:r>
            <a:endParaRPr b="0" lang="en-US" sz="18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lame</a:t>
            </a:r>
            <a:endParaRPr b="0" lang="en-US" sz="1800" spc="-1" strike="noStrike">
              <a:solidFill>
                <a:srgbClr val="000000"/>
              </a:solidFill>
              <a:latin typeface="Arial"/>
            </a:endParaRPr>
          </a:p>
        </p:txBody>
      </p:sp>
      <p:cxnSp>
        <p:nvCxnSpPr>
          <p:cNvPr id="560" name="Straight Arrow Connector 7"/>
          <p:cNvCxnSpPr>
            <a:stCxn id="558" idx="2"/>
            <a:endCxn id="559" idx="0"/>
          </p:cNvCxnSpPr>
          <p:nvPr/>
        </p:nvCxnSpPr>
        <p:spPr>
          <a:xfrm>
            <a:off x="7117920" y="4946400"/>
            <a:ext cx="1080" cy="430920"/>
          </a:xfrm>
          <a:prstGeom prst="straightConnector1">
            <a:avLst/>
          </a:prstGeom>
          <a:ln w="38160">
            <a:solidFill>
              <a:srgbClr val="000000"/>
            </a:solidFill>
            <a:miter/>
            <a:tailEnd len="med" type="triangle" w="med"/>
          </a:ln>
        </p:spPr>
      </p:cxnSp>
      <p:sp>
        <p:nvSpPr>
          <p:cNvPr id="561" name="Bent Arrow 10"/>
          <p:cNvSpPr/>
          <p:nvPr/>
        </p:nvSpPr>
        <p:spPr>
          <a:xfrm flipH="1" flipV="1" rot="16200000">
            <a:off x="6086520" y="2704680"/>
            <a:ext cx="1298520" cy="1373400"/>
          </a:xfrm>
          <a:prstGeom prst="pie">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62" name="Group 28"/>
          <p:cNvGrpSpPr/>
          <p:nvPr/>
        </p:nvGrpSpPr>
        <p:grpSpPr>
          <a:xfrm>
            <a:off x="4294080" y="2517840"/>
            <a:ext cx="1793880" cy="753840"/>
            <a:chOff x="4294080" y="2517840"/>
            <a:chExt cx="1793880" cy="753840"/>
          </a:xfrm>
        </p:grpSpPr>
        <p:sp>
          <p:nvSpPr>
            <p:cNvPr id="563" name="Oval 27"/>
            <p:cNvSpPr/>
            <p:nvPr/>
          </p:nvSpPr>
          <p:spPr>
            <a:xfrm>
              <a:off x="4294080" y="2517840"/>
              <a:ext cx="1793880" cy="753840"/>
            </a:xfrm>
            <a:prstGeom prst="ellips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4" name="TextBox 20"/>
            <p:cNvSpPr/>
            <p:nvPr/>
          </p:nvSpPr>
          <p:spPr>
            <a:xfrm>
              <a:off x="4301280" y="2546640"/>
              <a:ext cx="1779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Betray It</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t>
              </a:r>
              <a:r>
                <a:rPr b="1" lang="en-US" sz="1800" spc="-1" strike="noStrike">
                  <a:solidFill>
                    <a:srgbClr val="ffffff"/>
                  </a:solidFill>
                  <a:latin typeface="Arial"/>
                </a:rPr>
                <a:t>Self-betray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66" name="TextBox 11"/>
          <p:cNvSpPr/>
          <p:nvPr/>
        </p:nvSpPr>
        <p:spPr>
          <a:xfrm>
            <a:off x="5113440" y="1703520"/>
            <a:ext cx="3584520" cy="4285080"/>
          </a:xfrm>
          <a:prstGeom prst="rect">
            <a:avLst/>
          </a:prstGeom>
          <a:solidFill>
            <a:srgbClr val="ff9b9b"/>
          </a:solidFill>
          <a:ln w="0">
            <a:noFill/>
          </a:ln>
        </p:spPr>
        <p:style>
          <a:lnRef idx="0"/>
          <a:fillRef idx="0"/>
          <a:effectRef idx="0"/>
          <a:fontRef idx="minor"/>
        </p:style>
        <p:txBody>
          <a:bodyPr lIns="0" rIns="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eople Problems that Afflict Organizations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rPr>
              <a:t>Result  From Self-Betray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ack of Commitment</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ack of Engagement</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flict</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ack of Motivati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s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or Teamwork</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ackbiting/bad attitud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isalignment</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ack of Trust</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ack of Accountability</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munications Problems</a:t>
            </a:r>
            <a:endParaRPr b="0" lang="en-US" sz="1800" spc="-1" strike="noStrike">
              <a:solidFill>
                <a:srgbClr val="000000"/>
              </a:solidFill>
              <a:latin typeface="Arial"/>
            </a:endParaRPr>
          </a:p>
        </p:txBody>
      </p:sp>
      <p:sp>
        <p:nvSpPr>
          <p:cNvPr id="567" name="Curved Up Arrow 14"/>
          <p:cNvSpPr/>
          <p:nvPr/>
        </p:nvSpPr>
        <p:spPr>
          <a:xfrm>
            <a:off x="3117960" y="5881680"/>
            <a:ext cx="4092480" cy="939960"/>
          </a:xfrm>
          <a:custGeom>
            <a:avLst/>
            <a:gdLst>
              <a:gd name="textAreaLeft" fmla="*/ 934920 w 4092480"/>
              <a:gd name="textAreaRight" fmla="*/ 3040200 w 4092480"/>
              <a:gd name="textAreaTop" fmla="*/ 125640 h 939960"/>
              <a:gd name="textAreaBottom" fmla="*/ 814320 h 939960"/>
            </a:gdLst>
            <a:ahLst/>
            <a:rect l="textAreaLeft" t="textAreaTop" r="textAreaRight" b="textAreaBottom"/>
            <a:pathLst>
              <a:path w="21600" h="21600">
                <a:moveTo>
                  <a:pt x="0" y="0"/>
                </a:moveTo>
                <a:arcTo wR="9870" hR="21600" stAng="10800000" swAng="-5400000"/>
                <a:lnTo>
                  <a:pt x="11110" y="21600"/>
                </a:lnTo>
                <a:arcTo wR="9870" hR="21600" stAng="5400000" swAng="-3631869"/>
                <a:lnTo>
                  <a:pt x="21287" y="5400"/>
                </a:lnTo>
                <a:lnTo>
                  <a:pt x="20360" y="0"/>
                </a:lnTo>
                <a:lnTo>
                  <a:pt x="18807" y="5400"/>
                </a:lnTo>
                <a:lnTo>
                  <a:pt x="19427" y="5400"/>
                </a:lnTo>
                <a:arcTo wR="9870" hR="21600" stAng="1768131" swAng="3533025"/>
                <a:lnTo>
                  <a:pt x="10490" y="21557"/>
                </a:lnTo>
                <a:arcTo wR="9870" hR="21600" stAng="5498844" swAng="5301156"/>
                <a:close/>
              </a:path>
              <a:path fill="darkenLess" w="21600" h="21600">
                <a:moveTo>
                  <a:pt x="0" y="0"/>
                </a:moveTo>
                <a:arcTo wR="9870" hR="21600" stAng="10800000" swAng="-5400000"/>
                <a:lnTo>
                  <a:pt x="11110" y="21600"/>
                </a:lnTo>
                <a:arcTo wR="9870" hR="21600" stAng="5400000" swAng="98844"/>
                <a:lnTo>
                  <a:pt x="10490" y="21557"/>
                </a:lnTo>
                <a:arcTo wR="9870" hR="21600" stAng="5498844" swAng="5301156"/>
                <a:close/>
              </a:path>
            </a:pathLst>
          </a:cu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TextBox 26"/>
          <p:cNvSpPr/>
          <p:nvPr/>
        </p:nvSpPr>
        <p:spPr>
          <a:xfrm>
            <a:off x="20520" y="1278000"/>
            <a:ext cx="4762440" cy="4743000"/>
          </a:xfrm>
          <a:prstGeom prst="rect">
            <a:avLst/>
          </a:prstGeom>
          <a:solidFill>
            <a:srgbClr val="9ed3d7"/>
          </a:solidFill>
          <a:ln w="0">
            <a:noFill/>
          </a:ln>
        </p:spPr>
        <p:style>
          <a:lnRef idx="0"/>
          <a:fillRef idx="0"/>
          <a:effectRef idx="0"/>
          <a:fontRef idx="minor"/>
        </p:style>
        <p:txBody>
          <a:bodyPr lIns="0" rIns="0" tIns="46800" bIns="46800" anchor="t">
            <a:spAutoFit/>
          </a:bodyPr>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rPr>
              <a:t>SELF-BETRAYAL</a:t>
            </a:r>
            <a:endParaRPr b="0" lang="en-US" sz="1800" spc="-1" strike="noStrike">
              <a:solidFill>
                <a:srgbClr val="000000"/>
              </a:solidFill>
              <a:latin typeface="Arial"/>
            </a:endParaRPr>
          </a:p>
          <a:p>
            <a:pPr>
              <a:spcBef>
                <a:spcPts val="60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 act contrary to what I feel I should do for another is called an act of “self-betrayal.”</a:t>
            </a:r>
            <a:endParaRPr b="0" lang="en-US" sz="1800" spc="-1" strike="noStrike">
              <a:solidFill>
                <a:srgbClr val="000000"/>
              </a:solidFill>
              <a:latin typeface="Arial"/>
            </a:endParaRPr>
          </a:p>
          <a:p>
            <a:pPr>
              <a:spcBef>
                <a:spcPts val="60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en I betray myself, I begin to see the world in a way that justifies my self-betrayal.</a:t>
            </a:r>
            <a:endParaRPr b="0" lang="en-US" sz="1800" spc="-1" strike="noStrike">
              <a:solidFill>
                <a:srgbClr val="000000"/>
              </a:solidFill>
              <a:latin typeface="Arial"/>
            </a:endParaRPr>
          </a:p>
          <a:p>
            <a:pPr>
              <a:spcBef>
                <a:spcPts val="60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en I see the world in a self-justifying way, my view of reality becomes distorted.</a:t>
            </a:r>
            <a:endParaRPr b="0" lang="en-US" sz="1800" spc="-1" strike="noStrike">
              <a:solidFill>
                <a:srgbClr val="000000"/>
              </a:solidFill>
              <a:latin typeface="Arial"/>
            </a:endParaRPr>
          </a:p>
          <a:p>
            <a:pPr>
              <a:spcBef>
                <a:spcPts val="601"/>
              </a:spcBef>
              <a:buClr>
                <a:srgbClr val="c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So– when I betray myself, I enter the box</a:t>
            </a:r>
            <a:endParaRPr b="0" lang="en-US" sz="1800" spc="-1" strike="noStrike">
              <a:solidFill>
                <a:srgbClr val="000000"/>
              </a:solidFill>
              <a:latin typeface="Arial"/>
            </a:endParaRPr>
          </a:p>
          <a:p>
            <a:pPr>
              <a:spcBef>
                <a:spcPts val="60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ver time, certain boxes become characteristic of me, and I carry them with me.</a:t>
            </a:r>
            <a:endParaRPr b="0" lang="en-US" sz="1800" spc="-1" strike="noStrike">
              <a:solidFill>
                <a:srgbClr val="000000"/>
              </a:solidFill>
              <a:latin typeface="Arial"/>
            </a:endParaRPr>
          </a:p>
          <a:p>
            <a:pPr>
              <a:spcBef>
                <a:spcPts val="601"/>
              </a:spcBef>
              <a:buClr>
                <a:srgbClr val="c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By being in the box, I provoke others to be in the box.</a:t>
            </a:r>
            <a:endParaRPr b="0" lang="en-US" sz="1800" spc="-1" strike="noStrike">
              <a:solidFill>
                <a:srgbClr val="000000"/>
              </a:solidFill>
              <a:latin typeface="Arial"/>
            </a:endParaRPr>
          </a:p>
          <a:p>
            <a:pPr>
              <a:spcBef>
                <a:spcPts val="60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the box, we invite mutual mistreatment and obtain mutual justification.  We collude in giving each other reason to stay in the box.</a:t>
            </a:r>
            <a:endParaRPr b="0" lang="en-US" sz="1800" spc="-1" strike="noStrike">
              <a:solidFill>
                <a:srgbClr val="000000"/>
              </a:solidFill>
              <a:latin typeface="Arial"/>
            </a:endParaRPr>
          </a:p>
        </p:txBody>
      </p:sp>
      <p:sp>
        <p:nvSpPr>
          <p:cNvPr id="569" name="TextBox 15"/>
          <p:cNvSpPr/>
          <p:nvPr/>
        </p:nvSpPr>
        <p:spPr>
          <a:xfrm>
            <a:off x="2583000" y="709560"/>
            <a:ext cx="6586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The Key to solving most of the people problems that afflict</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rganizations is in discovering how we can</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lve this central workplace self-betray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71" name=""/>
          <p:cNvSpPr txBox="1"/>
          <p:nvPr/>
        </p:nvSpPr>
        <p:spPr>
          <a:xfrm>
            <a:off x="23760" y="1101600"/>
            <a:ext cx="9072720" cy="5756400"/>
          </a:xfrm>
          <a:prstGeom prst="rect">
            <a:avLst/>
          </a:prstGeom>
          <a:solidFill>
            <a:srgbClr val="ffffff"/>
          </a:solidFill>
          <a:ln w="0">
            <a:noFill/>
          </a:ln>
        </p:spPr>
        <p:txBody>
          <a:bodyPr anchor="t">
            <a:normAutofit fontScale="99000"/>
          </a:bodyPr>
          <a:p>
            <a:pPr marL="232560" indent="-2325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 the box we can’t truly focus on results because we’re so busy focusing on ourselves.” p. 155</a:t>
            </a:r>
            <a:endParaRPr b="0" lang="en-US" sz="2000" spc="-1" strike="noStrike">
              <a:solidFill>
                <a:srgbClr val="000000"/>
              </a:solidFill>
              <a:latin typeface="Arial"/>
            </a:endParaRPr>
          </a:p>
          <a:p>
            <a:pPr marL="232560" indent="-2325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ccess in an organization is a function of whether we’re in the box or not, and that our influence as leaders depends on the same thing.” p. 64</a:t>
            </a:r>
            <a:endParaRPr b="0" lang="en-US" sz="2000" spc="-1" strike="noStrike">
              <a:solidFill>
                <a:srgbClr val="000000"/>
              </a:solidFill>
              <a:latin typeface="Arial"/>
            </a:endParaRPr>
          </a:p>
          <a:p>
            <a:pPr marL="232560" indent="-2325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lesson, then, is that you need to be a different kind of leader.  That’s your obligation as a leader.  When you’re in the box, people follow you, if at all, only through force or threat of force.  But that’s not leadership.  That’s coercion.  The leaders that people choose to follow are the leaders who are out of the box.” p. 160</a:t>
            </a:r>
            <a:endParaRPr b="0" lang="en-US" sz="2000" spc="-1" strike="noStrike">
              <a:solidFill>
                <a:srgbClr val="000000"/>
              </a:solidFill>
              <a:latin typeface="Arial"/>
            </a:endParaRPr>
          </a:p>
          <a:p>
            <a:pPr marL="232560" indent="-2325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o your success as a leader. . . Depends on being free of self-betrayal, ‘Only then do you invite others to be free of self-betrayal.  Only then are you creating leaders yourself.” p.161</a:t>
            </a:r>
            <a:endParaRPr b="0" lang="en-US" sz="2000" spc="-1" strike="noStrike">
              <a:solidFill>
                <a:srgbClr val="000000"/>
              </a:solidFill>
              <a:latin typeface="Arial"/>
            </a:endParaRPr>
          </a:p>
          <a:p>
            <a:pPr marL="232560" indent="-2325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ce out of the box, people have no need to blame or to shirk responsibility.  Getting out of the box therefore opens organizations to a level of disciplined initiative-taking that box-laden organizations can’t achieve.” p. 180</a:t>
            </a:r>
            <a:endParaRPr b="0" lang="en-US" sz="2000" spc="-1" strike="noStrike">
              <a:solidFill>
                <a:srgbClr val="000000"/>
              </a:solidFill>
              <a:latin typeface="Arial"/>
            </a:endParaRPr>
          </a:p>
          <a:p>
            <a:pPr marL="232560" indent="-2325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etting out of the box improves everything in life – for example, thoughts about others, feelings about oneself, hopes for the future, and the ability to make changes in the present.” p. 18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73" name=""/>
          <p:cNvSpPr txBox="1"/>
          <p:nvPr/>
        </p:nvSpPr>
        <p:spPr>
          <a:xfrm>
            <a:off x="256680" y="1295280"/>
            <a:ext cx="8734680" cy="522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Your Stor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 betrayal leads to self-deception and conflict within organiz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leader I </a:t>
            </a:r>
            <a:r>
              <a:rPr b="0" lang="en-US" sz="2000" spc="-1" strike="noStrike" u="sng">
                <a:solidFill>
                  <a:srgbClr val="000000"/>
                </a:solidFill>
                <a:uFillTx/>
                <a:latin typeface="Arial"/>
              </a:rPr>
              <a:t>must</a:t>
            </a:r>
            <a:r>
              <a:rPr b="0" lang="en-US" sz="2000" spc="-1" strike="noStrike">
                <a:solidFill>
                  <a:srgbClr val="000000"/>
                </a:solidFill>
                <a:latin typeface="Arial"/>
              </a:rPr>
              <a:t> avoid being in the box since it provokes subordinates to be the box which disrupts my organization’s ability to focus on results since everyone is too busy self-justifying their self-betray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I want to be a successful leader, I can only avoid self-betrayal and being in the box by seeing my subordinates as people, “with needs hopes, and worries as real and legitimate as” my ow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and my people are out of the box we are focused on results and on each other; as a result, “the culture of blame is replaced with a culture of deep responsibility–taking and accountability” leading to success as individuals and as a te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3-01-15T13:59:06Z</dcterms:modified>
  <cp:revision>40</cp:revision>
  <dc:subject/>
  <dc:title>Leading with Impact</dc:title>
</cp:coreProperties>
</file>