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7679-8BC7-4095-B2C0-B1B460945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FF2F-649A-4F25-B5FC-8CABEE9E0A3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CBE4B-09D5-40B0-838B-A6D08A63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42E40-45A2-4337-A49D-4389112A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1D0A2-6DB4-437C-B199-271801E9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FD144-6A62-40A9-BC54-923930AC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E89A9-0A44-4C56-89A6-5DD0105C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C8433-1820-480B-B136-B362745C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C63FD-6E67-46CB-BC86-8C06DF8C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C235B-23E7-4445-B61C-D278186D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509FF-9FB9-46A3-96BA-20376F44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82173-7D6C-4622-A089-8763C6FB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987E-B265-4F72-8C09-08B24F11C7C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00DAF-9998-4AEA-A575-C70BD195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23710-53C6-4799-ACDA-2788DBF6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A7B6C-05F4-4FA8-B597-5C7E7FA4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567BD-1CCC-4065-850A-C7EB257B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8AB64-20D2-4290-B21A-453C4864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F843F-3F31-4A64-B34A-5557D063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95FE1-148E-4138-9E13-70903B26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8AC7C-38AA-400D-88C3-384408F4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B2713-8145-4896-A3ED-DBC00DA3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D018C-9089-499D-A034-844D3F31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13A7-AFDE-4C64-9785-858161A8FDA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D2903-323F-4F9F-822D-FBB67784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D49BB3-9CD2-4163-BD7D-0A9A9A9C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EF5B02-88D6-4EF5-8302-3BC3AADD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C6D1D9-93C7-40D1-87C3-7E773437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4465DA-C118-4DA7-B8D8-385396C7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58DCFF-9803-46D3-B464-6054D50C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BB1623-BF99-4316-A8D6-300A1A92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BE8E09-E020-4EAC-8C0F-6D584B3D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3E1817-83E0-497C-873A-8B9A03F0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EDACB6-66D8-4ABC-957F-7169C24D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651AA-4E13-4631-A28D-E9091E35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3A0058-F014-4AFE-8F85-19C91219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AE1BA5-4FE3-470F-BDE4-C9854D61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1637A6-07BE-427B-A8A7-F7541D68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DFC5F-2855-47C6-8CB4-EC5BC81F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F4E6A3-27A8-4BD1-8EA2-412274F3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FF9F1-A65D-48C3-85C7-32A607E3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E9F4E-BE04-4C49-B119-5273C2A0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94C26-5C0F-4A10-88E8-82FCABE9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21525-644C-48E0-B7AE-C1C6B4DD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78CDC-AC92-40B9-9080-907D578A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7F64F-B9DF-4044-8E45-8B94D250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8BD74-BE16-47C1-A01D-D100D2DA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73848-42BD-43BB-A1EC-E76DDD99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C36B3-397F-4E8C-825D-BD72CC84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7FCD9-78A9-4573-85FD-C7140B8C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8B60E9-E9F5-4036-B995-5518B271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0A8CD-9432-4D03-885E-AFB4EB1B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78428-5688-4B79-8DE9-D3117958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0AD3A-E3AA-4CD8-AA8C-779BC91E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C0D8B-0A22-40D5-8CEC-8D4ADCF2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DFBBD-899F-4C45-A95D-6B6391F4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F839-EA89-445B-9BE1-FE932AC8C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7D679-7598-4016-922F-D5071F0A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D2437-3785-4E82-AE5B-D24C4FEE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FC3B7-1A11-4C1C-AC74-EAFA368C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D4CF1-0A67-4AA8-898E-4F6262CB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08B83-735B-4079-BAE9-8EFFA152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406E64-FB73-4B11-86C5-286A9598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CE30E0-6DAB-493B-9D04-BCDDAD90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1C54FB-1391-48E9-A9F2-119C9930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0CAE49-44AA-4702-A48C-16AC8A75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6ACD3-D699-4E9A-BFC2-3BE24A32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44E5-D168-4F72-B535-6339D01950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2BF5A-729F-4A19-8608-A3DCD6F9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CE866-3384-4E79-A7FB-58A6290A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3B2DFE-BE56-4FA0-889A-BC132039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56674E-8F3C-4C4A-B0C9-E2181383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4CE60D-A3EB-419A-8154-A8AC9CC4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616041-314E-444A-ACF4-B0812090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66BE1B-30A6-4D22-8D52-D4D136AA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D8D2C7-01B9-47F6-8897-7BF9CDAD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E09311-6A5E-4F49-B250-0A694D83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09F8BC-D3E5-4474-BFF0-0BA8690B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466F-0E86-48AE-B7F4-2B9CDCB5AF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6DD2DA-A80F-4238-89EF-5ECB21CD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8A66A0-662C-4078-BD71-3F18B57B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610DA6-DD90-4F23-88D2-212F88D0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F7A843-4C92-4AFC-A247-754A3FE6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22751C-0BA5-4D5E-BF3C-632A1BBF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5928A4-93B1-431E-A2A5-821BBCCB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69366B-B8BC-44B3-B266-AF19EB6D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BD857F-9A3F-4D79-ACF9-FEDEAFB7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AA853D-8B79-4B85-9259-80A1FAF6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DA4FF1-1FFE-4662-8904-B0A229E3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75B7-9018-4CFB-BD6B-722343E6A8A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748D10-9D8B-48BC-A3A8-E12828F9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C46985-BD5E-45B4-B1E7-D0209C57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B32541-5A29-4F1E-9D6C-137A9FAD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F70FA7-9C71-468A-A417-34C896A0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728E70-5703-47DB-B04C-DBAA529E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2E57C0-9215-435A-84B5-2D5F2778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E3683E-E4DB-4B64-B3E0-5B17F510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F9FF65-FE87-47A0-B7AE-F349682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F473B7-BE92-4EC0-BC08-9108A838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F05739-DB32-4CDE-B0CD-CF13E848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C716-456B-448C-8FBF-0605C8617F3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E52DF4-942F-4B90-BFF6-E94CC93F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127A4B-38C6-449B-9FAB-2C441EAA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00539D-BAB7-49C2-B8B3-0586CC22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75A9A5-0010-4E5F-B53E-DB9FC943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348E4E-4860-4844-8C9C-280AA27D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E2D646-7D84-49ED-BC1B-537AEE2A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54A9FB-F65F-417F-847F-4116457E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777117-5C97-47B4-B759-DC211270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C35A09-166E-48F8-A6F7-0AEE4EE0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01B32A-B622-4F28-9040-19A0774A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6A5F-92D3-4F98-9A2B-7D9FAB9C1F1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9B263F-84B9-4B54-ADD5-24510CA0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E59EF4-04ED-4E0C-80B6-99AAFC97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E086B6-017C-4A01-8691-02600ED2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7E124C-4EF9-48DD-A50A-D8368DD3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557977-C454-46EA-88DF-01D81D05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B9DFDA-0D7F-4763-9A36-83F888CD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B53922-6BA3-4991-96A4-3F4BC038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0C4486-2A1F-4135-9695-D98D0DEA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383CB8-0C7E-476E-9B4A-C203B667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04352B-69E8-4A87-9FFF-8F2705F4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3844-9E5E-4516-B73B-CA831356650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4BC859-5959-4978-A482-13B513B7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C94196-C968-44E7-81CE-78B8166A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3915EB-82E4-46FA-939C-FF633A23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2AF566-4FFC-4BBE-B999-A604609A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0A4D58-967D-44C9-BE22-9024427C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7C6209-6995-4961-BC4B-205897D5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771DA3-1953-46C8-96ED-69814C64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7F638F-8195-4333-AFC5-4870299D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521E58-AC6C-4B74-BDE6-4451BC85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0FA966-A5C9-4E80-99B5-A33C9136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C069-87C4-4997-A1F3-4B97F5FA24C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5561DC-8E11-46B6-8109-17106ECA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835923-2931-45FD-AEA1-AB325F6C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8FC7B4-01CC-48A2-BC93-D14794AF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774E8A-F5F9-4E20-83AB-3C62FD54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1E83DF-4D79-4EE2-8131-162D9365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3B6E78-6861-4874-A1FD-49C59AEF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48310A-14E2-4140-9FDE-5B9CAB5F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05865-A76D-4B59-8ED2-AB75A11A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70451-9D8A-49A7-8DCA-9B30ACF3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F21021-AC0B-405D-8FEA-C3C2697F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A98FE-FE4D-40FD-B1E5-9F6152602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DB498-853A-4F7D-87ED-285A3215BB7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5916F-281E-4369-B18A-28D1A5F01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09070-0255-4CE1-9466-892B328BE0F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3C9E3-9F37-4C76-B364-781E2356E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75061-B0B3-47BA-BA14-572B2EE6579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F7F6F-2A82-4ED0-A927-EF74ED928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E8336-0657-443B-BDAC-139EF724258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CAF17-DC33-4659-BF93-B17059967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FB812-6D0C-44C1-BCE3-F6E2E571BD7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FADF2-8388-4D39-9F22-CBBE96C17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FC754-99AB-44E1-BB1D-EC7FBECACD4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7E9B7-5BFB-4C4A-820B-EC018CE42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31FDF-948E-4B64-996D-DBC445DD9F8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1C07E-5365-43F4-8359-A13C3E12E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C02B5-0EAB-4464-806C-93B9E6980DD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6DD92-0024-42C6-8B36-F33A2199A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D8B32-C13C-4016-BE0D-E3BD4651481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86F4F-EEC8-4F8A-9D1F-CE307AC69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C7589-DFE3-4213-8AB9-A9C7904C074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73526-C057-40F4-8D16-19EC89E92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DB68E-A3DE-4921-967A-22080C4EDF1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25844-95F3-42C2-A6D3-099437B61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mazon.com/gp/product/images/0805777857/ref=dp_image_0?ie=UTF8&amp;n=283155&amp;s=books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E. Stei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600200"/>
            <a:ext cx="430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C. Marshall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dier-Statesman of the American Cen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:  Mark A. Sto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 pages, $29, Ama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" descr="Twentieth Century American Biography Series: George C. Marsh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62440" y="1262160"/>
            <a:ext cx="42292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ro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324080"/>
            <a:ext cx="836280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 Dec 188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rn, Uniontown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/1897-6/19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det, Virginia Military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Feb 190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ssioned as a 2d 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t 19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ed to C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 1917-Nov 191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ty with AEF France, temp promotions to MAL, LTC, 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 192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ion to M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 19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ion to L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 24-May 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ty with 1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F Regt in 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 193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ed to COL, duty with Illinois Nat’l Gu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t 193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ed to B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ep 193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ef of Staff, Temp promotion to GEN (permanent to MG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 194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ed to General of the Army (5-st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 19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ires, appointed special emissary to 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194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ointed Secretary of State, Marshal Plan speech a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vard (Ju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 of American Red Cr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 195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ointed Secretary of Defense, resigns Sep 19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 Oct 195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37600" y="1324080"/>
            <a:ext cx="890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rofessional soldier to receive Nobel Peace Prize (195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s 1944, 1948 “Man of the Yea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, implemented current Joint Chiefs of Staff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advocate of citizen-soldier concept (National Gu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sed overarching US military strategy for WW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old seniority-based promo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 of the post WWII Marshall Plan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to Eisenhower, Bradley, Patton, man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med by some for Pearl Harbor attack, US China mission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choice to be Supreme Allied Commander (Operation “Overlord”) or stay in Washington….chose the l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ness; need for an overall strategy to achiev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ty; aspiration versus am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, fact-based assessments, cannot avoid “ugly truth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litical nature was essential to his being respected by Congress; had to understand political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most 20 years we had all the time and almost none of the money; today we all the money and no time.” – Marshall, mid 19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shall is the most accomplished actor in the Army.  Everyone thinks MacArthur is but he’s not.  The difference between them is that you  alway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cArthur is acting!.”  - an official of Mars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are important; staying true to your values does not preclude achieving success at the highes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our military promotion process facilitate or hinder the rise of someone like Marsh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there ever be another like Marshall? Could it have been Patrea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george.steiger</cp:lastModifiedBy>
  <cp:lastPrinted>2011-06-13T12:29:39Z</cp:lastPrinted>
  <dcterms:modified xsi:type="dcterms:W3CDTF">2012-11-26T15:37:35Z</dcterms:modified>
  <cp:revision>22</cp:revision>
  <dc:subject/>
  <dc:title>Leading with Impact</dc:title>
</cp:coreProperties>
</file>