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35568-42CB-41FC-B37B-42D97B2AE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26E1B-7282-4EA4-81F8-64F92BB4B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ick couples being taught to express themselves had less loss then those that were not taught.  Failing at CC had weaker immune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824C5-684C-403E-926D-31E94F395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rocess of having dialogue, which is done to achie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7F1DD-FFC8-4C2F-8877-0ECFDA1B8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36F7-BABB-42E8-A205-5978976FA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D636-1427-4F11-8ECC-B62409711F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448F8-24F7-4F9D-8A67-1F14653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D32B8-AD01-4B3A-AB3C-058FF012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0A28F-3A88-4F46-A8D0-1B91A44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2F23A-C403-4EAA-9716-AE4F6EA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7C04B-7DD0-4482-BFDD-0716AFC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B8A15-941F-43EF-B2DA-9A54EB0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8D32E-7EB1-4152-B30E-3437AB7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4C41F-68E5-406E-ADF8-FB22813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3B536-9618-410E-8D2C-E3DA09D4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98C05-1C97-4C5F-A7B0-9FEF1A9F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F3BF-C5C4-4671-A067-53B170689B8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FA17B-9BFE-4415-9254-A635D01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02D45-6018-471C-A9FB-0DE9481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58237-DEBE-4EB3-8339-7B6C09F7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B76BD-40D1-4043-A0D7-B25379C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5C096-A2BC-4467-AD08-AF5C9B4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2AB4B-0961-460C-8AEA-C7E0422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B6431-CD76-4448-8032-54E7CB4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8E07B-9401-4600-BF6F-EF950EB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5408B-4AEB-405B-9975-DBD2E6D0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8251B-363D-4399-A27D-B227FBC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940E-28B4-4A91-AD2E-EB328C21BE3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CF5C9-9D09-4E63-B407-20C82DD3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C1146B-DF23-4BF8-8506-D6B8DCC7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4AB060-8220-4E03-B56A-162345F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0BC75-EB3C-4B09-9285-819DA4E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DD9666-AA0F-4E8F-9671-847F360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F30FF2-51DC-4C02-AC60-3BE80B11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D7E121-2D98-41C1-AF5A-8451904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68DE4D-2C26-4FFD-9061-D25B4A8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49047C-047C-43BC-9EAC-8012D8E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2A1EE2-D695-46E6-A31E-0E30A533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A1A5-209A-4901-A245-98C34593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17078-739C-4067-B883-60E07809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12D27C-FE43-4C8A-9326-9175C4A7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E22957-4BFB-47A2-B71D-F40F430B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3E739-DC4B-4282-9260-66868424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C332F-257F-4006-AACE-C5E8189E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B52F9-6278-4A5C-97F0-2F8C3D1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51C8D-4D09-442F-B3AD-0677396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6E729-BF1E-402C-8F2E-07E1522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1856D-8AB2-4515-8AD3-549A138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75490-6B95-4C72-B602-18775BE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01593-BC68-48CD-9116-4E26CC8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6906A-0649-4F92-9999-34F2738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A72A4-245F-4BBC-BB48-861B564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0FC9E-0B92-4135-BB46-8B0AAE3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EECDB-10D4-42A9-A084-B72E22F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61A2D-9707-4573-83BC-659D19A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3E218-8B1B-4D45-B5C5-8230DA7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749DF-5499-4DB1-8106-F69A89D6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76F3D-338C-4A17-8236-E9C9ADF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069ED-F800-4FC3-BA1E-AA47737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F839-6BD3-4359-9CF1-5A6B6DE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ADC6-5910-493B-9706-3B86DA925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B5EE6-9870-4512-B6EE-31207DC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72841-F99E-41D7-B44F-4222102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8D9DF-D268-4CA2-8509-38EC4B3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09244-8081-4178-936B-DBF7C710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6024B-E355-417A-BAA2-83281CA3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9CC2C-B89F-4F46-AEEC-0AA5219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3DEC7-9DF2-4757-84AD-EDFA8FD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A9AE3-9864-442C-A080-E77E133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6C747-D415-4331-8BD5-333E3A8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020C3-A81A-4DFA-BF09-4399DA9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3888-1976-45A6-9AD7-F19A802215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0EC26-42FA-4600-9E6F-2E2B4596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45AB1-523E-4C9C-807B-4E0A383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E2BCA-C6CC-493A-8E3B-ACD44FE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9049F-3FB7-40F1-8FB5-C5686F2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DA42F-15AA-4A19-91EB-40E67E2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A657C-F8A0-4A65-90A3-06091E3F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32FC1-2626-48BA-90D7-EBE4EAF9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55795-AEF2-4F1E-9748-F66FEAD0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CE075-FD9E-4791-8D3A-D43D4D88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4E927-9A6E-4FB9-A19F-D689145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1B0C-C228-47C7-9743-1CE911FB0B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FB5CF-C4CE-444F-9404-C612367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0CE85-C5D3-4771-B869-640562E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C1049-2ACC-4383-A9A8-DD0F3F4D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C93D5-3F79-4DE1-BE11-CCEAD52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56A54-7972-4FB9-AF06-21264A7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E54E9-3778-4F65-9857-C863D01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9FC21-8893-4800-AEF5-C01E031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A5449-4384-4C93-9E7C-CC53464E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5374A-B248-475D-AAB5-78F5EBBA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A60EF8-9EB0-4B5A-A377-52FCAC2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4D6D-F6EF-4A17-8E14-013C8E29F0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90A7E-099E-473B-AE90-338B34C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4EE73-7B76-4E6E-AE1E-5B56A68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03B7D-CF59-4B3E-AC5B-7505857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17BBC-1113-4278-90E1-FB29DDE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EC3A07-9A72-456F-BDF1-5CC0B6D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0F95B-4CCC-49CC-9DE9-1D0A0F95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71CA0-43F8-4EA3-B88E-5876509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87752-4004-4BFC-A7AC-C229246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4F504-6961-41E7-A1D6-F3AED51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CE38B9-9201-4F0B-9785-F7E397D7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919A-77AA-437F-9BC6-4532B06AFC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D8A5E-CFD4-4780-B850-0933D924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82BE5E-1566-4581-948C-56F89480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B43C6-3D13-4560-A426-29AABAC1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95EF2-102A-4508-A919-9B035986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8F998-1382-4DBE-A4C4-9DB00EE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C5F65-0AC1-4716-AF5C-A233E78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20DD0-9478-4762-B3E9-BDCA484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CB06B-08DE-4D69-8392-AF25E46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FEB89-2351-424F-83D3-86CFBAA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43A04-70C3-4D4C-9D4A-C8CE7BD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1F08-27EE-49B9-A005-83CB26B99E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118C2-F48C-4E5B-9E3F-C24EDD13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40AC0-9504-4878-B21F-53DC8F66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96DF1-F790-411C-B564-6DDE03F8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B3881-57C8-45F3-9191-131C03B8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FE1DD-4709-44BD-9F1C-8872908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D3B163-8A2F-402C-BAC3-E7FAF57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221B3-1A09-4A0D-B62C-8AA4BFAB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6B3F4-3C1B-4741-B5A3-BA8F48D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E858E-CD1F-4F93-98DD-37BA20F3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5DD4B7-D1FE-43D5-A05C-574B8A06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22B1-EC06-467F-B076-667D066928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2D495-AAC9-4AFD-BA3F-0E71613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C7D40-395F-46B1-A52B-1914DAE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A8C8DA-06D3-4AFB-ADF2-B23F194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52803-2B3F-4732-95E5-A066991D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5C067-DAF2-4916-BE09-94151DAD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801F39-BB28-4165-AFAC-F59FADC8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1D447-DCFE-4648-94AE-06EEDD6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96575-0E08-48C2-822D-64B905EF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241ED-69E4-4AB0-BB7C-ADB4D3E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0937A-108D-414D-A6F5-BA4E088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AEA5-6C51-4DD8-B1A6-1786F2C025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1D20D-8326-4775-81DF-1DE6518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07505D-D8B1-4914-9A01-BFF0EF0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A32A6-FC56-494B-9EEE-B955017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E8A21-ED42-43C5-A309-E5AD40A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3ED31-BA07-4749-B978-02D3422F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BCE43-6D17-4F9B-BC23-90033871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D1A9C-CF67-40AA-8151-2887E0BD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24E48-1D05-4536-8BCB-368A05AB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1026E-D535-4D22-91C4-915FAC6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393D8-9B82-4187-B894-938FC804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D2583-1FD5-4B02-B108-8EEFE8DC1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3B3A1-388B-4D0B-A2E4-DB4A66B49BF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A2A32-839D-48FB-B948-70D66C1A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48CEE-63AB-4BF9-BA3B-1C565A93BCE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FE710-7168-46C3-A0C5-9E045693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AB05F-D256-480C-AE33-C0635BF0393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1EDC2-978F-43B2-B28D-4838ABA76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8C750-735B-4D1E-9746-6C95A0313E8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5A135-2A13-48D3-9786-6C1CAB76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038D9-10C0-4A86-8136-7CEE7D126C9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E82CF-7F7D-4440-87B7-9CB0666A1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37FDF-16E0-4D0E-9204-48F973F835C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85F35-FEAD-4609-9026-ABDEA594A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794EA-3601-43F0-BD34-BA67D6A530A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BDE97-5728-4A52-8EAF-BE8E7943D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BE29F-ACE0-4D39-9084-7FBD98972B1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5A607-004F-45A7-A778-66000C98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60610-2A7D-413E-98BB-06B944A33F1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0430B-2A4F-492F-AEF5-056178FB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63B47-1D98-4A4D-AEA0-CD6149A6AB1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7026C-592C-4408-8185-8A1D24ABE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DBF87-C1E2-4DC0-8C74-295A6793D9F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8948C-CD43-4924-9D5B-C4B31389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685800" y="5280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rucial Convers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peak when you are angry &amp; you will make the best speech you will ever regret.” – Ambrose B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ne of the best ways to persuade others is with your ears – by listening to them.” – Dean Ru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ingle biggest problem in communications is the illusion that it has taken place.” – George Bernard 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ur lives begin to end the day we become silent about things that matter.” – Martin Luther King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ld Story: I used to propose new ideas that I thought were the greatest ideas and should be adopted immediately!  Almost forcing them on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ew Story:  Now, I suggest my ideas with the intent of adding to the ‘Pool of Meaning’ to further strengthen these ideas.  I am also considerate of the fact that they may not be good ideas to begin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600200"/>
            <a:ext cx="522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rucial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uthors: Kerry Patterson, Joseph Grenny, Ron McMillian, &amp; Al Switz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5802480" y="1600200"/>
            <a:ext cx="2935080" cy="4525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2"/>
          <a:stretch/>
        </p:blipFill>
        <p:spPr>
          <a:xfrm>
            <a:off x="2724120" y="4156200"/>
            <a:ext cx="2637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e a set of tools/skills for creating conditions for DI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 is a C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y do we handle crucial conversations poorl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Calibri"/>
              </a:rPr>
              <a:t>GOOD NEWS: Tools/Skills are easy to spot and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6216480" y="2138400"/>
            <a:ext cx="1893960" cy="1876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3201840" y="2138400"/>
            <a:ext cx="2509920" cy="18763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614520" y="2863800"/>
            <a:ext cx="22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UTCOME IMPACT OU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lanoma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uthors studied those that were great at handling CCs.  Models were developed from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ol of Meaning!  But not too many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lence/Violence Conce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et to Dialog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8"/>
          <p:cNvSpPr/>
          <p:nvPr/>
        </p:nvSpPr>
        <p:spPr>
          <a:xfrm>
            <a:off x="3909960" y="4181400"/>
            <a:ext cx="2868840" cy="18860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4876920" y="4608360"/>
            <a:ext cx="168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OL OF SHARED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0"/>
          <p:cNvSpPr/>
          <p:nvPr/>
        </p:nvSpPr>
        <p:spPr>
          <a:xfrm>
            <a:off x="3408480" y="4842000"/>
            <a:ext cx="960480" cy="29340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1"/>
          <p:cNvSpPr/>
          <p:nvPr/>
        </p:nvSpPr>
        <p:spPr>
          <a:xfrm>
            <a:off x="6122880" y="3824280"/>
            <a:ext cx="655920" cy="590400"/>
          </a:xfrm>
          <a:prstGeom prst="pie">
            <a:avLst/>
          </a:prstGeom>
          <a:noFill/>
          <a:ln w="25560">
            <a:solidFill>
              <a:srgbClr val="7575d1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2"/>
          <p:cNvSpPr/>
          <p:nvPr/>
        </p:nvSpPr>
        <p:spPr>
          <a:xfrm>
            <a:off x="6207120" y="5702400"/>
            <a:ext cx="932040" cy="412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3"/>
          <p:cNvSpPr/>
          <p:nvPr/>
        </p:nvSpPr>
        <p:spPr>
          <a:xfrm>
            <a:off x="4506840" y="5659560"/>
            <a:ext cx="739800" cy="463320"/>
          </a:xfrm>
          <a:prstGeom prst="pie">
            <a:avLst/>
          </a:prstGeom>
          <a:noFill/>
          <a:ln w="25560">
            <a:solidFill>
              <a:srgbClr val="00b050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4"/>
          <p:cNvSpPr/>
          <p:nvPr/>
        </p:nvSpPr>
        <p:spPr>
          <a:xfrm>
            <a:off x="4506840" y="4024440"/>
            <a:ext cx="914400" cy="409320"/>
          </a:xfrm>
          <a:prstGeom prst="pie">
            <a:avLst/>
          </a:prstGeom>
          <a:noFill/>
          <a:ln w="25560">
            <a:solidFill>
              <a:srgbClr val="00b0f0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5"/>
          <p:cNvSpPr/>
          <p:nvPr/>
        </p:nvSpPr>
        <p:spPr>
          <a:xfrm>
            <a:off x="2341440" y="4981680"/>
            <a:ext cx="12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son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7"/>
          <p:cNvSpPr/>
          <p:nvPr/>
        </p:nvSpPr>
        <p:spPr>
          <a:xfrm>
            <a:off x="1884240" y="5702400"/>
            <a:ext cx="26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ote: Arrows represent feedback, ideas, sugg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8"/>
          <p:cNvSpPr/>
          <p:nvPr/>
        </p:nvSpPr>
        <p:spPr>
          <a:xfrm>
            <a:off x="3951360" y="60800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son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9"/>
          <p:cNvSpPr/>
          <p:nvPr/>
        </p:nvSpPr>
        <p:spPr>
          <a:xfrm>
            <a:off x="3481560" y="3933720"/>
            <a:ext cx="12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son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0"/>
          <p:cNvSpPr/>
          <p:nvPr/>
        </p:nvSpPr>
        <p:spPr>
          <a:xfrm>
            <a:off x="6593040" y="370836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son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1"/>
          <p:cNvSpPr/>
          <p:nvPr/>
        </p:nvSpPr>
        <p:spPr>
          <a:xfrm>
            <a:off x="6778800" y="6080040"/>
            <a:ext cx="12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son #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419880" y="5014800"/>
            <a:ext cx="1135080" cy="32400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3"/>
          <p:cNvSpPr/>
          <p:nvPr/>
        </p:nvSpPr>
        <p:spPr>
          <a:xfrm>
            <a:off x="6915240" y="4307040"/>
            <a:ext cx="12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mproved Idea(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he Dialogu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1141560" y="371520"/>
            <a:ext cx="3657600" cy="3657600"/>
            <a:chOff x="1141560" y="371520"/>
            <a:chExt cx="3657600" cy="3657600"/>
          </a:xfrm>
        </p:grpSpPr>
        <p:sp>
          <p:nvSpPr>
            <p:cNvPr id="565" name="Oval 11"/>
            <p:cNvSpPr/>
            <p:nvPr/>
          </p:nvSpPr>
          <p:spPr>
            <a:xfrm>
              <a:off x="1141560" y="371520"/>
              <a:ext cx="3657600" cy="36576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1762200" y="929160"/>
              <a:ext cx="2514600" cy="251460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"/>
            <p:cNvSpPr/>
            <p:nvPr/>
          </p:nvSpPr>
          <p:spPr>
            <a:xfrm>
              <a:off x="2118600" y="1317240"/>
              <a:ext cx="1828800" cy="1828800"/>
            </a:xfrm>
            <a:prstGeom prst="ellips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Rectangle 7" descr=""/>
            <p:cNvPicPr/>
            <p:nvPr/>
          </p:nvPicPr>
          <p:blipFill>
            <a:blip r:embed="rId1"/>
            <a:stretch/>
          </p:blipFill>
          <p:spPr>
            <a:xfrm>
              <a:off x="2378160" y="1005480"/>
              <a:ext cx="13226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Rectangle 9" descr=""/>
            <p:cNvPicPr/>
            <p:nvPr/>
          </p:nvPicPr>
          <p:blipFill>
            <a:blip r:embed="rId2"/>
            <a:stretch/>
          </p:blipFill>
          <p:spPr>
            <a:xfrm>
              <a:off x="2463480" y="3035520"/>
              <a:ext cx="12679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10"/>
            <p:cNvSpPr/>
            <p:nvPr/>
          </p:nvSpPr>
          <p:spPr>
            <a:xfrm>
              <a:off x="2269440" y="1607760"/>
              <a:ext cx="156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ol of Shared Mea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Rectangle 12" descr=""/>
            <p:cNvPicPr/>
            <p:nvPr/>
          </p:nvPicPr>
          <p:blipFill>
            <a:blip r:embed="rId3"/>
            <a:stretch/>
          </p:blipFill>
          <p:spPr>
            <a:xfrm>
              <a:off x="2378160" y="536040"/>
              <a:ext cx="1255680" cy="4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Rectangle 13" descr=""/>
            <p:cNvPicPr/>
            <p:nvPr/>
          </p:nvPicPr>
          <p:blipFill>
            <a:blip r:embed="rId4"/>
            <a:stretch/>
          </p:blipFill>
          <p:spPr>
            <a:xfrm>
              <a:off x="2372040" y="3346560"/>
              <a:ext cx="1420200" cy="57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3" name="Diagram 15" descr=""/>
          <p:cNvPicPr/>
          <p:nvPr/>
        </p:nvPicPr>
        <p:blipFill>
          <a:blip r:embed="rId5"/>
          <a:stretch/>
        </p:blipFill>
        <p:spPr>
          <a:xfrm>
            <a:off x="334800" y="4511520"/>
            <a:ext cx="3414960" cy="2200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6"/>
          <a:stretch/>
        </p:blipFill>
        <p:spPr>
          <a:xfrm>
            <a:off x="3300480" y="4491000"/>
            <a:ext cx="2469960" cy="1882800"/>
          </a:xfrm>
          <a:prstGeom prst="rect">
            <a:avLst/>
          </a:prstGeom>
          <a:ln w="0">
            <a:noFill/>
          </a:ln>
        </p:spPr>
      </p:pic>
      <p:pic>
        <p:nvPicPr>
          <p:cNvPr id="575" name="Diagram 23" descr=""/>
          <p:cNvPicPr/>
          <p:nvPr/>
        </p:nvPicPr>
        <p:blipFill>
          <a:blip r:embed="rId7"/>
          <a:stretch/>
        </p:blipFill>
        <p:spPr>
          <a:xfrm>
            <a:off x="5626080" y="4376880"/>
            <a:ext cx="3425760" cy="22921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24"/>
          <p:cNvSpPr/>
          <p:nvPr/>
        </p:nvSpPr>
        <p:spPr>
          <a:xfrm>
            <a:off x="3951360" y="633420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Calibri"/>
                <a:ea typeface="Calibri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26"/>
          <p:cNvSpPr/>
          <p:nvPr/>
        </p:nvSpPr>
        <p:spPr>
          <a:xfrm>
            <a:off x="3537000" y="2789280"/>
            <a:ext cx="1162080" cy="190332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27"/>
          <p:cNvSpPr/>
          <p:nvPr/>
        </p:nvSpPr>
        <p:spPr>
          <a:xfrm>
            <a:off x="3805200" y="2300400"/>
            <a:ext cx="2144880" cy="23367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tailEnd len="med" type="arrow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8"/>
          <p:cNvSpPr/>
          <p:nvPr/>
        </p:nvSpPr>
        <p:spPr>
          <a:xfrm>
            <a:off x="4856040" y="1160640"/>
            <a:ext cx="182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MAKE IT SA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9"/>
          <p:cNvSpPr/>
          <p:nvPr/>
        </p:nvSpPr>
        <p:spPr>
          <a:xfrm>
            <a:off x="6058080" y="3146400"/>
            <a:ext cx="293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del used to diagnose what is going on in your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0"/>
          <p:cNvSpPr/>
          <p:nvPr/>
        </p:nvSpPr>
        <p:spPr>
          <a:xfrm>
            <a:off x="563400" y="46926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th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1"/>
          <p:cNvSpPr/>
          <p:nvPr/>
        </p:nvSpPr>
        <p:spPr>
          <a:xfrm>
            <a:off x="6873840" y="463716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th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eft Brace 32"/>
          <p:cNvSpPr/>
          <p:nvPr/>
        </p:nvSpPr>
        <p:spPr>
          <a:xfrm>
            <a:off x="6448320" y="930240"/>
            <a:ext cx="425520" cy="1859040"/>
          </a:xfrm>
          <a:custGeom>
            <a:avLst/>
            <a:gdLst>
              <a:gd name="textAreaLeft" fmla="*/ 271800 w 425520"/>
              <a:gd name="textAreaRight" fmla="*/ 425880 w 425520"/>
              <a:gd name="textAreaTop" fmla="*/ 10800 h 1859040"/>
              <a:gd name="textAreaBottom" fmla="*/ 1848240 h 18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1"/>
                </a:cubicBezTo>
                <a:lnTo>
                  <a:pt x="10800" y="10389"/>
                </a:lnTo>
                <a:cubicBezTo>
                  <a:pt x="10800" y="10595"/>
                  <a:pt x="5400" y="10800"/>
                  <a:pt x="0" y="10800"/>
                </a:cubicBezTo>
                <a:cubicBezTo>
                  <a:pt x="5400" y="10800"/>
                  <a:pt x="10800" y="11006"/>
                  <a:pt x="10800" y="11211"/>
                </a:cubicBezTo>
                <a:lnTo>
                  <a:pt x="10800" y="21189"/>
                </a:lnTo>
                <a:cubicBezTo>
                  <a:pt x="10800" y="2139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3"/>
          <p:cNvSpPr/>
          <p:nvPr/>
        </p:nvSpPr>
        <p:spPr>
          <a:xfrm>
            <a:off x="6873840" y="930240"/>
            <a:ext cx="211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ok explores how to looks for safety problems and how to make it sa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ight Arrow 22"/>
          <p:cNvSpPr/>
          <p:nvPr/>
        </p:nvSpPr>
        <p:spPr>
          <a:xfrm>
            <a:off x="482760" y="3021120"/>
            <a:ext cx="5835600" cy="31446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motion Example – Maria’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243000" y="1514520"/>
            <a:ext cx="2340000" cy="150660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10"/>
          <p:cNvGrpSpPr/>
          <p:nvPr/>
        </p:nvGrpSpPr>
        <p:grpSpPr>
          <a:xfrm>
            <a:off x="611280" y="3959280"/>
            <a:ext cx="1198440" cy="1297080"/>
            <a:chOff x="611280" y="3959280"/>
            <a:chExt cx="1198440" cy="1297080"/>
          </a:xfrm>
        </p:grpSpPr>
        <p:sp>
          <p:nvSpPr>
            <p:cNvPr id="589" name="Rounded Rectangle 20"/>
            <p:cNvSpPr/>
            <p:nvPr/>
          </p:nvSpPr>
          <p:spPr>
            <a:xfrm>
              <a:off x="611280" y="3959280"/>
              <a:ext cx="1198440" cy="1297080"/>
            </a:xfrm>
            <a:custGeom>
              <a:avLst/>
              <a:gdLst>
                <a:gd name="textAreaLeft" fmla="*/ 58320 w 1198440"/>
                <a:gd name="textAreaRight" fmla="*/ 1140120 w 1198440"/>
                <a:gd name="textAreaTop" fmla="*/ 58320 h 1297080"/>
                <a:gd name="textAreaBottom" fmla="*/ 1238760 h 1297080"/>
              </a:gdLst>
              <a:ahLst/>
              <a:rect l="textAreaLeft" t="textAreaTop" r="textAreaRight" b="textAreaBottom"/>
              <a:pathLst>
                <a:path w="21600" h="23377">
                  <a:moveTo>
                    <a:pt x="3600" y="0"/>
                  </a:moveTo>
                  <a:arcTo wR="3600" hR="3600" stAng="16200000" swAng="-5400000"/>
                  <a:lnTo>
                    <a:pt x="0" y="19777"/>
                  </a:lnTo>
                  <a:arcTo wR="3600" hR="3600" stAng="10800000" swAng="-5400000"/>
                  <a:lnTo>
                    <a:pt x="18000" y="233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4"/>
            <p:cNvSpPr/>
            <p:nvPr/>
          </p:nvSpPr>
          <p:spPr>
            <a:xfrm>
              <a:off x="611280" y="4022280"/>
              <a:ext cx="1141560" cy="11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uis makes all the points, meets privately w/ the b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1"/>
          <p:cNvGrpSpPr/>
          <p:nvPr/>
        </p:nvGrpSpPr>
        <p:grpSpPr>
          <a:xfrm>
            <a:off x="1979640" y="3976560"/>
            <a:ext cx="1442880" cy="1297080"/>
            <a:chOff x="1979640" y="3976560"/>
            <a:chExt cx="1442880" cy="1297080"/>
          </a:xfrm>
        </p:grpSpPr>
        <p:sp>
          <p:nvSpPr>
            <p:cNvPr id="592" name="Rounded Rectangle 18"/>
            <p:cNvSpPr/>
            <p:nvPr/>
          </p:nvSpPr>
          <p:spPr>
            <a:xfrm>
              <a:off x="1979640" y="3976560"/>
              <a:ext cx="1442880" cy="1297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ounded Rectangle 6"/>
            <p:cNvSpPr/>
            <p:nvPr/>
          </p:nvSpPr>
          <p:spPr>
            <a:xfrm>
              <a:off x="2049840" y="4034520"/>
              <a:ext cx="130212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 doesn’t trust me/thinks I’m weak.  If I speak up I’ll look too emo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560760" y="4035600"/>
            <a:ext cx="1031760" cy="1157040"/>
            <a:chOff x="3560760" y="4035600"/>
            <a:chExt cx="1031760" cy="1157040"/>
          </a:xfrm>
        </p:grpSpPr>
        <p:sp>
          <p:nvSpPr>
            <p:cNvPr id="595" name="Rounded Rectangle 16"/>
            <p:cNvSpPr/>
            <p:nvPr/>
          </p:nvSpPr>
          <p:spPr>
            <a:xfrm>
              <a:off x="3560760" y="4035600"/>
              <a:ext cx="1031760" cy="1157040"/>
            </a:xfrm>
            <a:custGeom>
              <a:avLst/>
              <a:gdLst>
                <a:gd name="textAreaLeft" fmla="*/ 50040 w 1031760"/>
                <a:gd name="textAreaRight" fmla="*/ 981720 w 1031760"/>
                <a:gd name="textAreaTop" fmla="*/ 50040 h 1157040"/>
                <a:gd name="textAreaBottom" fmla="*/ 1107000 h 1157040"/>
              </a:gdLst>
              <a:ahLst/>
              <a:rect l="textAreaLeft" t="textAreaTop" r="textAreaRight" b="textAreaBottom"/>
              <a:pathLst>
                <a:path w="21600" h="24222">
                  <a:moveTo>
                    <a:pt x="3600" y="0"/>
                  </a:moveTo>
                  <a:arcTo wR="3600" hR="3600" stAng="16200000" swAng="-5400000"/>
                  <a:lnTo>
                    <a:pt x="0" y="20622"/>
                  </a:lnTo>
                  <a:arcTo wR="3600" hR="3600" stAng="10800000" swAng="-5400000"/>
                  <a:lnTo>
                    <a:pt x="18000" y="242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8"/>
            <p:cNvSpPr/>
            <p:nvPr/>
          </p:nvSpPr>
          <p:spPr>
            <a:xfrm>
              <a:off x="3610800" y="4087800"/>
              <a:ext cx="93132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URT WO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4761000" y="4087800"/>
            <a:ext cx="1057320" cy="1052640"/>
            <a:chOff x="4761000" y="4087800"/>
            <a:chExt cx="1057320" cy="1052640"/>
          </a:xfrm>
        </p:grpSpPr>
        <p:sp>
          <p:nvSpPr>
            <p:cNvPr id="598" name="Rounded Rectangle 14"/>
            <p:cNvSpPr/>
            <p:nvPr/>
          </p:nvSpPr>
          <p:spPr>
            <a:xfrm>
              <a:off x="4761000" y="4087800"/>
              <a:ext cx="1057320" cy="1052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ounded Rectangle 10"/>
            <p:cNvSpPr/>
            <p:nvPr/>
          </p:nvSpPr>
          <p:spPr>
            <a:xfrm>
              <a:off x="4812480" y="4135680"/>
              <a:ext cx="9543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ILENCE, CHEAP SHO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Box 23"/>
          <p:cNvSpPr/>
          <p:nvPr/>
        </p:nvSpPr>
        <p:spPr>
          <a:xfrm>
            <a:off x="301680" y="53182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ria’s Path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540160" y="793800"/>
            <a:ext cx="660384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always tell a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’s is Maria’s S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er emotions act on her, she is a hostage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ria needs to retrace her path, think about each element, and change one or more of these 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6"/>
          <p:cNvSpPr/>
          <p:nvPr/>
        </p:nvSpPr>
        <p:spPr>
          <a:xfrm>
            <a:off x="5338800" y="5627520"/>
            <a:ext cx="253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ure, I can get that printout for you.  Should I just get your coffee while I’m a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Elbow Connector 28"/>
          <p:cNvCxnSpPr>
            <a:stCxn id="598" idx="2"/>
            <a:endCxn id="602" idx="0"/>
          </p:cNvCxnSpPr>
          <p:nvPr/>
        </p:nvCxnSpPr>
        <p:spPr>
          <a:xfrm flipH="1" rot="16200000">
            <a:off x="5704560" y="4723920"/>
            <a:ext cx="487800" cy="13201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604" name="TextBox 30"/>
          <p:cNvSpPr/>
          <p:nvPr/>
        </p:nvSpPr>
        <p:spPr>
          <a:xfrm>
            <a:off x="1809720" y="5780160"/>
            <a:ext cx="25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he doesn’t want to appear “oversensitive” and says no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Elbow Connector 31"/>
          <p:cNvCxnSpPr>
            <a:stCxn id="598" idx="2"/>
            <a:endCxn id="604" idx="3"/>
          </p:cNvCxnSpPr>
          <p:nvPr/>
        </p:nvCxnSpPr>
        <p:spPr>
          <a:xfrm rot="5400000">
            <a:off x="4291200" y="5198400"/>
            <a:ext cx="1056240" cy="94032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606" name="Freeform 40"/>
          <p:cNvSpPr/>
          <p:nvPr/>
        </p:nvSpPr>
        <p:spPr>
          <a:xfrm>
            <a:off x="600120" y="2438280"/>
            <a:ext cx="425520" cy="1514520"/>
          </a:xfrm>
          <a:prstGeom prst="pi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41"/>
          <p:cNvSpPr/>
          <p:nvPr/>
        </p:nvSpPr>
        <p:spPr>
          <a:xfrm>
            <a:off x="1117440" y="2419200"/>
            <a:ext cx="1229040" cy="1570320"/>
          </a:xfrm>
          <a:prstGeom prst="pie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43"/>
          <p:cNvSpPr/>
          <p:nvPr/>
        </p:nvSpPr>
        <p:spPr>
          <a:xfrm>
            <a:off x="1514520" y="2438280"/>
            <a:ext cx="2562120" cy="159732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45"/>
          <p:cNvSpPr/>
          <p:nvPr/>
        </p:nvSpPr>
        <p:spPr>
          <a:xfrm>
            <a:off x="1979640" y="2438280"/>
            <a:ext cx="3309840" cy="164952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6"/>
          <p:cNvSpPr/>
          <p:nvPr/>
        </p:nvSpPr>
        <p:spPr>
          <a:xfrm>
            <a:off x="6384960" y="2762280"/>
            <a:ext cx="23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TAKE CHARGE OF OUR EMOTIONS, MASTER OUR STOR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ight Arrow 22"/>
          <p:cNvSpPr/>
          <p:nvPr/>
        </p:nvSpPr>
        <p:spPr>
          <a:xfrm>
            <a:off x="1747800" y="784080"/>
            <a:ext cx="5835600" cy="31464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940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xample – Maria’s Story - Retra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0"/>
          <p:cNvGrpSpPr/>
          <p:nvPr/>
        </p:nvGrpSpPr>
        <p:grpSpPr>
          <a:xfrm>
            <a:off x="1876320" y="1722600"/>
            <a:ext cx="1198800" cy="1296720"/>
            <a:chOff x="1876320" y="1722600"/>
            <a:chExt cx="1198800" cy="1296720"/>
          </a:xfrm>
        </p:grpSpPr>
        <p:sp>
          <p:nvSpPr>
            <p:cNvPr id="614" name="Rounded Rectangle 20"/>
            <p:cNvSpPr/>
            <p:nvPr/>
          </p:nvSpPr>
          <p:spPr>
            <a:xfrm>
              <a:off x="1876320" y="1722600"/>
              <a:ext cx="1198800" cy="1296720"/>
            </a:xfrm>
            <a:custGeom>
              <a:avLst/>
              <a:gdLst>
                <a:gd name="textAreaLeft" fmla="*/ 58320 w 1198800"/>
                <a:gd name="textAreaRight" fmla="*/ 1140480 w 1198800"/>
                <a:gd name="textAreaTop" fmla="*/ 58320 h 1296720"/>
                <a:gd name="textAreaBottom" fmla="*/ 1238400 h 1296720"/>
              </a:gdLst>
              <a:ahLst/>
              <a:rect l="textAreaLeft" t="textAreaTop" r="textAreaRight" b="textAreaBottom"/>
              <a:pathLst>
                <a:path w="21600" h="23364">
                  <a:moveTo>
                    <a:pt x="3600" y="0"/>
                  </a:moveTo>
                  <a:arcTo wR="3600" hR="3600" stAng="16200000" swAng="-5400000"/>
                  <a:lnTo>
                    <a:pt x="0" y="19764"/>
                  </a:lnTo>
                  <a:arcTo wR="3600" hR="3600" stAng="10800000" swAng="-5400000"/>
                  <a:lnTo>
                    <a:pt x="18000" y="23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ounded Rectangle 4"/>
            <p:cNvSpPr/>
            <p:nvPr/>
          </p:nvSpPr>
          <p:spPr>
            <a:xfrm>
              <a:off x="1876320" y="1785600"/>
              <a:ext cx="11419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uis makes all the points, meets privately w/ the b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3244680" y="1739880"/>
            <a:ext cx="1443240" cy="1297080"/>
            <a:chOff x="3244680" y="1739880"/>
            <a:chExt cx="1443240" cy="1297080"/>
          </a:xfrm>
        </p:grpSpPr>
        <p:sp>
          <p:nvSpPr>
            <p:cNvPr id="617" name="Rounded Rectangle 18"/>
            <p:cNvSpPr/>
            <p:nvPr/>
          </p:nvSpPr>
          <p:spPr>
            <a:xfrm>
              <a:off x="3244680" y="1739880"/>
              <a:ext cx="1443240" cy="1297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ounded Rectangle 6"/>
            <p:cNvSpPr/>
            <p:nvPr/>
          </p:nvSpPr>
          <p:spPr>
            <a:xfrm>
              <a:off x="3314880" y="1797840"/>
              <a:ext cx="1302480" cy="1181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 doesn’t trust me/thinks I’m weak.  If I speak up I’ll look too emo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2"/>
          <p:cNvGrpSpPr/>
          <p:nvPr/>
        </p:nvGrpSpPr>
        <p:grpSpPr>
          <a:xfrm>
            <a:off x="4826160" y="1798560"/>
            <a:ext cx="1031760" cy="1157400"/>
            <a:chOff x="4826160" y="1798560"/>
            <a:chExt cx="1031760" cy="1157400"/>
          </a:xfrm>
        </p:grpSpPr>
        <p:sp>
          <p:nvSpPr>
            <p:cNvPr id="620" name="Rounded Rectangle 16"/>
            <p:cNvSpPr/>
            <p:nvPr/>
          </p:nvSpPr>
          <p:spPr>
            <a:xfrm>
              <a:off x="4826160" y="1798560"/>
              <a:ext cx="1031760" cy="1157400"/>
            </a:xfrm>
            <a:custGeom>
              <a:avLst/>
              <a:gdLst>
                <a:gd name="textAreaLeft" fmla="*/ 50040 w 1031760"/>
                <a:gd name="textAreaRight" fmla="*/ 981720 w 1031760"/>
                <a:gd name="textAreaTop" fmla="*/ 50040 h 1157400"/>
                <a:gd name="textAreaBottom" fmla="*/ 1107360 h 1157400"/>
              </a:gdLst>
              <a:ahLst/>
              <a:rect l="textAreaLeft" t="textAreaTop" r="textAreaRight" b="textAreaBottom"/>
              <a:pathLst>
                <a:path w="21600" h="24229">
                  <a:moveTo>
                    <a:pt x="3600" y="0"/>
                  </a:moveTo>
                  <a:arcTo wR="3600" hR="3600" stAng="16200000" swAng="-5400000"/>
                  <a:lnTo>
                    <a:pt x="0" y="20629"/>
                  </a:lnTo>
                  <a:arcTo wR="3600" hR="3600" stAng="10800000" swAng="-5400000"/>
                  <a:lnTo>
                    <a:pt x="18000" y="242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ounded Rectangle 8"/>
            <p:cNvSpPr/>
            <p:nvPr/>
          </p:nvSpPr>
          <p:spPr>
            <a:xfrm>
              <a:off x="4876200" y="1850760"/>
              <a:ext cx="9313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URT WO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3"/>
          <p:cNvGrpSpPr/>
          <p:nvPr/>
        </p:nvGrpSpPr>
        <p:grpSpPr>
          <a:xfrm>
            <a:off x="6026040" y="1851120"/>
            <a:ext cx="1059120" cy="1052280"/>
            <a:chOff x="6026040" y="1851120"/>
            <a:chExt cx="1059120" cy="1052280"/>
          </a:xfrm>
        </p:grpSpPr>
        <p:sp>
          <p:nvSpPr>
            <p:cNvPr id="623" name="Rounded Rectangle 14"/>
            <p:cNvSpPr/>
            <p:nvPr/>
          </p:nvSpPr>
          <p:spPr>
            <a:xfrm>
              <a:off x="6026040" y="1851120"/>
              <a:ext cx="1059120" cy="1052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ounded Rectangle 10"/>
            <p:cNvSpPr/>
            <p:nvPr/>
          </p:nvSpPr>
          <p:spPr>
            <a:xfrm>
              <a:off x="6077520" y="1899000"/>
              <a:ext cx="955800" cy="95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ILENCE, CHEAP SHO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Box 23"/>
          <p:cNvSpPr/>
          <p:nvPr/>
        </p:nvSpPr>
        <p:spPr>
          <a:xfrm>
            <a:off x="2116080" y="10746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ria’s Path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6603840" y="3390840"/>
            <a:ext cx="25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Calibri"/>
              </a:rPr>
              <a:t>What is Maria’s behavior that is moving her from dialogu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Elbow Connector 28"/>
          <p:cNvCxnSpPr>
            <a:stCxn id="623" idx="2"/>
            <a:endCxn id="626" idx="0"/>
          </p:cNvCxnSpPr>
          <p:nvPr/>
        </p:nvCxnSpPr>
        <p:spPr>
          <a:xfrm flipH="1" rot="16200000">
            <a:off x="6970680" y="2487240"/>
            <a:ext cx="488160" cy="1319760"/>
          </a:xfrm>
          <a:prstGeom prst="bentConnector3">
            <a:avLst>
              <a:gd name="adj1" fmla="val 49963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628" name="Elbow Connector 31"/>
          <p:cNvCxnSpPr>
            <a:stCxn id="614" idx="2"/>
            <a:endCxn id="629" idx="0"/>
          </p:cNvCxnSpPr>
          <p:nvPr/>
        </p:nvCxnSpPr>
        <p:spPr>
          <a:xfrm rot="5400000">
            <a:off x="1446840" y="2778120"/>
            <a:ext cx="788400" cy="1270800"/>
          </a:xfrm>
          <a:prstGeom prst="bentConnector3">
            <a:avLst>
              <a:gd name="adj1" fmla="val 49977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630" name="TextBox 34"/>
          <p:cNvSpPr/>
          <p:nvPr/>
        </p:nvSpPr>
        <p:spPr>
          <a:xfrm>
            <a:off x="5016600" y="4633920"/>
            <a:ext cx="19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Calibri"/>
              </a:rPr>
              <a:t>Does Maria accurately describe what she fee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Elbow Connector 35"/>
          <p:cNvCxnSpPr>
            <a:stCxn id="620" idx="2"/>
            <a:endCxn id="630" idx="0"/>
          </p:cNvCxnSpPr>
          <p:nvPr/>
        </p:nvCxnSpPr>
        <p:spPr>
          <a:xfrm flipH="1" rot="16200000">
            <a:off x="4832280" y="3465000"/>
            <a:ext cx="1678680" cy="659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632" name="Elbow Connector 37"/>
          <p:cNvCxnSpPr>
            <a:stCxn id="617" idx="2"/>
            <a:endCxn id="633" idx="0"/>
          </p:cNvCxnSpPr>
          <p:nvPr/>
        </p:nvCxnSpPr>
        <p:spPr>
          <a:xfrm rot="5400000">
            <a:off x="3379680" y="3512160"/>
            <a:ext cx="1062720" cy="111960"/>
          </a:xfrm>
          <a:prstGeom prst="bentConnector3">
            <a:avLst>
              <a:gd name="adj1" fmla="val 49983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633" name="TextBox 39"/>
          <p:cNvSpPr/>
          <p:nvPr/>
        </p:nvSpPr>
        <p:spPr>
          <a:xfrm>
            <a:off x="2884320" y="4098960"/>
            <a:ext cx="194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Calibri"/>
              </a:rPr>
              <a:t>Does Maria story trace back to facts.  Or is it a ‘Clever’ sto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8"/>
          <p:cNvSpPr/>
          <p:nvPr/>
        </p:nvSpPr>
        <p:spPr>
          <a:xfrm>
            <a:off x="-63360" y="380700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Calibri"/>
              </a:rPr>
              <a:t>Does Maria have the right and all the fac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60"/>
          <p:cNvSpPr/>
          <p:nvPr/>
        </p:nvSpPr>
        <p:spPr>
          <a:xfrm>
            <a:off x="66600" y="4836960"/>
            <a:ext cx="30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ever Stories are ‘It’s not my fault’, ‘It’s your fault’, or ‘There is nothing else I can do’ s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62"/>
          <p:cNvSpPr/>
          <p:nvPr/>
        </p:nvSpPr>
        <p:spPr>
          <a:xfrm>
            <a:off x="76320" y="5942160"/>
            <a:ext cx="70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Question: What makes Maria think Louis doesn’t trust her, or think she is week?  Is she basing this on facts.  Perhaps she has a Clever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ounded Rectangle 7"/>
          <p:cNvSpPr/>
          <p:nvPr/>
        </p:nvSpPr>
        <p:spPr>
          <a:xfrm>
            <a:off x="511200" y="1413000"/>
            <a:ext cx="8480520" cy="4046400"/>
          </a:xfrm>
          <a:prstGeom prst="roundRect">
            <a:avLst>
              <a:gd name="adj" fmla="val 538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10840" y="1412640"/>
            <a:ext cx="84805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Maria realized that her story was incomplete, defensive, and hurt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  <a:ea typeface="Calibri"/>
              </a:rPr>
              <a:t>This is how Maria tells the rest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s Maria part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ybe Maria should have asked Louis why she was not included in the Boss’s mee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s Louis not a rational, reasonable perso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ria knows that he really cares about producing good-quality work.  Perhaps he doesn’t realize Maria is as committed as he is in succee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does Maria really w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A respectful relationship and recognition for her hard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should Maria do to get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ke an appointment to sit with Louis and talk about how they could work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940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xample – Maria’s Rest of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Bent Arrow 8"/>
          <p:cNvSpPr/>
          <p:nvPr/>
        </p:nvSpPr>
        <p:spPr>
          <a:xfrm flipV="1">
            <a:off x="730080" y="5458680"/>
            <a:ext cx="1320840" cy="98748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2050920" y="5518080"/>
            <a:ext cx="69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 apologized for not including her in the meetings w/ the B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 apologized for dominating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ria learned that Louis talks more when he gets ner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stablished a Path Forward: Split presentation eve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12720" y="602280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ounded Rectangle 7"/>
          <p:cNvSpPr/>
          <p:nvPr/>
        </p:nvSpPr>
        <p:spPr>
          <a:xfrm>
            <a:off x="511200" y="1081080"/>
            <a:ext cx="8480520" cy="4378320"/>
          </a:xfrm>
          <a:prstGeom prst="roundRect">
            <a:avLst>
              <a:gd name="adj" fmla="val 538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10840" y="1044720"/>
            <a:ext cx="84805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Maria realized that her story was incomplete, defensive, and hurt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  <a:ea typeface="Calibri"/>
              </a:rPr>
              <a:t>Now she tell the rest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is is how she does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m I pretending not to notice my role in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ybe Maria should have asked Louis why she was not included in the Boss’s mee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reasonable, rational, and decent person do what Louis is doing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ria knows that he really cares about producing good-quality work.  Perhaps he doesn’t realize Maria is as committed as he is in succee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do I really w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A respectful relationship and recognition for her hard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would I do right now if I really wanted these 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Make an appointment to sit with Louis and talk about how they could work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940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xample – Maria’s Rest of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Bent Arrow 8"/>
          <p:cNvSpPr/>
          <p:nvPr/>
        </p:nvSpPr>
        <p:spPr>
          <a:xfrm flipV="1">
            <a:off x="730080" y="5458680"/>
            <a:ext cx="1320840" cy="98748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2050920" y="5518080"/>
            <a:ext cx="69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 apologized for not including her in the meetings w/ the B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 apologized for dominating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ria learned that Louis talks more when he gets ner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stablished a Path Forward: Split presentations eve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0"/>
          <p:cNvSpPr/>
          <p:nvPr/>
        </p:nvSpPr>
        <p:spPr>
          <a:xfrm>
            <a:off x="649440" y="602280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2-12-11T17:00:10Z</dcterms:modified>
  <cp:revision>30</cp:revision>
  <dc:subject/>
  <dc:title>Leading with Impact</dc:title>
</cp:coreProperties>
</file>