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0779A-6067-49C7-9220-8CA65CE6D2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78941-A272-46B6-87AA-B2B0E6599C8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9D6278-1384-43CA-8A41-F87C8B464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E28F4C-1DC5-4504-B589-ED2F17FE6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775AF3-5854-420B-9552-95A22F0B9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988591-1A57-489F-90CE-1AEDC924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21E130-182E-4394-B343-F64BFC3E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EA25B8-CF86-40F1-BC12-726E2CC3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7A6A88-BAA9-4E5C-B4C4-02DDA30B1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197ECA-D8ED-4C6C-AD69-FF1CE65CF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49025A-15CE-4E4E-B055-6225481F4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8703B3-A8F2-4A60-B529-442463015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1D1A2-2E16-4766-AD07-54B028A900D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57927E-577E-45AE-A1D2-6D4FACEAC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4CD346-908A-4B18-BB50-BA80F432B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19E34B-AEA5-4CBA-BD06-C4CDD6F74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2AB03D-1E9A-470D-9382-FA4394BFE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B296AD-D31C-447D-86E2-A72875142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979D26-4CB7-41C7-960C-8F48088F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635ECE-09FB-4EE0-AD72-49B97742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A06ABC-1696-485C-B6AE-38E1684C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2C025C-1FF8-4FB0-91DD-39CB49B63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B3ED5D-A921-4556-959B-E357AF664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E3ACC-85EF-4B82-B215-1FE06CBACA1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274FEF-8402-45F7-867B-732DB97CA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ABC8EAD-76DA-4156-B0EB-FAB2AB301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FCACD5C-8DA5-4F72-9016-7501693FA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EB92265-0E3B-44B3-B11A-44CA7FD45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C65EDC0-7BD8-4CB3-960B-E346A40BF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02AAEC7-290E-4C46-A86A-3FA693D30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54564CA-6C7E-40DE-84E1-C299E0686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0072A96-D47A-4FA7-A4AC-87F2372C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A2BE211-920E-43C2-A058-25729427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01A1774-17ED-4B6A-83E1-AAAF497F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CCC70B-AAFE-4BA3-BA8B-4412C618C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85DB535-56DE-4E02-973E-E1A15E44A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D46A434-269F-4391-9BCA-C756FAC16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2AA45BA-7B2F-4933-AED5-B2E145E1B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CBBDF2-5D6A-4751-8877-262F750B2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2889B6-3463-46D6-8309-D2344E198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96EC07-C959-460C-8907-F96995968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606DC3-D75E-4B1E-8D4B-051090D1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6B9735-B357-4655-B308-5EB15FFC1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E1DE8A-B437-404A-AD35-75543272E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22418B-F587-49BE-9705-9057E260C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990DD8-8C81-4404-8A32-4452BF808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156C16-5431-4A34-B266-969B422A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C002E7-029A-4FFF-9972-F42F1283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662672-54D1-41A8-A594-88B9FB14D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FD1620-0626-4BD3-9281-4D1142409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FB1A67-0F5E-467B-993B-8BA7B7494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95D855-B99D-4C42-A52F-DCB38C1BC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47EF54-EA82-4BC3-957B-CA0BBBFB6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E7BE78-010B-474B-98CF-A116717AF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32E406-234B-48A0-97BD-AAE8708FF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598D7C-2DCA-4E66-A794-7409FC12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04CE5-5BCC-42A9-8A6F-1317F23166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9AEAD4-6E3E-4EA8-A1DC-4C58897D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E07464-EB1F-4FA1-90F3-8DADCD42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F651A6-9B28-4844-9262-025507F78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EC2A73-344D-4EEF-B2D9-7CA9CA1C4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DACC49-39B4-4DF1-828C-2353510FE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EC60BF-87AF-4C4D-8A1C-5388ED7C0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BAA78A-2F4B-40E3-8E70-A66D182BC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5C6EFB-98FF-43FB-B75D-DC65A14AA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2E7156-DA02-45CE-B211-48E136143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2D4CC8-2E49-42E9-BE8C-41838717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7FCF5-C234-4E68-8303-A5841362300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5F5335-A683-4D45-9EA3-097BEF99B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3B4EB9-C484-432E-A59A-012894FF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CF29FF-12BD-481D-A684-E526D1B1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4654C4-BDEA-4BBA-98DB-6E24830E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DD0330-D99A-41BD-81E7-5D133B2E4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B8A38E-FE7A-423E-98B6-7A785376D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6D6A2E-0508-4633-BD2B-58D7382BF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D11763-60D0-49AE-93F1-067807E56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290F97-59EE-4C0D-81D1-862294113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CB4A15-B547-47A8-BE87-9CE1C0FB4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49ABB-B5E6-4EE2-A6BC-C05A8F373A3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44E865-653F-43AF-987D-7CE0AC049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79F68E-CC12-4915-84CA-CE0DD608D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216D79-563F-43B5-9BB2-E7ECB6082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A67EF7-28C1-4F86-9D89-1D530C00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52D5AF-1342-4AB4-A267-540A6AD1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40821A-E8E7-43CE-8B63-0DA12AA9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33EABD-BA98-4DE9-85B8-FDB50F0AD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74087E-EE9F-4A76-98B7-3CE82DA0F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F402A5-3E0D-4A69-9311-E13E40707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1CE780-CA83-4AFD-B89B-80E1A040F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6B65D-5209-48E6-8BDF-6C0767CB336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C12715-98AF-4031-9139-D0F1C38E9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57C3C9-23B1-4165-AE13-CE177D474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4F2D04-B297-4B82-8BA0-6BF42900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813959-75DE-422A-BC1B-27F17DDB2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F98436-86E9-4876-AF3A-3BABE16A5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D8A427-BCA4-44F7-8551-323A29C0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4B643B-2B09-43A0-A48C-5E334106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09A346-5F4E-4CF1-91D1-34CC34673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86E953-F31E-4E89-92C6-CA359DD22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766C90-7BEF-4FD0-8A33-E0673F998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BE83E-41B0-4ACA-8404-A79C099E6E9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D0F92C-A024-40FE-8545-3ACEC1FD8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6E7537-45BD-4C25-B3AB-EF0C0E80D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9CC6B75-7BE6-4228-85EF-C33B1A864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21174F-7D32-4D53-BC42-4DDDBC068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86CD33-AA8C-4AA6-960F-3E08F38C6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70F4EB-6889-42E8-AFD4-4170BD64C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985E084-AEF8-4671-8B06-445A03D15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7062F6-F86A-4748-A928-3CEE49DB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A2D6488-3C10-4BAB-B892-EC6AAA83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E4FC20-E594-4325-BA08-A86DF10A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73167-C82D-45AC-871B-623524321C9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7755DE-1C0A-4037-B771-FFE28DF20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84C499-37BF-433D-AF57-CE4614D77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6D0469-DECC-44FA-924C-FCBE1BDA7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083D35D-7D1A-4C1B-951A-7B412D466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499C38F-1DC2-47BA-A0A3-F4A73D62E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C88FDD7-E476-4EF5-A6EE-4403A4889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8C8173-D73D-4D94-8BBF-D58CB94B9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E2B1BD0-E3A5-4F2E-8876-89B428C68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B721917-8ADC-4D48-BF38-843C0FF96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5BFB9BA-E2E9-44C0-AC1B-2F5249FD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5FC59-C634-422B-BB6C-CA82DDE5554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79D0A29-67D8-4ECA-8B8C-FE78FD1F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4A317CB-1A93-43B3-BC2B-58C9B8DF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DCA7042-171E-4E14-AB30-8D181E330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F6EAAFB-4326-4F13-A055-996D9B344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2A7D073-AA91-46A1-B5EA-FC58EF56A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D2A6FEF-F2BD-4C48-BD87-70C91EAE8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A7DA618-89ED-46CB-898F-C45712D9F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2A23A49-1602-477A-9D3F-08924C6EE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36EB869-2E20-4C75-BC03-59CE26DDA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9A9C518-2E1B-45D1-9435-5691BD244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B17B1-1B06-4B75-9B03-D56C773E8F2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671927A-5A13-46B4-8D8B-C367B483B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6A719A4-6B92-49C4-95C5-DA52A264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64CD08A-90DA-4B72-B58E-44EA613F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A579BBD-C34F-4DC5-8888-99E4FC07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842FB3D-7BAA-4CEE-AFEF-ECF22EE23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5C8648A-2F3D-4337-8E78-EE63D650C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23D52FE-E649-438F-BE04-D5C5EB09F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F6E12F-5D6E-4AFB-91A3-313B2B06F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6CF975-3456-47D0-808B-A337C8F6E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D11E7F-F7F8-47D9-AEAA-7812C52B7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8F189D-9A3C-49DF-BFB5-9D25E45958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D045E0-3731-4E7A-B939-C8FA56EBDF8C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617FC8-7C6F-4028-B9DC-95BAA727AB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DC5199-1A0D-49C7-9E42-ABF9B8B30C6C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D1A647-E464-48BC-A467-36D78E3B93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483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DEC2E4-ED46-4B3B-9BB0-A24AB77D62FD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DA2109-3308-4D64-AE4B-5535EA04B1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CMA_ppt_wDUI_front_bkgrnd"/>
          <p:cNvPicPr/>
          <p:nvPr/>
        </p:nvPicPr>
        <p:blipFill>
          <a:blip r:embed="rId2"/>
          <a:srcRect l="242" t="0" r="826" b="846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COHORT Logo by Toby Cisneros 2 16 2010"/>
          <p:cNvPicPr/>
          <p:nvPr/>
        </p:nvPicPr>
        <p:blipFill>
          <a:blip r:embed="rId3"/>
          <a:stretch/>
        </p:blipFill>
        <p:spPr>
          <a:xfrm>
            <a:off x="609480" y="457200"/>
            <a:ext cx="3733920" cy="19191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76D4AA-47CD-4892-B731-76B7992DFEF3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E562B3-322C-48E7-BF33-B95EEDAEC0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52B949-C395-4640-AE15-C174A63D9145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01DCEC-CD25-4087-B0B6-1241C813FA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5F3A66-F0A8-4423-9F4D-DEFD93CE06F8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868289-6A0A-445E-93EB-435E99A7ED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917F58-F1A5-4CBD-B433-3D58FDD42FE2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1392F4-86CF-44DC-A880-330E68F6C1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0A24E3-AA92-464F-8E33-64DDDE884BB2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84CE70-507B-4227-9310-628790BBE8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149183-2591-4FF7-A908-59927201F082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B1319B-7FC4-4B6D-900F-6401808C8D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343A87-DBD6-4AE5-B0EE-F0C032508A29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6F2D1E-545D-4540-A040-23158F465A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2891A3-8CFD-4ABD-8DE7-B119746112F1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574D12-D7F6-4EAD-BA0E-40DB4443CA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G Senior Leadership Cohort Program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48006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. Meredith R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 September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4" descr="OPM Seal"/>
          <p:cNvPicPr/>
          <p:nvPr/>
        </p:nvPicPr>
        <p:blipFill>
          <a:blip r:embed="rId1"/>
          <a:stretch/>
        </p:blipFill>
        <p:spPr>
          <a:xfrm>
            <a:off x="3886200" y="32767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528" name="Rectangle 7"/>
          <p:cNvSpPr/>
          <p:nvPr/>
        </p:nvSpPr>
        <p:spPr>
          <a:xfrm>
            <a:off x="1055520" y="4003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hip Book Revie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ucial Conversations: Tools for Talking When Stakes Are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:  Kerry Patter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Content Placeholder 5" descr="1707e03ae7a0638569453210_L.jpg"/>
          <p:cNvPicPr/>
          <p:nvPr/>
        </p:nvPicPr>
        <p:blipFill>
          <a:blip r:embed="rId1"/>
          <a:stretch/>
        </p:blipFill>
        <p:spPr>
          <a:xfrm>
            <a:off x="4776840" y="1025640"/>
            <a:ext cx="3651120" cy="55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ey Messages from this 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ucial Conversation: “A discussion between two or more people where (1) stakes are high, (2) opinions vary, and (3) emotions run strong” and the outcome greatly impacts their li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who are most influential, who get things done are those who have mastered crucial convers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ucial conversations occur when there is a sharing of meaningful information between the parties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ey Messages from this 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logue can flow both ways when both parties feel they are functioning in a safe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accomplished by establishing mutual purp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master crucial conversations you must be aware of why or what is driving “your story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these based on facts or opin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kind of story are you telling yourself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ctim Stories – “it’s not my faul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llain Stories – “it’s all your faul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elpless Stories – “there’s nothing else I can d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ey Messages from this 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 for speaking Persuasively not Abrasive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TAT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ls for talking about sensitive top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e your f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l your 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 for others’ pa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k tentativ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courag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otes I Would Like To 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7200" y="1231560"/>
            <a:ext cx="8229600" cy="43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core of every successful conversation lies the free flow of relevant informa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d meaning enhances people willingness to act on their dec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cessful dialogue results when everyone feels safe enough to “add their meaning to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hared pool” of mea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bosses are smart, highly paid, confident, and outspoken (i.e. most of the world), people tend to hold back their opinions rather than risk angering someone in a position of powe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hing kills the flow of meaning [dialogue] like fea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This Book Meant To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57200" y="1393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chose the book because I wanted to learn how to be more effective in communicating with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’m leading a major effort (both internally and externally to my organiz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ook had a very good section on identifying human behavior from the other party that helps identify “crucial conversation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strategy for how to get the other party to feeling safe to engage dialog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helps to identify my style for dealing with stressful sit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plan to use this information by recognizing “crucial conversations” when they occur and to do my part to make sure that an open dialogue can occur for all parties involv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6T12:32:45Z</dcterms:created>
  <dc:creator>Trish Mooney</dc:creator>
  <dc:description/>
  <dc:language>en-US</dc:language>
  <cp:lastModifiedBy>meredith.l.reed</cp:lastModifiedBy>
  <cp:lastPrinted>2011-06-13T12:29:39Z</cp:lastPrinted>
  <dcterms:modified xsi:type="dcterms:W3CDTF">2012-09-07T13:19:00Z</dcterms:modified>
  <cp:revision>38</cp:revision>
  <dc:subject/>
  <dc:title>Leading with Impact</dc:title>
</cp:coreProperties>
</file>