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F252B6-5BA7-4D1E-980C-B6A05AC0AF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A1E956-DD46-4BFC-9A69-D4470C655EC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32E771D-474B-4D45-885B-7CCEB0E042C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FBE053C-02C7-433C-92C7-3E7636F8753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6C4F22E-4725-4FF6-B44B-96330FA892D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9C12CAF-9F3C-4E50-BCC9-8BA3A7B0225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D7AC830-0531-4BCC-8183-8D17BFEBC48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EE78FAE-27E2-47CF-A8C2-66D4230E26F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7F07790-6099-4B37-8DC6-AAE250DEC36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669D717-5BC7-492E-BC1A-AA2626082D5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98CC97C-2875-44E7-A433-6B59797BB86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9E72872-10DE-4FA8-8E4F-05E7F164F02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FFE4D5-7E4A-4D2C-A93A-6629C06BB97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BDD7B13-68F0-4E5A-9ADC-42BBD1050A7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F30B3B5-A9E1-4AB0-9BD3-BB5FD98A155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A5C583C-25CA-4137-9DAD-AF4694B3209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50824B6-4B5F-40CE-B696-1A93B82603A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62D83B6-8FF6-4267-AAEC-328BB171CF8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F998F92-D387-4506-BFA0-294704C3885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84B5BC9-C8B2-47E0-9B42-2C238FA9639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2C00075-916E-47B4-802C-E7BCFEFCCF1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F1FA170-2C62-4588-B86F-963417FD590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84B8556-BD81-4452-8E7B-3B1CC93A374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1F8D89-8F99-4BE7-B7EA-11466CDFF95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C9CE57E-2E09-4AD1-B74C-E2FD841D921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8FAA0841-1764-44C5-A457-869996E38D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A507B36-BBF7-47E5-B65C-EA1F5C1DA8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C38396E-5C70-42E2-B1F0-94389DED78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26C3752-FA20-4BB4-AD8B-1F1E4B5310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F34136A-D7B5-4C19-834E-DC61AB65EA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CA181D9-A9DE-4894-BBB7-FB44476F6E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F22D797-8FB6-40DC-9BD6-F6E1022F1A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04B11DC-3AF1-4A17-B778-F4E087FA49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ED294BB-558C-4E0A-A898-2F559AB6BC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3FD39C-0E50-454D-932E-6054A5B6D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4694F9A-E3C2-47CA-86B4-F8DBE46D68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5C876CA9-1CD3-481D-9548-7BA371D9D3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09FE3AC0-A7DF-423E-A215-E299BCA12F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AD2E2F7-13DE-4EBC-B2D2-93552545AD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28654C2-A503-4F53-B930-EBB9E879C9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4E6DF85-854E-420A-ADF6-F878B4AE04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E2DD864-8751-41A3-8C9E-3070687476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6A1E12D-3863-43B6-ABAE-187090CD10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7DB9ABC-C007-4750-B079-7B52451883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40A5037-25FF-43D4-8DFF-D6D3E80624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F05358-CC9D-478A-B8FB-6C34248300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97ABE7A-DDEC-418C-B9C6-40F1D228DB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D0ADF44-23D6-4E19-AE8D-2D94D4D893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3F358E8-2938-461B-937D-97A19A80E6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2E4429C-CA07-4C7E-9A64-BDBE7ECCA61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3F5265EE-5820-4223-A82A-74097811A8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5050FCF-8AA8-404B-BE3E-3986F90BC1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979DCB8-688B-40F6-8735-9E20E18D4A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72042E-581C-4910-8D04-95C624B84B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61FF47C-8DDB-466F-A273-2545765B81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7EF52E-64F4-4133-8524-F38C379DFF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67443-C5BC-49B3-8270-20AF1AA62D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7DBB20-AC6E-49D4-9D4B-CE1AE11E3B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62201C-A707-4B8A-AB14-05E44DF3FC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B8CE03A-70A9-42E0-A8E9-436D54A91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2651863-24C4-4296-BE10-151468C7467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37676D5-2DD1-42DF-A526-B343E11E720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5A8C36D-F108-4100-90A7-51F136DB0D7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C036C46-804B-4904-A94A-6F66DA4BAF7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6333CA2-350A-48D2-B2F6-9F386C7BEBC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FB6EEE7-181D-4C7D-9594-16C3B58DBBE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A2DC585-80F0-4B88-A1DB-7C7C4A29ABF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6443A-CA63-4821-89B1-00CEC0F9E18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1A6918A-99F4-449D-9A01-93CB8BF1CB0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520A79A-062E-4AB1-9716-243EED43705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C6F4EDA-CA39-40B0-981D-62C10F4209A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F1862F1-9A73-4F1F-959A-9D77CB902A0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4574ECA-3C2F-467A-B43A-28F55C46B28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E81F16A-49DD-4192-A8C1-E66C37E77F9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CD05F9F-514C-4D79-847D-5EC1804466E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756B72E-00A3-4B2B-85EB-40DF172FC2F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D061B68-7639-46AD-8101-784E026FEDA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E2C3097-3C54-4154-BE68-44DB8B62E6D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452A1E-35B5-4DE8-8676-5463919C8D5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CFEA5DF-9E8D-4EF1-A86D-AB68E1A8AEE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539BB98-FBBF-4A28-B9AA-A23D2EB38D8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BF483C5-6BC7-44A3-8F97-2631D737192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07F3856-3DA5-4D4D-B13E-29346246700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ED9E335-2600-4F3C-A3AC-B896CFC1435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50598BE-0694-49AA-A895-B8EFCF083A5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DB38953-8F08-4A82-BC69-A1D6E3F11E1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1456EF4-0B48-4BAD-8A41-E868A8118D5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44526C9-C571-460C-8B2E-2CECCEDDB07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8AABBD2-AA54-449B-B815-CB7FEC3779E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ADD9032D-AE4F-45C9-AC36-438A951FD42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198815B-807B-406F-B933-1253E523484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FBF75C7-E458-45A9-A9CA-708DC9753C7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2E11A1B-636B-4525-8202-FB7030F2DC4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E7333FD-F3A9-4D2E-BD0D-807FC798ABE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C11E74D-42F9-4CEB-9AA3-1B8F5FAE7E7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E804CBA-5F16-4C5D-9BBD-BBB836211B7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9CCE6F0-8428-4341-BDBE-33AB8EEE737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0191534-4901-404B-A0FE-3FDC389C536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BC5DC5D-34FE-43B4-9C33-CC6F87D6E99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89CF047-26C3-4D05-81C7-BFB6827A50E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DF81985-57B6-42C3-805B-1BE5BAC2B84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03893F5-FA87-476F-A014-A92FF1EA121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94DC502-CC66-4D99-B273-5F90B9A6AC4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F491BFB-843C-4F89-8A0D-8E3AD817742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F22E588-7C5A-49CA-8D8E-FF9F606830C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46386B3-DE05-45E6-9165-93F2E72C720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A9B2EB8-39C3-4029-8B2D-0135FADE3E7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AE64F62-554E-4171-A8A8-4B3C48D26CA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C5F8B1F-0EE9-4E46-B96A-B936A2A0DAD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C9335E4-9D87-42C0-B359-3CFF2C28F07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C60F097-98F0-4092-BECE-8BD78C1A633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1CEF9-C753-4D4A-9C63-5F69CD7D0E2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EE0213C-C608-41AE-A291-2C9B2FA30B1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9AD7747-5F68-4938-86F9-60622DBCB5C0}"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239ADDE-6602-44A1-BCDA-B331740ACA8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0D805A1-A594-4046-88DD-12144A307D6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5A30E5B-DCF3-40FE-8AAD-E127777A83D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BD455A1-9CF2-4860-9247-FF08651B55F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BC4DA7D-2E60-4F25-A99B-21F5BF2A6F6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621FA40-C63F-4017-A5DD-E45C5544FC4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D6311E3-793D-408B-B7E1-C203DA83736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F0B2A93-F58F-485B-AEA7-01D1331675E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5EF9A0-A78A-4429-9499-DF0A278748B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30BA26F-442A-4FE6-B2F9-1B1259B262D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985E9C6-97CA-4EF9-8B13-5CECF4CA743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8636995-E41E-4E2E-A602-D11C3480857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C17E573-9834-48D5-A266-51018DB9ED1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E9D25B8-9792-4804-A7E2-B42150E5360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46B677E-E285-4C63-9C26-5485C28B94D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B6D7515-CA6B-4705-B902-492A014CFB6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B084504-5C83-4F2D-87E8-DED0E3DE83B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0CB0313-F709-4032-A0A3-8C84098F9DD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CE8BF5F-4E5F-488C-8A53-12A3EFDD20F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73BEE-540C-4092-BB9B-3C5770A37DB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D3DFB8F-8E55-4C5A-A884-A4EF23C1E71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15EBA1A-72B2-4F18-9617-B46B5C3CAE8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C519BF3-B548-4D37-9461-9A4611598EB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0C4FEB2-D738-448D-9FCF-C34CEE3137A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ABE7E8E-FAAD-449D-95A0-C7C93E2726A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318D729-0760-40AA-88BD-B6B1C088523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BAB2617-337E-41BE-9058-D5334DFE0DD4}"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12E6E37-746D-47B3-A823-54BDC426A0B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187ABE0-298A-42EA-9912-E48197C4822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8F15C17-48B0-4A12-9BEC-73E6B174DE5A}"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3368A-D49F-4FA1-A183-58B4858B73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AFC2A3-C662-4F03-B555-6C290C1F4333}"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153479-7AEE-42CF-9436-9102DF88AC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DA721-2DB0-48E4-9C67-1F07DB707D33}"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AD461-EE72-42CA-BBFA-779C9F9F89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AB8AD5-3191-4BBC-9B0D-A272DA3F34BB}"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EFB95-44BC-4523-A7FD-721C8D4563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FF28D-2E89-49E7-BA89-6169E29C399A}"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BBFD1-0D1C-4F4A-94FB-0197FA3AD8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6EC9C3-4FE5-4AF0-988B-BC6FF2EB9C65}"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C83F3A-E9F6-4EBC-A606-00D1B9945A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C2A127-5FD7-4552-8BAC-FD7D5765F05C}"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195087-63CF-4369-A658-B31D46B274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57F80-4AF9-4200-B173-0F8000A20FC3}"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64149-1EBB-4CA4-86EE-91257DE7C0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75A3C6-860C-4128-B28B-ACC3245C940A}"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A0A878-4769-40D7-B23A-CD67E2EEA2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45B443-0D3F-421C-9EE7-125E5BFEC05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FFE0B-596E-4D43-A45E-83CBAC936E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C4F09-DAF4-4CF9-ABCF-3587A8659E54}"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DE3F5-3FE6-45A3-8316-EE7557DCF6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666FD-BFD3-45F2-945B-F53EC435CD34}"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5B8BD1-F786-4743-A1B4-01CB2853BF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214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PG Senior Leadership Cohort Program 2012</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Virtuous Leadership</a:t>
            </a:r>
            <a:endParaRPr b="0" lang="en-US" sz="2600" spc="-1" strike="noStrike">
              <a:solidFill>
                <a:srgbClr val="000000"/>
              </a:solidFill>
              <a:latin typeface="Arial"/>
            </a:endParaRPr>
          </a:p>
          <a:p>
            <a:pPr indent="0" algn="ctr">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mbria"/>
              </a:rPr>
              <a:t>An Agenda for Personal Excellence</a:t>
            </a:r>
            <a:endParaRPr b="0" lang="en-US" sz="1300" spc="-1" strike="noStrike">
              <a:solidFill>
                <a:srgbClr val="000000"/>
              </a:solidFill>
              <a:latin typeface="Arial"/>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mbria"/>
              </a:rPr>
              <a:t>Author, Alexandre Havard</a:t>
            </a:r>
            <a:endParaRPr b="0" lang="en-US" sz="1200" spc="-1" strike="noStrike">
              <a:solidFill>
                <a:srgbClr val="000000"/>
              </a:solidFill>
              <a:latin typeface="Arial"/>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mbria"/>
              </a:rPr>
              <a:t>	</a:t>
            </a:r>
            <a:r>
              <a:rPr b="0" i="1" lang="en-US" sz="1200" spc="-1" strike="noStrike">
                <a:solidFill>
                  <a:srgbClr val="000000"/>
                </a:solidFill>
                <a:latin typeface="Cambria"/>
              </a:rPr>
              <a:t>	</a:t>
            </a:r>
            <a:r>
              <a:rPr b="0" i="1" lang="en-US" sz="1200" spc="-1" strike="noStrike">
                <a:solidFill>
                  <a:srgbClr val="000000"/>
                </a:solidFill>
                <a:latin typeface="Cambria"/>
              </a:rPr>
              <a:t>	</a:t>
            </a:r>
            <a:endParaRPr b="0" lang="en-US" sz="1200" spc="-1" strike="noStrike">
              <a:solidFill>
                <a:srgbClr val="000000"/>
              </a:solidFill>
              <a:latin typeface="Arial"/>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mbria"/>
              </a:rPr>
              <a:t>	</a:t>
            </a:r>
            <a:r>
              <a:rPr b="0" i="1" lang="en-US" sz="1200" spc="-1" strike="noStrike">
                <a:solidFill>
                  <a:srgbClr val="000000"/>
                </a:solidFill>
                <a:latin typeface="Cambria"/>
              </a:rPr>
              <a:t>	</a:t>
            </a:r>
            <a:r>
              <a:rPr b="0" i="1" lang="en-US" sz="1200" spc="-1" strike="noStrike">
                <a:solidFill>
                  <a:srgbClr val="000000"/>
                </a:solidFill>
                <a:latin typeface="Cambria"/>
              </a:rPr>
              <a:t>	</a:t>
            </a:r>
            <a:r>
              <a:rPr b="0" i="1" lang="en-US" sz="1200" spc="-1" strike="noStrike">
                <a:solidFill>
                  <a:srgbClr val="000000"/>
                </a:solidFill>
                <a:latin typeface="Cambria"/>
              </a:rPr>
              <a:t>	</a:t>
            </a:r>
            <a:r>
              <a:rPr b="0" i="1" lang="en-US" sz="1200" spc="-1" strike="noStrike">
                <a:solidFill>
                  <a:srgbClr val="000000"/>
                </a:solidFill>
                <a:latin typeface="Cambria"/>
              </a:rPr>
              <a:t>	</a:t>
            </a:r>
            <a:r>
              <a:rPr b="0" i="1" lang="en-US" sz="1200" spc="-1" strike="noStrike">
                <a:solidFill>
                  <a:srgbClr val="000000"/>
                </a:solidFill>
                <a:latin typeface="Cambria"/>
              </a:rPr>
              <a:t>	</a:t>
            </a:r>
            <a:r>
              <a:rPr b="0" lang="en-US" sz="1400" spc="-1" strike="noStrike">
                <a:solidFill>
                  <a:srgbClr val="0070c0"/>
                </a:solidFill>
                <a:latin typeface="Cambria"/>
              </a:rPr>
              <a:t>Mark DeVita</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mbria"/>
              </a:rPr>
              <a:t>	</a:t>
            </a:r>
            <a:r>
              <a:rPr b="0" lang="en-US" sz="1400" spc="-1" strike="noStrike">
                <a:solidFill>
                  <a:srgbClr val="0070c0"/>
                </a:solidFill>
                <a:latin typeface="Cambria"/>
              </a:rPr>
              <a:t>	</a:t>
            </a:r>
            <a:r>
              <a:rPr b="0" lang="en-US" sz="1400" spc="-1" strike="noStrike">
                <a:solidFill>
                  <a:srgbClr val="0070c0"/>
                </a:solidFill>
                <a:latin typeface="Cambria"/>
              </a:rPr>
              <a:t>	</a:t>
            </a:r>
            <a:r>
              <a:rPr b="0" lang="en-US" sz="1400" spc="-1" strike="noStrike">
                <a:solidFill>
                  <a:srgbClr val="0070c0"/>
                </a:solidFill>
                <a:latin typeface="Cambria"/>
              </a:rPr>
              <a:t>	</a:t>
            </a:r>
            <a:r>
              <a:rPr b="0" lang="en-US" sz="1400" spc="-1" strike="noStrike">
                <a:solidFill>
                  <a:srgbClr val="0070c0"/>
                </a:solidFill>
                <a:latin typeface="Cambria"/>
              </a:rPr>
              <a:t>	</a:t>
            </a:r>
            <a:r>
              <a:rPr b="0" lang="en-US" sz="1400" spc="-1" strike="noStrike">
                <a:solidFill>
                  <a:srgbClr val="0070c0"/>
                </a:solidFill>
                <a:latin typeface="Cambria"/>
              </a:rPr>
              <a:t>	</a:t>
            </a:r>
            <a:r>
              <a:rPr b="0" lang="en-US" sz="1400" spc="-1" strike="noStrike">
                <a:solidFill>
                  <a:srgbClr val="0070c0"/>
                </a:solidFill>
                <a:latin typeface="Cambria"/>
              </a:rPr>
              <a:t>                     </a:t>
            </a:r>
            <a:r>
              <a:rPr b="0" lang="en-US" sz="1400" spc="-1" strike="noStrike">
                <a:solidFill>
                  <a:srgbClr val="0070c0"/>
                </a:solidFill>
                <a:latin typeface="Cambria"/>
              </a:rPr>
              <a:t>Cohort 4, Track B</a:t>
            </a:r>
            <a:endParaRPr b="0" lang="en-US" sz="14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Book Review </a:t>
            </a:r>
            <a:endParaRPr b="0" lang="en-US" sz="2800" spc="-1" strike="noStrike">
              <a:solidFill>
                <a:srgbClr val="000000"/>
              </a:solidFill>
              <a:latin typeface="Arial"/>
            </a:endParaRPr>
          </a:p>
        </p:txBody>
      </p:sp>
      <p:sp>
        <p:nvSpPr>
          <p:cNvPr id="530" name=""/>
          <p:cNvSpPr txBox="1"/>
          <p:nvPr/>
        </p:nvSpPr>
        <p:spPr>
          <a:xfrm>
            <a:off x="558360" y="1692000"/>
            <a:ext cx="4038840" cy="187308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800" spc="-1" strike="noStrike">
                <a:solidFill>
                  <a:srgbClr val="000000"/>
                </a:solidFill>
                <a:latin typeface="Cambria"/>
              </a:rPr>
              <a:t>Virtuous Leadership               </a:t>
            </a:r>
            <a:r>
              <a:rPr b="0" lang="en-US" sz="1400" spc="-1" strike="noStrike">
                <a:solidFill>
                  <a:srgbClr val="000000"/>
                </a:solidFill>
                <a:latin typeface="Cambria"/>
              </a:rPr>
              <a:t>“An Agenda for Personal Excellence”</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mbria"/>
              </a:rPr>
              <a:t>Author:  Alexandre Havard </a:t>
            </a:r>
            <a:endParaRPr b="0" lang="en-US" sz="1400" spc="-1" strike="noStrike">
              <a:solidFill>
                <a:srgbClr val="000000"/>
              </a:solidFill>
              <a:latin typeface="Arial"/>
            </a:endParaRPr>
          </a:p>
        </p:txBody>
      </p:sp>
      <p:pic>
        <p:nvPicPr>
          <p:cNvPr id="531" name="Picture 2" descr=""/>
          <p:cNvPicPr/>
          <p:nvPr/>
        </p:nvPicPr>
        <p:blipFill>
          <a:blip r:embed="rId1"/>
          <a:stretch/>
        </p:blipFill>
        <p:spPr>
          <a:xfrm>
            <a:off x="4794120" y="1563840"/>
            <a:ext cx="3444840" cy="424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Key Messages from this Book</a:t>
            </a:r>
            <a:endParaRPr b="0" lang="en-US" sz="2800" spc="-1" strike="noStrike">
              <a:solidFill>
                <a:srgbClr val="000000"/>
              </a:solidFill>
              <a:latin typeface="Arial"/>
            </a:endParaRPr>
          </a:p>
        </p:txBody>
      </p:sp>
      <p:sp>
        <p:nvSpPr>
          <p:cNvPr id="533" name=""/>
          <p:cNvSpPr txBox="1"/>
          <p:nvPr/>
        </p:nvSpPr>
        <p:spPr>
          <a:xfrm>
            <a:off x="457200" y="1590480"/>
            <a:ext cx="8229600" cy="403380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Leadership is service – or if you will, </a:t>
            </a:r>
            <a:r>
              <a:rPr b="0" lang="en-US" sz="2600" spc="-1" strike="noStrike" u="sng">
                <a:solidFill>
                  <a:srgbClr val="000000"/>
                </a:solidFill>
                <a:uFillTx/>
                <a:latin typeface="Cambria"/>
              </a:rPr>
              <a:t>virtue in action</a:t>
            </a:r>
            <a:r>
              <a:rPr b="0" lang="en-US" sz="2600" spc="-1" strike="noStrike">
                <a:solidFill>
                  <a:srgbClr val="000000"/>
                </a:solidFill>
                <a:latin typeface="Cambria"/>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Leadership is character</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content of character – what is it?             </a:t>
            </a:r>
            <a:r>
              <a:rPr b="0" lang="en-US" sz="2600" spc="-1" strike="noStrike" u="sng">
                <a:solidFill>
                  <a:srgbClr val="000000"/>
                </a:solidFill>
                <a:uFillTx/>
                <a:latin typeface="Cambria"/>
              </a:rPr>
              <a:t>VIRTUE</a:t>
            </a:r>
            <a:r>
              <a:rPr b="0" lang="en-US" sz="2600" spc="-1" strike="noStrike">
                <a:solidFill>
                  <a:srgbClr val="000000"/>
                </a:solidFill>
                <a:latin typeface="Cambria"/>
              </a:rPr>
              <a:t>   </a:t>
            </a:r>
            <a:endParaRPr b="0" lang="en-US" sz="2600" spc="-1" strike="noStrike">
              <a:solidFill>
                <a:srgbClr val="000000"/>
              </a:solidFill>
              <a:latin typeface="Arial"/>
            </a:endParaRPr>
          </a:p>
          <a:p>
            <a:pPr marL="3430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8c93"/>
                </a:solidFill>
                <a:latin typeface="Cambria"/>
              </a:rPr>
              <a:t>Not a utilitarian approach to virtue, </a:t>
            </a:r>
            <a:r>
              <a:rPr b="0" i="1" lang="en-US" sz="1700" spc="-1" strike="noStrike">
                <a:solidFill>
                  <a:srgbClr val="3c8c93"/>
                </a:solidFill>
                <a:latin typeface="Cambria"/>
              </a:rPr>
              <a:t>(i.e. not something to cultivate just to become better at what you do)</a:t>
            </a:r>
            <a:r>
              <a:rPr b="0" lang="en-US" sz="1800" spc="-1" strike="noStrike">
                <a:solidFill>
                  <a:srgbClr val="3c8c93"/>
                </a:solidFill>
                <a:latin typeface="Cambria"/>
              </a:rPr>
              <a:t> although it is good to want that, rather the cultivation of virtue to become a better person</a:t>
            </a:r>
            <a:r>
              <a:rPr b="0" i="1" lang="en-US" sz="1800" spc="-1" strike="noStrike">
                <a:solidFill>
                  <a:srgbClr val="3c8c93"/>
                </a:solidFill>
                <a:latin typeface="Cambria"/>
              </a:rPr>
              <a:t>…implying </a:t>
            </a:r>
            <a:r>
              <a:rPr b="0" i="1" lang="en-US" sz="1800" spc="-1" strike="noStrike" u="sng">
                <a:solidFill>
                  <a:srgbClr val="3c8c93"/>
                </a:solidFill>
                <a:uFillTx/>
                <a:latin typeface="Cambria"/>
              </a:rPr>
              <a:t>excellence of being </a:t>
            </a:r>
            <a:r>
              <a:rPr b="0" i="1" lang="en-US" sz="1800" spc="-1" strike="noStrike">
                <a:solidFill>
                  <a:srgbClr val="3c8c93"/>
                </a:solidFill>
                <a:latin typeface="Cambria"/>
              </a:rPr>
              <a:t>as oppose to that of  just an </a:t>
            </a:r>
            <a:r>
              <a:rPr b="0" i="1" lang="en-US" sz="1800" spc="-1" strike="noStrike" u="sng">
                <a:solidFill>
                  <a:srgbClr val="3c8c93"/>
                </a:solidFill>
                <a:uFillTx/>
                <a:latin typeface="Cambria"/>
              </a:rPr>
              <a:t>excellence in doing</a:t>
            </a:r>
            <a:r>
              <a:rPr b="0" i="1" lang="en-US" sz="1800" spc="-1" strike="noStrike">
                <a:solidFill>
                  <a:srgbClr val="3c8c93"/>
                </a:solidFill>
                <a:latin typeface="Cambria"/>
              </a:rPr>
              <a:t>….</a:t>
            </a:r>
            <a:endParaRPr b="0" lang="en-US" sz="1800" spc="-1" strike="noStrike">
              <a:solidFill>
                <a:srgbClr val="000000"/>
              </a:solidFill>
              <a:latin typeface="Arial"/>
            </a:endParaRPr>
          </a:p>
        </p:txBody>
      </p:sp>
      <p:grpSp>
        <p:nvGrpSpPr>
          <p:cNvPr id="534" name="Pentagon 4"/>
          <p:cNvGrpSpPr/>
          <p:nvPr/>
        </p:nvGrpSpPr>
        <p:grpSpPr>
          <a:xfrm>
            <a:off x="6205680" y="3664080"/>
            <a:ext cx="609480" cy="261720"/>
            <a:chOff x="6205680" y="3664080"/>
            <a:chExt cx="609480" cy="261720"/>
          </a:xfrm>
        </p:grpSpPr>
        <p:pic>
          <p:nvPicPr>
            <p:cNvPr id="535" name="Pentagon 4" descr=""/>
            <p:cNvPicPr/>
            <p:nvPr/>
          </p:nvPicPr>
          <p:blipFill>
            <a:blip r:embed="rId1"/>
            <a:stretch/>
          </p:blipFill>
          <p:spPr>
            <a:xfrm>
              <a:off x="6205680" y="3664080"/>
              <a:ext cx="609480" cy="261720"/>
            </a:xfrm>
            <a:prstGeom prst="rect">
              <a:avLst/>
            </a:prstGeom>
            <a:ln w="0">
              <a:noFill/>
            </a:ln>
          </p:spPr>
        </p:pic>
        <p:sp>
          <p:nvSpPr>
            <p:cNvPr id="536" name=""/>
            <p:cNvSpPr/>
            <p:nvPr/>
          </p:nvSpPr>
          <p:spPr>
            <a:xfrm>
              <a:off x="6262560" y="3693960"/>
              <a:ext cx="459000" cy="1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37" name="TextBox 5"/>
          <p:cNvSpPr/>
          <p:nvPr/>
        </p:nvSpPr>
        <p:spPr>
          <a:xfrm>
            <a:off x="1424880" y="5772240"/>
            <a:ext cx="6507000" cy="39888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mbria"/>
              </a:rPr>
              <a:t>** Virtues do not take the place of professional compet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Key Messages from this Book</a:t>
            </a:r>
            <a:endParaRPr b="0" lang="en-US" sz="3200" spc="-1" strike="noStrike">
              <a:solidFill>
                <a:srgbClr val="000000"/>
              </a:solidFill>
              <a:latin typeface="Arial"/>
            </a:endParaRPr>
          </a:p>
        </p:txBody>
      </p:sp>
      <p:sp>
        <p:nvSpPr>
          <p:cNvPr id="539" name="Left Arrow 9"/>
          <p:cNvSpPr/>
          <p:nvPr/>
        </p:nvSpPr>
        <p:spPr>
          <a:xfrm>
            <a:off x="4984920" y="3079800"/>
            <a:ext cx="407880" cy="484200"/>
          </a:xfrm>
          <a:prstGeom prst="leftArrow">
            <a:avLst>
              <a:gd name="adj1" fmla="val 100000"/>
              <a:gd name="adj2" fmla="val 50000"/>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0" name="Up Arrow 3"/>
          <p:cNvSpPr/>
          <p:nvPr/>
        </p:nvSpPr>
        <p:spPr>
          <a:xfrm>
            <a:off x="3803760" y="2243160"/>
            <a:ext cx="1087200" cy="2930400"/>
          </a:xfrm>
          <a:prstGeom prst="upArrow">
            <a:avLst>
              <a:gd name="adj1" fmla="val 60194"/>
              <a:gd name="adj2" fmla="val 49989"/>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1" name="TextBox 4"/>
          <p:cNvSpPr/>
          <p:nvPr/>
        </p:nvSpPr>
        <p:spPr>
          <a:xfrm>
            <a:off x="1776600" y="3137040"/>
            <a:ext cx="1413720" cy="368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rPr>
              <a:t>Self Control   </a:t>
            </a:r>
            <a:endParaRPr b="0" lang="en-US" sz="1800" spc="-1" strike="noStrike">
              <a:solidFill>
                <a:srgbClr val="000000"/>
              </a:solidFill>
              <a:latin typeface="Arial"/>
            </a:endParaRPr>
          </a:p>
        </p:txBody>
      </p:sp>
      <p:sp>
        <p:nvSpPr>
          <p:cNvPr id="542" name="TextBox 5"/>
          <p:cNvSpPr/>
          <p:nvPr/>
        </p:nvSpPr>
        <p:spPr>
          <a:xfrm>
            <a:off x="1709640" y="4259160"/>
            <a:ext cx="1546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rPr>
              <a:t>Courag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43" name="TextBox 6"/>
          <p:cNvSpPr/>
          <p:nvPr/>
        </p:nvSpPr>
        <p:spPr>
          <a:xfrm>
            <a:off x="5524560" y="3137040"/>
            <a:ext cx="13190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rPr>
              <a:t>Justice</a:t>
            </a:r>
            <a:endParaRPr b="0" lang="en-US" sz="1800" spc="-1" strike="noStrike">
              <a:solidFill>
                <a:srgbClr val="000000"/>
              </a:solidFill>
              <a:latin typeface="Arial"/>
            </a:endParaRPr>
          </a:p>
        </p:txBody>
      </p:sp>
      <p:sp>
        <p:nvSpPr>
          <p:cNvPr id="544" name="TextBox 7"/>
          <p:cNvSpPr/>
          <p:nvPr/>
        </p:nvSpPr>
        <p:spPr>
          <a:xfrm>
            <a:off x="5551560" y="4259160"/>
            <a:ext cx="12920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rPr>
              <a:t>Prudenc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45" name="TextBox 8"/>
          <p:cNvSpPr/>
          <p:nvPr/>
        </p:nvSpPr>
        <p:spPr>
          <a:xfrm>
            <a:off x="1741320" y="5210280"/>
            <a:ext cx="5213520" cy="10994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mbria"/>
              </a:rPr>
              <a:t>Magnanimity</a:t>
            </a:r>
            <a:endParaRPr b="0" lang="en-US" sz="2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mbria"/>
              </a:rPr>
              <a:t>&amp; </a:t>
            </a:r>
            <a:endParaRPr b="0" lang="en-US" sz="2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mbria"/>
              </a:rPr>
              <a:t>Humility</a:t>
            </a:r>
            <a:endParaRPr b="0" lang="en-US" sz="2200" spc="-1" strike="noStrike">
              <a:solidFill>
                <a:srgbClr val="000000"/>
              </a:solidFill>
              <a:latin typeface="Arial"/>
            </a:endParaRPr>
          </a:p>
        </p:txBody>
      </p:sp>
      <p:sp>
        <p:nvSpPr>
          <p:cNvPr id="546" name="Left Arrow 10"/>
          <p:cNvSpPr/>
          <p:nvPr/>
        </p:nvSpPr>
        <p:spPr>
          <a:xfrm>
            <a:off x="4992840" y="4200480"/>
            <a:ext cx="433080" cy="486000"/>
          </a:xfrm>
          <a:prstGeom prst="leftArrow">
            <a:avLst>
              <a:gd name="adj1" fmla="val 100000"/>
              <a:gd name="adj2" fmla="val 50000"/>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7" name="Left Arrow 11"/>
          <p:cNvSpPr/>
          <p:nvPr/>
        </p:nvSpPr>
        <p:spPr>
          <a:xfrm rot="10800000">
            <a:off x="3335400" y="3079440"/>
            <a:ext cx="433440" cy="484200"/>
          </a:xfrm>
          <a:prstGeom prst="leftArrow">
            <a:avLst>
              <a:gd name="adj1" fmla="val 100000"/>
              <a:gd name="adj2" fmla="val 50000"/>
            </a:avLst>
          </a:prstGeom>
          <a:gradFill rotWithShape="0">
            <a:gsLst>
              <a:gs pos="0">
                <a:srgbClr val="cbffff"/>
              </a:gs>
              <a:gs pos="100000">
                <a:srgbClr val="b5e5e9"/>
              </a:gs>
            </a:gsLst>
            <a:lin ang="162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8" name="Left Arrow 12"/>
          <p:cNvSpPr/>
          <p:nvPr/>
        </p:nvSpPr>
        <p:spPr>
          <a:xfrm rot="10800000">
            <a:off x="3327120" y="4200480"/>
            <a:ext cx="431640" cy="486000"/>
          </a:xfrm>
          <a:prstGeom prst="leftArrow">
            <a:avLst>
              <a:gd name="adj1" fmla="val 100000"/>
              <a:gd name="adj2" fmla="val 50000"/>
            </a:avLst>
          </a:prstGeom>
          <a:gradFill rotWithShape="0">
            <a:gsLst>
              <a:gs pos="0">
                <a:srgbClr val="cbffff"/>
              </a:gs>
              <a:gs pos="100000">
                <a:srgbClr val="b5e5e9"/>
              </a:gs>
            </a:gsLst>
            <a:lin ang="162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9" name="Oval 13"/>
          <p:cNvSpPr/>
          <p:nvPr/>
        </p:nvSpPr>
        <p:spPr>
          <a:xfrm>
            <a:off x="3646440" y="1266840"/>
            <a:ext cx="1403280" cy="928800"/>
          </a:xfrm>
          <a:prstGeom prst="ellipse">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550" name="TextBox 14" descr=""/>
          <p:cNvPicPr/>
          <p:nvPr/>
        </p:nvPicPr>
        <p:blipFill>
          <a:blip r:embed="rId1"/>
          <a:stretch/>
        </p:blipFill>
        <p:spPr>
          <a:xfrm>
            <a:off x="3395520" y="963720"/>
            <a:ext cx="1901880" cy="53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Key Messages from this Book</a:t>
            </a:r>
            <a:endParaRPr b="0" lang="en-US" sz="2800" spc="-1" strike="noStrike">
              <a:solidFill>
                <a:srgbClr val="000000"/>
              </a:solidFill>
              <a:latin typeface="Arial"/>
            </a:endParaRPr>
          </a:p>
        </p:txBody>
      </p:sp>
      <p:sp>
        <p:nvSpPr>
          <p:cNvPr id="552" name=""/>
          <p:cNvSpPr txBox="1"/>
          <p:nvPr/>
        </p:nvSpPr>
        <p:spPr>
          <a:xfrm>
            <a:off x="87480" y="1396800"/>
            <a:ext cx="8904240" cy="361764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Human (Cardinal) Virtues </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Prudence – to make right decision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ourage – to stay the course and resist pressures of all kind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Self-control – to subordinate passions to the spirit and fulfillment of the mission at hand</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Justice – to give every individual his due</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wo Additional Virtues </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Magnanimity – to strive for great things, to challenge myself and other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Humility – to overcome selfishness and serve others habitua</a:t>
            </a:r>
            <a:r>
              <a:rPr b="0" lang="en-US" sz="1800" spc="-1" strike="noStrike">
                <a:solidFill>
                  <a:srgbClr val="000000"/>
                </a:solidFill>
                <a:latin typeface="Arial"/>
              </a:rPr>
              <a:t>lly</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Box 6"/>
          <p:cNvSpPr/>
          <p:nvPr/>
        </p:nvSpPr>
        <p:spPr>
          <a:xfrm>
            <a:off x="828000" y="5200560"/>
            <a:ext cx="7488360" cy="916920"/>
          </a:xfrm>
          <a:prstGeom prst="rect">
            <a:avLst/>
          </a:prstGeom>
          <a:noFill/>
          <a:ln w="6480">
            <a:solidFill>
              <a:srgbClr val="0070c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8c93"/>
                </a:solidFill>
                <a:latin typeface="MS PGothic"/>
                <a:ea typeface="MS PGothic"/>
              </a:rPr>
              <a:t>“ </a:t>
            </a:r>
            <a:r>
              <a:rPr b="0" i="1" lang="en-US" sz="1800" spc="-1" strike="noStrike">
                <a:solidFill>
                  <a:srgbClr val="3c8c93"/>
                </a:solidFill>
                <a:latin typeface="MS PGothic"/>
                <a:ea typeface="MS PGothic"/>
              </a:rPr>
              <a:t>I no longer teach the management of people at work.... I am teaching,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8c93"/>
                </a:solidFill>
                <a:latin typeface="MS PGothic"/>
                <a:ea typeface="MS PGothic"/>
              </a:rPr>
              <a:t>  </a:t>
            </a:r>
            <a:r>
              <a:rPr b="0" i="1" lang="en-US" sz="1800" spc="-1" strike="noStrike">
                <a:solidFill>
                  <a:srgbClr val="3c8c93"/>
                </a:solidFill>
                <a:latin typeface="MS PGothic"/>
                <a:ea typeface="MS PGothic"/>
              </a:rPr>
              <a:t>above all, how to manage oneself. ”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8c93"/>
                </a:solidFill>
                <a:latin typeface="MS PGothic"/>
                <a:ea typeface="MS PGothic"/>
              </a:rPr>
              <a:t>	</a:t>
            </a:r>
            <a:r>
              <a:rPr b="0" lang="en-US" sz="1800" spc="-1" strike="noStrike">
                <a:solidFill>
                  <a:srgbClr val="3c8c93"/>
                </a:solidFill>
                <a:latin typeface="MS PGothic"/>
                <a:ea typeface="MS PGothic"/>
              </a:rPr>
              <a:t>	</a:t>
            </a:r>
            <a:r>
              <a:rPr b="0" lang="en-US" sz="1800" spc="-1" strike="noStrike">
                <a:solidFill>
                  <a:srgbClr val="3c8c93"/>
                </a:solidFill>
                <a:latin typeface="MS PGothic"/>
                <a:ea typeface="MS PGothic"/>
              </a:rPr>
              <a:t>	</a:t>
            </a:r>
            <a:r>
              <a:rPr b="0" lang="en-US" sz="1800" spc="-1" strike="noStrike">
                <a:solidFill>
                  <a:srgbClr val="3c8c93"/>
                </a:solidFill>
                <a:latin typeface="MS PGothic"/>
                <a:ea typeface="MS PGothic"/>
              </a:rPr>
              <a:t>	</a:t>
            </a:r>
            <a:r>
              <a:rPr b="0" lang="en-US" sz="1800" spc="-1" strike="noStrike">
                <a:solidFill>
                  <a:srgbClr val="3c8c93"/>
                </a:solidFill>
                <a:latin typeface="MS PGothic"/>
                <a:ea typeface="MS PGothic"/>
              </a:rPr>
              <a:t>	</a:t>
            </a:r>
            <a:r>
              <a:rPr b="0" lang="en-US" sz="1800" spc="-1" strike="noStrike">
                <a:solidFill>
                  <a:srgbClr val="3c8c93"/>
                </a:solidFill>
                <a:latin typeface="MS PGothic"/>
                <a:ea typeface="MS PGothic"/>
              </a:rPr>
              <a:t>	</a:t>
            </a:r>
            <a:r>
              <a:rPr b="0" lang="en-US" sz="1800" spc="-1" strike="noStrike">
                <a:solidFill>
                  <a:srgbClr val="3c8c93"/>
                </a:solidFill>
                <a:latin typeface="MS PGothic"/>
                <a:ea typeface="MS PGothic"/>
              </a:rPr>
              <a:t>	</a:t>
            </a:r>
            <a:r>
              <a:rPr b="0" lang="en-US" sz="1800" spc="-1" strike="noStrike">
                <a:solidFill>
                  <a:srgbClr val="3c8c93"/>
                </a:solidFill>
                <a:latin typeface="MS PGothic"/>
                <a:ea typeface="MS PGothic"/>
              </a:rPr>
              <a:t>	</a:t>
            </a:r>
            <a:r>
              <a:rPr b="0" lang="en-US" sz="1800" spc="-1" strike="noStrike">
                <a:solidFill>
                  <a:srgbClr val="3c8c93"/>
                </a:solidFill>
                <a:latin typeface="MS PGothic"/>
                <a:ea typeface="MS PGothic"/>
              </a:rPr>
              <a:t>	</a:t>
            </a:r>
            <a:r>
              <a:rPr b="0" lang="en-US" sz="1800" spc="-1" strike="noStrike">
                <a:solidFill>
                  <a:srgbClr val="3c8c93"/>
                </a:solidFill>
                <a:latin typeface="MS PGothic"/>
                <a:ea typeface="MS PGothic"/>
              </a:rPr>
              <a:t>	</a:t>
            </a:r>
            <a:r>
              <a:rPr b="0" lang="en-US" sz="1800" spc="-1" strike="noStrike">
                <a:solidFill>
                  <a:srgbClr val="3c8c93"/>
                </a:solidFill>
                <a:latin typeface="MS PGothic"/>
                <a:ea typeface="MS PGothic"/>
              </a:rPr>
              <a:t> </a:t>
            </a:r>
            <a:r>
              <a:rPr b="0" i="1" lang="en-US" sz="1800" spc="-1" strike="noStrike">
                <a:solidFill>
                  <a:srgbClr val="3c8c93"/>
                </a:solidFill>
                <a:latin typeface="MS PGothic"/>
                <a:ea typeface="MS PGothic"/>
              </a:rPr>
              <a:t>- PETER DRUCK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Quotes to Share</a:t>
            </a:r>
            <a:endParaRPr b="0" lang="en-US" sz="2800" spc="-1" strike="noStrike">
              <a:solidFill>
                <a:srgbClr val="000000"/>
              </a:solidFill>
              <a:latin typeface="Arial"/>
            </a:endParaRPr>
          </a:p>
        </p:txBody>
      </p:sp>
      <p:pic>
        <p:nvPicPr>
          <p:cNvPr id="555" name="Content Placeholder 2" descr=""/>
          <p:cNvPicPr/>
          <p:nvPr/>
        </p:nvPicPr>
        <p:blipFill>
          <a:blip r:embed="rId1"/>
          <a:stretch/>
        </p:blipFill>
        <p:spPr>
          <a:xfrm>
            <a:off x="79200" y="1390680"/>
            <a:ext cx="8918640" cy="503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What This Book Meant To Me</a:t>
            </a:r>
            <a:endParaRPr b="0" lang="en-US" sz="2800" spc="-1" strike="noStrike">
              <a:solidFill>
                <a:srgbClr val="000000"/>
              </a:solidFill>
              <a:latin typeface="Arial"/>
            </a:endParaRPr>
          </a:p>
        </p:txBody>
      </p:sp>
      <p:sp>
        <p:nvSpPr>
          <p:cNvPr id="557" name=""/>
          <p:cNvSpPr txBox="1"/>
          <p:nvPr/>
        </p:nvSpPr>
        <p:spPr>
          <a:xfrm>
            <a:off x="457200" y="1960200"/>
            <a:ext cx="8229600" cy="2500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i="1" lang="en-US" sz="2200" spc="-1" strike="noStrike">
                <a:solidFill>
                  <a:srgbClr val="4597a0"/>
                </a:solidFill>
                <a:latin typeface="Cambria"/>
              </a:rPr>
              <a:t>Virtuous Leadership, caught my interest by defining Leadership on human qualities (i.e. virtues) recognized throughout the ages and across cultures as those which are needed to attain personal excellence at all endeavors within life, (i.e. both personal &amp; professional)…experience has shown when Leadership is devoid of virtue most achievements are temporary and over the long-term  cause both organizational (and personal) failur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2-11-29T08:49:08Z</dcterms:modified>
  <cp:revision>52</cp:revision>
  <dc:subject/>
  <dc:title>Leading with Impact</dc:title>
</cp:coreProperties>
</file>