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dt" idx="35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CBBE61-DBC5-4832-931C-7658F51DB5B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ftr" idx="36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 type="sldNum" idx="37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286C23-DADE-4C3D-B0ED-88E07BE5B0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F4142B-EBEE-4947-BBE7-9AA3A33521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10076-C809-4306-9914-9B68581017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E07CD-C22E-4605-8E0C-21196DD03F4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5BF2CA-DA82-4F9E-A30F-E54D9924E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47E9BD-1050-4B79-9762-DF69B975E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B623BE-EEFC-4A30-827C-3F3C1E3FD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BF5470-C487-4FC0-8E2F-A8A9DE463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487F98-7550-43A7-9802-A6FE9B8C3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86DD25-0DFC-42F9-89C5-9BB640FD1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153AAC-008B-4AAC-BF01-68B1906CB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F5F279-3E60-41E3-88BA-8388BB2EB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911967-974F-4FF5-BDD9-E7698C898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0EF157-2200-40F3-A706-9582FABB3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D880C-D993-4558-8C8A-4C8E2E9336C3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744750-B4A0-422B-8381-8F347B6D9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77808F-AF39-4864-83DE-205D775E4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41F4B0-324A-4CB1-BCE4-C959DA3C3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5E84D7-FA67-4D83-B5E4-36955BB9A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9CFB2C-AEA0-47DB-A512-8B52EE586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2CE55F-D28F-487D-9F4E-9CC091C31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6001CE-7509-4796-AF23-7D4E5508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97AEE0-08CB-4FE6-AB76-0FB41A9FB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21E1C2-6C4C-4DEE-8915-D45431701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16BA36-3B9F-4BB2-A628-475D47BD4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63902-5BF3-4315-AAFC-78951CD92D74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D0483C-D322-4E4F-A430-8D902CA35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269C21C-9EC1-4EA2-A464-DD09FB75A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7057F5C-907C-4FD6-999E-3C4B9489C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2D468E1-8F58-4CAD-9B9F-6D481857B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48D544D-8AD7-4FEB-A54A-A5319D83A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5E8CB12-6B01-4424-AB49-1CA321CD1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6836F24-F8D7-4D38-9E10-2CE98570F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32F8D51-A1C9-461E-A7AB-EAECA12ED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E5D197C-52A4-475D-B16A-8BEFF389A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E269973-6256-4B27-A993-0F7453CD3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AA3B52-35B2-4FC5-B467-4115B978C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47E7076-5B0B-4BA2-8D02-B770D21DD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5CA2112-5C2B-402E-95DA-93621665B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F891DBD-8248-47EA-AAB4-2FC1934E4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D17CE2-B29E-4D71-844F-D5914DE26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250467-1792-461B-BD7D-B8758AD5C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C481E4-E22F-49F5-91D8-5CF91EE28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CFCC03-C0A4-4AC9-9C67-BD948309D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1B80E2-57D2-4B74-B4B7-DFB15AA51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869848-5B5C-4599-8499-779F8D45E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C230A9-893C-4D6F-8353-CEC422CD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7300AB-FB1C-4E09-9F83-ABEDA3E46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CD07E9-1D03-4BCC-811C-D80A1C169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A79295-6CD4-4AA8-9798-554205EB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A936E5-0BDB-4D37-8178-C7720F476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CA916E-8ABE-46F1-A060-87F05B9B1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EFEEE4-A849-4543-AAA7-0C44D35C8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F14935-2CBB-40DD-BC4D-9D8B55472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3BCEEF-ACE4-41FF-A8FE-E1CD31D62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2BD138-160A-4D03-B566-CB9D4BA0D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F464E2-46A2-4564-A24B-2E559FEB6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815813-911F-42B9-9BE8-4BB07F78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E393F-DD51-4419-A9A0-198482F08A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A85BE8-08F5-4E5E-9AF6-C513D59F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8F052B-6F07-474D-931E-32D5BDC97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0C697D-21CA-4688-A729-56DA3B400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00AC77-C817-4A98-9A7D-F6C11A3D7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E71480-15F0-4FCE-A55D-9515BCC68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53EBF6-C9F8-4F30-A793-D5D2F29F5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B44A82-6846-4D13-B3FC-4BA309474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7D528A-E52C-4F5B-AC23-BB030DD4D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B75D09-9746-421E-AE05-A65C1E1CA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B51A3B-A8AE-433D-A961-28BB137C8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7284E-264C-44CC-98CF-DD5654EC1D3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53019B-FE8B-4C8B-BD6F-D8369A6A3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666856-12C7-40B9-8626-3F585CCBC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5BD1AA-2981-4810-82CE-22BB202E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CABE5F-E3A1-4E9B-8321-823CA8405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92D042-9309-48FF-9605-978E59C46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401B7C-C87B-469F-8A97-EF5284DAA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359BDC-F4E4-4F3A-9670-A895C77A6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A8E5DF-18B3-4E3D-817B-D07308A97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A838F0-FDA4-4491-BACA-EBB608A60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7AAC72-9FD9-43E3-B322-C333616BE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D3E94-4DC8-41BF-8A79-27742FB9EEA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B65865-F4C3-4A60-B81E-42B2F3288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F29D47-013B-4C5D-AB96-4C735DCD7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ECA9A5-A48C-4255-B6F1-699985FD3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D80569-0F12-46CA-BA6A-FB9CB3230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DC7108-713F-4617-AFF6-AB3B0662D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861A89-2B8C-40BA-B7C0-262852AE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02F2E4-71AA-487F-B2AA-562BA83ED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E57262-8F18-4DC7-8209-B2E74B654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988FB8-BACA-4349-808D-67D6E67FD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A0DC1F5-ED68-4530-A7E6-E032957B5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53D70-69E3-4CF1-81E7-157D6B5E2C3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B992625-B8F6-43CD-A4BE-144915B4B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BBE0E9B-BC69-49BD-9EC3-9D00FA15E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041CB24-905F-412D-823B-5CB398B02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49E0C63-556B-4F9C-93EF-5EAEAF266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AB7166B-235D-4518-8098-E60063EA2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0E2AC03-2EC3-4CD0-9B70-7E5D8720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01F7943-55DB-4CC7-8A3E-F0E51F89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0F845F9-0EB1-45AD-8400-F1470449A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207ABDD-3D5D-4088-857E-F5F91B358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D5EAA89-5D14-44F4-A73F-E85E57D57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2E771-DD35-4A2C-8398-D5C89511CE6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7FACDDA-B781-48F8-9FA7-843BEE529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8695F29-63EB-4928-AB5C-2F6E9429E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D7F6461-9C91-42C1-B58B-CE640CD21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AD41813-0F1A-4757-B94D-86FADAF72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CAB33B0-4737-4264-9F37-D661D6069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BAED9D4-7BB3-4C37-9941-E7766E773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14277A5-A317-4629-8DDE-11430E540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D3829DA-39CD-4F93-9A51-CB24DF27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A2DB1DB-A932-4714-BD32-38ADE6AF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D4D7CAE-5DFA-4B69-B6B0-7048590A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A33B4-80EC-4DA8-A0F5-D66182C4FF9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47BA62B-0447-4F52-BAC7-BC8D1C7CF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94175C7-8F38-4EB6-8222-86334E0F6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66E1E00-3D36-49E5-B587-72B723293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C040164-E85C-43F9-982E-3F81B2F05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A1C37D8-7EB7-4BC2-9655-BC1B9C439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4879A62-8684-475A-A28B-642F1D397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50B0BA3-DBF0-47EC-962C-E334E7DCE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2D253A3-C591-478B-B573-357EC585A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2D44A31-EE72-49F5-8C39-20C31D2BD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3B8E7B4-69D8-45BB-BE9E-CEEF36D91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4CE45-A587-49EB-9309-AA5F2815BF0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4F1102A-5D9F-4733-A1D2-4EC477282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9088910-6D6D-48E1-A360-54976D1F6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F19B199-36A3-4796-960A-B1D4BC3B7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C4C601A-2403-453F-BA05-6FFD0EA27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B98F6DC-75F4-4DAA-B182-81A00F72C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1164CA6-8F99-4AE6-8D47-1DAE0A9ED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BC7CF22-A079-4660-B096-BB6D11C95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17A8A9A-FFCB-44B0-A050-58F63C118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6B47D6C-D6E5-48FF-8868-2B3C44BF6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DFF4F77-AFC2-40FF-A888-27BC10CF9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8D30F-BBD3-4831-8ED1-1236B83AD61A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0473152-9BC7-40C3-A5B0-D0B41B994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C2A4E65-6DA0-4427-BB1B-58CD984A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DB13A10-A206-4897-9A78-C9DDC5CE6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8CB16B7-402E-47E9-886D-5D1FF727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4BE0308-D458-4A00-9507-81C3AD0B3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4541A22-8EDD-448A-9094-0855D9E5B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85A8627-B77E-488C-9F6D-0C06FC18F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6C943E-3CCD-4EA2-9E2E-77AF84CE2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686F11-27CB-40C2-84FA-E2BD467E1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6740CD-7DB7-4056-9F83-BEA13D479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B47FB6-94B1-484D-8ACF-156006A7B7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5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395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00F715-C774-44E0-B042-B143E9C23619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26EFC5-2EA9-4A28-827C-CD03964439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6C7F42-1A8B-443B-B2FC-0A818AC90A25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3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078929-282A-42A8-9310-FB468D77F9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483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F07233-9874-41CC-9E38-ED670D2165D1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8B0C92-42C8-4471-9621-56DF010331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" descr="CMA_ppt_wDUI_front_bkgrnd"/>
          <p:cNvPicPr/>
          <p:nvPr/>
        </p:nvPicPr>
        <p:blipFill>
          <a:blip r:embed="rId2"/>
          <a:srcRect l="242" t="0" r="826" b="846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COHORT Logo by Toby Cisneros 2 16 2010"/>
          <p:cNvPicPr/>
          <p:nvPr/>
        </p:nvPicPr>
        <p:blipFill>
          <a:blip r:embed="rId3"/>
          <a:stretch/>
        </p:blipFill>
        <p:spPr>
          <a:xfrm>
            <a:off x="609480" y="457200"/>
            <a:ext cx="3733920" cy="19191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063437-B449-4EBD-A38B-B27F67FBEBB4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0EEAD3-204A-4399-9570-22D3A717C7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26304B-6BC3-4218-A9AA-5340404C9542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52B58E-D98D-4328-9A39-C07679592F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37729D-672D-4374-943B-7E287308A8DA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887111-7320-4C7C-907C-E8568C7525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BA81B6-F70E-4EF6-8FA5-728909511F92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C6DCA2-05FE-4036-A9D2-B0BC870F68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6209D3-43CE-424C-BBF4-BE4D599F9BAE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F667D1-1A4F-4CC3-A59F-C1215FC3D9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C8491C-61A3-4928-A4F2-65ED8ABF406A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5D2412-B8D0-4B00-B65C-6290091169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F4BF54-21BA-4BD2-923D-093C974973A0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A9D3BC-CA16-479E-B94F-A4C6BE9EF0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F0E7B7-874F-40D6-93B9-FEF8F494FB8E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CB85B5-F71D-47DF-8AA0-171ABA7645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G Senior Leadership Cohort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457200" y="48006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k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hard A. Be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sented January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4" descr="OPM Seal"/>
          <p:cNvPicPr/>
          <p:nvPr/>
        </p:nvPicPr>
        <p:blipFill>
          <a:blip r:embed="rId1"/>
          <a:stretch/>
        </p:blipFill>
        <p:spPr>
          <a:xfrm>
            <a:off x="3886200" y="32767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535" name="Rectangle 7"/>
          <p:cNvSpPr/>
          <p:nvPr/>
        </p:nvSpPr>
        <p:spPr>
          <a:xfrm>
            <a:off x="1055520" y="4003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ership Book 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57200" y="2626920"/>
            <a:ext cx="4038480" cy="23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rt and Science of De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ank Partno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Content Placeholder 5" descr="WAIT.jpg"/>
          <p:cNvPicPr/>
          <p:nvPr/>
        </p:nvPicPr>
        <p:blipFill>
          <a:blip r:embed="rId1"/>
          <a:stretch/>
        </p:blipFill>
        <p:spPr>
          <a:xfrm>
            <a:off x="5105520" y="1600200"/>
            <a:ext cx="312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ey Messages from this 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457200" y="1433520"/>
            <a:ext cx="822960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Dec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just about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need as much data a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l at making/implementing dec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more time gather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d vs. he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ic Thinking &amp; Planning prepare us to make good decisions. (Training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novation is a long process (Post-its® 12 ye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night Wonders – built on years of hard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ample from this 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2885760" y="1271520"/>
            <a:ext cx="2963880" cy="6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tting a ba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Straight Connector 4"/>
          <p:cNvSpPr/>
          <p:nvPr/>
        </p:nvSpPr>
        <p:spPr>
          <a:xfrm>
            <a:off x="736560" y="2340000"/>
            <a:ext cx="6797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4" name="Straight Arrow Connector 8"/>
          <p:cNvCxnSpPr/>
          <p:nvPr/>
        </p:nvCxnSpPr>
        <p:spPr>
          <a:xfrm flipV="1">
            <a:off x="736200" y="2339280"/>
            <a:ext cx="1080" cy="453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5" name="Straight Arrow Connector 10"/>
          <p:cNvCxnSpPr/>
          <p:nvPr/>
        </p:nvCxnSpPr>
        <p:spPr>
          <a:xfrm flipV="1">
            <a:off x="3207960" y="2339280"/>
            <a:ext cx="1080" cy="453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6" name="Straight Arrow Connector 11"/>
          <p:cNvCxnSpPr/>
          <p:nvPr/>
        </p:nvCxnSpPr>
        <p:spPr>
          <a:xfrm flipV="1">
            <a:off x="7534080" y="2339280"/>
            <a:ext cx="1080" cy="453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7" name="Straight Arrow Connector 12"/>
          <p:cNvCxnSpPr/>
          <p:nvPr/>
        </p:nvCxnSpPr>
        <p:spPr>
          <a:xfrm flipV="1">
            <a:off x="5729040" y="2339280"/>
            <a:ext cx="1080" cy="453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48" name="TextBox 13"/>
          <p:cNvSpPr/>
          <p:nvPr/>
        </p:nvSpPr>
        <p:spPr>
          <a:xfrm>
            <a:off x="5729400" y="2587680"/>
            <a:ext cx="18050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c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0.1 se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horter for st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Box 14"/>
          <p:cNvSpPr/>
          <p:nvPr/>
        </p:nvSpPr>
        <p:spPr>
          <a:xfrm>
            <a:off x="3676680" y="2587680"/>
            <a:ext cx="148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p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nalyz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0.2 se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Box 15"/>
          <p:cNvSpPr/>
          <p:nvPr/>
        </p:nvSpPr>
        <p:spPr>
          <a:xfrm>
            <a:off x="1112760" y="2587680"/>
            <a:ext cx="16257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Gather Da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0.2 se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ame for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16"/>
          <p:cNvSpPr/>
          <p:nvPr/>
        </p:nvSpPr>
        <p:spPr>
          <a:xfrm>
            <a:off x="639720" y="4129200"/>
            <a:ext cx="790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we can reduce the “Action” time, we have more time to analyze the data about the trajectory and spin before making the decision (e.g. To Swing or no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2" name="Straight Arrow Connector 18"/>
          <p:cNvCxnSpPr/>
          <p:nvPr/>
        </p:nvCxnSpPr>
        <p:spPr>
          <a:xfrm>
            <a:off x="736200" y="1958760"/>
            <a:ext cx="118980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53" name="TextBox 19"/>
          <p:cNvSpPr/>
          <p:nvPr/>
        </p:nvSpPr>
        <p:spPr>
          <a:xfrm>
            <a:off x="972000" y="15890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16"/>
          <p:cNvSpPr/>
          <p:nvPr/>
        </p:nvSpPr>
        <p:spPr>
          <a:xfrm>
            <a:off x="971640" y="5184720"/>
            <a:ext cx="7381800" cy="947160"/>
          </a:xfrm>
          <a:prstGeom prst="rect">
            <a:avLst/>
          </a:prstGeom>
          <a:solidFill>
            <a:srgbClr val="bbe0e3"/>
          </a:solidFill>
          <a:ln w="2844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reduce leadership “Action” ti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ic Thinking, Planning, &amp;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otes I Would Like To Sh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re biologically wired to act quickly; the essence of intelligence is learning when to slow down the process to think and act slowly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we think about our decisions as stories we will have to tell to an expert, we will be more likely to get our timing and decision right.” (Partnoy quoting a physicia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otes I Would Like To Sh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ssence of my case is this: given the fast pace of modern life, most of us tend to react too quickly. For good decision makers, time is more flexible…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both an art and a science to managing delay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This Book Meant To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have many of the symptoms of a serial procrastinator. (Maybe not all bad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ments change frequently during a requ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put requested with excess lead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’t provide your best “produc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shes aside truly urgent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s a culture of “push back” even when a good decision is avail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This Book Meant To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457200" y="1395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judgment depends on allowin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oug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necessary mental processing to occur. A decision may appear to be spontaneous, but prior experience is almost always a factor – in any time fr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requesting a decision up or down the chain, prime with as much info as possible to get thought process start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ig lesson for me: The variability in timing for different situations. One size doesn’t fit 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6T12:32:45Z</dcterms:created>
  <dc:creator>Trish Mooney</dc:creator>
  <dc:description/>
  <dc:language>en-US</dc:language>
  <cp:lastModifiedBy>richard.beyer</cp:lastModifiedBy>
  <cp:lastPrinted>2011-06-13T12:29:39Z</cp:lastPrinted>
  <dcterms:modified xsi:type="dcterms:W3CDTF">2013-01-15T21:12:15Z</dcterms:modified>
  <cp:revision>40</cp:revision>
  <dc:subject/>
  <dc:title>Leading with Impact</dc:title>
</cp:coreProperties>
</file>