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462FF-F360-47F0-9AB6-3A988287E5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59329-7BF0-48C8-A4C4-08C084ED78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8E02984-49A2-46BC-896D-7737518E6C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28F20D0-40DC-4ED1-BF5C-2A461AE26A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71CB65E-2874-43B8-949C-C7C03F4D3DD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B408835-3F22-4DD6-9AEF-CC0394E2EEB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8205ED8-5829-4164-8649-07C31C0882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4C5FA55-7E2D-469E-9E14-20D71F5646C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4787DE7-1BC9-4D7F-A677-7639A4EBAC5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8B52629-83D2-47FF-A6D3-C758507B596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75467A0-0343-4457-AEA2-DE0117298A2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F597CD0-E0BE-42B8-9887-A9573D52B4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D198B-F75D-49D0-9249-309D38148E7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DE91E00-B8DE-4EDA-8CBC-618989F5BF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934417C-8467-46D3-989D-28A6E9C99AC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8C34468-DAE6-4D81-A62B-B8FBC7DA916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40A35F-9E0A-47C6-8231-C6FDC7A1440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79DF9A1-0A11-430B-9912-9AF45E6484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501A9D-844E-4252-936F-8190822DF6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8C7A45E-FC4B-4AAD-8BDE-43D14B780D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CBEA906-2C91-4FD8-B9B2-FF17503B4D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5C9E95B-B5C8-4AB1-9A5A-A047E3352D5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F312214-1E8A-4385-A301-2FEA738014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2936A-C721-4CC2-9E9D-387B95AACF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1EC29D0-4C00-484B-97C7-D71A7A76FF3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0C054BD-6694-427F-A8C4-93047304E6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B084361-6E1F-4F50-A94D-0B022C5061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24F4B1B-9DB3-4AA4-BD72-2C608A1026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031D307-E446-47F6-BC96-DEE1ECB605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4F07C2C-E694-4743-83AC-5852918F8F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1830AF5-D60F-4768-8313-C30C3CF102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31F2B2C-4C51-4A2C-99E9-C17EF729D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0A7C7E9-FC26-41A6-9CBF-C251965D40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A1DE4C7-25DA-49BE-978E-42521248E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80BCFA-F4A9-46E9-8EC8-6299D0C8C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0483A11-230B-4F77-AB1B-6FBB2A2B96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A9CE343-4E24-444C-B3E2-2754786B1D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3D2F831-286B-4391-91D3-7BAED8914E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8DC133B-68D5-40D6-8F84-E9C686F149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F18E3B9-BF4F-49DC-88D8-4383AEA611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FBC2D4D-8FBA-445A-9B45-BC7AF61535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D4A3DF0-E336-484D-814E-0CB5B5123D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16D9632-0DB4-4AD9-B37D-C6ADA8F637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D06ADE5-640F-414E-BDA5-762EAFDDF4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116A0F-6F85-4AE4-81DE-ADEEE860F0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04EF36-DA10-46AC-B0A6-7752F32D4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07208E8-F068-4210-9794-AEC9B02E46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7B0E6F5-762C-4028-817A-9B2D881AE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BF887DD-6D52-4A62-B8B0-9587F0E9C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A3B4643-4248-4FD5-A7FD-4514DEF87D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4D2A330-3787-4011-A22E-C061896D49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078C6A-6C09-4586-B8F5-77A40C6BF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9979FD-0D59-44DD-9CAF-512461130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C232BE-69A5-48D8-8ABD-44CFC8FED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DCAA34-5FBF-4D00-BB0A-20EC5C3D5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136FA3-6109-4694-AB9C-312B5E48B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AAB69-760A-4D5F-AFA0-C4E92ECA35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954BF8-A06D-44F5-8916-186833668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F3B05B-0F6C-4B47-9B78-7196515C6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FB8DAB-396D-4F5B-B7AE-202AB90C0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2EDBF7-CC77-44EC-9401-886515CB4F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9E1779-02DE-461A-A60C-5F060BB4E7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3DF2A3B-36E5-492C-A17A-7FDCBF0234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3C56FA-FEEA-474D-AD52-3030203A34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3E6711-5E70-412C-9CC9-5618371AC6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A689D4-C901-4746-8A23-01A8C416B4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2E5D28-0B5D-4532-BD68-7F3FDC2BF2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9B450-074D-4B7F-8591-F490009A3F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005E8DC-FEE3-48B7-8A87-A5F604B471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5C03E7-59D4-4C22-8A4B-4ED89A0AD2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CCA6F3-FB69-466C-9A53-F70E6A5CAA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5A507D-6563-45D5-AF43-8F58F71644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7681325-1A12-4CAB-B0E7-69AFD6C3E3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830E54A-643F-4860-8EDF-75A190526D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0C02A84-A60E-469D-B1DD-4A27C0D154D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A47551B-C2EF-450B-A5BE-D30E653B54F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0A50D10-EC09-45B9-BB90-96E4309664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0CA5B1-5663-48B6-877F-AA6A187F88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0CED1-5A5B-4E34-9043-8D986A1A686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EC4CB6-FFFF-4DE4-9167-63B6A843813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7E9F50-652E-4129-ACA8-036B6F87E73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2BA02B8-31C9-423E-BDB6-504B73DBC2D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147823-4FCD-406B-9B84-7BB4B930FB1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B0CB0A1-FA35-419B-9F51-1058FDCB5D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E65FB7-32BE-4B1B-86DE-104E4522A6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E132B2B-D5BA-4195-8B14-2976D7A1C7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F5AD613-6802-4B00-98DB-2565C2F388A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F16B1C1-B4EF-4A84-8450-AA5AAA30E4D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3B6276C-46F4-41E6-8248-5BE48E0A0F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B6083D8C-D56E-4366-9D7E-E10029D5926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616411-2AA7-4B03-A3B6-DDA6054BBB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B49DF52-EF6B-4A90-8F57-D735BD3BD7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C02EA9F-5C6D-4264-8BE4-2FF08445F8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4F7100B-8380-45BF-BB70-3FB3CBF7D9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08CDFD-2B7D-4C79-9CB8-0F5129E23C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7FA9BF-1F86-469F-B1E7-490A4FAA52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5463CC-5C02-44EC-94BD-26B2A012D0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A0CC8E-B3DE-482C-972C-1BE5CF3A374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FB6FFAE-349B-4E30-B7ED-C64523615E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94B4093-62EB-4607-BE89-10E6B4E3D02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C1DE1D-975C-4C48-9654-0463E91A1E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A9F2737-B292-4E09-9FAD-9101B10B129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8555B6C-6164-4ABA-A165-C8696138873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205BF15-539E-479C-9A39-EEAEDC9BEF9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C622A0C-3D9F-444B-90BC-8426682AB74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A510439-718F-42D2-9519-2F96DBD2CE2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A769549-BBC4-4104-B8C6-0C9443715B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ACA75DD-F74C-4CB6-A652-099545656E5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341ED4D-8FB4-4BB2-83DA-4D5083D8F98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BCBF02-7224-4120-9EDC-F95ECABB15C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3061AA-90DD-4ECE-ACB4-2352850AEA0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732B9-0B5E-4ABF-A582-742501BAEAA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8E1EBA3-ECBF-462B-84F3-CAE79787B4F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EFD1143-B2DF-4DDC-9867-2280EA04E8A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91E077C-5972-42C0-8ED7-14FB56C864B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35A765B-D9D0-4F98-B6E0-7A915809EEB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2161D4E-BFC0-4B49-95BB-24D72CCA4A2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043289B-B010-433E-B1AF-D7A960F862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B064F9-7EDE-4314-8118-83C574FE3E6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094E7D-D413-41FD-8E0C-80695CF576A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EA4C417-4A08-4AEA-AEA3-15048BA0B09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A23510-3989-47D3-B26E-1A57FE7A6E1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6AF57-57CB-407D-8F04-2B31A7B041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198685-D13D-4E4E-AF54-298E30D1685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973CD88-F372-4654-8F06-C19ED98225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2E7B4D9-6F83-47EA-A743-1ABC0FDA40A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1319255-E66E-42C1-9F71-121D08E8028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F98A9F3-352F-4570-84A1-54949290D0A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1EAE1B5-BCFA-4EC4-B117-676DBA158C1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4971738-139C-4693-8855-A96ED783E33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910DC9C-BBED-407A-BD15-95268625AD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453190B-21A8-456F-AE9C-2BE3F04B0CF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80CA5D5-815A-48CE-83BD-3085EBFD957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351C7-6C77-439A-97B9-F3D9AB3DE3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42ADBA-8BE0-444C-9F69-DCBD236276C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1C6B68-70BF-47F5-BCF9-F80AB74DC72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5CC5A01-DFBE-4F97-9670-CBEE4BF05D3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F02F70-78D8-4248-AE52-9E9EF0D641E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8D21F84-1585-4832-A35A-C17EEF58324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DCE032B-EDE3-45E9-99C3-E45801C38DD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B7348CC-4EDC-4229-8359-4CD4E9F0BFA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EE21CBA-162E-4427-9884-5BF218E8BA0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4CE52B9-5613-4D97-9C6E-AE0B21295E3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790FC76-4F23-42CF-9B40-269CFF23093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C185D-A5C0-4F77-839A-64D0F1461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CA29B-91AA-4179-B241-F5A4550070F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98595-5473-4436-9035-E43E791EC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3DF8D-DBC0-4A39-A608-E98E02C5F0E0}"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FBDE5-03F3-4C45-AF5A-48BCB93FF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42767-69D4-43F9-B0AB-577063FF4BFC}"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13C6D-2408-4FDD-801B-AA2571700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7202A-6171-4822-972C-F57C54A099CA}"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40299-82E4-4C40-86F9-6BC6BBE5A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DA6D8-97B6-433E-92D0-2833684517A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F5449-A754-413B-A46D-9FF82B943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128AD-312A-481A-A22D-AB2D36EA83A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21EFC-41EB-47D5-943C-72EF0F823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D4F86-6E09-4003-A2E9-0D01019C0FD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69611-772A-4FAA-B4EF-848E3EEB6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8B087-AE3E-400C-8AE4-B74EE70735C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A82E7-7CC7-4485-B908-D5DE7E16B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6EA6B-AA16-46A6-8868-FBFD1863F90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2B6DB-490B-4AA8-899D-4C7D8BD4A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0E74E-19AE-49DE-A383-FCF58529DD94}"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EAB10-95D8-4A96-9D58-F121EEE70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B2A9D-52D8-461F-A5EC-5F569D967158}"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71FFC-B515-4703-B47E-338CEC0A5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2057040"/>
            <a:ext cx="78915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G Senior Leadership Cohort Program 2012-13</a:t>
            </a:r>
            <a:endParaRPr b="0" lang="en-US" sz="26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en Bowen</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8, 2012</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resentation</a:t>
            </a:r>
            <a:endParaRPr b="0" lang="en-US" sz="2400" spc="-1" strike="noStrike">
              <a:solidFill>
                <a:srgbClr val="000000"/>
              </a:solidFill>
              <a:latin typeface="Arial"/>
            </a:endParaRPr>
          </a:p>
        </p:txBody>
      </p:sp>
      <p:sp>
        <p:nvSpPr>
          <p:cNvPr id="527"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8" name="Picture 2" descr="http://t3.gstatic.com/images?q=tbn:ANd9GcTn60Mh2vlGRTvk-IB74uixlc6QnfNLRqujZ5aDRmf8fVGgNezkbQ"/>
          <p:cNvPicPr/>
          <p:nvPr/>
        </p:nvPicPr>
        <p:blipFill>
          <a:blip r:embed="rId1"/>
          <a:stretch/>
        </p:blipFill>
        <p:spPr>
          <a:xfrm>
            <a:off x="3408480" y="2882880"/>
            <a:ext cx="2363760" cy="30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573440" cy="4525920"/>
          </a:xfrm>
          <a:prstGeom prst="rect">
            <a:avLst/>
          </a:prstGeom>
          <a:noFill/>
          <a:ln w="0">
            <a:noFill/>
          </a:ln>
        </p:spPr>
        <p:txBody>
          <a:bodyPr anchor="t">
            <a:norm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e Girls Don’t Get the Corner Office</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Lois P. Frankel </a:t>
            </a:r>
            <a:endParaRPr b="0" lang="en-US" sz="2800" spc="-1" strike="noStrike">
              <a:solidFill>
                <a:srgbClr val="000000"/>
              </a:solidFill>
              <a:latin typeface="Arial"/>
            </a:endParaRPr>
          </a:p>
        </p:txBody>
      </p:sp>
      <p:pic>
        <p:nvPicPr>
          <p:cNvPr id="531" name="Picture 6" descr="http://www.hachettebookgroup.com/_images/ISBNCovers/Covers_HiRes/9780446693318_1681X2544.jpg"/>
          <p:cNvPicPr/>
          <p:nvPr/>
        </p:nvPicPr>
        <p:blipFill>
          <a:blip r:embed="rId1"/>
          <a:stretch/>
        </p:blipFill>
        <p:spPr>
          <a:xfrm>
            <a:off x="4668840" y="981000"/>
            <a:ext cx="3994200" cy="582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6840" y="1410840"/>
            <a:ext cx="8350200" cy="4714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TAKE #4: Doing the Work of Others</a:t>
            </a:r>
            <a:endParaRPr b="0" lang="en-US" sz="2000" spc="-1" strike="noStrike">
              <a:solidFill>
                <a:srgbClr val="000000"/>
              </a:solidFill>
              <a:latin typeface="Arial"/>
            </a:endParaRPr>
          </a:p>
          <a:p>
            <a:pPr marL="322200" indent="-322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have a tendency to take responsibility for our work and the work of others.  We often say, “if I don’t do it, no one else will”! While women are doing the grunt work, men are often out building their careers.</a:t>
            </a:r>
            <a:endParaRPr b="0" lang="en-US" sz="2000" spc="-1" strike="noStrike">
              <a:solidFill>
                <a:srgbClr val="000000"/>
              </a:solidFill>
              <a:latin typeface="Arial"/>
            </a:endParaRPr>
          </a:p>
          <a:p>
            <a:pPr marL="322200" indent="-322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ching Tip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OTD: Promotions are Rewards for Getting the Job Done, Not Necessarily Doing the Job</a:t>
            </a:r>
            <a:endParaRPr b="0" lang="en-US" sz="1800" spc="-1" strike="noStrike">
              <a:solidFill>
                <a:srgbClr val="000000"/>
              </a:solidFill>
              <a:latin typeface="Arial"/>
            </a:endParaRPr>
          </a:p>
          <a:p>
            <a:pPr marL="322200" indent="-3222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Picture 2" descr="http://www.coachingmums.com/wp-content/uploads/2012/09/overwhelmed-woman-cartoon-small.jpg"/>
          <p:cNvPicPr/>
          <p:nvPr/>
        </p:nvPicPr>
        <p:blipFill>
          <a:blip r:embed="rId1"/>
          <a:stretch/>
        </p:blipFill>
        <p:spPr>
          <a:xfrm>
            <a:off x="5291280" y="3005280"/>
            <a:ext cx="3292200" cy="2474640"/>
          </a:xfrm>
          <a:prstGeom prst="rect">
            <a:avLst/>
          </a:prstGeom>
          <a:ln w="0">
            <a:noFill/>
          </a:ln>
        </p:spPr>
      </p:pic>
      <p:sp>
        <p:nvSpPr>
          <p:cNvPr id="535" name="Rectangle 5"/>
          <p:cNvSpPr/>
          <p:nvPr/>
        </p:nvSpPr>
        <p:spPr>
          <a:xfrm>
            <a:off x="685800" y="3332160"/>
            <a:ext cx="4572000" cy="2076120"/>
          </a:xfrm>
          <a:prstGeom prst="rect">
            <a:avLst/>
          </a:prstGeom>
          <a:noFill/>
          <a:ln w="0">
            <a:noFill/>
          </a:ln>
        </p:spPr>
        <p:style>
          <a:lnRef idx="0"/>
          <a:fillRef idx="0"/>
          <a:effectRef idx="0"/>
          <a:fontRef idx="minor"/>
        </p:style>
        <p:txBody>
          <a:bodyPr lIns="90000" rIns="90000" tIns="46800" bIns="46800" anchor="t">
            <a:spAutoFit/>
          </a:bodyPr>
          <a:p>
            <a:pPr marL="174600" indent="-1746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op volunteering for low-profile, low impact assignments</a:t>
            </a:r>
            <a:endParaRPr b="0" lang="en-US" sz="2000" spc="-1" strike="noStrike">
              <a:solidFill>
                <a:srgbClr val="000000"/>
              </a:solidFill>
              <a:latin typeface="Arial"/>
            </a:endParaRPr>
          </a:p>
          <a:p>
            <a:pPr marL="174600" indent="-1746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cognize when people delegate inappropriately to you</a:t>
            </a:r>
            <a:endParaRPr b="0" lang="en-US" sz="2000" spc="-1" strike="noStrike">
              <a:solidFill>
                <a:srgbClr val="000000"/>
              </a:solidFill>
              <a:latin typeface="Arial"/>
            </a:endParaRPr>
          </a:p>
          <a:p>
            <a:pPr marL="174600" indent="-1746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se self-talk to replace guilt from saying n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br>
              <a:rPr sz="3600"/>
            </a:br>
            <a:r>
              <a:rPr b="0" lang="en-US" sz="1400" spc="-1" strike="noStrike">
                <a:solidFill>
                  <a:srgbClr val="000000"/>
                </a:solidFill>
                <a:latin typeface="Arial"/>
              </a:rPr>
              <a:t>Cont’d</a:t>
            </a:r>
            <a:endParaRPr b="0" lang="en-US" sz="1400" spc="-1" strike="noStrike">
              <a:solidFill>
                <a:srgbClr val="000000"/>
              </a:solidFill>
              <a:latin typeface="Arial"/>
            </a:endParaRPr>
          </a:p>
        </p:txBody>
      </p:sp>
      <p:sp>
        <p:nvSpPr>
          <p:cNvPr id="537" name=""/>
          <p:cNvSpPr txBox="1"/>
          <p:nvPr/>
        </p:nvSpPr>
        <p:spPr>
          <a:xfrm>
            <a:off x="390600" y="1398240"/>
            <a:ext cx="8601120" cy="1585800"/>
          </a:xfrm>
          <a:prstGeom prst="rect">
            <a:avLst/>
          </a:prstGeom>
          <a:noFill/>
          <a:ln w="0">
            <a:noFill/>
          </a:ln>
        </p:spPr>
        <p:txBody>
          <a:bodyPr anchor="t">
            <a:normAutofit fontScale="34000"/>
          </a:bodyPr>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TAKE #8: Waiting to Be Given What You Want</a:t>
            </a:r>
            <a:endParaRPr b="0" lang="en-US" sz="2000" spc="-1" strike="noStrike">
              <a:solidFill>
                <a:srgbClr val="000000"/>
              </a:solidFill>
              <a:latin typeface="Arial"/>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often feel like they're asking for too much, they’re doing something wrong if they have to ask, or they have no right to ask for what rightfully belongs to them.</a:t>
            </a: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252360" indent="-96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ie desired behavior to </a:t>
            </a:r>
            <a:r>
              <a:rPr b="1" lang="en-US" sz="1800" spc="-1" strike="noStrike">
                <a:solidFill>
                  <a:srgbClr val="000000"/>
                </a:solidFill>
                <a:latin typeface="Arial"/>
              </a:rPr>
              <a:t>Consequences </a:t>
            </a:r>
            <a:r>
              <a:rPr b="0" lang="en-US" sz="1800" spc="-1" strike="noStrike">
                <a:solidFill>
                  <a:srgbClr val="000000"/>
                </a:solidFill>
                <a:latin typeface="Arial"/>
              </a:rPr>
              <a:t>(not necessarily applicable here)</a:t>
            </a:r>
            <a:endParaRPr b="0" lang="en-US" sz="1800" spc="-1" strike="noStrike">
              <a:solidFill>
                <a:srgbClr val="000000"/>
              </a:solidFill>
              <a:latin typeface="Arial"/>
            </a:endParaRPr>
          </a:p>
          <a:p>
            <a:pPr marL="116640" indent="-11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2" descr="http://www.mscareergirl.com/wp-content/uploads/2010/09/getting-a-raise.jpg"/>
          <p:cNvPicPr/>
          <p:nvPr/>
        </p:nvPicPr>
        <p:blipFill>
          <a:blip r:embed="rId1"/>
          <a:stretch/>
        </p:blipFill>
        <p:spPr>
          <a:xfrm>
            <a:off x="6870600" y="2890800"/>
            <a:ext cx="1932120" cy="2894040"/>
          </a:xfrm>
          <a:prstGeom prst="rect">
            <a:avLst/>
          </a:prstGeom>
          <a:ln cap="sq" w="38160">
            <a:solidFill>
              <a:srgbClr val="000000"/>
            </a:solidFill>
            <a:miter/>
          </a:ln>
          <a:effectLst>
            <a:outerShdw dist="38183" dir="2700000" blurRad="0" rotWithShape="0">
              <a:srgbClr val="808080">
                <a:alpha val="43000"/>
              </a:srgbClr>
            </a:outerShdw>
          </a:effectLst>
        </p:spPr>
      </p:pic>
      <p:sp>
        <p:nvSpPr>
          <p:cNvPr id="539" name="Rectangle 5"/>
          <p:cNvSpPr/>
          <p:nvPr/>
        </p:nvSpPr>
        <p:spPr>
          <a:xfrm>
            <a:off x="403200" y="2890800"/>
            <a:ext cx="6467400" cy="324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aching Tips</a:t>
            </a:r>
            <a:endParaRPr b="0" lang="en-US" sz="20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parate being liked from getting what you deserve</a:t>
            </a:r>
            <a:endParaRPr b="0" lang="en-US" sz="20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refully choose your time for asking for what you want/deserve</a:t>
            </a:r>
            <a:endParaRPr b="0" lang="en-US" sz="20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entally prepare requests; considering using the “DESCript” model:</a:t>
            </a:r>
            <a:endParaRPr b="0" lang="en-US" sz="20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D= </a:t>
            </a:r>
            <a:r>
              <a:rPr b="1" lang="en-US" sz="1800" spc="-1" strike="noStrike">
                <a:solidFill>
                  <a:srgbClr val="000000"/>
                </a:solidFill>
                <a:latin typeface="Arial"/>
                <a:ea typeface="ＭＳ Ｐゴシック"/>
              </a:rPr>
              <a:t>Describe</a:t>
            </a:r>
            <a:r>
              <a:rPr b="0" lang="en-US" sz="1800" spc="-1" strike="noStrike">
                <a:solidFill>
                  <a:srgbClr val="000000"/>
                </a:solidFill>
                <a:latin typeface="Arial"/>
                <a:ea typeface="ＭＳ Ｐゴシック"/>
              </a:rPr>
              <a:t> why you’re having the conversation</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E= </a:t>
            </a:r>
            <a:r>
              <a:rPr b="1" lang="en-US" sz="1800" spc="-1" strike="noStrike">
                <a:solidFill>
                  <a:srgbClr val="000000"/>
                </a:solidFill>
                <a:latin typeface="Arial"/>
                <a:ea typeface="ＭＳ Ｐゴシック"/>
              </a:rPr>
              <a:t>Explain</a:t>
            </a:r>
            <a:r>
              <a:rPr b="0" lang="en-US" sz="1800" spc="-1" strike="noStrike">
                <a:solidFill>
                  <a:srgbClr val="000000"/>
                </a:solidFill>
                <a:latin typeface="Arial"/>
                <a:ea typeface="ＭＳ Ｐゴシック"/>
              </a:rPr>
              <a:t> in behavioral terms how you see the situation</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S= </a:t>
            </a:r>
            <a:r>
              <a:rPr b="1" lang="en-US" sz="1800" spc="-1" strike="noStrike">
                <a:solidFill>
                  <a:srgbClr val="000000"/>
                </a:solidFill>
                <a:latin typeface="Arial"/>
                <a:ea typeface="ＭＳ Ｐゴシック"/>
              </a:rPr>
              <a:t>Show</a:t>
            </a:r>
            <a:r>
              <a:rPr b="0" lang="en-US" sz="1800" spc="-1" strike="noStrike">
                <a:solidFill>
                  <a:srgbClr val="000000"/>
                </a:solidFill>
                <a:latin typeface="Arial"/>
                <a:ea typeface="ＭＳ Ｐゴシック"/>
              </a:rPr>
              <a:t> that you’ve heard what’s been said and </a:t>
            </a:r>
            <a:r>
              <a:rPr b="1" lang="en-US" sz="1800" spc="-1" strike="noStrike">
                <a:solidFill>
                  <a:srgbClr val="000000"/>
                </a:solidFill>
                <a:latin typeface="Arial"/>
                <a:ea typeface="ＭＳ Ｐゴシック"/>
              </a:rPr>
              <a:t>Specify</a:t>
            </a:r>
            <a:r>
              <a:rPr b="0" lang="en-US" sz="1800" spc="-1" strike="noStrike">
                <a:solidFill>
                  <a:srgbClr val="000000"/>
                </a:solidFill>
                <a:latin typeface="Arial"/>
                <a:ea typeface="ＭＳ Ｐゴシック"/>
              </a:rPr>
              <a:t> what you want to see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txBox="1"/>
          <p:nvPr/>
        </p:nvSpPr>
        <p:spPr>
          <a:xfrm>
            <a:off x="402840" y="1464840"/>
            <a:ext cx="8534520" cy="4599000"/>
          </a:xfrm>
          <a:prstGeom prst="rect">
            <a:avLst/>
          </a:prstGeom>
          <a:noFill/>
          <a:ln w="0">
            <a:noFill/>
          </a:ln>
        </p:spPr>
        <p:txBody>
          <a:bodyPr anchor="t">
            <a:norm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TAKE # 50: Being Modes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taught as children to embrace modesty, but women often take this lesson way too far.  Making things look easy and seamless when they actually require “Herculean” efforts isn't a great marketing technique!</a:t>
            </a:r>
            <a:endParaRPr b="0" lang="en-US" sz="20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ching Tip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ase “oh, it was nothing” from your vocabulary</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ze opportunities to report accomplishments w/ phrases like, “it took everyone on the team working long hours and weekend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an “atta gal” file; forward notes of appreciation and acknowledgement to your mana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1" name="Picture 4" descr="http://www.best-of-web.com/_images_300/Vintage_People_Cartoon_Woman_Working_in_an_Office_101210-203312-287042.jpg"/>
          <p:cNvPicPr/>
          <p:nvPr/>
        </p:nvPicPr>
        <p:blipFill>
          <a:blip r:embed="rId1"/>
          <a:stretch/>
        </p:blipFill>
        <p:spPr>
          <a:xfrm>
            <a:off x="561960" y="3487680"/>
            <a:ext cx="2006640" cy="2389320"/>
          </a:xfrm>
          <a:prstGeom prst="rect">
            <a:avLst/>
          </a:prstGeom>
          <a:ln w="9360">
            <a:solidFill>
              <a:srgbClr val="000000"/>
            </a:solidFill>
            <a:miter/>
          </a:ln>
        </p:spPr>
      </p:pic>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br>
              <a:rPr sz="3600"/>
            </a:br>
            <a:r>
              <a:rPr b="0" lang="en-US" sz="1400" spc="-1" strike="noStrike">
                <a:solidFill>
                  <a:srgbClr val="000000"/>
                </a:solidFill>
                <a:latin typeface="Arial"/>
              </a:rPr>
              <a:t>Cont’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8" descr="http://i.dailymail.co.uk/i/pix/2008/09/04/article-0-0286FB5C00000578-740_468x650.jpg"/>
          <p:cNvPicPr/>
          <p:nvPr/>
        </p:nvPicPr>
        <p:blipFill>
          <a:blip r:embed="rId1"/>
          <a:stretch/>
        </p:blipFill>
        <p:spPr>
          <a:xfrm>
            <a:off x="5383080" y="1639800"/>
            <a:ext cx="3407040" cy="4734000"/>
          </a:xfrm>
          <a:prstGeom prst="rect">
            <a:avLst/>
          </a:prstGeom>
          <a:ln w="0">
            <a:noFill/>
          </a:ln>
        </p:spPr>
      </p:pic>
      <p:sp>
        <p:nvSpPr>
          <p:cNvPr id="54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My Assessment</a:t>
            </a:r>
            <a:endParaRPr b="0" lang="en-US" sz="3600" spc="-1" strike="noStrike">
              <a:solidFill>
                <a:srgbClr val="000000"/>
              </a:solidFill>
              <a:latin typeface="Arial"/>
            </a:endParaRPr>
          </a:p>
        </p:txBody>
      </p:sp>
      <p:sp>
        <p:nvSpPr>
          <p:cNvPr id="545" name=""/>
          <p:cNvSpPr txBox="1"/>
          <p:nvPr/>
        </p:nvSpPr>
        <p:spPr>
          <a:xfrm>
            <a:off x="574560" y="1379160"/>
            <a:ext cx="8229600" cy="4994280"/>
          </a:xfrm>
          <a:prstGeom prst="rect">
            <a:avLst/>
          </a:prstGeom>
          <a:solidFill>
            <a:srgbClr val="ffffff">
              <a:alpha val="72000"/>
            </a:srgbClr>
          </a:solidFill>
          <a:ln w="0">
            <a:noFill/>
          </a:ln>
        </p:spPr>
        <p:txBody>
          <a:bodyPr anchor="t">
            <a:normAutofit/>
          </a:bodyPr>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thor attributes women’s inability to achieve their career goals to the “girlish” and “ladylike” behaviors we were taught, adopted </a:t>
            </a:r>
            <a:endParaRPr b="0" lang="en-US" sz="2100" spc="-1" strike="noStrike">
              <a:solidFill>
                <a:srgbClr val="000000"/>
              </a:solidFill>
              <a:latin typeface="Arial"/>
            </a:endParaRPr>
          </a:p>
          <a:p>
            <a:pPr marL="228600" indent="-2286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8600" indent="-2286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y opinion: Career sabotage is more likely associated with untimely exhibition of these behaviors, rather than embracing them</a:t>
            </a:r>
            <a:endParaRPr b="0" lang="en-US" sz="21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ed awareness of some behaviors inherent to most women</a:t>
            </a:r>
            <a:endParaRPr b="0" lang="en-US" sz="21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insightful recommendations for modifying our behaviors and shaping our careers </a:t>
            </a:r>
            <a:endParaRPr b="0" lang="en-US" sz="21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6" name="Rectangle 4"/>
          <p:cNvSpPr/>
          <p:nvPr/>
        </p:nvSpPr>
        <p:spPr>
          <a:xfrm>
            <a:off x="2205000" y="2295360"/>
            <a:ext cx="457200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Book Antiqua"/>
                <a:ea typeface="바탕"/>
              </a:rPr>
              <a:t>“</a:t>
            </a:r>
            <a:r>
              <a:rPr b="1" i="1" lang="en-US" sz="1800" spc="-1" strike="noStrike">
                <a:solidFill>
                  <a:srgbClr val="000000"/>
                </a:solidFill>
                <a:latin typeface="Book Antiqua"/>
                <a:ea typeface="바탕"/>
              </a:rPr>
              <a:t>One reason why women stay in their place of girlhood is because we’ve been taught that acting like a girl- even when we’re grown up- isn’t such a bad 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8" name=""/>
          <p:cNvSpPr txBox="1"/>
          <p:nvPr/>
        </p:nvSpPr>
        <p:spPr>
          <a:xfrm>
            <a:off x="457200" y="1458720"/>
            <a:ext cx="8229600" cy="47876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 successful workplace relationship … is one where you clearly define what you have to offer and what you need or want from the other pers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Missed opportunities … arise from being reluctant  to showcase your capabilities… and working so hard that you forget to build the relationships necessary for long-term succes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QOTD: Promotions are Rewards for Getting the Job Done, Not Necessarily Doing the Job”</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4"/>
          <p:cNvSpPr/>
          <p:nvPr/>
        </p:nvSpPr>
        <p:spPr>
          <a:xfrm>
            <a:off x="2362320" y="2743200"/>
            <a:ext cx="4643280" cy="1438200"/>
          </a:xfrm>
          <a:prstGeom prst="rect">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Black"/>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3-02-01T16:21:02Z</dcterms:modified>
  <cp:revision>44</cp:revision>
  <dc:subject/>
  <dc:title>Leading with Impact</dc:title>
</cp:coreProperties>
</file>