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26AE-415F-4615-9199-01554ABD9B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82030-D6CB-4861-89AD-48F7C96CB6A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91DC71-CD7C-4980-A3E1-6AC1DEB3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FB1B18-ECC4-478B-96FF-83C3EB44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E2DFD0-AC2C-49ED-89C5-D605A08A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B32C60-5780-4EBF-A1F4-11CF9995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66F8FD-D4DE-4DDE-98A8-D17AB1AC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3DF02A-FAF1-4CD1-A879-0394FBAB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22D634-CD82-4FF2-BDA6-B02098AB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FB0ECE-C017-4350-9B57-6622CD38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453C66-195B-4F6A-9D4B-16BC2C22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DA7968-5078-456A-AB51-9AA69FA9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DF7AB-F679-4AC6-A1EF-DEF102FAB6A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343556-0D9B-4B95-BA91-144A94DE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6729CD-8F6A-4620-A067-B1F00D4D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C552E4-EE24-4732-866F-5AC0D12B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7C267B-5F13-49CD-84D8-02BD3C0F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A27751-5B96-4A74-A576-FAE78ED5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F1342C-79EA-4150-AEE9-48C9F449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14C2E7-ED03-4F67-959E-C33B33A8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6493CF-B884-44FC-B2DF-522933F2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B46D34-21F2-4529-9BF0-21377AC1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8B0C81-B2D7-4044-8010-415BB59F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975FC-0613-4FDD-AEEE-4E4D3862425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0AA9E7-1C66-40B0-9737-DFA5DD9D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7527146-3811-4362-95ED-99F08B24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F46C131-F044-4506-8BC8-DD79BA0E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8BA0B4-92E3-4D0C-AF53-B81155CE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1EB264-4E81-489B-809B-A34BA58F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7D5A50-2BD8-4CDF-807C-08FB7E56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F17084-AEE2-4EAD-B98D-20AB0882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716DFB-EA56-4F76-9CED-EE9D35D7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53EF6A-A947-4A67-BDFC-D15BBECD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89D915-2186-4DDE-BB80-C237AC36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79CC8-EAC5-4C40-8100-74B58532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6A69FB-018F-43F9-824D-998061C4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E781A5-78FD-4AB4-8DE8-28F9C7D1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63F0F8-F974-4946-9E73-6F1647B6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A4E671-08A5-4B18-9944-ABF2D686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0DB279-B0D5-4906-92B2-F6A0DCB1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DD314D-984C-4F7A-91B9-D22B9CD6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B13E6D-8F87-4347-94BF-DB8BD94A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BE255E-E03F-4527-93C8-9BBE44C3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18400E-3875-4439-8039-2EC6ECE4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37ADDC-0AB5-4624-84FC-22FFD34E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ADF9E-5B3D-405E-8A7C-7C672617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5D3CD1-2BDE-4E7D-BAF4-C621DF4A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9566DB-F897-4798-AECD-E3CE0AC8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9ECC9C-7343-43C8-A7A4-7D57A824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45BF97-EF31-4AC2-BE38-81D53807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C5E526-16DC-4327-A7CD-95A421B9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828BB-D007-40EF-85D4-82CBD752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3B45F-2A46-4334-9F79-68FA3B63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90772-066D-4C38-AB4C-A78A85B9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0788E-C42C-4330-B573-F4BAA2F9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7D1AE-3EC5-43E7-9BAE-B4C21A27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898F-9885-4F0A-A7EB-14EE50C3D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C1D84-63BB-436B-BE45-B3621063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A0302-34FE-413F-A6EF-CFB5E0CB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617B2-1EE9-4769-B341-CD56EB65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4FC61-1151-4A09-83AE-78E4714B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21530-BE7B-48B7-9AAF-09B86348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035EDC-DB93-4B20-A558-4A20A5CA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C8F809-171E-426F-8BFC-222F0B38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1518C6-C80D-4095-93F7-96EA8193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FD28FD-37F2-4DC3-97D4-AD08989A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BA1920-07F0-4A35-81BD-4DB87E88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13F7E-F9EE-4FF4-8987-DEE5ED69BD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7094E1-ED3B-4A79-A43A-A4F1F88A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E6304E-15A7-4866-AD6D-BE510BFC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12F8E5-18F3-4924-AE07-57198050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D3218C-05BB-436D-9590-EC6AB4E3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EC78CE-B699-49E9-94E6-8B67692D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EF8E67-D83C-46A6-A04A-2DD36436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2F2F86-D339-4F7B-8569-5DF10F52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D7F4BB-EFCC-4DF9-B676-9B42692E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AD8AC4-13D2-4B78-A55B-BC2ECE64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FDD080-1A1B-43E1-99DA-AA79B23B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E4F7A-511F-44C7-87BE-9E29FF67D3C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B0BDA0-7017-4AFA-9455-3C83410D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5609AC-82EF-44BE-8AC8-782FFDCC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6789A4-6177-4EBD-8412-11FEADE1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3D3BA9-4B18-4F16-9252-7B8CFB13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29EE43-79F9-4322-A08D-E835C430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CAE76C-B152-4A34-93CB-D3D0B6A1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F92B8A-925D-4186-8CDF-28C2D2E7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C65F85-8E8E-48F4-AEAE-16D4D91D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C82A0E-F7BE-4FDB-9CEC-33F97310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F2591E-DB88-4513-AEF1-5FAEA720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C0F9-30C6-4795-9CBC-E955AC0B847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3B042F-889F-4F8F-A5C7-7B467952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74F37E-71AA-47D6-A4AE-0BDDCD29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C0BC82-B153-4529-A4C2-B794F8D2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75353C-661B-4C72-9E01-757AD242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285B33-0174-495B-925A-74D3E19D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02197B-47B5-4EFE-B717-FB0658E0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20DFC7-C5DE-4CE2-AE83-39147AFC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E91035-6BB1-46AD-B6AD-CC6B768A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C38BA0-F514-427C-B8C3-16111A0B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86EC15-1DA7-4F29-B38D-74315E54D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C5C3D-0495-419A-943F-889B2FF6A90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8DA62F-EE38-4515-929F-0D28C709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D5EDF0-58FB-48BB-9E24-2E77D410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278A91-4138-4152-B736-B9BC9EA2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A7E996-726E-4C1B-B0B9-6B78497D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51543B-A886-453A-8835-974E0E96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28BCB4-B133-42F2-BFCE-77CF2D1A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5FA8BA-F42E-4F8D-BE24-B287EC46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8A5E12-A81A-4E38-9366-9A83DE54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F76F0C-E6EF-45E1-A5F3-193EE87B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DB49D1-9DF5-42C4-B927-0D4A1A70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F5A72-6ABA-4180-9C0F-9C2B4C87C20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7511BD-BFC8-4055-9616-0AABC78D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8F4255-CDB8-45AA-ABD7-EADE2FB2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EAE50F-9586-4AE2-B573-31DB3C0C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C661AF-15CD-4E3B-8A86-467486C86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890566-798E-4D77-BDE7-1F19BA42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CF84A0-E87C-4E5A-B94A-5F7E506D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C9CDDA-34C4-4B91-9ED3-64B68EDC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E668DE-3BC9-453E-BF4F-C1C5B027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A5DBB8-9DDC-4864-ADF4-39170136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73CCFB-E00E-4855-99CA-A7164A43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74E86-0D2C-48DD-8C8A-E31E2ED134A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E21FB7-C047-4C2C-8479-7C4DA048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652FDA-4A32-4339-92AD-C58410C8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B9A934-F593-4DAC-B916-CC51A4DF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08FE81-6960-422F-BF94-32E0BBB4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A16BA4-078C-48F6-A140-D4DECA18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26EB39-EFBF-4F6F-A7C9-85B37D23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C78C05-8EAB-4CEC-9ACF-89F52E53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10F5C5-3507-40F0-860C-4E2EE70D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DF3D84-016C-4069-82D1-1129DF7E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29D3A1-4D1E-45A9-AC17-1CBFEE47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E4AD-6DD8-47EB-8736-C52E7F179E3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F7ED33-7963-42FD-A170-94C0EBFC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0D1420-001F-4064-9A2D-D47E2624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7FE192-B126-47D0-A7B1-56A4AFD2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92AE18-3D46-443B-8FAD-B5164947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0CAAC8-5443-4DBD-B64E-F992CE59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176865-B555-4FC4-8207-A0A9AE86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9D9709-FEF9-4990-9ACD-48F2CC51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76201F-2EE9-4660-8099-15B39BF5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96628D-2A9B-46B2-8891-CAEB00D8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6F49BB-2CA3-425A-AEF6-1053DD7A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303081-0E13-4668-A4D2-C3ED83C12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FC14D-6223-4E8A-A7CD-96F0AC54829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0FB820-2051-4A78-A27C-E1CBD01AA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4E56E-FAC2-4DB1-AF28-09B3DFB4171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7B3B4F-AF7C-4B0C-A006-B34BE7CDE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DB067C-FDAF-474C-AE4B-7DEB43EBB8B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69A11-D729-46C5-8133-7962FDB84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2" t="0" r="826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05A9A5-81C3-49A2-BB45-AA86E0419D6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7DFECB-5C0D-4B4B-AA52-CC7FBF4A8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AF4F95-7F82-460A-834F-A841ECB6E9A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9DAF7E-AD6B-4717-AAA2-922CB743F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B502E-5CA3-4123-BB3D-D7BABE08934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78A84-022D-469E-B54E-43A3579D7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E89FA3-D5CF-4309-B826-62D37792DAE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4915E-62DF-4223-B77D-5DA9EDE08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CDCB22-3875-41D6-B6AA-2C60EF305D6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AA8D0C-B10A-4E10-8718-DEAAC5692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1A248E-CAA6-439C-BBD6-84986FD3370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DE9A91-C364-4CFA-BFBB-F87C896D6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B2D959-1C90-4B8A-893C-3F8266C6826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82499-0FA7-454F-B24D-365546717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7531B-1FBA-4C86-B462-79A45F8827B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78F1C2-B0E2-45A4-BFAB-6003F1CD0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mazon.com/gp/reader/1572246952/ref=sib_dp_pt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G Senior Leadership Cohort Program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Book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dha’s Brain, The Practical Neuroscience of Happiness, Love and Wisd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s:  Rick Hanson with Richard Mend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6" descr="Buddha's Brain: The Practical Neuroscience of Happiness, Love, and Wisd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42000" y="1400040"/>
            <a:ext cx="3905280" cy="496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5477040" y="1400040"/>
            <a:ext cx="2882880" cy="652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6"/>
          <p:cNvSpPr/>
          <p:nvPr/>
        </p:nvSpPr>
        <p:spPr>
          <a:xfrm>
            <a:off x="7853400" y="1400040"/>
            <a:ext cx="893880" cy="4962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rain is wired to remember negative experiences and minimize positive experi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raining and practice, we can rewire our brain to create more happiness, love and wisd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I Would Like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life has many pleasures and joys, it also contains considerable discomfort and sorrow – the unfortunate side effect of strategies that evolved to help animals pass on their gen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brain is the cause of suffering, it can also be the cur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otes I Would Like To Sh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joy in this world comes from wanting others to be happy, and all suffering in the world comes from wanting only oneself to be happ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Your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hought that I was alone in my “suffering”.  Physically abused past, death of a child, a divorce… those experiences shaped who I am and how I view the world and those around 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ed that all people suffer, but it is up to me to change my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negative experiences while in a good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-in positive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Ref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enable second d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take negative experiences person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2:32:45Z</dcterms:created>
  <dc:creator>Trish Mooney</dc:creator>
  <dc:description/>
  <dc:language>en-US</dc:language>
  <cp:lastModifiedBy>jerry.cook</cp:lastModifiedBy>
  <cp:lastPrinted>2011-06-13T12:29:39Z</cp:lastPrinted>
  <dcterms:modified xsi:type="dcterms:W3CDTF">2012-08-31T16:30:29Z</dcterms:modified>
  <cp:revision>17</cp:revision>
  <dc:subject/>
  <dc:title>Leading with Impact</dc:title>
</cp:coreProperties>
</file>