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E9A45-D28E-48A9-9634-CDE1FCD73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EE120-2C92-43BE-BEB7-6FEC9961E8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600174-E4E5-4618-A99A-6D1D4B5DAE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C20E3A-FE5A-4411-A4B4-01CD5EDBCB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14165E-C3BC-43FC-B9A2-93A2285A532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CC94298-7EB5-40AB-83B1-098C48CDD2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A245358-946F-44EA-90A1-C6F8FD8B94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827844-636F-43C9-AE08-9478E3C3B3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0CDF3D6-36C8-47AB-AF03-E3351438C7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49D6242-CA9B-4F1D-BFD1-1A6CDB920EB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462231A-B0D8-485C-B22A-44546E40907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15EB37C-CB31-4198-8C14-8232C14508D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B4EE4-2124-4AA8-B573-F3C10AC482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5A092A1-47B5-4BB8-AB41-1CB6FFD52AA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AB19225-27DD-4DBB-8898-E554DDE9FD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EC47A3-2E72-4E6E-A56F-348203FF87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967C403-E3D2-4106-B2CC-D2B4045827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04A39B5-AF4A-43D6-AE4B-DEC43E3244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39198D6-3223-491F-A813-30EAB23BED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E229B89-A3E3-4B46-99E1-339F6A0ECA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8AFEA1-9081-4643-A93D-AB4C694E67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65EE932-72AF-469D-819A-A9A8541FF6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23A42C4-85C4-4C5E-AB08-59BA841BD07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A9CF36-5AA3-4D4D-87BD-45946A962A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32E25B7-02F3-493B-8629-86BB017581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FBB33FD-1E50-45FE-9ED9-52A81D7823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24FBCB6-B290-4DC5-87D7-35A3DC344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7EC40BB-98A0-4A15-B8B1-6F82903450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C2F21E-16DC-4C6F-9C0B-CEF8FC60A5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BE0D473-AEC9-407A-A2DA-0813A173F2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5623747-0BB8-4A47-9955-30F779C218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3011A2-7646-4D29-A193-143943C9E2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76D8C54-C81C-47AC-B0DC-BE477268D5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FF3FDEC-6ACD-449F-88E9-1BC4CCBA3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650C97-E25E-4D4E-901D-B98096178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48BD660-C410-4808-8FAD-5E011C082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D099029-56DE-4040-B069-9FF22D1A5F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14A5652-45A8-486A-9E1E-023CFA29FA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C642E27-090D-4821-833E-86A5D02FB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BFA7B2-18E1-49B1-9739-AF503E5B04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D9B9D79-9CED-4AC3-8992-2D6862B373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E929573-8340-4AC0-831C-131D03742A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550C4FE-0BF0-4EB8-BEED-BE48D819C2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EEF014-367A-4A09-9A7B-ED065066A8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89DD512-69E4-4211-B865-C2D4387EAD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764D78-39C6-425D-9EE9-FB3254BFC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7474519-BC91-47C4-9ADD-EA26823F5B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4406CE9-2097-4961-A42E-39F934472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1117070-96CB-4BFB-9908-5C56FB51DB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2D01EA9-32B1-4A25-BD1F-EC25AEC990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8E5E7F2-9680-4457-8733-6AF3E81FCD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F1AD93-450D-4B02-B968-D10417072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746312-3A7A-4B3C-A5D9-D80A2109A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563ADB-BFBA-41C1-AD91-471F92F69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6A9459-295A-498E-B439-DA6A82A6F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CE85B5-3DDC-4CED-A45E-6C856F402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8858-04DD-4FDE-95D3-E98DE0477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AFA262-11F5-4392-BE5E-0E8C18E4D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A6F44B-BF24-4097-AC1C-6647B716E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2AC7C7-5229-45D0-B0BA-5017D2012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1F9B9F8-A5BA-447A-B54F-D214F85A67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CF390F-38A0-4606-9C3F-C4372432AB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840E6F1-3219-461B-AAF1-6255D0F75F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0E851D-27E9-4685-859F-906012632C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18EADFE-7EB3-47A4-B288-21CD6ADD70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9067ED-D18F-467F-87F0-53E1DABDA1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F9C127-8EF7-460B-8230-DC5F4559C1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C4E8-590F-4826-981F-46C9B102F0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262DA9-713C-47BA-8B43-8A912E9B77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856D4F-4A22-447C-B2E8-6582E8D50A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A66051-6C5D-4B30-9344-4CC0D189D5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1AC7BF-A8B4-4FC8-AAE3-75E7F228C8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F38440F-1E88-411C-8636-96373D2AA3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491EAA5-A0F9-4810-B9DF-9B480C89D37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7A223A-30FA-4325-9CA4-1224144F076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35FDF1E-02B7-46E6-A4DC-1EDF34F8F17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857246-28A3-4003-9278-5745F5DFA6C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57EEE2F-BCC4-47F2-853B-358C9FC5800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85874-95E3-4092-B9C1-FB92E4D953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43BC0B-3170-4010-B8DE-842A6BF34F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3BAE17-2E52-4662-86A5-3724ED6F5D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DA26ED-52C8-4B66-A915-3ED5C7DB62C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DB9150-B691-4353-A015-8893812C20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5ADB97-D952-4852-9E00-09556C1203F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B67B90-DE30-4A40-86B7-90E00361AD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1F0A6B-1201-42C6-888B-2F48DC5105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516878-12FD-4788-9CB1-BEC0FC15CBD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D576E6-44E0-47FC-A8B6-721514FF657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DA3B8E-5F26-4449-84F1-865C8F19CC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F9BF523-3148-4E2B-971A-9AE04819DD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D68324D-8120-4A4A-8A62-B8641F9B5B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984EA8E-20FF-45DB-A799-F17E528FA9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74CF3C-D35D-4127-B6AF-5D3740EC81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BA416C8-2455-4E0E-9EB5-66A582A730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BDD14AF-BFA7-4188-8F0D-B72178B42F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46C41F-A349-43F8-8296-F39808A91E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EC8770-E7E6-4799-910A-6BF9726757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7382A5-F7D4-4C7A-8BBE-03E1754FEE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A4260F4-B988-4AB3-A776-69AF0FBFB0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23ED5F8-181C-4D59-A68C-427C1BC68BC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29E6C7-CBD9-46B0-8A22-DCAF777A37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00B09B7-034C-476E-BAAF-5FCD800891C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BD7FFF8-0F70-4991-9743-C8A1AB6EB04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3EBA40-72AF-4234-B452-50DBF82EE6B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F7F84F8-BB4E-468E-BCD5-AE73C7A1C34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68BFBC-024B-4071-9EFD-96808A3300B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63B254A-A178-4041-880D-6C1DABC06C8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5617873-233F-41E1-B62D-9AA34991DA4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9F33B5-580D-46B8-9006-5223D8DFDCB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007FD6-73CF-4665-867F-D43206FE7EB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2D3150A-441C-42FA-9E86-BB63A7DB92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A27E4-FFDE-4704-B0A2-E42DF453F5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5CBEFB0-B36C-4D06-8325-CAEED907B7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B024B4E-D734-4464-9524-A13028D6BA5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1E1A1C1-8319-4D78-93C2-4717EFA74AF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9BB289B-927D-4650-B287-C5082265F4C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9B8C84-6829-42F2-BAEF-6A235D859F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1591E1C-DEA5-4E14-ABF7-9073F0E621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C16963-5D3E-46B0-8E73-720D855407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65907D-B20A-463F-9BB4-9CCA14FD4B9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566899-3AF0-4BE7-B6C9-072BA92FDDF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4059DD-1B8C-4E3D-8AD6-72F0CF8D9C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CC8E-2E89-4F82-8ABA-3DE1F2FC76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0C2BC0-A99E-47F0-B001-6969BE86FC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9C5B59-B904-4358-9F6D-4823CEE33E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7754E49-0F4C-4C4A-9AB2-7788E3A1026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FEEB72D-9ED5-40FF-B159-3BE916D92E0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CBBA30F-E45D-45E2-A9DE-E99CFB38F00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0F7278D-90C2-4EB2-BC61-2581752953E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417B3C8-98DA-45E1-8A3F-4174E784FAD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EE2360-73FF-4DE0-8856-EC0E76CE1B8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BDC52F7-F34C-4647-B40D-72ECDFCF2B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A471B8-DBA9-49D7-AA2F-E5CFBEACA73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A82D1-7227-4DB5-86B8-0E0051CF94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F995FC-1EDA-4B2F-8F93-4181C4BA41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269CCD-EA57-4B31-B0A5-82AC244FC1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E83EC61-4FFF-4378-9A4E-5145B198CA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BAD875-C7CA-43D4-9F1A-B00ABEE5BFC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9EE98A-1A49-4818-81AA-E4A45BE410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2355A79-5A99-4059-ABF1-2C757D9F271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D4C9F5B-957C-474C-A78C-F47803FB0B6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E8FFFE5-6B86-4C00-9C18-5D41E1F6BF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3E64472-EB98-41D0-8BEA-E6948B0E65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3FBF0A2-91C0-4904-ABB3-755556E4FF4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F7D94-BE0D-47FF-8662-7E5F3EF41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06595-2AE1-4566-8B02-65C45265635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3B300-51A1-44B0-AA72-7073664A5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BF208-33F9-4016-AAEE-A9C675A57EC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5D7CB-E592-4CE5-A687-14216C4ED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8447D-4E72-4EA5-B299-B176ED6AE99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E8225-49A3-4288-873C-11EFCA4D7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32A2B-AAE8-4999-8D0F-75FD5DA9931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FFF34-FF81-4B83-9368-242BECFB4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6171D-B9D0-492E-9A27-6451075920F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C2ABF-8E2E-4BDA-8D30-9BB2A9721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DFA5D-BF10-429C-9EB5-32B8F40E5B0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F90FC-1749-46F8-A67E-1B4B09AD7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6D101-0947-4E97-99B4-680F4AB19C4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DC19A-C818-4BF2-B57E-90A3606ED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A68E8-385C-424F-A279-A4ED69824D5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76E0E-015C-4F00-848D-2F706B8C3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C62AB-4E21-41A7-9A52-9F77695687D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CE112-8519-48A6-BD52-3B658C993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F471C-694B-44E4-849A-DF8D9C2325A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D45FD-603F-48BC-A164-F297A2DA8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7CA82-5805-4982-93D2-5AE6248CB2F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560A9-DEA1-4F81-8011-6E23A7E6A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amazon.com/Six-Essential-Elements-Leadership-Leatherneck/dp/B00A0DYZSU/ref=sr_1_3?s=books&amp;ie=UTF8&amp;qid=1355083633&amp;sr=1-3&amp;keywords=six+essential+elements+of+leadership" TargetMode="External"/><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Management Association</a:t>
            </a:r>
            <a:br>
              <a:rPr sz="2800"/>
            </a:br>
            <a:r>
              <a:rPr b="0" lang="en-US" sz="2800" spc="-1" strike="noStrike">
                <a:solidFill>
                  <a:srgbClr val="000000"/>
                </a:solidFill>
                <a:latin typeface="Arial"/>
              </a:rPr>
              <a:t>January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647960"/>
            <a:ext cx="8305920" cy="1460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itia “Tish” Proctor</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9" name="Picture 6" descr="C:\Users\letitia.proctor\AppData\Local\Microsoft\Windows\Temporary Internet Files\Content.Outlook\SAL4QUG6\1.png"/>
          <p:cNvPicPr/>
          <p:nvPr/>
        </p:nvPicPr>
        <p:blipFill>
          <a:blip r:embed="rId2"/>
          <a:stretch/>
        </p:blipFill>
        <p:spPr>
          <a:xfrm>
            <a:off x="4495680" y="716040"/>
            <a:ext cx="1930680" cy="1554120"/>
          </a:xfrm>
          <a:prstGeom prst="rect">
            <a:avLst/>
          </a:prstGeom>
          <a:ln w="0">
            <a:noFill/>
          </a:ln>
        </p:spPr>
      </p:pic>
      <p:pic>
        <p:nvPicPr>
          <p:cNvPr id="530" name="Picture 4" descr="C:\Users\letitia.proctor\AppData\Local\Microsoft\Windows\Temporary Internet Files\Content.Outlook\SAL4QUG6\MissionSpeedDating_TeamAPG.PNG"/>
          <p:cNvPicPr/>
          <p:nvPr/>
        </p:nvPicPr>
        <p:blipFill>
          <a:blip r:embed="rId3"/>
          <a:stretch/>
        </p:blipFill>
        <p:spPr>
          <a:xfrm>
            <a:off x="6494400" y="533520"/>
            <a:ext cx="2268720" cy="173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x Essential Elements of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L Wesley L. Fox, USMC (Ret)</a:t>
            </a:r>
            <a:endParaRPr b="0" lang="en-US" sz="2800" spc="-1" strike="noStrike">
              <a:solidFill>
                <a:srgbClr val="000000"/>
              </a:solidFill>
              <a:latin typeface="Arial"/>
            </a:endParaRPr>
          </a:p>
        </p:txBody>
      </p:sp>
      <p:pic>
        <p:nvPicPr>
          <p:cNvPr id="533" name="Picture 6" descr="Product Details">
            <a:hlinkClick r:id="rId1"/>
          </p:cNvPr>
          <p:cNvPicPr/>
          <p:nvPr/>
        </p:nvPicPr>
        <p:blipFill>
          <a:blip r:embed="rId2"/>
          <a:stretch/>
        </p:blipFill>
        <p:spPr>
          <a:xfrm>
            <a:off x="4495680" y="1430280"/>
            <a:ext cx="4206960" cy="420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5" name=""/>
          <p:cNvSpPr txBox="1"/>
          <p:nvPr/>
        </p:nvSpPr>
        <p:spPr>
          <a:xfrm>
            <a:off x="457200" y="1364760"/>
            <a:ext cx="8229600" cy="500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nciples of Leadership:</a:t>
            </a:r>
            <a:endParaRPr b="0" lang="en-US" sz="32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yourself and seek self-improv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technically and tactically profici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k responsibility and take responsibility for your ac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ound and timely decis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exampl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your people and look out for their welfar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your people informe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sense of responsibility in your subordinat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the task is understood, supervised, and accomplishe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 your people as a team</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 your unit in accordance with its capabiliti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7" name=""/>
          <p:cNvSpPr txBox="1"/>
          <p:nvPr/>
        </p:nvSpPr>
        <p:spPr>
          <a:xfrm>
            <a:off x="225360" y="2539800"/>
            <a:ext cx="4214880" cy="407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it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p:txBody>
      </p:sp>
      <p:pic>
        <p:nvPicPr>
          <p:cNvPr id="538" name="Picture 2" descr="http://www.johnlincoln.biz/wp-content/uploads/2012/08/Leadership-2.jpg"/>
          <p:cNvPicPr/>
          <p:nvPr/>
        </p:nvPicPr>
        <p:blipFill>
          <a:blip r:embed="rId1"/>
          <a:stretch/>
        </p:blipFill>
        <p:spPr>
          <a:xfrm>
            <a:off x="4440240" y="2981160"/>
            <a:ext cx="4381560" cy="2629080"/>
          </a:xfrm>
          <a:prstGeom prst="rect">
            <a:avLst/>
          </a:prstGeom>
          <a:ln w="0">
            <a:noFill/>
          </a:ln>
        </p:spPr>
      </p:pic>
      <p:sp>
        <p:nvSpPr>
          <p:cNvPr id="539" name="TextBox 8"/>
          <p:cNvSpPr/>
          <p:nvPr/>
        </p:nvSpPr>
        <p:spPr>
          <a:xfrm>
            <a:off x="569880" y="1411200"/>
            <a:ext cx="751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ssential Elements of Leadership</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1" name="TextBox 3"/>
          <p:cNvSpPr/>
          <p:nvPr/>
        </p:nvSpPr>
        <p:spPr>
          <a:xfrm>
            <a:off x="3130560" y="90324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raits of a Leader</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42" name="Picture 2" descr="http://meetjosephaedman.com/wp-content/uploads/2012/02/personal-leadership2.jpg"/>
          <p:cNvPicPr/>
          <p:nvPr/>
        </p:nvPicPr>
        <p:blipFill>
          <a:blip r:embed="rId1"/>
          <a:stretch/>
        </p:blipFill>
        <p:spPr>
          <a:xfrm>
            <a:off x="3130560" y="2378160"/>
            <a:ext cx="2743200" cy="2743200"/>
          </a:xfrm>
          <a:prstGeom prst="rect">
            <a:avLst/>
          </a:prstGeom>
          <a:ln w="0">
            <a:noFill/>
          </a:ln>
        </p:spPr>
      </p:pic>
      <p:sp>
        <p:nvSpPr>
          <p:cNvPr id="543" name="Oval 5"/>
          <p:cNvSpPr/>
          <p:nvPr/>
        </p:nvSpPr>
        <p:spPr>
          <a:xfrm>
            <a:off x="3130560" y="1600200"/>
            <a:ext cx="1533600" cy="4935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aring</a:t>
            </a:r>
            <a:endParaRPr b="0" lang="en-US" sz="1800" spc="-1" strike="noStrike">
              <a:solidFill>
                <a:srgbClr val="000000"/>
              </a:solidFill>
              <a:latin typeface="Arial"/>
            </a:endParaRPr>
          </a:p>
        </p:txBody>
      </p:sp>
      <p:sp>
        <p:nvSpPr>
          <p:cNvPr id="544" name="Oval 6"/>
          <p:cNvSpPr/>
          <p:nvPr/>
        </p:nvSpPr>
        <p:spPr>
          <a:xfrm>
            <a:off x="0" y="2835360"/>
            <a:ext cx="2468520" cy="91440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urage (moral and physical)</a:t>
            </a:r>
            <a:endParaRPr b="0" lang="en-US" sz="1800" spc="-1" strike="noStrike">
              <a:solidFill>
                <a:srgbClr val="000000"/>
              </a:solidFill>
              <a:latin typeface="Arial"/>
            </a:endParaRPr>
          </a:p>
        </p:txBody>
      </p:sp>
      <p:sp>
        <p:nvSpPr>
          <p:cNvPr id="545" name="Oval 7"/>
          <p:cNvSpPr/>
          <p:nvPr/>
        </p:nvSpPr>
        <p:spPr>
          <a:xfrm>
            <a:off x="4029120" y="5670720"/>
            <a:ext cx="914400" cy="50148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ct</a:t>
            </a:r>
            <a:endParaRPr b="0" lang="en-US" sz="1800" spc="-1" strike="noStrike">
              <a:solidFill>
                <a:srgbClr val="000000"/>
              </a:solidFill>
              <a:latin typeface="Arial"/>
            </a:endParaRPr>
          </a:p>
        </p:txBody>
      </p:sp>
      <p:sp>
        <p:nvSpPr>
          <p:cNvPr id="546" name="Oval 8"/>
          <p:cNvSpPr/>
          <p:nvPr/>
        </p:nvSpPr>
        <p:spPr>
          <a:xfrm>
            <a:off x="1989000" y="4532400"/>
            <a:ext cx="1505160" cy="63000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yalty</a:t>
            </a:r>
            <a:endParaRPr b="0" lang="en-US" sz="1800" spc="-1" strike="noStrike">
              <a:solidFill>
                <a:srgbClr val="000000"/>
              </a:solidFill>
              <a:latin typeface="Arial"/>
            </a:endParaRPr>
          </a:p>
        </p:txBody>
      </p:sp>
      <p:sp>
        <p:nvSpPr>
          <p:cNvPr id="547" name="Oval 9"/>
          <p:cNvSpPr/>
          <p:nvPr/>
        </p:nvSpPr>
        <p:spPr>
          <a:xfrm>
            <a:off x="5532480" y="2658960"/>
            <a:ext cx="1736640" cy="5619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stice</a:t>
            </a:r>
            <a:endParaRPr b="0" lang="en-US" sz="1800" spc="-1" strike="noStrike">
              <a:solidFill>
                <a:srgbClr val="000000"/>
              </a:solidFill>
              <a:latin typeface="Arial"/>
            </a:endParaRPr>
          </a:p>
        </p:txBody>
      </p:sp>
      <p:sp>
        <p:nvSpPr>
          <p:cNvPr id="548" name="Oval 10"/>
          <p:cNvSpPr/>
          <p:nvPr/>
        </p:nvSpPr>
        <p:spPr>
          <a:xfrm>
            <a:off x="1319040" y="1920960"/>
            <a:ext cx="1811520" cy="5493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dgment</a:t>
            </a:r>
            <a:endParaRPr b="0" lang="en-US" sz="1800" spc="-1" strike="noStrike">
              <a:solidFill>
                <a:srgbClr val="000000"/>
              </a:solidFill>
              <a:latin typeface="Arial"/>
            </a:endParaRPr>
          </a:p>
        </p:txBody>
      </p:sp>
      <p:sp>
        <p:nvSpPr>
          <p:cNvPr id="549" name="Oval 11"/>
          <p:cNvSpPr/>
          <p:nvPr/>
        </p:nvSpPr>
        <p:spPr>
          <a:xfrm>
            <a:off x="4867200" y="1817640"/>
            <a:ext cx="1533600" cy="45720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tegrity</a:t>
            </a:r>
            <a:endParaRPr b="0" lang="en-US" sz="1800" spc="-1" strike="noStrike">
              <a:solidFill>
                <a:srgbClr val="000000"/>
              </a:solidFill>
              <a:latin typeface="Arial"/>
            </a:endParaRPr>
          </a:p>
        </p:txBody>
      </p:sp>
      <p:sp>
        <p:nvSpPr>
          <p:cNvPr id="550" name="Oval 12"/>
          <p:cNvSpPr/>
          <p:nvPr/>
        </p:nvSpPr>
        <p:spPr>
          <a:xfrm>
            <a:off x="6757920" y="2097000"/>
            <a:ext cx="2173320" cy="5619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cisiveness</a:t>
            </a:r>
            <a:endParaRPr b="0" lang="en-US" sz="1800" spc="-1" strike="noStrike">
              <a:solidFill>
                <a:srgbClr val="000000"/>
              </a:solidFill>
              <a:latin typeface="Arial"/>
            </a:endParaRPr>
          </a:p>
        </p:txBody>
      </p:sp>
      <p:sp>
        <p:nvSpPr>
          <p:cNvPr id="551" name="Oval 13"/>
          <p:cNvSpPr/>
          <p:nvPr/>
        </p:nvSpPr>
        <p:spPr>
          <a:xfrm>
            <a:off x="798480" y="3902040"/>
            <a:ext cx="1997280" cy="6303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Knowledge</a:t>
            </a:r>
            <a:endParaRPr b="0" lang="en-US" sz="1800" spc="-1" strike="noStrike">
              <a:solidFill>
                <a:srgbClr val="000000"/>
              </a:solidFill>
              <a:latin typeface="Arial"/>
            </a:endParaRPr>
          </a:p>
        </p:txBody>
      </p:sp>
      <p:sp>
        <p:nvSpPr>
          <p:cNvPr id="552" name="Oval 14"/>
          <p:cNvSpPr/>
          <p:nvPr/>
        </p:nvSpPr>
        <p:spPr>
          <a:xfrm>
            <a:off x="4672080" y="4846680"/>
            <a:ext cx="1728720" cy="64440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itiative</a:t>
            </a:r>
            <a:endParaRPr b="0" lang="en-US" sz="1800" spc="-1" strike="noStrike">
              <a:solidFill>
                <a:srgbClr val="000000"/>
              </a:solidFill>
              <a:latin typeface="Arial"/>
            </a:endParaRPr>
          </a:p>
        </p:txBody>
      </p:sp>
      <p:sp>
        <p:nvSpPr>
          <p:cNvPr id="553" name="Oval 15"/>
          <p:cNvSpPr/>
          <p:nvPr/>
        </p:nvSpPr>
        <p:spPr>
          <a:xfrm>
            <a:off x="5873760" y="5670720"/>
            <a:ext cx="2381400" cy="66348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nselfishness</a:t>
            </a:r>
            <a:endParaRPr b="0" lang="en-US" sz="1800" spc="-1" strike="noStrike">
              <a:solidFill>
                <a:srgbClr val="000000"/>
              </a:solidFill>
              <a:latin typeface="Arial"/>
            </a:endParaRPr>
          </a:p>
        </p:txBody>
      </p:sp>
      <p:sp>
        <p:nvSpPr>
          <p:cNvPr id="554" name="Oval 16"/>
          <p:cNvSpPr/>
          <p:nvPr/>
        </p:nvSpPr>
        <p:spPr>
          <a:xfrm>
            <a:off x="6156360" y="4218120"/>
            <a:ext cx="1865160" cy="62856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durance</a:t>
            </a:r>
            <a:endParaRPr b="0" lang="en-US" sz="1800" spc="-1" strike="noStrike">
              <a:solidFill>
                <a:srgbClr val="000000"/>
              </a:solidFill>
              <a:latin typeface="Arial"/>
            </a:endParaRPr>
          </a:p>
        </p:txBody>
      </p:sp>
      <p:sp>
        <p:nvSpPr>
          <p:cNvPr id="555" name="Oval 17"/>
          <p:cNvSpPr/>
          <p:nvPr/>
        </p:nvSpPr>
        <p:spPr>
          <a:xfrm>
            <a:off x="1319040" y="5491080"/>
            <a:ext cx="2252880" cy="68112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thusiasm</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56" name="Oval 18"/>
          <p:cNvSpPr/>
          <p:nvPr/>
        </p:nvSpPr>
        <p:spPr>
          <a:xfrm>
            <a:off x="6757920" y="3189240"/>
            <a:ext cx="2271960" cy="71280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pend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58" name=""/>
          <p:cNvSpPr txBox="1"/>
          <p:nvPr/>
        </p:nvSpPr>
        <p:spPr>
          <a:xfrm>
            <a:off x="457200" y="1536480"/>
            <a:ext cx="8229600" cy="472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Care and concern for subordinates mark the leader; the subordinates of such a leader become followers. ….  A leader has to care. This care is shown by actions, not words, and Is easily read by the subordinates, who return this care with similar action and motivation, expressed in the spirit, in this living thing called “esprit,” for their purpose.  Leaders, not managers, deal with and are concerned with esprit.  Leaders create and maintain esprit in the hearts of their people.’   (page 18)                                          </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best leaders understand that leadership is the liberation of talent; they gain power not only by constantly giving it away, but also by not grabbing it back.’  (page 95)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60" name=""/>
          <p:cNvSpPr txBox="1"/>
          <p:nvPr/>
        </p:nvSpPr>
        <p:spPr>
          <a:xfrm>
            <a:off x="457200" y="1265400"/>
            <a:ext cx="8229600" cy="5160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d people, walk beside th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for the best leaders, the people do not notice their existanc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xt best, the people honor and prais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xt, the people fear;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 next, the people hate…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best leader's work is done the people s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e did it ourselv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ao-tsu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o not lead by hitting people over the head ---</a:t>
            </a:r>
            <a:endParaRPr b="0" lang="en-US" sz="20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assault, not leadership.</a:t>
            </a:r>
            <a:endParaRPr b="0" lang="en-US" sz="20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General Dwight D. Eisenho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62" name=""/>
          <p:cNvSpPr txBox="1"/>
          <p:nvPr/>
        </p:nvSpPr>
        <p:spPr>
          <a:xfrm>
            <a:off x="237960" y="1600200"/>
            <a:ext cx="87537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shares common themes with what I’ve learned over the course of the coh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of care for subordinates resonates with 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book/tool to check out:  “Leadership Skills Checklist” in General Perry Smith’s book </a:t>
            </a:r>
            <a:r>
              <a:rPr b="0" lang="en-US" sz="2800" spc="-1" strike="noStrike" u="sng">
                <a:solidFill>
                  <a:srgbClr val="000000"/>
                </a:solidFill>
                <a:uFillTx/>
                <a:latin typeface="Arial"/>
              </a:rPr>
              <a:t>Rules and Tools fo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l make mistak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leaders are at every level of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letitia.proctor</cp:lastModifiedBy>
  <cp:lastPrinted>2011-06-13T12:29:39Z</cp:lastPrinted>
  <dcterms:modified xsi:type="dcterms:W3CDTF">2013-01-15T17:34:37Z</dcterms:modified>
  <cp:revision>34</cp:revision>
  <dc:subject/>
  <dc:title>Leading with Impact</dc:title>
</cp:coreProperties>
</file>