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046F2-D4DC-4075-AD49-9015C66B86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844C1-12F2-4A11-B8E9-90A05863E3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CB68086-56F1-4A11-A225-2AFA3A883C9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14974DB-072D-4695-8D42-46FF6A95B26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5CE53FE-CAFF-4053-B3B4-FFB0826B6CC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2BBCFB4-EB29-4259-A228-9A739F8FFE1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F17DADA-DB3F-4BBA-8EBE-76891BFE99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ED20721-C479-4A04-813D-EEEC1CF7E07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A4165C8-448F-44B9-9536-76439C555B3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1587893-A069-4A39-AD83-6EC53B2F2F3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625B9CA-3685-4678-AF2C-7216A446B45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DDEF4B5-F7F1-4E3B-93D4-C3846E9C376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CE083-0113-47DC-AD7C-CF1417D2F06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F70A646-160E-4169-AD10-1DFD932C6EB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6E54C00-9357-4390-9696-B8E8060EB55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BF9FDDB-9DD1-459A-BD54-B446C24BD9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E80D5AF-0E62-4D35-8537-68922B6D07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FB798D7-975E-44C9-94BC-4957BC1F676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8260D61-8909-4EB9-A2EC-B7F7A2588E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41DA13F-FBD4-4D08-B9C5-07C7627611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6105E0B-0C5E-46C9-AF19-537FA33897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590625A-3155-4AB9-B83D-54DF41F3517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77CC971-9C7A-43ED-90C4-CD172CE1349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04BA1-4495-4D40-BBC6-8152254804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E6050C2-F7CB-4668-94B7-43AE6BA3AEE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2EF0425-A3B8-4E58-8B73-941B27F570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E4BFC2C-0986-481C-B8CB-6068B2A8E4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652B325-A78A-4ED8-BF97-3D904FA94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EA4AFB3-70C4-4D69-AB86-3C6E6931B8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D1FFA95-0782-4448-B50E-98F83E85FD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FE01857-DFAE-4877-9325-D965FBF60D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036974D-ACE9-4FE3-915C-172A0C7CD2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60EEC08-D80B-4885-BD4B-BF769F847F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9373064-42C0-4665-99C3-DFDDFFBE6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7AD0964-948E-412D-8A6A-531996666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ABBBD85-58AE-43EA-867C-EC919625E8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A62C2CD-9375-4FF1-853A-5DD2EF821C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3CF06FE-9128-43C7-9EAD-D99E7458BB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5CE87D1-EE0F-48D2-AA75-780DEFCEB5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01E311F-8B1F-41A3-ACE4-4091C0F883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19FFE36-1989-4FE3-B002-1B4E00D478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FCF7F8A-E6FF-4C1C-91FF-CF138F0B50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C2C6D4C-8F1E-441D-934F-3AAE94F7BC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72937F8-F786-4ACF-9C1B-CDB8D6304A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CDA12AE-520E-4C15-822E-740BD56E53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3BB7DA-3BBF-4106-A5B1-87B253961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1286A4F-8C7F-4BE7-869B-3B192D4BEA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5AF8071-5644-42F7-9E71-6D9CD3A25A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2BE72D4-E4FD-485D-938B-DBDA6B9A43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57FF3AF-7A62-42C1-94B3-FC492AF701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F7A3E11-47B3-4059-99A6-9C2B507883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FB3A12-ADF1-4997-8AAF-CDBFA2BAF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AC57D0-18A4-4F9C-9A6C-81DC0811F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A504A5-5E8C-45DC-AB62-F7847FDFB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AD2737-49A6-4D92-A116-2086D047A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6E9CEB-19F8-497A-8929-8791139F5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1D71-1FBE-4F66-AED0-153BC45CDF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ABDC41-C4CB-4888-8F3C-39CC61B16A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9E8A13-CA1A-4D60-9F21-F08494B18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99CA90-03E5-4B6A-A2C3-EAE3D1380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3DF000-B7D6-4EF5-8D8B-22DCA290F92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17E93B-C047-4EF8-A0C1-218C0A420B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41DDED8-6865-46F3-8152-D993B464355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B9C8A46-656F-4773-84C5-3B4BBD150E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4A3F1E1-39A7-41ED-9E97-4D56216FB7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16963E6-167F-4192-8E5E-2B758223BC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340892-DC61-42D2-91AC-EC6B7CC246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95D2C-109A-45D5-9D7D-D3227223A0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0116AC-3F9A-47BE-A921-3775E0F227E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B4A158-6DA4-4005-9FE3-9C36DA609B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7522D1-36A7-434F-900C-526FC7C438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9F178D-1BD1-4948-A6B7-6956C19EB7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2B6F23-18E6-46CE-BE63-BFA713F72B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2E6F236-1ACB-4EA6-BDA1-DDA2F1A02CE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BB00023-8FF7-4090-BD0F-C42034C6609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96EE29D-8DAB-4384-8B5B-AE016A0DEF3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1D3C11-E393-4788-9E2A-5E317107E78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8B6D776-B9BB-413B-9D65-67785EAF691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295FC-7793-4F10-87B0-1CDC84D668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6560A53-6A8F-4067-81C7-EB1E08F5956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DEA0944-7248-46B8-B2B5-41C9ADE27FA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8FA0313-C7BE-4076-8562-48AF5AC696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263EED-4D45-45EF-816C-0AF967A983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D9739FF-3EF2-4477-B8AA-CB32845ED04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5C61DF-7326-465A-99D6-90DBF2FF628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FD6EEB6-1F83-437A-9066-4CB0CC29F1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98E0A8A-9FC9-416F-A62B-F07B71B3088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F0CF867-DCB8-46EC-AEDE-FED2A7C8E6A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03F89E6-177D-4429-8253-4FDCAB1090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D844C7CA-5660-4FA6-B33C-4BD897DBC8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71E1BD8-F0EF-4306-9E85-9D48BD0DE8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942CB4-8191-423B-BC3F-EEA16DD910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DBDDC34-42B0-4B3F-9E36-D558A1D27B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102EBED-9602-4D5C-A8F8-364082E76C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EA6921C-0A13-468C-9777-28CB627633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A5FF404-EE0E-4DFD-9146-F49F74D030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E7752E-9D5F-416B-BC6B-2F80804E5F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68B5279-36F0-4C23-9A8A-B146095623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7CA12B3-C208-4FF3-9348-26A8AFC887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B0C8BC5-555E-4168-AA7B-8BED8EF9BE8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E033773-1B43-42F5-AD3F-C129AF1844A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BD71E0C-2A52-4C01-A8BD-24696BB2DA7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88FC644-7DE4-46CA-BD82-B52938ADCAE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07641F-DD9C-4EE0-BCF9-31D2B3DE8A3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354731E-AB6C-4226-A94E-6FE36909A2D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0AE2050-F81B-41F3-8776-D1610FCED4B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9ACDEEA-5851-46ED-950D-D958FEAAC3A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1E4F61C-42DA-43C2-9361-250A7F1BAC6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69B646F-E135-4120-8160-DFC7F3ADA5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6A77166-D58A-4B9C-B737-18FECEC1AE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4D99493-734A-4C7F-ACFF-C18523441F8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2041D-06D3-459C-9DE9-764965F906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67D30DE-60DE-4370-ABF1-6561AF17ECC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FF88E42-D702-4268-ADEE-E6DB981B08F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EE3FFAB-E105-4D31-8DA2-06EDE4431A0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D3EABD2-EAD4-4184-B07F-5CC76BCCDB9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94F05CB-D5CF-4789-BCEB-8D914E06C2D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0258287-0C0F-4450-AD40-8F9DFF6C503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487ED5-B3C5-41A1-AFA4-0D841BF8028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D8454E6-FFFF-4001-8D3D-D4FFB74C92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7BFAE7-2952-42BE-81C9-43D4A5B7BB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B35276A-3E22-42C0-8051-2DB07814827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E56A9-4A58-4C1E-84EF-785BAB0773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D7B794-7900-4E1E-84A5-06BCCAB31A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5AD815-1DCA-4D03-BAA2-F62B20DA7D6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1A0D1AB-14FC-4295-8E70-82F6C24923A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27AFA5A-98A6-4A69-9F2B-0478A37AD2E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B0974D8-624F-406E-BE3D-FC32314C134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DFF6142-E038-4A2B-9DE5-8E4C6E37EFB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B43112A-27C6-4202-8AE8-FE6DA1DEFB5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F167031-4E7C-43BE-8557-9A8D07AEE52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3D5FFC8-C12C-4BD6-B03E-5415D5CDEAE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A1B1DEC-830C-4865-9786-53F2F80F9AF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2E219-EE09-474C-A374-4E14B1C604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8DF7EBC-D2BC-485A-8CDC-6F91758C3CB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5CCCFF-19FF-40BF-8FD6-399FFC53CBB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5DDF8F-3036-4A0C-9C03-F1DB272775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C4EB2A3-5E3A-46F3-9C3D-84EB93E44E8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7E3F9B-D6E2-49E5-B058-3603470B4B5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7050A23-70D2-4D2C-B5C4-11ABEDDB398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3997146-54E7-48BF-83E2-693131134CE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F1596AE-4DB9-437C-88B5-8292A00DB04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ECA5089-0408-4CAD-90DF-ED0EA8D7597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7C8DDF9-663B-4CE9-A713-2E3FAE0E277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0A3ED-704B-473D-9B64-FD9C4DC07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5C290-CDB8-48DF-BF74-9603481E56BD}"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45B6F-AB02-4B6C-B447-61EEB1361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FDF37-2C21-4863-A447-197C266288D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B1F82-6FB7-4CCC-9671-A7BFEF470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0B077-64D3-4F43-9C42-4D5DE955427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33692-6598-4F0A-8FDC-BFA4F6FD3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3E151-D7CB-4A09-9037-7E914B4C564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D2876-AD5A-4DE3-A0CE-48E4A7189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C35EB-8CE0-47E0-B2E6-C0147E13A13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82F8C-142C-4EE7-AD0C-C6C3A3CC2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A5B9E-3F1B-4105-8CAB-02865647152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F2C5A-A441-4B07-97D0-06D9BEC50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1B6AE-DFFC-43C7-97F3-C3B220CA2ED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04AE7-DD51-4F48-B144-B4E3AD6B0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0749D-66A5-44AC-85CE-391FABD79FF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21BB9-BEEC-420A-912D-D2796D9A3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044F8-BE8E-4D58-98CB-031381D4C9A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BE3E2-F358-4CDF-92FA-ACD6D36D5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46D3F-FF70-4D2A-9535-A029E797139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1EAE0-46CA-44A1-A7FA-912F1E8BC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A3CF2-B22E-4F49-B851-ADF5BC2A280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AC5B7-BDFA-4733-A212-7A446D493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rri Langst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47984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ERSHIP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F-DECEPTION</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binger Institute</a:t>
            </a:r>
            <a:endParaRPr b="0" lang="en-US" sz="2800" spc="-1" strike="noStrike">
              <a:solidFill>
                <a:srgbClr val="000000"/>
              </a:solidFill>
              <a:latin typeface="Arial"/>
            </a:endParaRPr>
          </a:p>
        </p:txBody>
      </p:sp>
      <p:pic>
        <p:nvPicPr>
          <p:cNvPr id="531" name="Content Placeholder 7" descr="leadershipandselfdeception[1].jpg"/>
          <p:cNvPicPr/>
          <p:nvPr/>
        </p:nvPicPr>
        <p:blipFill>
          <a:blip r:embed="rId1"/>
          <a:stretch/>
        </p:blipFill>
        <p:spPr>
          <a:xfrm>
            <a:off x="5218200" y="1023840"/>
            <a:ext cx="2725560" cy="58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 I Would Like To Share</a:t>
            </a:r>
            <a:endParaRPr b="0" lang="en-US" sz="3200" spc="-1" strike="noStrike">
              <a:solidFill>
                <a:srgbClr val="000000"/>
              </a:solidFill>
              <a:latin typeface="Arial"/>
            </a:endParaRPr>
          </a:p>
        </p:txBody>
      </p:sp>
      <p:pic>
        <p:nvPicPr>
          <p:cNvPr id="533" name="Content Placeholder 3" descr="diagram.gif"/>
          <p:cNvPicPr/>
          <p:nvPr/>
        </p:nvPicPr>
        <p:blipFill>
          <a:blip r:embed="rId1"/>
          <a:stretch/>
        </p:blipFill>
        <p:spPr>
          <a:xfrm>
            <a:off x="4184640" y="1177920"/>
            <a:ext cx="4489560" cy="4525920"/>
          </a:xfrm>
          <a:prstGeom prst="rect">
            <a:avLst/>
          </a:prstGeom>
          <a:ln w="0">
            <a:noFill/>
          </a:ln>
        </p:spPr>
      </p:pic>
      <p:pic>
        <p:nvPicPr>
          <p:cNvPr id="534" name="Picture 4" descr="title.gif"/>
          <p:cNvPicPr/>
          <p:nvPr/>
        </p:nvPicPr>
        <p:blipFill>
          <a:blip r:embed="rId2"/>
          <a:stretch/>
        </p:blipFill>
        <p:spPr>
          <a:xfrm>
            <a:off x="625320" y="2075040"/>
            <a:ext cx="3067200" cy="231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pic>
        <p:nvPicPr>
          <p:cNvPr id="536" name="Content Placeholder 3" descr="diagram.gif"/>
          <p:cNvPicPr/>
          <p:nvPr/>
        </p:nvPicPr>
        <p:blipFill>
          <a:blip r:embed="rId1"/>
          <a:stretch/>
        </p:blipFill>
        <p:spPr>
          <a:xfrm>
            <a:off x="2897280" y="790560"/>
            <a:ext cx="4083120" cy="4086360"/>
          </a:xfrm>
          <a:prstGeom prst="rect">
            <a:avLst/>
          </a:prstGeom>
          <a:ln w="0">
            <a:noFill/>
          </a:ln>
        </p:spPr>
      </p:pic>
      <p:sp>
        <p:nvSpPr>
          <p:cNvPr id="537" name="TextBox 4"/>
          <p:cNvSpPr/>
          <p:nvPr/>
        </p:nvSpPr>
        <p:spPr>
          <a:xfrm>
            <a:off x="3060720" y="1333440"/>
            <a:ext cx="37782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should make my husband breakfast before he goes to wor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8" name="TextBox 6"/>
          <p:cNvSpPr/>
          <p:nvPr/>
        </p:nvSpPr>
        <p:spPr>
          <a:xfrm>
            <a:off x="5333040" y="3743280"/>
            <a:ext cx="1312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t>
            </a:r>
            <a:r>
              <a:rPr b="0" lang="en-US" sz="1400" spc="-1" strike="noStrike">
                <a:solidFill>
                  <a:srgbClr val="000000"/>
                </a:solidFill>
                <a:latin typeface="Arial"/>
              </a:rPr>
              <a:t>Self Betrayal”</a:t>
            </a:r>
            <a:endParaRPr b="0" lang="en-US" sz="1400" spc="-1" strike="noStrike">
              <a:solidFill>
                <a:srgbClr val="000000"/>
              </a:solidFill>
              <a:latin typeface="Arial"/>
            </a:endParaRPr>
          </a:p>
        </p:txBody>
      </p:sp>
      <p:sp>
        <p:nvSpPr>
          <p:cNvPr id="539" name="TextBox 7"/>
          <p:cNvSpPr/>
          <p:nvPr/>
        </p:nvSpPr>
        <p:spPr>
          <a:xfrm>
            <a:off x="3502080" y="4876920"/>
            <a:ext cx="4500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40" name="Straight Connector 9"/>
          <p:cNvSpPr/>
          <p:nvPr/>
        </p:nvSpPr>
        <p:spPr>
          <a:xfrm>
            <a:off x="5708520" y="4516560"/>
            <a:ext cx="0" cy="2336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TextBox 12"/>
          <p:cNvSpPr/>
          <p:nvPr/>
        </p:nvSpPr>
        <p:spPr>
          <a:xfrm>
            <a:off x="2046240" y="5102280"/>
            <a:ext cx="342432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Victim</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ardworking</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lfless</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ood Wife</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lways doing for others</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oing more than my share</a:t>
            </a:r>
            <a:endParaRPr b="0" lang="en-US" sz="1600" spc="-1" strike="noStrike">
              <a:solidFill>
                <a:srgbClr val="000000"/>
              </a:solidFill>
              <a:latin typeface="Arial"/>
            </a:endParaRPr>
          </a:p>
        </p:txBody>
      </p:sp>
      <p:sp>
        <p:nvSpPr>
          <p:cNvPr id="542" name="TextBox 13"/>
          <p:cNvSpPr/>
          <p:nvPr/>
        </p:nvSpPr>
        <p:spPr>
          <a:xfrm>
            <a:off x="5792760" y="5099040"/>
            <a:ext cx="342432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nappreciativ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consider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lf center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d Husban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ever does anything for m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oesn’t help around the house</a:t>
            </a:r>
            <a:endParaRPr b="0" lang="en-US" sz="1600" spc="-1" strike="noStrike">
              <a:solidFill>
                <a:srgbClr val="000000"/>
              </a:solidFill>
              <a:latin typeface="Arial"/>
            </a:endParaRPr>
          </a:p>
        </p:txBody>
      </p:sp>
      <p:sp>
        <p:nvSpPr>
          <p:cNvPr id="543" name="TextBox 18"/>
          <p:cNvSpPr/>
          <p:nvPr/>
        </p:nvSpPr>
        <p:spPr>
          <a:xfrm>
            <a:off x="4960800" y="4432320"/>
            <a:ext cx="224964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4" name="TextBox 11"/>
          <p:cNvSpPr/>
          <p:nvPr/>
        </p:nvSpPr>
        <p:spPr>
          <a:xfrm>
            <a:off x="5792760" y="451656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How I started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to see my husband</a:t>
            </a:r>
            <a:endParaRPr b="0" lang="en-US" sz="1600" spc="-1" strike="noStrike">
              <a:solidFill>
                <a:srgbClr val="000000"/>
              </a:solidFill>
              <a:latin typeface="Arial"/>
            </a:endParaRPr>
          </a:p>
        </p:txBody>
      </p:sp>
      <p:sp>
        <p:nvSpPr>
          <p:cNvPr id="545" name="TextBox 5"/>
          <p:cNvSpPr/>
          <p:nvPr/>
        </p:nvSpPr>
        <p:spPr>
          <a:xfrm>
            <a:off x="3865680" y="4516560"/>
            <a:ext cx="1787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How I started</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 </a:t>
            </a:r>
            <a:r>
              <a:rPr b="1" lang="en-US" sz="1600" spc="-1" strike="noStrike">
                <a:solidFill>
                  <a:srgbClr val="000000"/>
                </a:solidFill>
                <a:latin typeface="Arial"/>
              </a:rPr>
              <a:t>to see myse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pic>
        <p:nvPicPr>
          <p:cNvPr id="547" name="Content Placeholder 3" descr="diagram.gif"/>
          <p:cNvPicPr/>
          <p:nvPr/>
        </p:nvPicPr>
        <p:blipFill>
          <a:blip r:embed="rId1"/>
          <a:stretch/>
        </p:blipFill>
        <p:spPr>
          <a:xfrm>
            <a:off x="2897280" y="790560"/>
            <a:ext cx="4083120" cy="4086360"/>
          </a:xfrm>
          <a:prstGeom prst="rect">
            <a:avLst/>
          </a:prstGeom>
          <a:ln w="0">
            <a:noFill/>
          </a:ln>
        </p:spPr>
      </p:pic>
      <p:sp>
        <p:nvSpPr>
          <p:cNvPr id="548" name="TextBox 4"/>
          <p:cNvSpPr/>
          <p:nvPr/>
        </p:nvSpPr>
        <p:spPr>
          <a:xfrm>
            <a:off x="3060720" y="1333440"/>
            <a:ext cx="4149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should listen to the points of view of my subordinate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TextBox 6"/>
          <p:cNvSpPr/>
          <p:nvPr/>
        </p:nvSpPr>
        <p:spPr>
          <a:xfrm>
            <a:off x="5333040" y="3743280"/>
            <a:ext cx="1312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t>
            </a:r>
            <a:r>
              <a:rPr b="0" lang="en-US" sz="1400" spc="-1" strike="noStrike">
                <a:solidFill>
                  <a:srgbClr val="000000"/>
                </a:solidFill>
                <a:latin typeface="Arial"/>
              </a:rPr>
              <a:t>Self Betrayal”</a:t>
            </a:r>
            <a:endParaRPr b="0" lang="en-US" sz="1400" spc="-1" strike="noStrike">
              <a:solidFill>
                <a:srgbClr val="000000"/>
              </a:solidFill>
              <a:latin typeface="Arial"/>
            </a:endParaRPr>
          </a:p>
        </p:txBody>
      </p:sp>
      <p:sp>
        <p:nvSpPr>
          <p:cNvPr id="550" name="TextBox 7"/>
          <p:cNvSpPr/>
          <p:nvPr/>
        </p:nvSpPr>
        <p:spPr>
          <a:xfrm>
            <a:off x="3502080" y="4876920"/>
            <a:ext cx="4500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51" name="Straight Connector 9"/>
          <p:cNvSpPr/>
          <p:nvPr/>
        </p:nvSpPr>
        <p:spPr>
          <a:xfrm>
            <a:off x="5708520" y="4516560"/>
            <a:ext cx="0" cy="2336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TextBox 12"/>
          <p:cNvSpPr/>
          <p:nvPr/>
        </p:nvSpPr>
        <p:spPr>
          <a:xfrm>
            <a:off x="2046240" y="5049720"/>
            <a:ext cx="342432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ight</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ardworking</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mart</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dicated</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 know the answer</a:t>
            </a:r>
            <a:endParaRPr b="0" lang="en-US" sz="1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 am the only one who can do it</a:t>
            </a:r>
            <a:endParaRPr b="0" lang="en-US" sz="1600" spc="-1" strike="noStrike">
              <a:solidFill>
                <a:srgbClr val="000000"/>
              </a:solidFill>
              <a:latin typeface="Arial"/>
            </a:endParaRPr>
          </a:p>
        </p:txBody>
      </p:sp>
      <p:sp>
        <p:nvSpPr>
          <p:cNvPr id="553" name="TextBox 13"/>
          <p:cNvSpPr/>
          <p:nvPr/>
        </p:nvSpPr>
        <p:spPr>
          <a:xfrm>
            <a:off x="5792760" y="5048280"/>
            <a:ext cx="342432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rong</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competen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upi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ncommitt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y don’t know anything</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y cant handle it</a:t>
            </a:r>
            <a:endParaRPr b="0" lang="en-US" sz="1600" spc="-1" strike="noStrike">
              <a:solidFill>
                <a:srgbClr val="000000"/>
              </a:solidFill>
              <a:latin typeface="Arial"/>
            </a:endParaRPr>
          </a:p>
        </p:txBody>
      </p:sp>
      <p:sp>
        <p:nvSpPr>
          <p:cNvPr id="554" name="TextBox 18"/>
          <p:cNvSpPr/>
          <p:nvPr/>
        </p:nvSpPr>
        <p:spPr>
          <a:xfrm>
            <a:off x="4960800" y="4432320"/>
            <a:ext cx="224964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TextBox 11"/>
          <p:cNvSpPr/>
          <p:nvPr/>
        </p:nvSpPr>
        <p:spPr>
          <a:xfrm>
            <a:off x="5792760" y="4516560"/>
            <a:ext cx="276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How I start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 </a:t>
            </a:r>
            <a:r>
              <a:rPr b="1" lang="en-US" sz="1600" spc="-1" strike="noStrike">
                <a:solidFill>
                  <a:srgbClr val="000000"/>
                </a:solidFill>
                <a:latin typeface="Arial"/>
              </a:rPr>
              <a:t>to see my subordinates</a:t>
            </a:r>
            <a:endParaRPr b="0" lang="en-US" sz="1600" spc="-1" strike="noStrike">
              <a:solidFill>
                <a:srgbClr val="000000"/>
              </a:solidFill>
              <a:latin typeface="Arial"/>
            </a:endParaRPr>
          </a:p>
        </p:txBody>
      </p:sp>
      <p:sp>
        <p:nvSpPr>
          <p:cNvPr id="556" name="TextBox 5"/>
          <p:cNvSpPr/>
          <p:nvPr/>
        </p:nvSpPr>
        <p:spPr>
          <a:xfrm>
            <a:off x="3865680" y="4516560"/>
            <a:ext cx="1787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How I started</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 </a:t>
            </a:r>
            <a:r>
              <a:rPr b="1" lang="en-US" sz="1600" spc="-1" strike="noStrike">
                <a:solidFill>
                  <a:srgbClr val="000000"/>
                </a:solidFill>
                <a:latin typeface="Arial"/>
              </a:rPr>
              <a:t>to see myse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17"/>
          <p:cNvSpPr/>
          <p:nvPr/>
        </p:nvSpPr>
        <p:spPr>
          <a:xfrm>
            <a:off x="5989680" y="2725560"/>
            <a:ext cx="3154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Box problems</a:t>
            </a:r>
            <a:endParaRPr b="0" lang="en-US" sz="2000" spc="-1" strike="noStrike">
              <a:solidFill>
                <a:srgbClr val="000000"/>
              </a:solidFill>
              <a:latin typeface="Arial"/>
            </a:endParaRPr>
          </a:p>
        </p:txBody>
      </p:sp>
      <p:sp>
        <p:nvSpPr>
          <p:cNvPr id="55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59" name="TextBox 14"/>
          <p:cNvSpPr/>
          <p:nvPr/>
        </p:nvSpPr>
        <p:spPr>
          <a:xfrm>
            <a:off x="352440" y="2243160"/>
            <a:ext cx="4317840" cy="30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hen I betray myself I enter the box—I become self deceived</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late others faults</a:t>
            </a:r>
            <a:endParaRPr b="0" lang="en-US" sz="20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late own virtue</a:t>
            </a:r>
            <a:endParaRPr b="0" lang="en-US" sz="20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late the value of things that justify my self-betrayal</a:t>
            </a:r>
            <a:endParaRPr b="0" lang="en-US" sz="2000" spc="-1" strike="noStrike">
              <a:solidFill>
                <a:srgbClr val="000000"/>
              </a:solidFill>
              <a:latin typeface="Arial"/>
            </a:endParaRPr>
          </a:p>
          <a:p>
            <a:pPr>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lame others</a:t>
            </a:r>
            <a:endParaRPr b="0" lang="en-US" sz="2000" spc="-1" strike="noStrike">
              <a:solidFill>
                <a:srgbClr val="000000"/>
              </a:solidFill>
              <a:latin typeface="Arial"/>
            </a:endParaRPr>
          </a:p>
        </p:txBody>
      </p:sp>
      <p:sp>
        <p:nvSpPr>
          <p:cNvPr id="560" name="TextBox 15"/>
          <p:cNvSpPr/>
          <p:nvPr/>
        </p:nvSpPr>
        <p:spPr>
          <a:xfrm>
            <a:off x="5837400" y="3125880"/>
            <a:ext cx="3154320" cy="283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res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flic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oor teamwork</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munication problem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ack of motiv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ack of Trus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ad attitud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ack biting</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ack of commitment</a:t>
            </a:r>
            <a:endParaRPr b="0" lang="en-US" sz="2000" spc="-1" strike="noStrike">
              <a:solidFill>
                <a:srgbClr val="000000"/>
              </a:solidFill>
              <a:latin typeface="Arial"/>
            </a:endParaRPr>
          </a:p>
        </p:txBody>
      </p:sp>
      <p:sp>
        <p:nvSpPr>
          <p:cNvPr id="561" name="Rectangle 5"/>
          <p:cNvSpPr/>
          <p:nvPr/>
        </p:nvSpPr>
        <p:spPr>
          <a:xfrm>
            <a:off x="2795760" y="939960"/>
            <a:ext cx="6195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r>
              <a:rPr b="1" lang="en-US" sz="1800" spc="-1" strike="noStrike">
                <a:solidFill>
                  <a:srgbClr val="000000"/>
                </a:solidFill>
                <a:latin typeface="Arial"/>
              </a:rPr>
              <a:t>In the box” refers to when people see others as the source of problem. They see themselves as the center of the world and view others as objects, whose needs are secondary and less legitimate than their own. </a:t>
            </a:r>
            <a:endParaRPr b="0" lang="en-US" sz="1800" spc="-1" strike="noStrike">
              <a:solidFill>
                <a:srgbClr val="000000"/>
              </a:solidFill>
              <a:latin typeface="Arial"/>
            </a:endParaRPr>
          </a:p>
        </p:txBody>
      </p:sp>
      <p:sp>
        <p:nvSpPr>
          <p:cNvPr id="562" name="Rectangle 6"/>
          <p:cNvSpPr/>
          <p:nvPr/>
        </p:nvSpPr>
        <p:spPr>
          <a:xfrm>
            <a:off x="352440" y="5483160"/>
            <a:ext cx="5484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r>
              <a:rPr b="1" lang="en-US" sz="1800" spc="-1" strike="noStrike">
                <a:solidFill>
                  <a:srgbClr val="000000"/>
                </a:solidFill>
                <a:latin typeface="Arial"/>
              </a:rPr>
              <a:t>Out of the box” refers to when people see others as people. They can see that others too have cares, fears, hopes and ne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use this at work to make myself a better lea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others as people not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care about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what you say and 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place blame on 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ciate 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inc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2-11-07T20:30:29Z</dcterms:modified>
  <cp:revision>32</cp:revision>
  <dc:subject/>
  <dc:title>Leading with Impact</dc:title>
</cp:coreProperties>
</file>