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8B25-BAB9-4C14-90D0-084C35E04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8EBC-ACD0-48AA-BD30-D63846D00CE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2101C-6C9E-4402-AA12-528F5D2E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3AD35-4BC6-48D1-9BD9-E2BEA8D0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5CD3A-ADBC-47A9-A3FB-58CB10FF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F1C0D-682F-44E9-8FE9-0DB7565C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55B71-13C7-426F-A49A-5CB4FC77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B23DF-338C-46AD-A7C9-81DDE6E0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8CE99-A106-4BAF-9C4A-5685E031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8B444-F43A-4DA1-833D-CBFAA864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94FEE-3799-49E3-B843-A4356A47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78EC89-35DD-4E0D-BC68-12D1BA35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3CC5-986B-4A93-984A-24B0E80AF7B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178A5-B2A8-47DF-ADAC-09AEEF28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D65BC-C53B-4E82-AF1C-99B86711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47497-8C26-48AC-A3DC-614E18CB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9CEE4-ABD3-437A-BAFC-F380AF68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EB0C3-0636-46AF-87AD-4373242D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4D84B-1D2A-43B1-9A9F-E3B49AA3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45E9D2-F8D8-47C3-B421-17B40940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6BF611-6614-40BA-8399-D5631C46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AB769-41E8-48B3-A434-9D012527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BDDFA-6ED5-4CF4-BC76-A67260B0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A807-193F-4DE9-ACE6-E4B2BDD0611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E19D2-203B-4A20-BA99-A2489486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5C30CE-AFBA-4BBB-AC6D-EED4D3C7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256D29-5563-4F4D-8969-3BE4852B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E7AB1E-F399-45C0-8ABC-F88EBBCD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027F53-604B-4B6B-82B4-E25A04E5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F63ADD-8B02-4B50-A830-DB3870D8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0CA049-B9EF-412F-A265-9DDBEF43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FAC0EA-6A67-4E53-B1F0-ED1522A6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3FC8A2-CA9E-4E47-A5B5-4B66A135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96C70D-CCBF-4207-ADF8-E12370D7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1A5C0-D69F-4606-BD7B-206685AC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23DDA3-CD1B-4A9C-9D2C-33D68040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D15D91-00AD-4950-92B6-706020DE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E6E6CF-9AB3-45DA-AFE1-1A8E1445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F6F21-4CC9-41EE-A9DE-1442B044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E76EC-8A50-4255-8E4C-AAB833DE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D74D1-EE9D-4F64-9421-485539B5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632F83-116E-401A-9AC8-AD1DE4C2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5BE18-ECE4-410C-883B-8DDD2180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CA702-F9DA-4AD9-BFD4-26D94D0D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CD15C-742B-42F5-B108-8E4C6A0D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C9F1D-593A-4F47-BB4B-D0237E6B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C9065-2B97-41BA-B341-F7D652C7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229C3-FA25-4B28-BF39-EF50E368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7EC5D-AF58-4166-866A-1B01967F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4D305-AD08-42ED-9ADC-7B6E40D3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C3B71-7890-4A2C-A728-FA6E60C3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0EED6-A6F3-4559-A31D-406D170D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596AA-5092-4E32-8632-6F5D01E1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91D26-2920-4FB5-A96B-89009916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0DC91-1A86-40F8-A3D0-816757ED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F935F-EABF-47E6-8DDC-015F12C0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A5B4-28B3-4B9B-A84E-211AB93FB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7BD8C-7A6A-4D3A-A47E-DD4B340C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3A25B-4A68-434A-A3BE-8620F66C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86B65-7BC0-4E3C-B23A-BAD2B307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F09DB-8ED4-4AFF-89A9-362132E7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704F7-40ED-463E-9F99-17D2FB3F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157768-FE66-4C59-9AF9-E44E5CFA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459477-1A07-4B46-A3A3-A913F108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AD18C3-FD6B-4070-A2D4-C566D937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494578-5FD7-4D4C-A362-FD722AA2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99AB97-A638-42FD-8763-625AD55B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8166-C88A-4C48-A3D2-0F97F83130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4E1764-2283-4C3C-8D3E-9EEB0EDC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135B51-867B-41D4-BB90-C6514C14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73888A-8AEC-4B34-BE80-D4B5F471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6E5FD5-EB6F-431A-A52E-676669A2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CD123E-91CE-4699-9DA6-99B11061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254164-140A-4E14-A807-EFCCA5B2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80158A-E9BE-476E-AB32-957108EE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F3DFA9-3EA4-46F9-BCA6-E6AA493E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01751-CB61-42AE-A19C-05F581A4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1C0177-133C-4848-AF19-2825AF30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2290-4DB4-4737-87B7-1D4F11B93B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93BDF2-29EA-4234-B022-6BD72993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B3CDA2-F394-4CB8-8525-8B4D34A6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2F810E-AFA0-4788-8100-7A2A3DA0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7F1BFB-B8E9-47DD-9267-8E50D109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831D35-C548-403A-B62E-03C4D3D8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5A44EF-1885-4258-8913-FDCD6CE6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B81FF3-A2F5-4E97-878E-3B26E868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ECD346-CA56-4D57-9B00-24F42D31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20E6CD-470A-45DB-9519-56B76A76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2DDB72-B80B-4B1D-97A1-304FF7E7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AB87-90E6-4058-9413-77F5161A280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0A9196-5163-4FA3-827E-5C983541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077E1F-4C14-4D3E-A027-E0B1B9E0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D60B2F-8C4E-40EC-B9A6-984D1941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667A28-3954-49A5-86F9-0296E8CB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1D405E-A857-42B0-8752-33B7ED37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4776E6-3311-486C-9D5C-20AAAF4F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1F3F84-A53A-4587-916E-CD6C2134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8714F0-CB0C-49B6-8755-D9398EAD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9B3D2A-331D-4361-9C58-94E6A006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AB55D3-4418-4C4C-B0F1-55422E22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112D-618D-4765-9B9A-1028037E41C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0ADACE-14B5-48E9-8B64-9BD17D06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6D4FEA-6EAE-4714-8D62-2A1D9AFB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3224B6-2A09-4D0E-9A37-84EB565A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75159E-10D1-4328-B1B6-EAD396B1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C14726-00F7-4DC0-8B5A-7815B4E3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F9F800-C536-470C-8710-E58D4FAB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BA9B61-4CF6-4AF1-8069-687157DE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C13622-B0D7-48E7-904E-D4809AF0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06049E-A48B-4803-8AC2-E8D02A85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1F05D6-C00B-4822-9A05-FB043BAC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C189-BB3F-4D00-AF6B-993DF1067FB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C20438-4321-4D4A-BD17-DA408FA5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1BB14A-C695-42B2-B6B9-22DF4CB0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A3379F-FBC3-4C65-B1D0-79A7293D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EB8E0D-F8F2-43C0-B087-E2C4FA99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3A9B1C-F3F6-45B4-AF0D-4F28E41F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BFA817-3BDC-4030-87D1-5A66D68D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56E008-1933-4290-9A7F-3DC47195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56DD4B-E231-450C-A507-012D9F41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FBCA74-4003-47EF-A7D0-4BC37AB3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FB5ABB-1A47-4EFF-ACB8-0FDE4B88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B5FB-33D8-4846-9C82-3909CCA4277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B8B761-1D46-4BA9-9C9B-952C1CD0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637443-8166-40E4-BB55-CFD07CD5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3A6D89-D89D-4F19-B9CA-0B64DFCD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A9C69B-4589-4EC4-BCC8-8A2A7F9C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9F3B87-58F0-4E34-A197-7632E08C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46350D-82C9-4A31-AC0B-5BC18227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CA6B96-18B4-4F79-8C0D-5CDCBBC9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885D2A-7952-44C5-BDEE-BD592535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D48E75-7AE5-4EE8-9FED-0F46E180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A15B9D-CDDA-4F7C-AC36-4114AD19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3BBB-9918-4EA4-9439-6F007CAAD85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B8AE79-0131-4B69-917C-6614739E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5D40AB-BD10-4EE0-B18D-16E0AAC0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F351C3-6D77-4F9F-AE08-AC31FE68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AD6BE5-1FC1-4F43-98E2-C6434A66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FEE4C0-8D18-4531-BC38-08658199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C03CB7-64C1-4EAD-A8E1-AFBEEAF3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1A96CD-BEC3-4E1B-B6A2-B0471040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EAD8E-A802-466D-87DC-87455DC4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3817B-5858-4ABC-B0D0-8F1CF865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F304A-54D9-46A9-A60B-809957CC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598D2-1C07-4B9D-80C4-8092853D1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A1C7B-6DF2-448C-AD9C-3A264DD966F3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3499B-5377-4329-BAAB-EAA59CCC0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A0AB6-9E54-4FAF-A069-871432CF591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7D846-64EA-4245-A40C-4BCD74F83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E9FE6-D12D-4EF9-A2E0-08E9680AB23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D1341-A47B-444C-B5CE-4AC6DB923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0D48F-C510-4580-8187-D5B7DC0F3BD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E8702-5E4B-4737-BD1D-1D434543B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B4986-D2E0-4EB8-9C9A-5D90FBA545F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4BC37-123D-443E-B62B-4A5DB39D3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C598F-23AD-447D-AE2B-1994720DE64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B641E-E774-41B7-8C4A-5731C10CF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9C463-2B5F-4071-B875-9FCA1ACFB3C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8CE17-7446-4516-91F2-612699E43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30D82-75AB-4D6D-869F-91D64BE74D9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D8C2B-84C1-4523-90E3-9BD7A76C6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D323D-CD5B-4D2C-AA34-807D83BBFF7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28324-7F17-434C-899E-A9557AB90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87F8A-BDDF-4865-9DB7-B13E5CA891A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63C1A-806C-4B14-9061-456FEAC61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624F5-64C4-4BA8-B1A1-84CF679222D3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69650-1C6A-4BC9-A59B-1307BB442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mazon.com/gp/customer-media/product-gallery/044654146X/ref=cm_ciu_pdp_images_0/175-0157377-0207001?ie=UTF8&amp;index=0&amp;isremote=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Bo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 – (Sam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-Up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:  Dan Senor and Saul S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" descr="Start-up Nation: The Story of Israel's Economic Mirac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26040" y="1427040"/>
            <a:ext cx="4308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32732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 and failure inter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to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ur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influence on private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xed, in-formal and respective with Senior Leaders (nickna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and neighbors influence business, military, companies and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34136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dose of Israel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utzpa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gall, brazen nerve, effrontery, incredible ‘guts,’ presumption plus arrogance such as no other word or no other language can do justi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litary [Israeli] gets you at a young age and teaches you that when you are in charge of something, you are responsible for everything that happens…and everything that does not happe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y nation and, indeed, for the world, the stakes of increasing innovation are tremendou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ulti-tasking mentality produces an environment in which job titles – and the compartmentalization that goes along with them – don’t mean m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sraeli penchant for technological mashups is more than a curiosity; it is a cultural mark that lies at the heart of what makes Israel so innovative.  It is a product of the multidisciplinary backgrounds that Israelis often obtain by combining their military and civilian experienc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349280"/>
            <a:ext cx="82296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between Israeli military to civilian workforce transition and US military to civilian workforce tran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innovation and motiv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ability at all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developed during military careers and continued afterwards. “Someone knows someone who can hel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affects their economy, business, cul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’ accessibility to Senior Israeli lea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 and current events which fashioned Israel’s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ing technique of smashing disciplines and technologies to create new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ing the Israeli model is difficult for some and not possible for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put the book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9:44:24Z</dcterms:created>
  <dc:creator>Trish Mooney</dc:creator>
  <dc:description/>
  <dc:language>en-US</dc:language>
  <cp:lastModifiedBy>Trish Mooney</cp:lastModifiedBy>
  <cp:lastPrinted>2011-06-13T12:29:39Z</cp:lastPrinted>
  <dcterms:modified xsi:type="dcterms:W3CDTF">2012-08-22T19:50:26Z</dcterms:modified>
  <cp:revision>29</cp:revision>
  <dc:subject/>
  <dc:title>Leading with Impact</dc:title>
</cp:coreProperties>
</file>