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CA58A-5A99-4C5C-A7A0-8350885EE75B}"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6F019-9792-4E27-A803-0893784C695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17440" y="696960"/>
            <a:ext cx="4648320" cy="3486240"/>
          </a:xfrm>
          <a:prstGeom prst="rect">
            <a:avLst/>
          </a:prstGeom>
          <a:ln w="0">
            <a:noFill/>
          </a:ln>
        </p:spPr>
      </p:sp>
      <p:sp>
        <p:nvSpPr>
          <p:cNvPr id="55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9739D-D64E-4AD5-ACC0-0235EB519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17440" y="696960"/>
            <a:ext cx="4648320" cy="3486240"/>
          </a:xfrm>
          <a:prstGeom prst="rect">
            <a:avLst/>
          </a:prstGeom>
          <a:ln w="0">
            <a:noFill/>
          </a:ln>
        </p:spPr>
      </p:sp>
      <p:sp>
        <p:nvSpPr>
          <p:cNvPr id="55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351000" indent="0">
              <a:lnSpc>
                <a:spcPct val="80000"/>
              </a:lnSpc>
              <a:spcBef>
                <a:spcPts val="41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Leaders and managers are not the same. While leaders may be effective managers, not all managers can rightfully be called leaders. Managers who are leaders inspire, motivate, and energize people with their clear visions and strategies towards a shared goal. On the other hand, mainstream and traditional managers are short-term oriented, and more concerned with day-to-day activities. Nevertheless, they are efficient at organizing, allocating, controlling, and monitoring resources.</a:t>
            </a:r>
            <a:endParaRPr b="0" lang="en-US" sz="1100" spc="-1" strike="noStrike">
              <a:solidFill>
                <a:srgbClr val="000000"/>
              </a:solidFill>
              <a:latin typeface="Calibri"/>
            </a:endParaRPr>
          </a:p>
          <a:p>
            <a:pPr marL="351000" indent="-346320">
              <a:lnSpc>
                <a:spcPct val="80000"/>
              </a:lnSpc>
              <a:spcBef>
                <a:spcPts val="414"/>
              </a:spcBef>
              <a:buClr>
                <a:srgbClr val="000000"/>
              </a:buClr>
              <a:buFont typeface="Calibri"/>
              <a:buAutoNum type="arabicPeriod"/>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Creating Positive Influence: Each person has the potential to exert influence in any given situation or with any group. There are five stages of influence that individuals move through alongside five levels of leadership. The key to progression is to understand one’s present source of influence and level of leadership. Further, advancement to the next level can only happen once an individual has excelled in the present level.</a:t>
            </a:r>
            <a:endParaRPr b="0" lang="en-US" sz="1100" spc="-1" strike="noStrike">
              <a:solidFill>
                <a:srgbClr val="000000"/>
              </a:solidFill>
              <a:latin typeface="Calibri"/>
            </a:endParaRPr>
          </a:p>
          <a:p>
            <a:pPr marL="351000" indent="0">
              <a:lnSpc>
                <a:spcPct val="80000"/>
              </a:lnSpc>
              <a:spcBef>
                <a:spcPts val="41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Level one: position. Level two: permission/relationships. Level three: production/results. Level four: people development/reproduction. Level five: personhood.</a:t>
            </a:r>
            <a:endParaRPr b="0" lang="en-US" sz="1100" spc="-1" strike="noStrike">
              <a:solidFill>
                <a:srgbClr val="000000"/>
              </a:solidFill>
              <a:latin typeface="Calibri"/>
            </a:endParaRPr>
          </a:p>
          <a:p>
            <a:pPr marL="351000" indent="0">
              <a:lnSpc>
                <a:spcPct val="80000"/>
              </a:lnSpc>
              <a:spcBef>
                <a:spcPts val="41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2.  Setting The Right Priorities, What sets a leader apart is the ability to think ahead and prioritize responsibilities.  The principles of priority: Use the Pareto Principle as your guide. The principle states that 20 percent of priorities will give 80 percent of one’s production. Spend time, energy, money and personnel on twenty percent of the priorities.</a:t>
            </a:r>
            <a:endParaRPr b="0" lang="en-US" sz="1100" spc="-1" strike="noStrike">
              <a:solidFill>
                <a:srgbClr val="000000"/>
              </a:solidFill>
              <a:latin typeface="Calibri"/>
            </a:endParaRPr>
          </a:p>
          <a:p>
            <a:pPr marL="351000" indent="0">
              <a:lnSpc>
                <a:spcPct val="80000"/>
              </a:lnSpc>
              <a:spcBef>
                <a:spcPts val="41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3.  Modeling Integrity:  Eighty nine percent of what people learn comes from what they see, ten percent from what they hear, and one percent from other senses. Thus, true leaders need to be consistent in words and in action and behavior.</a:t>
            </a:r>
            <a:endParaRPr b="0" lang="en-US" sz="1100" spc="-1" strike="noStrike">
              <a:solidFill>
                <a:srgbClr val="000000"/>
              </a:solidFill>
              <a:latin typeface="Calibri"/>
            </a:endParaRPr>
          </a:p>
          <a:p>
            <a:pPr marL="351000" indent="-346320">
              <a:lnSpc>
                <a:spcPct val="80000"/>
              </a:lnSpc>
              <a:spcBef>
                <a:spcPts val="414"/>
              </a:spcBef>
              <a:buClr>
                <a:srgbClr val="000000"/>
              </a:buClr>
              <a:buFont typeface="Calibri"/>
              <a:buAutoNum type="arabicPeriod" startAt="4"/>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Creating Positive Change: A leader who is receptive to new ideas and is willing to make personal changes before asking others to follow him has the makings of a successful change agent. </a:t>
            </a:r>
            <a:endParaRPr b="0" lang="en-US" sz="1100" spc="-1" strike="noStrike">
              <a:solidFill>
                <a:srgbClr val="000000"/>
              </a:solidFill>
              <a:latin typeface="Calibri"/>
            </a:endParaRPr>
          </a:p>
          <a:p>
            <a:pPr marL="351000" indent="-346320">
              <a:lnSpc>
                <a:spcPct val="80000"/>
              </a:lnSpc>
              <a:spcBef>
                <a:spcPts val="414"/>
              </a:spcBef>
              <a:buClr>
                <a:srgbClr val="000000"/>
              </a:buClr>
              <a:buFont typeface="Calibri"/>
              <a:buAutoNum type="arabicPeriod" startAt="4"/>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100" spc="-1" strike="noStrike">
                <a:solidFill>
                  <a:srgbClr val="000000"/>
                </a:solidFill>
                <a:latin typeface="Calibri"/>
              </a:rPr>
              <a:t>Problem Solving:  The test of a genuine leader is the ability to recognize a problem before it becomes an emergency. Nonetheless, when problems arise, true leaders are willing and prepared to manage the problems.</a:t>
            </a:r>
            <a:endParaRPr b="0" lang="en-US" sz="1100" spc="-1" strike="noStrike">
              <a:solidFill>
                <a:srgbClr val="000000"/>
              </a:solidFill>
              <a:latin typeface="Calibri"/>
            </a:endParaRPr>
          </a:p>
        </p:txBody>
      </p:sp>
      <p:sp>
        <p:nvSpPr>
          <p:cNvPr id="5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95669-F5AE-425F-AB6A-90718A133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17440" y="696960"/>
            <a:ext cx="4648320" cy="3486240"/>
          </a:xfrm>
          <a:prstGeom prst="rect">
            <a:avLst/>
          </a:prstGeom>
          <a:ln w="0">
            <a:noFill/>
          </a:ln>
        </p:spPr>
      </p:sp>
      <p:sp>
        <p:nvSpPr>
          <p:cNvPr id="5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  leadership is having the right positive attitude:  </a:t>
            </a:r>
            <a:r>
              <a:rPr b="0" lang="en-US" sz="1200" spc="-1" strike="noStrike">
                <a:solidFill>
                  <a:srgbClr val="000000"/>
                </a:solidFill>
                <a:latin typeface="Calibri"/>
              </a:rPr>
              <a:t>Without the right positive attitude, successful leaders would not have reached their full potent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7.  leadership is developing people:  </a:t>
            </a:r>
            <a:r>
              <a:rPr b="0" lang="en-US" sz="1200" spc="-1" strike="noStrike">
                <a:solidFill>
                  <a:srgbClr val="000000"/>
                </a:solidFill>
                <a:latin typeface="Calibri"/>
              </a:rPr>
              <a:t>Successful leaders understand the importance of developing people who can help realize the leader’s vision and dre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8.  leadership is having a vision:  </a:t>
            </a:r>
            <a:r>
              <a:rPr b="0" lang="en-US" sz="1200" spc="-1" strike="noStrike">
                <a:solidFill>
                  <a:srgbClr val="000000"/>
                </a:solidFill>
                <a:latin typeface="Calibri"/>
              </a:rPr>
              <a:t>A vision is a clear picture of what the leader sees his or her group being or doing. Great leaders know where they are going and they are able to persuade others to follow. But leaders can never take their people farther than they have traveled. Like leader, lik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9.  leadership is self-discipline:  </a:t>
            </a:r>
            <a:r>
              <a:rPr b="0" lang="en-US" sz="1200" spc="-1" strike="noStrike">
                <a:solidFill>
                  <a:srgbClr val="000000"/>
                </a:solidFill>
                <a:latin typeface="Calibri"/>
              </a:rPr>
              <a:t>Leaders take a grip of their lives and take control of areas that bring them success or fail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10.  leadership is developing staff:  </a:t>
            </a:r>
            <a:r>
              <a:rPr b="0" lang="en-US" sz="1200" spc="-1" strike="noStrike">
                <a:solidFill>
                  <a:srgbClr val="000000"/>
                </a:solidFill>
                <a:latin typeface="Calibri"/>
              </a:rPr>
              <a:t>The growth and development of people is the highest calling of leadership.</a:t>
            </a:r>
            <a:endParaRPr b="0" lang="en-US" sz="1200" spc="-1" strike="noStrike">
              <a:solidFill>
                <a:srgbClr val="000000"/>
              </a:solidFill>
              <a:latin typeface="Calibri"/>
            </a:endParaRPr>
          </a:p>
        </p:txBody>
      </p:sp>
      <p:sp>
        <p:nvSpPr>
          <p:cNvPr id="5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8531F-E787-44C0-B3CC-0747057F3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17440" y="696960"/>
            <a:ext cx="4648320" cy="3486240"/>
          </a:xfrm>
          <a:prstGeom prst="rect">
            <a:avLst/>
          </a:prstGeom>
          <a:ln w="0">
            <a:noFill/>
          </a:ln>
        </p:spPr>
      </p:sp>
      <p:sp>
        <p:nvSpPr>
          <p:cNvPr id="56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5FE3A-11B8-4AB8-9F5A-09363A4B0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D8055-CE77-4BBB-A4C9-9E6394C4C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9631A-90D7-4AB9-96E1-E06DD3F59D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44BFCA-5F2C-4A1E-939D-6ACAE8E9BD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8F2FC16-99FF-4C72-8746-543F40BEB0F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6B8F51A-5BD3-46EF-AB62-C391B6B0EBF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0F56FA-A363-4A20-923B-DA2AB37F0E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DC675B8-FE80-46D4-9A34-FA25DC3AA80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3C04B8-CD91-4CC8-9035-6B0E9F657C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81924A1-7B28-4F5A-982A-5DF36F1BAB9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A098007-C2B9-4C2B-8121-0BC7F1BDAFF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5E208E0-DCE7-4BC9-AF07-FF8D35E7637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2972D1A-5CB2-44A5-8B7D-80188B3FE5B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4B99D-56E1-4632-99E3-20B978826F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40DD2B5-C463-46D4-804E-483F3116889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504D41F-D408-4195-9991-B2CEB93AC89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24687B7-CC5A-4D8A-B5E6-AE8994F49F1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234F2E7-FEE1-4CAE-A6D2-D6AEC29337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ECFA503-C5D5-4C13-80F8-8B039032CC7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1F5E62D-595F-4989-952F-8147850AC0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F7E564-E250-40BC-B08A-E7544BD57B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F384C8-15CF-4E12-9F85-A29C78777D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903170C-6EAC-4A76-BDB2-A3290CA8CC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3E932A-830F-451B-9103-760BE5B7F0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A6E88-3177-42A0-B383-E6DAD1475CF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FB709CF-7398-4FA0-8743-FAADADB1A99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A79B4C7-BE99-4804-9A67-DF1228066F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8DC26A3-6ABC-4B44-B4A4-2107AA9DE8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B631A71-DFD0-4D6C-AD3C-8F807A438C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C13E3C1-AA96-4D0A-A566-8D8757350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738A39F-97A3-461B-93FC-1DA231910F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F65579F-258F-401B-B34B-835AC1DE1C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70C2337-8B8A-499C-B992-16F0ED357D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FBB7442-EF7D-4EB7-BFCD-BB267EB69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540EEF0-57B6-48AA-ABA2-1A44B776E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D27236-EEF7-4D4F-BEF2-8F3EC88BD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D8C1BB4-DB90-41D0-9234-1CF095E621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B4B7E83-5DA1-45A4-A272-1546543BBD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DFFFED6-7F6B-4604-ADF4-4276C828D4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4EBDEEB-80FB-41B2-83AF-B68E02B3A7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91E8A3C-2E4D-40DF-9EBB-0A70256B57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CC9115-3C51-4120-8FDC-3CEDEDF789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C9E486A-17E3-4FB1-93DD-F8FE5BD221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58BD36-D1CF-4FDD-9E39-7BE43AF37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6CC4A36-FCE6-463A-9C1C-8E03A7DDC8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1DB89A8-5493-4CB1-BBA2-74C7CD3546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B133A2-2363-4214-9782-25F1B2B9B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BA86E7-200E-4CF7-94A9-81B49B1632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5C09B36-9F01-4E14-9FFB-CFE1E7AA1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A43DEDD-FF99-4532-80A0-123289311A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DD9A0D0-0FEE-4998-857C-9085274710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925F16B-5436-4030-AE8D-BB7BBEC752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E7D8B1-D760-4200-A079-BF19D3BEE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B053FE-8547-473F-8723-C0575338C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36B026-A15D-46A2-8FC8-09915BADA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772D9B-9A84-4FDA-80E8-41424F0D4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3E32FF-3DDF-448C-A0AE-CA4E76880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4BF05-D987-44A9-A9F3-119555E84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A9A55B-065E-4BC2-A25D-3618517BA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70D627-4CB8-4522-83F1-9C90FF4E54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382049-9B49-441C-8EDB-274982D39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31DF2E-E133-4EDE-BDD5-C9046EB82A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CE41DA-086D-44E9-AAFA-C29024E6FB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7DBBC87-C4CA-4A13-BCB5-2F490EA7A0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9AD8D4-C110-4A9B-9868-7D195FDD3D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24B7E06-285B-4849-8CA9-C276F819F3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ABCDAD-A26C-4ABC-8AE7-484574D01F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894975D-F611-438D-9D67-959954F756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B24FB-447C-41F5-8856-138864EBC1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159981-B973-4C97-99A3-B8682FD82A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8D136E-C83D-419C-BC39-91AA4DDD77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FAF8BE-2B6B-41F5-B4A1-140BF3867D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CD47A7-D9BF-43EC-8BE5-905C7E4F86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6CA456-0B32-4379-BBFC-A6FC76DB58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54A9CE3-8970-45B0-8A3E-D4DF34AA1B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8F0C705-12AD-4D86-8B05-D639559416B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D91C8D6-E37E-4011-A41D-CBA7B34C804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F97B73-12DC-4393-9598-E82417CBDDF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A75994-832B-4F97-A4BF-0AED32598DE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27C29-71D7-4664-A739-305FF664FA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A1DE51-C3EB-448F-B4C5-C64839FD160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3D3135-C936-42B7-99B2-C634DF8D88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CE91819-37F5-4519-A28B-9B1B3770165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3F8672-A42F-4AE6-8A66-BA961AE769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F39C22-8883-4A3F-845A-83F5173022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B2EAC2-1D92-4CEC-80BD-FE9DA1B648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2E4251-4D51-4B7E-AC15-ED25CC0EB0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1E9A8D3-4950-4B8A-B68B-C363354F5B7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522D43-2103-46A4-B36F-5B0A1C15007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1BF5399-3CE1-44C5-9156-17AF862CF3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56A5896-32D1-4674-A5C7-85E42F1CC1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40F439-CF66-4C21-96CF-423B462AE3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A61B6C-FC27-4CFC-9CB5-E0C828B7ED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9201795-16C1-4BE4-98CE-9CA3636EBF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FEAEBFB-8982-450B-A872-1EC7F17B46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AE64FC-A500-49B2-8DD1-5002D58EC4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3905CC-17FB-4C58-9527-E32FFBC01B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7ACDFD-7ADC-48DA-9F1D-8ADB446D42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59B857-2148-46FF-B2B3-EA71FCB6AE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E6A0061-CCA4-47FA-8D20-4CCB9E954C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917D028-2EA0-461D-8E13-6267178687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935E1BC-7F5F-4ECA-A4C9-4B856831AD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5F647C1-39C7-4B37-A992-7FCE1F1F0D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7C8CF1A-4BDC-4728-B9A8-4A6A9A3CA09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DE63E5A-EE3B-4339-982D-345DA5E9535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136CB17-6A8F-49A0-A1C1-EF7E531B17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F4E710-733C-4AFE-A90A-80BE11436FE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7F3412-35F0-4C25-80D8-94D104E55C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F29385A-2391-41DC-8F13-26B4F5BAF55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8D0BB8-4C8D-4DA5-B7DF-92083190AF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EB3B77-D31A-4E37-B77D-EA129D93AC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DC6798-CCE8-424A-820C-B9227F9ED0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2607E-5154-460E-8057-7B1A17075E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C7A46E-AF44-4780-AEA4-09DE332A4F9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0EB037E-8764-45D8-A17A-A244A720489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C5F3F8E-CDC4-4034-B855-A40D0C784E1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49183A4-4AE7-416F-9BE1-AB73C289A8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F0DFC7-2CB3-4C82-BDD4-DD7F9D2B14F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3809B6-CFD9-485C-85F8-A8DE69660C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30AE5B4-3710-4BC7-BD96-4394F1D9D1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CC8F606-6931-41B5-86D5-3941FA25B0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78817D5-220B-4188-8409-AEBC5CA6315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4170AC-35EA-4B19-875C-A96C03D044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B95F6-72E9-4933-9278-31D09E53F0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CF67C1-7E4B-4092-9F11-EAE40AF8320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61383A-C375-48DE-8E86-958CB54A343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137CE2-0201-441C-A52C-2369B79DF9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95E0DD2-443B-41C2-937B-4DF43FC0F20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D933B30-7895-4F07-B00A-7973F85ABB4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97D7328-386F-47B2-926D-65FFFE091D9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7290FA-03B0-43B8-A2C3-AB220B1CC6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D109369-9E34-4EFE-A1EC-570C97A6D0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C488D4-0C4E-4C0F-8850-356F5778766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A91D9A8-45AA-40FD-B1E3-D2B7626967A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F9A4A-DCF8-47E9-BA5D-2474C910B8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3B4CBEE-88FB-48E2-B65B-F476DA3FB7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37FE52-A9F0-43CE-B11E-9E222DC7200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BCF047-37F7-4477-BA30-5634449DF94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17DE59-6F8B-426C-A6C8-F0759B7EBCE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B91E09F-2773-4B71-A35E-BCF8E557AD3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EA04287-0FD7-467A-BAF7-D774ED5E224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6AB0C46-9ADA-4609-B5D4-85E0FE3DB66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786F6B3-5035-4D97-A848-DF5B94AA271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7E9050C-F3C5-4AE2-852D-0B949736EC8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7092C00-57C0-47D3-8D9A-AF2CC73CD17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7ECEB-55D7-484E-9520-563EC36C0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A3FF4-A4C8-4C19-B05E-03A3B53012A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02C6A-DB9A-4360-A032-B52BF9F6A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550B2-D586-47E7-A9E8-7D35D26CE13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2A4EA-838B-465F-B718-2A242F87E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6AC70-2177-44F8-96A1-9CDFF9722E1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B7F69-A29E-4065-A9FE-60A1C11FF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C391B-9809-4A2C-909E-E0DD9E36C91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FFE9E-E808-414D-B0ED-CA7B68E89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B7E7B-633C-4D27-88CD-AA2124111F7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419D8-2927-40C3-A84E-0FB8C0F43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B5864-5D51-4087-A957-7EAAD5CED53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52725-D0A8-4703-8725-107B1ADA9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8EEC7-3A91-4B01-9587-8E4AD70EF67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FB530-D192-4663-B8BB-C693E591C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D505C-77E2-4E66-AA89-7A7CB75B48C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9F9F3-7A71-457C-A3C7-50B8F902E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AF32C-74F8-4E74-9636-DCA4CE29FC9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B9301-FBDC-48E5-9FAC-39C838A09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4E7A9-F705-4411-A49C-4EC32BDBF1F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5F6AB-3A2C-4FED-A5BA-56CC39805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B5B12-3485-471B-B551-D114395AAFE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D0E3E-1D10-42D6-A403-B627CA58E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urt Schultz</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Leader Within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 Max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8" name="Picture 5" descr=""/>
          <p:cNvPicPr/>
          <p:nvPr/>
        </p:nvPicPr>
        <p:blipFill>
          <a:blip r:embed="rId1"/>
          <a:stretch/>
        </p:blipFill>
        <p:spPr>
          <a:xfrm>
            <a:off x="5425920" y="1047600"/>
            <a:ext cx="3152880" cy="476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 and managers are not the sam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 principles are: </a:t>
            </a:r>
            <a:endParaRPr b="0" lang="en-US" sz="2800" spc="-1" strike="noStrike">
              <a:solidFill>
                <a:srgbClr val="000000"/>
              </a:solidFill>
              <a:latin typeface="Arial"/>
            </a:endParaRPr>
          </a:p>
          <a:p>
            <a:pPr lvl="1" marL="8002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Positive Influence</a:t>
            </a:r>
            <a:endParaRPr b="0" lang="en-US" sz="2000" spc="-1" strike="noStrike">
              <a:solidFill>
                <a:srgbClr val="000000"/>
              </a:solidFill>
              <a:latin typeface="Arial"/>
            </a:endParaRPr>
          </a:p>
          <a:p>
            <a:pPr lvl="1" marL="8002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The Right Priorities </a:t>
            </a:r>
            <a:endParaRPr b="0" lang="en-US" sz="2000" spc="-1" strike="noStrike">
              <a:solidFill>
                <a:srgbClr val="000000"/>
              </a:solidFill>
              <a:latin typeface="Arial"/>
            </a:endParaRPr>
          </a:p>
          <a:p>
            <a:pPr lvl="1" marL="8002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Integrity</a:t>
            </a:r>
            <a:endParaRPr b="0" lang="en-US" sz="2000" spc="-1" strike="noStrike">
              <a:solidFill>
                <a:srgbClr val="000000"/>
              </a:solidFill>
              <a:latin typeface="Arial"/>
            </a:endParaRPr>
          </a:p>
          <a:p>
            <a:pPr lvl="1" marL="8002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Positive Change </a:t>
            </a:r>
            <a:endParaRPr b="0" lang="en-US" sz="2000" spc="-1" strike="noStrike">
              <a:solidFill>
                <a:srgbClr val="000000"/>
              </a:solidFill>
              <a:latin typeface="Arial"/>
            </a:endParaRPr>
          </a:p>
          <a:p>
            <a:pPr lvl="1" marL="8002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a:t>
            </a:r>
            <a:endParaRPr b="0" lang="en-US" sz="2000" spc="-1" strike="noStrike">
              <a:solidFill>
                <a:srgbClr val="000000"/>
              </a:solidFill>
              <a:latin typeface="Arial"/>
            </a:endParaRPr>
          </a:p>
        </p:txBody>
      </p:sp>
      <p:sp>
        <p:nvSpPr>
          <p:cNvPr id="541" name="Rectangle 3"/>
          <p:cNvSpPr/>
          <p:nvPr/>
        </p:nvSpPr>
        <p:spPr>
          <a:xfrm>
            <a:off x="4587840" y="5380200"/>
            <a:ext cx="446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A vision is a clear picture of what the leader sees his or her group being or doing. Great leaders know where they are going and they are able to persuade others to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 principles (co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Having The Right Positive Attitud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Developing People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Charting The Vision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Practicing Self-Discipline And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Developing Staff</a:t>
            </a:r>
            <a:endParaRPr b="0" lang="en-US" sz="2000" spc="-1" strike="noStrike">
              <a:solidFill>
                <a:srgbClr val="000000"/>
              </a:solidFill>
              <a:latin typeface="Arial"/>
            </a:endParaRPr>
          </a:p>
        </p:txBody>
      </p:sp>
      <p:sp>
        <p:nvSpPr>
          <p:cNvPr id="544" name="Rectangle 3"/>
          <p:cNvSpPr/>
          <p:nvPr/>
        </p:nvSpPr>
        <p:spPr>
          <a:xfrm>
            <a:off x="4451400" y="5645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Positive assumptions about people will make for positive leadership while negative assumptions lead to negative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pic>
        <p:nvPicPr>
          <p:cNvPr id="546" name="Picture 2" descr=""/>
          <p:cNvPicPr/>
          <p:nvPr/>
        </p:nvPicPr>
        <p:blipFill>
          <a:blip r:embed="rId1"/>
          <a:stretch/>
        </p:blipFill>
        <p:spPr>
          <a:xfrm>
            <a:off x="1128600" y="1603440"/>
            <a:ext cx="6892920" cy="45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do things right—but leaders do the right things. That’s the fundamental difference between a leader and a manager. As a leader, you discern the right course, set the pace, influence others to follow, and inspire them to excellence and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and managers are not the same. While leaders may be effective managers, not all managers can rightfully be called leaders. Managers who are leaders inspire, motivate, and energize people with their clear visions and strategies towards a shared go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ainstream and traditional managers are short-term oriented, and more concerned with day-to-day activities. Nevertheless, they are efficient at organizing, allocating, controlling, and monitoring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2-01T16:20:10Z</dcterms:modified>
  <cp:revision>18</cp:revision>
  <dc:subject/>
  <dc:title>Leading with Impact</dc:title>
</cp:coreProperties>
</file>