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9E1C3-89D7-461B-8B36-99832875F0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6E4B7-A9EC-4315-9900-F41065709D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EAFEBCC-56F3-4298-8B8F-E9AC07C8E9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65424C-19C5-4724-974A-9C089574B79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4725CD5-A15E-4D0E-BD99-FAAEA3B6E38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FA9B08-310B-4AF2-9DD1-5AF3A74F963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E209609-300C-4FFE-92A4-D06EE0D40E1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77C274-EE9A-4224-9129-4B326769CEC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95979C5-FBE6-4BEB-988F-A35073B2FA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9037346-8200-4699-B549-6BA74CAD575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E454BE7-1930-4888-B080-D400ABAD5E6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CEEA250-FC23-423A-A2A4-C3A3F0E1510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9A2F4-9889-420D-AB27-3AFC10DA46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44D0FF-A04A-4F74-9A45-3104886DCF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48279C9-1A14-4633-9D78-504C11EB3B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A4750A-9237-4C8C-BF34-FA94F507943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702E40E-79C1-41B3-835A-5D5B963822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0609DC9-D66B-4F02-B183-80BBC32CDF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39F1FEC-A7AA-4135-A7D9-CCB42DE972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9D58437-60D4-4CA2-8CAA-90FAAE7055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83EB70-1910-4B07-B7CD-52DE166661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3FFCFAC-137D-4F05-B5C7-119D6EE1026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5D43BF5-EC8E-46C7-8BF8-D0EC7BF990E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2070C6-3296-4AAD-8046-C9850B7EB0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5C8A7A9-0206-4D23-8C05-9A5BCDFF916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37F565F-90B2-4E0F-A046-2AA33515B8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A79F7FF-508D-4390-9A19-603E150F0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76DDA75-D07A-4876-8031-BCE70F1A4F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AD44FEF-640D-4707-B7F7-85A8EF1A7F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6C95C2F-A6AB-4086-A128-4D39A0FA14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E209D30-3088-4735-B464-00409282D7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56BAB77-0105-4483-B86C-69B80C517C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1C0E8B6-9D4C-4732-9606-8712C7353E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4A525D6-36B2-47BF-887A-970B294EBC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6550F3-83D4-42AE-85EC-777418F4D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23E5A93-43E6-4074-9EB7-AB49869585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B3679BA-338D-4EE7-9D66-54CB6D53FF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A904686-F379-4E88-8C0E-67E1FD4A1D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34B1DEE-08D8-49C3-855E-09836DA260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4A4F70C-BE1A-4045-900F-2178086403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66B407E-ADD1-46CE-9D37-014471CA2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E9DA799-36FF-497C-B549-68C891E4CA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F5AE184-FEC2-4112-9679-4E0E00A24B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5F51A92-912F-4972-9DA6-B0BED3AB71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BEE7909-483A-458F-B021-8F07B5519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EF90B8-CECD-41D1-9557-994432686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5339162-F9F9-4C43-8893-FD369950D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0A79433-4A56-49D0-A5D5-458CD1B61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F6FFCDD-E617-4853-8F98-A641850310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2A8640A-719D-4F9F-B9E2-8DF104A679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6552AD6-08C9-4834-9B6A-CFB13DC2D0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90A8F9-9B8E-4DEA-9DB7-2D0EB70DD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B7E819-FC31-4018-B59F-59466A26F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1A8074-B4FF-4269-90A2-AB63C9BB9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65AC75-BB06-42B5-AC31-CF5676281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238320-9A7A-4029-BC51-15AAAB636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8695-E0F0-4CDA-82DA-BA11007E57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B85096-A450-4346-A421-190962824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67AC6F-A858-48FF-A819-76DC2EBA7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23AB3F-24D3-4293-BF41-5756528C4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E0619B-6CC5-48D1-B241-7F0971CC49E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9D4A02-525D-4436-BB57-F671AFB39C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2403776-98B3-4F1A-9206-081751ADC9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BE54E5F-4310-401D-AFE1-E1FE0430A8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7A33F71-9BFC-43F0-9365-72AA3683AA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53A9E4-1195-4D13-B705-9F07DA5B70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A72AD96-9196-4FA0-A9AB-69E8D1E044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0B52-600A-4DA6-88FA-6D902E7662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0CCFE1-B14E-4424-B0CB-845CB94F9C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F74B9C-CE26-4844-86FF-EF5EFD0117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D14F0B-7C3B-4D90-B501-AAFF97E53F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2835C8-D97F-46B2-86E1-E54600967E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21F9BC3-34D5-485D-94F3-C00BB94535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0E4D7C-C5BB-4490-BCC9-AAF6B5D4C0C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0AC0C75-8226-4123-A194-35F4F87FC3A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AC4239B-420A-41B0-AF77-35B8E2999DD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67661D-03DB-4B4F-AACC-EB1F0988D9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C81A8A3-0D91-4CC0-8823-B0224273885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F719B-EC96-4960-825C-CBB1C589EF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1B93AA0-681F-4D1A-A9A3-CA067B2225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8DDA02-D815-4BC3-A76F-4F6B86B4B4C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66921C4-5995-419D-A638-E81F6F49B5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9B35E94-75C8-4D5E-B9D3-5AF9F09497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D02DDC-6CB4-4E80-8579-F2D3D319B8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339DF7-3EA0-47C4-A5E4-4E516C818C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B82092-D4C3-4F79-B43D-D858E5BBA0B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AEEDB27-7544-4F44-8427-8CECCE63B6D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658BD8-D3B9-4648-BD4B-DFB7D8D541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58EA089-393D-47A4-974C-42365331F35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8EEAAEB-1B15-482F-BC62-4527F457DF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DACB5DE-60BD-49BE-A929-DC75ECFCF15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80AB2CB-88BE-473F-9500-C7EFB14ABA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B1954B2-3E24-46EA-95E1-D17D201DD8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415C8E8-6403-42C8-AE78-390DB052AC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58EA787-12EA-4E11-93D1-B76D89ECC7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5DD6D97-5B92-4170-8010-5323CD821A7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626E11-9CDD-4F2C-902D-2F59E0F409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2A9799-6521-473C-859F-A3E2E44B25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3E4190-1A5B-4214-AE39-2BBF1E8351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C13E2D3-D002-4E92-BF3F-11960FA009A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FA36C8B-3623-435B-BC1D-398DF53C62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B59316B-080F-418A-A352-1FD621B32A9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F5FD5CC-7572-41B2-869F-4958F975B1C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EF6AAE1-BEC9-494D-98C8-E6CF7EA3A8B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1973A72-3627-4B3D-AD7E-901441ACBE8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4C62AC8-7FC1-401D-A1E3-0AFB0F4AA31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2EE6219-F01B-486B-9BA9-B02DF0D905B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76FAF06-BB6E-4092-8C9A-65999ACED66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CE5E2D-C0BE-4379-9F81-780B2AEE2E4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FC870E-753C-48C6-A3DD-1376E5FB153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86CF16-DDFF-4951-885B-83E37042473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EB347-CDED-4B02-AD65-BC074347D0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FA1BF2D-8A10-44E7-B4AE-E3B58A93FE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C85D650-44E7-4445-BE1B-89FE0CD22B0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F80E2A3-D644-492A-A8F9-50C3919E841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FF7BC6E-640D-40F0-BADB-5E663C5E640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F26268-C8AD-48AA-81B6-32B321F855A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93700B-B0E5-4C11-B2A5-EFF2DFC52B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648A929-0890-4104-AEAB-E9D0F0C9B6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CC1A70A-685A-4661-9BC6-0B9FD236F4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BFBBB2F-EC19-4B77-95C3-09D450C8098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0F64122-0252-43B1-B93F-C23DEFA9F87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3F623-C3FF-4918-A22F-79FBAB3100D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070A86-F07E-4012-8C9C-77D76B0D13E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79D6E28-D93E-4190-AC5A-243356399C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BD6A472-EE59-400E-992B-90FF844C677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EE41021-D2A0-4F38-AECF-76A66E4E8F8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466C65A-51CC-4674-9468-977760AB1EB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CD360D2-A55C-4DC0-A590-BB9B31318CA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BA9E11A-9853-44A0-9BD5-0C1C43AC0CA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DBB3C3-D955-448E-A846-0CF748E70D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64BF20D-B3EA-4F57-BFEB-4626DB58BD6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CBD9FB7-C7FF-43C4-B615-CFC19F008C8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90788-17A2-4646-9FE5-E9EA757DB6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00513C3-1D5C-4854-8A52-51D8A2B3EEB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8AE537-2ED7-4872-ADF6-D6C850F585F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718FBA-F070-47D8-B870-22DBFC65CCB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6CD947-58E1-42D7-A113-DBB3C71BBF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DCDF253-5592-4B5E-B628-B4BB8E0DA98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5D17588-7AB8-48BA-8987-0D3F97DC601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CB0B63D-AB2D-4DC8-902B-8D7F585C42F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3732DB0-FBBF-46A7-B3E4-13941057092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E1A25D6-5BD8-43DB-BBCE-A8944CBDEBC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5A648D5-95F5-4A8A-B7D7-18A79E4C4DE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06130-723E-4429-848B-D1F407E52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CD91D-A23D-4CF3-9818-B407BEADF9A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323F6-2DA1-4DF5-A250-F69C03AC3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6D40E-2F31-438F-83AF-348A5594915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2FB19-D90F-4ED7-A5CD-C278107E7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0A0D5-0249-4E05-A34A-EDC8A31E570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8AC96-2557-4507-92D3-BD3AE27C0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94355-08EF-41D1-B98D-2E201B36EDF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9FEDA-053E-46F7-B0DD-5A0A29B16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C3708-3AD6-47AF-84B2-C6E8FDC8472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824D6-7726-4FF8-91EC-4A662A9C8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60F41-490A-49F0-9812-71D76595D74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84F1D-19FA-43C7-A96C-E7D9DA334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F303A-DD5C-47CD-8997-817A3DF147F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BD692-515E-42D2-85AC-7C04C9806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B3C45-8747-44DE-AB6C-F7D150ED809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292A0-32DC-4D86-90F0-AB599D074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60EDB-CBAF-466A-8BBB-8103CFC05F0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5E88D-AFCF-41B9-88CD-4945146A2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EFB9A-37CB-4513-B698-B1BEE03E89E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E3DC3-0F29-419B-A421-9D1D6B27A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A89A7-9963-4B6C-BEA3-0D7811B2637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6F1E2-3C91-4EC8-B2B3-9F0D4D440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Quotes</a:t>
            </a:r>
            <a:endParaRPr b="0" lang="en-US" sz="2800" spc="-1" strike="noStrike">
              <a:solidFill>
                <a:srgbClr val="000000"/>
              </a:solidFill>
              <a:latin typeface="Arial"/>
            </a:endParaRPr>
          </a:p>
        </p:txBody>
      </p:sp>
      <p:sp>
        <p:nvSpPr>
          <p:cNvPr id="549" name="Rectangle 3"/>
          <p:cNvSpPr/>
          <p:nvPr/>
        </p:nvSpPr>
        <p:spPr>
          <a:xfrm>
            <a:off x="423720" y="1563840"/>
            <a:ext cx="8207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When it comes to building leadership skills that last, motivation and how a person feels about learning matters immensely. People learn what they want to learn. If learning is forced on us, even if we master it temporarily (for instance, by studying for a test), it is soon forgotten. That may be why one study found that the half-life of knowledge learned in an MBA course was about six week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Groups are smarter than individuals when (and only when) they exhibit the qualities of emotional intelligen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A leader who wants to change an organization must first understand its realit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day, as leaders are called on to build their companies by creating the future rather than investing in the past, vision matters more than ever. Vision requires what looks like to others a leap of faith; the ability to go beyond the data and to make a smart gues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2099880"/>
            <a:ext cx="4038480" cy="40258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Primal Leadership</a:t>
            </a:r>
            <a:endParaRPr b="0" lang="en-US" sz="36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Goleman, D.; Boyatzis, R.; McKee, A.</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m M. Rawlett, Ph.D.</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AUG 2012</a:t>
            </a:r>
            <a:endParaRPr b="0" lang="en-US" sz="1800" spc="-1" strike="noStrike">
              <a:solidFill>
                <a:srgbClr val="000000"/>
              </a:solidFill>
              <a:latin typeface="Arial"/>
            </a:endParaRPr>
          </a:p>
        </p:txBody>
      </p:sp>
      <p:pic>
        <p:nvPicPr>
          <p:cNvPr id="530" name="Picture 6" descr="http://www.lifeandleadership.com/storage/bi/leadership/Goleman-Primal-Leadership.jpg"/>
          <p:cNvPicPr/>
          <p:nvPr/>
        </p:nvPicPr>
        <p:blipFill>
          <a:blip r:embed="rId1"/>
          <a:stretch/>
        </p:blipFill>
        <p:spPr>
          <a:xfrm>
            <a:off x="5240160" y="1363680"/>
            <a:ext cx="315288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s from this Book</a:t>
            </a:r>
            <a:endParaRPr b="0" lang="en-US" sz="2800" spc="-1" strike="noStrike">
              <a:solidFill>
                <a:srgbClr val="000000"/>
              </a:solidFill>
              <a:latin typeface="Arial"/>
            </a:endParaRPr>
          </a:p>
        </p:txBody>
      </p:sp>
      <p:sp>
        <p:nvSpPr>
          <p:cNvPr id="532" name=""/>
          <p:cNvSpPr txBox="1"/>
          <p:nvPr/>
        </p:nvSpPr>
        <p:spPr>
          <a:xfrm>
            <a:off x="457200" y="1397160"/>
            <a:ext cx="8229600" cy="452592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reat leaders move us. They ignite our passion and inspire the best in us. When we try to explain why they are so effective, we speak of strategy, vision, or powerful ideas. But the reality is much more primal: Great leadership works through the emotions.</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kind</a:t>
            </a:r>
            <a:r>
              <a:rPr b="0" lang="ja-JP" sz="1600" spc="-1" strike="noStrike">
                <a:solidFill>
                  <a:srgbClr val="000000"/>
                </a:solidFill>
                <a:latin typeface="Arial"/>
              </a:rPr>
              <a:t>’</a:t>
            </a:r>
            <a:r>
              <a:rPr b="0" lang="en-US" sz="1600" spc="-1" strike="noStrike">
                <a:solidFill>
                  <a:srgbClr val="000000"/>
                </a:solidFill>
                <a:latin typeface="Arial"/>
              </a:rPr>
              <a:t>s original leaders earned their place because their leadership was emotionally compelling. In the modern organization this primordial emotional task remains. Leaders must drive the collective emotions in a positive direction and clear the smog created by toxic emotions whether it is on the shop floor or in the boardroom.</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leaders drive emotions positively they bring out everyone</a:t>
            </a:r>
            <a:r>
              <a:rPr b="0" lang="ja-JP" sz="1600" spc="-1" strike="noStrike">
                <a:solidFill>
                  <a:srgbClr val="000000"/>
                </a:solidFill>
                <a:latin typeface="Arial"/>
              </a:rPr>
              <a:t>’</a:t>
            </a:r>
            <a:r>
              <a:rPr b="0" lang="en-US" sz="1600" spc="-1" strike="noStrike">
                <a:solidFill>
                  <a:srgbClr val="000000"/>
                </a:solidFill>
                <a:latin typeface="Arial"/>
              </a:rPr>
              <a:t>s best. When they drive emotions negatively they spawn dissonance, undermining the emotional foundations that let people shine.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ey to making primal leadership work to everyone</a:t>
            </a:r>
            <a:r>
              <a:rPr b="0" lang="ja-JP" sz="1600" spc="-1" strike="noStrike">
                <a:solidFill>
                  <a:srgbClr val="000000"/>
                </a:solidFill>
                <a:latin typeface="Arial"/>
              </a:rPr>
              <a:t>’</a:t>
            </a:r>
            <a:r>
              <a:rPr b="0" lang="en-US" sz="1600" spc="-1" strike="noStrike">
                <a:solidFill>
                  <a:srgbClr val="000000"/>
                </a:solidFill>
                <a:latin typeface="Arial"/>
              </a:rPr>
              <a:t>s advantage lies in the leadership competencies of emotional intelligence; how leaders handle themselves and their relationships. Leaders who exercise primal leadership drive the emotions of those they lead in the right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569680" y="11880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Dimensions of Emotional Intelligence</a:t>
            </a:r>
            <a:endParaRPr b="0" lang="en-US" sz="2800" spc="-1" strike="noStrike">
              <a:solidFill>
                <a:srgbClr val="000000"/>
              </a:solidFill>
              <a:latin typeface="Arial"/>
            </a:endParaRPr>
          </a:p>
        </p:txBody>
      </p:sp>
      <p:sp>
        <p:nvSpPr>
          <p:cNvPr id="534" name="TextBox 3"/>
          <p:cNvSpPr/>
          <p:nvPr/>
        </p:nvSpPr>
        <p:spPr>
          <a:xfrm>
            <a:off x="165240" y="1546200"/>
            <a:ext cx="8837640" cy="454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Self-awarenes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Emotional self-awareness</a:t>
            </a:r>
            <a:r>
              <a:rPr b="0" lang="en-US" sz="1800" spc="-1" strike="noStrike">
                <a:solidFill>
                  <a:srgbClr val="000000"/>
                </a:solidFill>
                <a:latin typeface="Arial"/>
                <a:ea typeface="ＭＳ Ｐゴシック"/>
              </a:rPr>
              <a:t>: Reading one</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own emotions and recognizing their impact and using </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ut sense</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to guide decision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Accurate self-assessment</a:t>
            </a:r>
            <a:r>
              <a:rPr b="0" lang="en-US" sz="1800" spc="-1" strike="noStrike">
                <a:solidFill>
                  <a:srgbClr val="000000"/>
                </a:solidFill>
                <a:latin typeface="Arial"/>
                <a:ea typeface="ＭＳ Ｐゴシック"/>
              </a:rPr>
              <a:t>: Knowing one</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strengths and limi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Self-confidence</a:t>
            </a:r>
            <a:r>
              <a:rPr b="0" lang="en-US" sz="1800" spc="-1" strike="noStrike">
                <a:solidFill>
                  <a:srgbClr val="000000"/>
                </a:solidFill>
                <a:latin typeface="Arial"/>
                <a:ea typeface="ＭＳ Ｐゴシック"/>
              </a:rPr>
              <a:t>: A sound sense of one</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self-worth and capabili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Self-manage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Emotional self-control</a:t>
            </a:r>
            <a:r>
              <a:rPr b="0" lang="en-US" sz="1800" spc="-1" strike="noStrike">
                <a:solidFill>
                  <a:srgbClr val="000000"/>
                </a:solidFill>
                <a:latin typeface="Arial"/>
                <a:ea typeface="ＭＳ Ｐゴシック"/>
              </a:rPr>
              <a:t>: Keeping disruptive emotions and impulses under control.</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Transparency</a:t>
            </a:r>
            <a:r>
              <a:rPr b="0" lang="en-US" sz="1800" spc="-1" strike="noStrike">
                <a:solidFill>
                  <a:srgbClr val="000000"/>
                </a:solidFill>
                <a:latin typeface="Arial"/>
                <a:ea typeface="ＭＳ Ｐゴシック"/>
              </a:rPr>
              <a:t>: Displaying honesty, integrity and trustworthines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Adaptability</a:t>
            </a:r>
            <a:r>
              <a:rPr b="0" lang="en-US" sz="1800" spc="-1" strike="noStrike">
                <a:solidFill>
                  <a:srgbClr val="000000"/>
                </a:solidFill>
                <a:latin typeface="Arial"/>
                <a:ea typeface="ＭＳ Ｐゴシック"/>
              </a:rPr>
              <a:t>: Flexibility in adapting to changing situations or overcoming obstacle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Achievement</a:t>
            </a:r>
            <a:r>
              <a:rPr b="0" lang="en-US" sz="1800" spc="-1" strike="noStrike">
                <a:solidFill>
                  <a:srgbClr val="000000"/>
                </a:solidFill>
                <a:latin typeface="Arial"/>
                <a:ea typeface="ＭＳ Ｐゴシック"/>
              </a:rPr>
              <a:t>: The drive to improve performance to meet inner standards of excellenc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Initiative</a:t>
            </a:r>
            <a:r>
              <a:rPr b="0" lang="en-US" sz="1800" spc="-1" strike="noStrike">
                <a:solidFill>
                  <a:srgbClr val="000000"/>
                </a:solidFill>
                <a:latin typeface="Arial"/>
                <a:ea typeface="ＭＳ Ｐゴシック"/>
              </a:rPr>
              <a:t>: Readiness to act and seize opportunitie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Optimism</a:t>
            </a:r>
            <a:r>
              <a:rPr b="0" lang="en-US" sz="1800" spc="-1" strike="noStrike">
                <a:solidFill>
                  <a:srgbClr val="000000"/>
                </a:solidFill>
                <a:latin typeface="Arial"/>
                <a:ea typeface="ＭＳ Ｐゴシック"/>
              </a:rPr>
              <a:t>: Seeing the upside in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10764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Dimensions of Emotional Intelligence</a:t>
            </a:r>
            <a:endParaRPr b="0" lang="en-US" sz="2800" spc="-1" strike="noStrike">
              <a:solidFill>
                <a:srgbClr val="000000"/>
              </a:solidFill>
              <a:latin typeface="Arial"/>
            </a:endParaRPr>
          </a:p>
        </p:txBody>
      </p:sp>
      <p:sp>
        <p:nvSpPr>
          <p:cNvPr id="536" name="TextBox 3"/>
          <p:cNvSpPr/>
          <p:nvPr/>
        </p:nvSpPr>
        <p:spPr>
          <a:xfrm>
            <a:off x="0" y="1558800"/>
            <a:ext cx="899172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Social Awarenes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Empathy</a:t>
            </a:r>
            <a:r>
              <a:rPr b="0" lang="en-US" sz="1800" spc="-1" strike="noStrike">
                <a:solidFill>
                  <a:srgbClr val="000000"/>
                </a:solidFill>
                <a:latin typeface="Arial"/>
                <a:ea typeface="ＭＳ Ｐゴシック"/>
              </a:rPr>
              <a:t>: Sensing others</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emotions, understanding their perspective, and taking active interest in their concern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Organizational awareness</a:t>
            </a:r>
            <a:r>
              <a:rPr b="0" lang="en-US" sz="1800" spc="-1" strike="noStrike">
                <a:solidFill>
                  <a:srgbClr val="000000"/>
                </a:solidFill>
                <a:latin typeface="Arial"/>
                <a:ea typeface="ＭＳ Ｐゴシック"/>
              </a:rPr>
              <a:t>: Reading the currents, decision networks, and politics at the organizational level.</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ea typeface="ＭＳ Ｐゴシック"/>
              </a:rPr>
              <a:t>Service</a:t>
            </a:r>
            <a:r>
              <a:rPr b="0" lang="en-US" sz="1800" spc="-1" strike="noStrike">
                <a:solidFill>
                  <a:srgbClr val="000000"/>
                </a:solidFill>
                <a:latin typeface="Arial"/>
                <a:ea typeface="ＭＳ Ｐゴシック"/>
              </a:rPr>
              <a:t>: Recognizing and meeting follower, client or customer nee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Relationship Management</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Inspirational leadership</a:t>
            </a:r>
            <a:r>
              <a:rPr b="0" lang="en-US" sz="1800" spc="-1" strike="noStrike">
                <a:solidFill>
                  <a:srgbClr val="000000"/>
                </a:solidFill>
                <a:latin typeface="Arial"/>
              </a:rPr>
              <a:t>: Guiding and motivating with a compelling vis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Influence</a:t>
            </a:r>
            <a:r>
              <a:rPr b="0" lang="en-US" sz="1800" spc="-1" strike="noStrike">
                <a:solidFill>
                  <a:srgbClr val="000000"/>
                </a:solidFill>
                <a:latin typeface="Arial"/>
              </a:rPr>
              <a:t>: Wielding a range of tactics for persuas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Developing others</a:t>
            </a:r>
            <a:r>
              <a:rPr b="0" lang="en-US" sz="1800" spc="-1" strike="noStrike">
                <a:solidFill>
                  <a:srgbClr val="000000"/>
                </a:solidFill>
                <a:latin typeface="Arial"/>
              </a:rPr>
              <a:t>: Bolstering others</a:t>
            </a:r>
            <a:r>
              <a:rPr b="0" lang="ja-JP" sz="1800" spc="-1" strike="noStrike">
                <a:solidFill>
                  <a:srgbClr val="000000"/>
                </a:solidFill>
                <a:latin typeface="Arial"/>
              </a:rPr>
              <a:t>’</a:t>
            </a:r>
            <a:r>
              <a:rPr b="0" lang="en-US" sz="1800" spc="-1" strike="noStrike">
                <a:solidFill>
                  <a:srgbClr val="000000"/>
                </a:solidFill>
                <a:latin typeface="Arial"/>
              </a:rPr>
              <a:t> abilities through feedback and guidanc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Change catalyst</a:t>
            </a:r>
            <a:r>
              <a:rPr b="0" lang="en-US" sz="1800" spc="-1" strike="noStrike">
                <a:solidFill>
                  <a:srgbClr val="000000"/>
                </a:solidFill>
                <a:latin typeface="Arial"/>
              </a:rPr>
              <a:t>: Initiating, managing and leading in new direction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Building bonds</a:t>
            </a:r>
            <a:r>
              <a:rPr b="0" lang="en-US" sz="1800" spc="-1" strike="noStrike">
                <a:solidFill>
                  <a:srgbClr val="000000"/>
                </a:solidFill>
                <a:latin typeface="Arial"/>
              </a:rPr>
              <a:t>: Cultivating and maintaining relationship web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Teamwork and collaboration</a:t>
            </a:r>
            <a:r>
              <a:rPr b="0" lang="en-US" sz="1800" spc="-1" strike="noStrike">
                <a:solidFill>
                  <a:srgbClr val="000000"/>
                </a:solidFill>
                <a:latin typeface="Arial"/>
              </a:rPr>
              <a:t>: Cooperation and team-buil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x Styles of Leadership</a:t>
            </a:r>
            <a:endParaRPr b="0" lang="en-US" sz="2800" spc="-1" strike="noStrike">
              <a:solidFill>
                <a:srgbClr val="000000"/>
              </a:solidFill>
              <a:latin typeface="Arial"/>
            </a:endParaRPr>
          </a:p>
        </p:txBody>
      </p:sp>
      <p:sp>
        <p:nvSpPr>
          <p:cNvPr id="538" name="TextBox 4"/>
          <p:cNvSpPr/>
          <p:nvPr/>
        </p:nvSpPr>
        <p:spPr>
          <a:xfrm>
            <a:off x="155520" y="1441440"/>
            <a:ext cx="883620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Visionary</a:t>
            </a:r>
            <a:r>
              <a:rPr b="0" lang="en-US" sz="1800" spc="-1" strike="noStrike">
                <a:solidFill>
                  <a:srgbClr val="000000"/>
                </a:solidFill>
                <a:latin typeface="Arial"/>
              </a:rPr>
              <a:t> - The visionary leader articulates where a group is going, but not how it gets ther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Coaching</a:t>
            </a:r>
            <a:r>
              <a:rPr b="0" lang="en-US" sz="1800" spc="-1" strike="noStrike">
                <a:solidFill>
                  <a:srgbClr val="000000"/>
                </a:solidFill>
                <a:latin typeface="Arial"/>
              </a:rPr>
              <a:t> - The coaching style is really the art of the one-on-on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Affiliative</a:t>
            </a:r>
            <a:r>
              <a:rPr b="0" lang="en-US" sz="1800" spc="-1" strike="noStrike">
                <a:solidFill>
                  <a:srgbClr val="000000"/>
                </a:solidFill>
                <a:latin typeface="Arial"/>
              </a:rPr>
              <a:t> - The affiliative style of leadership represents the collaborative competency in action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Democratic</a:t>
            </a:r>
            <a:r>
              <a:rPr b="0" lang="en-US" sz="1800" spc="-1" strike="noStrike">
                <a:solidFill>
                  <a:srgbClr val="000000"/>
                </a:solidFill>
                <a:latin typeface="Arial"/>
              </a:rPr>
              <a:t> - A democratic leader builds on a triad of EI abilities: teamwork and collaboration, conflict management and influenc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Pacesetting</a:t>
            </a:r>
            <a:r>
              <a:rPr b="0" lang="en-US" sz="1800" spc="-1" strike="noStrike">
                <a:solidFill>
                  <a:srgbClr val="000000"/>
                </a:solidFill>
                <a:latin typeface="Arial"/>
              </a:rPr>
              <a:t> - Pacesetting as a leadership style must be applied sparingly, restricted to settings where it truly works.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Commanding</a:t>
            </a:r>
            <a:r>
              <a:rPr b="0" lang="en-US" sz="1800" spc="-1" strike="noStrike">
                <a:solidFill>
                  <a:srgbClr val="000000"/>
                </a:solidFill>
                <a:latin typeface="Arial"/>
              </a:rPr>
              <a:t> - The command leader demands immediate compliance with orders, but doesn’t bother to explain the reason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Times New Roman"/>
              </a:rPr>
              <a:t>Developing Emotionally Intelligent Leaders</a:t>
            </a:r>
            <a:endParaRPr b="0" lang="en-US" sz="2800" spc="-1" strike="noStrike">
              <a:solidFill>
                <a:srgbClr val="000000"/>
              </a:solidFill>
              <a:latin typeface="Arial"/>
            </a:endParaRPr>
          </a:p>
        </p:txBody>
      </p:sp>
      <p:pic>
        <p:nvPicPr>
          <p:cNvPr id="540" name="Picture 3" descr=""/>
          <p:cNvPicPr/>
          <p:nvPr/>
        </p:nvPicPr>
        <p:blipFill>
          <a:blip r:embed="rId1"/>
          <a:stretch/>
        </p:blipFill>
        <p:spPr>
          <a:xfrm>
            <a:off x="1069920" y="1386000"/>
            <a:ext cx="7446960" cy="3022560"/>
          </a:xfrm>
          <a:prstGeom prst="rect">
            <a:avLst/>
          </a:prstGeom>
          <a:ln w="0">
            <a:noFill/>
          </a:ln>
        </p:spPr>
      </p:pic>
      <p:sp>
        <p:nvSpPr>
          <p:cNvPr id="541" name="TextBox 5"/>
          <p:cNvSpPr/>
          <p:nvPr/>
        </p:nvSpPr>
        <p:spPr>
          <a:xfrm>
            <a:off x="144360" y="4518000"/>
            <a:ext cx="8847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The Five Self Discoveries</a:t>
            </a:r>
            <a:endParaRPr b="0" lang="en-US" sz="18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y ideal self — Who do I want to be?</a:t>
            </a:r>
            <a:endParaRPr b="0" lang="en-US" sz="18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y real self — Who am I? What are my strengths and gaps?</a:t>
            </a:r>
            <a:endParaRPr b="0" lang="en-US" sz="18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y learning agenda — How can I build on my strengths while reducing my gaps?</a:t>
            </a:r>
            <a:endParaRPr b="0" lang="en-US" sz="18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xperimenting with and practicing new thoughts, behaviors and feelings to the point of mastery.</a:t>
            </a:r>
            <a:endParaRPr b="0" lang="en-US" sz="18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veloping supportive and trusting relationships that make chang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s of Change</a:t>
            </a:r>
            <a:endParaRPr b="0" lang="en-US" sz="2800" spc="-1" strike="noStrike">
              <a:solidFill>
                <a:srgbClr val="000000"/>
              </a:solidFill>
              <a:latin typeface="Arial"/>
            </a:endParaRPr>
          </a:p>
        </p:txBody>
      </p:sp>
      <p:sp>
        <p:nvSpPr>
          <p:cNvPr id="543" name="TextBox 3"/>
          <p:cNvSpPr/>
          <p:nvPr/>
        </p:nvSpPr>
        <p:spPr>
          <a:xfrm>
            <a:off x="279360" y="1441440"/>
            <a:ext cx="8558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Arial"/>
              </a:rPr>
              <a:t>The Motivation to Change</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als should build strength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als must be your own, not someone else</a:t>
            </a:r>
            <a:r>
              <a:rPr b="0" lang="ja-JP" sz="1800" spc="-1" strike="noStrike">
                <a:solidFill>
                  <a:srgbClr val="000000"/>
                </a:solidFill>
                <a:latin typeface="Arial"/>
              </a:rPr>
              <a:t>’</a:t>
            </a:r>
            <a:r>
              <a:rPr b="0" lang="en-US" sz="1800" spc="-1" strike="noStrike">
                <a:solidFill>
                  <a:srgbClr val="000000"/>
                </a:solidFill>
                <a:latin typeface="Arial"/>
              </a:rPr>
              <a:t>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lans must be flexible and feasible, with manageable step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lans must fit your learning style.</a:t>
            </a:r>
            <a:endParaRPr b="0" lang="en-US" sz="1800" spc="-1" strike="noStrike">
              <a:solidFill>
                <a:srgbClr val="000000"/>
              </a:solidFill>
              <a:latin typeface="Arial"/>
            </a:endParaRPr>
          </a:p>
        </p:txBody>
      </p:sp>
      <p:sp>
        <p:nvSpPr>
          <p:cNvPr id="544" name="TextBox 1"/>
          <p:cNvSpPr/>
          <p:nvPr/>
        </p:nvSpPr>
        <p:spPr>
          <a:xfrm>
            <a:off x="279360" y="3122640"/>
            <a:ext cx="724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Arial"/>
              </a:rPr>
              <a:t>Building Emotionally Intelligent Organizations</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allel Transformation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Power of Group Decision-Making</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ximizing the Group</a:t>
            </a:r>
            <a:r>
              <a:rPr b="0" lang="ja-JP" sz="1800" spc="-1" strike="noStrike">
                <a:solidFill>
                  <a:srgbClr val="000000"/>
                </a:solidFill>
                <a:latin typeface="Arial"/>
              </a:rPr>
              <a:t>’</a:t>
            </a:r>
            <a:r>
              <a:rPr b="0" lang="en-US" sz="1800" spc="-1" strike="noStrike">
                <a:solidFill>
                  <a:srgbClr val="000000"/>
                </a:solidFill>
                <a:latin typeface="Arial"/>
              </a:rPr>
              <a:t>s Emotional Intelligen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5" name="TextBox 2"/>
          <p:cNvSpPr/>
          <p:nvPr/>
        </p:nvSpPr>
        <p:spPr>
          <a:xfrm>
            <a:off x="279360" y="4506840"/>
            <a:ext cx="791856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Arial"/>
              </a:rPr>
              <a:t>Creating Sustainable Change</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tie-in to the organization</a:t>
            </a:r>
            <a:r>
              <a:rPr b="0" lang="ja-JP" sz="1800" spc="-1" strike="noStrike">
                <a:solidFill>
                  <a:srgbClr val="000000"/>
                </a:solidFill>
                <a:latin typeface="Arial"/>
              </a:rPr>
              <a:t>’</a:t>
            </a:r>
            <a:r>
              <a:rPr b="0" lang="en-US" sz="1800" spc="-1" strike="noStrike">
                <a:solidFill>
                  <a:srgbClr val="000000"/>
                </a:solidFill>
                <a:latin typeface="Arial"/>
              </a:rPr>
              <a:t>s cultur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minars emphasizing individual chang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earning about emotional competenci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ative learning experienc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s that support learning, such as executive coach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Quotes</a:t>
            </a:r>
            <a:endParaRPr b="0" lang="en-US" sz="2800" spc="-1" strike="noStrike">
              <a:solidFill>
                <a:srgbClr val="000000"/>
              </a:solidFill>
              <a:latin typeface="Arial"/>
            </a:endParaRPr>
          </a:p>
        </p:txBody>
      </p:sp>
      <p:sp>
        <p:nvSpPr>
          <p:cNvPr id="547" name="TextBox 1"/>
          <p:cNvSpPr/>
          <p:nvPr/>
        </p:nvSpPr>
        <p:spPr>
          <a:xfrm>
            <a:off x="103320" y="1444680"/>
            <a:ext cx="9040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more open leaders are, how well they express their own enthusiasm, for example, the more readily others will feel that same contagious passion. Leaders with that kind of talent are emotional magnets; people naturally gravitate to them. If you think about the leaders with whom people most want to work in an organization, they probably have this ability to exude upbeat feelings. It's the one reason emotionally intelligent leaders attract talented people - for the pleasure of working in their presen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out a healthy does of heart, a leader may manage but he does not lea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cause emotions are so contagious - especially from leaders to others in the group - leaders' first tasks are the emotional equivalent of good hygiene: getting their own emotions in hand. Quite simply, leaders cannot effective manage emotions in anyone else without first handling their own. How a leader feels thus becomes more than just a private matter; given the reality of emotional leakage, a leader's emotions have public consequen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Adam Rawlett</cp:lastModifiedBy>
  <cp:lastPrinted>2011-06-13T12:29:39Z</cp:lastPrinted>
  <dcterms:modified xsi:type="dcterms:W3CDTF">2012-08-28T01:11:40Z</dcterms:modified>
  <cp:revision>22</cp:revision>
  <dc:subject/>
  <dc:title>Leading with Impact</dc:title>
</cp:coreProperties>
</file>