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4932-08B7-4485-8BB4-F74CFE459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3FE5-C0D2-4C5F-BB94-5D0359C222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7A5B5-06CB-4EDC-A198-6ACACDCC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F38D0-5BB2-4106-ADFC-9059BBBB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93FD5-3766-4698-BF5D-8141660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4B882-96C0-4ABA-9D0B-8EDCBAB1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864AA-F9B9-4AA6-BB86-18C0AB42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ECF46-65C5-4FB4-A2B2-4446F65B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518E7-9882-4E23-852F-E344CBE1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0EB34-3530-4FAF-9B95-3A236BF8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5ADEC-DA3D-4339-827C-0ECED5E3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DCB03-B5A2-43A6-A432-D78C7E43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7ECA-D7EA-4300-92B1-F1AC8F413FE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E4211-8ED7-49C6-901C-CB722169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15EA6-ABA1-46C8-9027-E37C19EA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CAAF5-939D-450C-80CB-DF8790E2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34FC1-BE2D-4543-ACD3-48C37C96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559AC-DBB4-4A8F-A5F0-771BDC14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E9A5C-1BD2-4FE7-8585-857BF93F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84B16-F41C-42EA-875E-E5B46B2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6AC9C-E975-45DF-9C64-C5820B43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E351E-A5F3-4AD8-8675-F67CCF6F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A3A8A-1868-485D-83E1-D35E9E55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C804-8343-44C9-986B-51C60A93DFF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E6F4F-27F2-4EEE-AC2A-EA55FDAC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4791F1-CD66-4BA7-A7F4-3DC3C9EF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9B9C55-2294-49EF-A25D-F03E7852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97A067-FA14-4643-AFD2-6E35328F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61B00E-3005-47FE-A632-4E48567F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54D088-63B7-47A1-A5CE-AACBB762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27A037-67AE-46AD-9E31-F59B61B7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A3A0E8-C58F-4A89-8E29-3642F339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4C1D89-3729-42D6-B1DB-2DA481F1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BFD064-00FE-433F-9A35-BB709011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91CA8-0958-414A-8AC4-C0A22494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8601F0-D1F5-4108-BBD3-7C68F1F0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512141-A500-4A11-ADA6-C84E0810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B4C10A-94C4-49CA-A42A-6F6F7D3F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88224-A708-4EFF-A48E-A768B15E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DC2C9-206F-4D2B-A59E-23371535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8855F-E748-49E5-A00A-8BDA4DFA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1F8CC-91C0-4CCE-8482-82011DFA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E0262-3F8E-4738-BE5F-B03C6310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A0BF2-F5D4-419D-8E8C-429F9883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65642-D5EF-4CCA-807F-54DA4A3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C45F1-3879-43A8-AA38-BB13800D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04684-E329-41CF-AD4C-D0A77A40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66514-A830-4F1F-AC03-0B04EC41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49269-919B-4228-8D08-DF99863E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EF3EA-930E-4647-85B5-5C0B721A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3FF86-2FED-4598-8834-1A3E7C23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BF2CC-DF28-4F90-BD35-63C56810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8B171-0673-4B5F-B107-BB004437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A00FE-CFFD-4CB5-BC60-AFE44F91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7BC7B-DBEC-49A6-926D-51305E2F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1464D-00A0-4B17-93C2-0A8D29D3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28F9-CFB6-49CD-8EE9-3EFD82891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EC2C0-8DE0-4E36-8D40-F301D56E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4CB3F-9C06-41A0-89BD-B260246F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8C1A7-0A0C-4CA4-83B5-9F0EE17B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2CFFC-270B-4FCA-BBEE-B12B01E7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ABF8B-979C-4C56-A47F-2803E332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99CF8-0368-4D68-B89B-A49798EB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0AE1A-10D1-4296-B665-3E882542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454D1-BB9B-4D13-8579-D3C44A36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312C0-29AB-47B9-9C1C-9FE1B21A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36F3A-C3C0-45AD-AA85-AB8A174C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A3B4-2877-4745-92C6-BF305F8F1A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84BAA0-3BFB-4280-AB64-8C92D143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1C2B8F-5F7B-4CAC-BB20-019802E7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62A9A-8F0C-4F83-A88C-5D953E37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76D04-1D90-4D9A-BD86-44B8ECC6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0D3285-6485-43AE-A316-1091BDDC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5BC22-9393-4D0B-BFFB-FB152330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3BB22-27DB-4339-AD89-48FD12E0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D1E94-49E2-49C0-B9B4-07B6A10D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397D2-3538-42B3-860A-6D600484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FEAA5-37FB-4FCC-A311-9F7F2CA0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F637-9DA8-4C43-8FD5-74E385C94F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BC15C-005E-4086-85C2-CA2FCC9A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56D01-B7A8-4D3E-8BC7-B3BCC394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31236A-E6F1-4BDB-94A6-AED319E7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7DAEC8-F1F3-4F00-A0AB-C1FDF56A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6AB14-F9BF-4C42-AC5B-9F06F88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741709-A3FE-409E-84A5-A786451E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975A5-9B95-4D4A-A5A0-58BC88DC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FC789-4E91-4110-B78A-64CC9B4D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1C65E-9470-436D-98C1-A4BF3AF7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D7C50D-405B-4AEB-9FBC-CF454B51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8909-258B-4A1E-B56A-627F8920579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531882-9BE1-4EA3-9B32-002A3BE6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4313D9-D756-4FBB-B416-59FD55D4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0E7311-0913-4C21-8D9F-F0AACD91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B97FE3-C90F-4B9B-9EB8-EBAEEB44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720FAB-4B44-4655-911A-6EF81FBD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B2BD5A-F258-40AA-AA17-673D97BA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3EC78F-6444-42D9-BE88-DCD0AAB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F0C9FB-6D5D-44C7-A07D-CC161763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D82903-C5AD-46B4-B4AF-B04BC82C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69BDC5-4066-40DC-B9D2-C5D291B2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BF07-0988-4B87-AD02-CD0C65B8EC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5BF7E0-92B1-4862-BEB2-1449E333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28C33B-3279-4380-8F8E-089B4CCB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E991A7-F733-4FE7-87E8-E6B87FF6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02F2C0-0112-412B-ABDE-251F1B4A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FDACAD-5534-4C84-B372-D6E871EC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8ABE25-CBC9-4EB3-ACB8-CBE8A42C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28EEE4-07BB-416C-B2BE-934290F4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AC0A87-5C02-4056-BF24-FC8C341D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98FC3A-0FD0-4DF3-9C0C-225E6EF3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BECB24-0104-4104-860B-9D7CE824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F985-D605-48F4-94FA-DE81ADB4464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B6C4B2-51C6-4856-875A-41F47576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92574E-BB1F-4ADC-A91D-431B7746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5AC0C4-8B23-43E9-B3F5-072EDA76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74E233-8450-4765-9384-916B8B36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707276-AB07-4AE2-A97C-D610143D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8127CA-E4DC-4115-951A-BC10E4CB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B90C55-EF22-4D0A-9BA6-258C866D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8466C3-7478-4E29-BC05-67E81C2F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8B861E-81A8-4DFF-8826-103057F0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50073E-725E-4EE4-BB27-924F2B2D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3838-5323-4409-ACD8-CAFB401DBDE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989DCE-8E29-4A03-B777-E1A74474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03B2A9-84C8-4E61-9ED4-7F2D67C7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E2BEE1-279B-41CC-B6D5-582E9BEC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39B228-794B-411E-A02C-5CC53642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39D45F-ACCB-4A17-ACDA-B2B14300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3089F7-C84E-4ADD-AA2C-A9CBF02D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53B90D-4BDE-4964-8973-592E53B6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1669A1-E291-45AF-8E0A-DBCD033A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636DF9-B6EA-41B6-9927-54B9BED9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3305C4-FACC-41A7-BB71-5DCD4134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6314-D3C2-4CA2-9C72-63988BBEAFC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1D4D21-161C-4249-B596-FD5B6080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BB22AD-ED58-4394-A78A-546269F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7EEAC8-64F4-444C-8DD1-32110011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8A5BBB-6016-4B29-855C-55516903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62045-3CA2-45C9-BCB6-7847166B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8B3950-FB6B-43AC-84F7-DA5050F2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1522A5-F016-4BE0-8589-D5E8148C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EAA62-30CF-4BC7-BA4B-C035A07F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02F20-E445-4482-9540-26BDEA99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88BF4-11F9-43F0-9CB4-49EA342C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71FB-4A68-4F2F-890D-CC9A9267A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0099-6A60-4E03-93E0-A780767A4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798D-EAAA-4436-B70B-DB6154FE1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B284-D950-4C7C-A7C9-C019C0C6C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4133-B2CD-412B-9FE9-C3B7AB80E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1AC2-2292-4AA8-B627-9D5181A75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2400-F242-45D5-81C6-3672E80CA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4BD9-E38A-43AD-AE9F-5148993CF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F005-0BD7-43F5-BB9F-68FF091C9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21B3-96F3-45DD-B3A4-55F785192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F534-DB95-40D0-9946-31892F8AE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81B3-E753-419A-B299-FDD8030DA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milsuite.mil/wiki/File:PEOC3T_logo.gif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s://www.milsuite.mil/w/images/9/9e/Cerdec_logo1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73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G Senior Leadership Cohort Progra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-BASED PROJEC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of System Engineering (SoSE) Develop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Program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tle 3"/>
          <p:cNvSpPr/>
          <p:nvPr/>
        </p:nvSpPr>
        <p:spPr>
          <a:xfrm>
            <a:off x="588960" y="4952880"/>
            <a:ext cx="7966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Steve Aubert, ARL, stephen.a.aubert.civ@mail.mil, 401-278-0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Liz Miranda, CECOM, liz.s.miranda.civ@mail.mil, 410-861-70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Val Novikov, JPEO CBD, valentin.novikov.civ@mail.mil, 410-417-30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William Oberle, ARL, william.f.oberle.civ@mail.mil, 410-278-43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George Palafox, CERDEC, george.palafox.civ@mail.mil, 410-395-74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319120" y="12852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e Temp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795240" y="3984480"/>
          <a:ext cx="7763040" cy="2022480"/>
        </p:xfrm>
        <a:graphic>
          <a:graphicData uri="http://schemas.openxmlformats.org/drawingml/2006/table">
            <a:tbl>
              <a:tblPr/>
              <a:tblGrid>
                <a:gridCol w="647640"/>
                <a:gridCol w="646200"/>
                <a:gridCol w="647640"/>
                <a:gridCol w="646200"/>
                <a:gridCol w="647640"/>
                <a:gridCol w="646200"/>
                <a:gridCol w="647640"/>
                <a:gridCol w="646200"/>
                <a:gridCol w="647640"/>
                <a:gridCol w="646200"/>
                <a:gridCol w="647640"/>
                <a:gridCol w="6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2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Training Block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Training Block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Training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Training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Training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Assignment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Assignment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625" name="TextBox 3"/>
          <p:cNvSpPr/>
          <p:nvPr/>
        </p:nvSpPr>
        <p:spPr>
          <a:xfrm>
            <a:off x="897480" y="1455840"/>
            <a:ext cx="773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a year long program for the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length TBD for each candidate and the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al assignment(s) required to achiev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d specific competencies and special (inform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8636040" y="6626160"/>
            <a:ext cx="507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7D9-EA3B-47AD-8DD2-155163F8AD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15720" y="75960"/>
            <a:ext cx="68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 of Possible Selection Criteria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1436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 of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/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with Army Ed 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/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orability/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al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830880" y="60390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not currently in order of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8636040" y="6626160"/>
            <a:ext cx="507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EC12-5C50-4123-9AAF-627819ADDE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Developing proficient SoSEs within the APG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Develop a plan for establishing a SoSE training program at A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Cohor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 a plan and gain senior-level approv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termine program construct based on stakeholder’s requirements (e.g., length of program, formal and informal training, rotational developmental assignments, sources of funding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ine a transition strategy to ensure continued development of SoSE SM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d8a"/>
                </a:solidFill>
                <a:latin typeface="Arial"/>
              </a:rPr>
              <a:t>SoSE Development Program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8636040" y="6626160"/>
            <a:ext cx="507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A22A-7C72-4982-9143-9E97D85E07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46"/>
          <p:cNvGrpSpPr/>
          <p:nvPr/>
        </p:nvGrpSpPr>
        <p:grpSpPr>
          <a:xfrm>
            <a:off x="4876920" y="2057400"/>
            <a:ext cx="4098960" cy="3962520"/>
            <a:chOff x="4876920" y="2057400"/>
            <a:chExt cx="4098960" cy="3962520"/>
          </a:xfrm>
        </p:grpSpPr>
        <p:sp>
          <p:nvSpPr>
            <p:cNvPr id="534" name="Oval 5"/>
            <p:cNvSpPr/>
            <p:nvPr/>
          </p:nvSpPr>
          <p:spPr>
            <a:xfrm>
              <a:off x="4876920" y="2057400"/>
              <a:ext cx="4098960" cy="3962520"/>
            </a:xfrm>
            <a:prstGeom prst="ellipse">
              <a:avLst/>
            </a:prstGeom>
            <a:solidFill>
              <a:srgbClr val="006600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6652800" y="224028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r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7"/>
            <p:cNvSpPr/>
            <p:nvPr/>
          </p:nvSpPr>
          <p:spPr>
            <a:xfrm>
              <a:off x="5267160" y="2776680"/>
              <a:ext cx="3319920" cy="324324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5657760" y="3495960"/>
              <a:ext cx="2538720" cy="2523960"/>
            </a:xfrm>
            <a:prstGeom prst="ellipse">
              <a:avLst/>
            </a:prstGeom>
            <a:solidFill>
              <a:srgbClr val="3333ff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951880" y="4215600"/>
              <a:ext cx="1950840" cy="1804320"/>
            </a:xfrm>
            <a:prstGeom prst="ellipse">
              <a:avLst/>
            </a:prstGeom>
            <a:solidFill>
              <a:srgbClr val="ffcc66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6324480" y="5028840"/>
              <a:ext cx="11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ividu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6162480" y="3729240"/>
              <a:ext cx="152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6681240" y="2940480"/>
              <a:ext cx="49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66"/>
          <p:cNvGrpSpPr/>
          <p:nvPr/>
        </p:nvGrpSpPr>
        <p:grpSpPr>
          <a:xfrm>
            <a:off x="1790640" y="5232240"/>
            <a:ext cx="4533840" cy="1168560"/>
            <a:chOff x="1790640" y="5232240"/>
            <a:chExt cx="4533840" cy="1168560"/>
          </a:xfrm>
        </p:grpSpPr>
        <p:sp>
          <p:nvSpPr>
            <p:cNvPr id="543" name="Freeform 54"/>
            <p:cNvSpPr/>
            <p:nvPr/>
          </p:nvSpPr>
          <p:spPr>
            <a:xfrm>
              <a:off x="1803240" y="5232240"/>
              <a:ext cx="4515120" cy="482760"/>
            </a:xfrm>
            <a:prstGeom prst="pie">
              <a:avLst/>
            </a:prstGeom>
            <a:solidFill>
              <a:srgbClr val="ffcc66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5"/>
            <p:cNvSpPr/>
            <p:nvPr/>
          </p:nvSpPr>
          <p:spPr>
            <a:xfrm>
              <a:off x="5359320" y="5232240"/>
              <a:ext cx="965160" cy="1162440"/>
            </a:xfrm>
            <a:prstGeom prst="pie">
              <a:avLst/>
            </a:prstGeom>
            <a:solidFill>
              <a:srgbClr val="ffcc66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1790640" y="5715000"/>
              <a:ext cx="4152960" cy="685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olistic technical think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s broadening engineering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reases current job 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81"/>
          <p:cNvGrpSpPr/>
          <p:nvPr/>
        </p:nvGrpSpPr>
        <p:grpSpPr>
          <a:xfrm>
            <a:off x="2057400" y="1676520"/>
            <a:ext cx="4591080" cy="804600"/>
            <a:chOff x="2057400" y="1676520"/>
            <a:chExt cx="4591080" cy="804600"/>
          </a:xfrm>
        </p:grpSpPr>
        <p:sp>
          <p:nvSpPr>
            <p:cNvPr id="547" name="Freeform 78"/>
            <p:cNvSpPr/>
            <p:nvPr/>
          </p:nvSpPr>
          <p:spPr>
            <a:xfrm>
              <a:off x="2057400" y="2362320"/>
              <a:ext cx="4581720" cy="118800"/>
            </a:xfrm>
            <a:prstGeom prst="pie">
              <a:avLst/>
            </a:prstGeom>
            <a:solidFill>
              <a:srgbClr val="006600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79"/>
            <p:cNvSpPr/>
            <p:nvPr/>
          </p:nvSpPr>
          <p:spPr>
            <a:xfrm>
              <a:off x="5643720" y="1676520"/>
              <a:ext cx="1004760" cy="804600"/>
            </a:xfrm>
            <a:prstGeom prst="pie">
              <a:avLst/>
            </a:prstGeom>
            <a:solidFill>
              <a:srgbClr val="006600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2"/>
            <p:cNvSpPr/>
            <p:nvPr/>
          </p:nvSpPr>
          <p:spPr>
            <a:xfrm>
              <a:off x="2057400" y="1676520"/>
              <a:ext cx="3581640" cy="6858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velopment of future SME So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U-Turn Arrow 88"/>
          <p:cNvSpPr/>
          <p:nvPr/>
        </p:nvSpPr>
        <p:spPr>
          <a:xfrm rot="16200000">
            <a:off x="190440" y="1790280"/>
            <a:ext cx="1981080" cy="1752480"/>
          </a:xfrm>
          <a:prstGeom prst="pie">
            <a:avLst/>
          </a:prstGeom>
          <a:solidFill>
            <a:srgbClr val="eaeaea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80"/>
          <p:cNvGrpSpPr/>
          <p:nvPr/>
        </p:nvGrpSpPr>
        <p:grpSpPr>
          <a:xfrm>
            <a:off x="1143000" y="3048120"/>
            <a:ext cx="5506920" cy="838080"/>
            <a:chOff x="1143000" y="3048120"/>
            <a:chExt cx="5506920" cy="838080"/>
          </a:xfrm>
        </p:grpSpPr>
        <p:sp>
          <p:nvSpPr>
            <p:cNvPr id="552" name="Freeform 76"/>
            <p:cNvSpPr/>
            <p:nvPr/>
          </p:nvSpPr>
          <p:spPr>
            <a:xfrm>
              <a:off x="1143000" y="3048120"/>
              <a:ext cx="5506920" cy="239760"/>
            </a:xfrm>
            <a:prstGeom prst="pie">
              <a:avLst/>
            </a:prstGeom>
            <a:solidFill>
              <a:srgbClr val="ccfff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77"/>
            <p:cNvSpPr/>
            <p:nvPr/>
          </p:nvSpPr>
          <p:spPr>
            <a:xfrm>
              <a:off x="4775040" y="3051000"/>
              <a:ext cx="1873080" cy="835200"/>
            </a:xfrm>
            <a:prstGeom prst="pie">
              <a:avLst/>
            </a:prstGeom>
            <a:solidFill>
              <a:srgbClr val="ccfff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34"/>
            <p:cNvSpPr/>
            <p:nvPr/>
          </p:nvSpPr>
          <p:spPr>
            <a:xfrm>
              <a:off x="1218960" y="3276720"/>
              <a:ext cx="3556080" cy="600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erprise Workforce 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erprise Level Collab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U-Turn Arrow 87"/>
          <p:cNvSpPr/>
          <p:nvPr/>
        </p:nvSpPr>
        <p:spPr>
          <a:xfrm rot="16200000">
            <a:off x="247680" y="3333600"/>
            <a:ext cx="1371600" cy="1562400"/>
          </a:xfrm>
          <a:prstGeom prst="pie">
            <a:avLst/>
          </a:prstGeom>
          <a:solidFill>
            <a:srgbClr val="b2b2b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75"/>
          <p:cNvGrpSpPr/>
          <p:nvPr/>
        </p:nvGrpSpPr>
        <p:grpSpPr>
          <a:xfrm>
            <a:off x="1295280" y="3948120"/>
            <a:ext cx="4867560" cy="1233360"/>
            <a:chOff x="1295280" y="3948120"/>
            <a:chExt cx="4867560" cy="1233360"/>
          </a:xfrm>
        </p:grpSpPr>
        <p:sp>
          <p:nvSpPr>
            <p:cNvPr id="557" name="Freeform 74"/>
            <p:cNvSpPr/>
            <p:nvPr/>
          </p:nvSpPr>
          <p:spPr>
            <a:xfrm>
              <a:off x="4876920" y="3948120"/>
              <a:ext cx="1285920" cy="1233360"/>
            </a:xfrm>
            <a:prstGeom prst="pie">
              <a:avLst/>
            </a:prstGeom>
            <a:solidFill>
              <a:srgbClr val="b6dcd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35"/>
            <p:cNvSpPr/>
            <p:nvPr/>
          </p:nvSpPr>
          <p:spPr>
            <a:xfrm>
              <a:off x="1295280" y="4495680"/>
              <a:ext cx="3581640" cy="6858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ross-organizational aware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tnersh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1"/>
            <p:cNvSpPr/>
            <p:nvPr/>
          </p:nvSpPr>
          <p:spPr>
            <a:xfrm>
              <a:off x="1301400" y="3949560"/>
              <a:ext cx="4851720" cy="552240"/>
            </a:xfrm>
            <a:prstGeom prst="pie">
              <a:avLst/>
            </a:prstGeom>
            <a:solidFill>
              <a:srgbClr val="b6dcd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U-Turn Arrow 85"/>
          <p:cNvSpPr/>
          <p:nvPr/>
        </p:nvSpPr>
        <p:spPr>
          <a:xfrm rot="16200000">
            <a:off x="285480" y="4514760"/>
            <a:ext cx="1447920" cy="1562040"/>
          </a:xfrm>
          <a:prstGeom prst="pie">
            <a:avLst/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6"/>
          <p:cNvSpPr/>
          <p:nvPr/>
        </p:nvSpPr>
        <p:spPr>
          <a:xfrm>
            <a:off x="209880" y="4648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ve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9"/>
          <p:cNvSpPr/>
          <p:nvPr/>
        </p:nvSpPr>
        <p:spPr>
          <a:xfrm>
            <a:off x="171000" y="35053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90"/>
          <p:cNvSpPr/>
          <p:nvPr/>
        </p:nvSpPr>
        <p:spPr>
          <a:xfrm>
            <a:off x="1110960" y="17953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d8a"/>
                </a:solidFill>
                <a:latin typeface="Arial"/>
              </a:rPr>
              <a:t>SoSE Development Program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8636040" y="6626160"/>
            <a:ext cx="507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BE41-DF31-4647-98B3-70BD827784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Major Thrusts For the T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36680" y="146988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arrange formal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 with Team APG organizations to obtain candidates, developmental assignments, and follow on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candidates to plan special or informal training, finalize schedules, and develop formal developmental assignment agre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8636040" y="6626160"/>
            <a:ext cx="507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7E34-24DE-48A9-A17E-DCD5168646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ce Options &amp;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265040"/>
            <a:ext cx="8686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urrent Tech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 D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87K (one-time c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ominion Un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5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ourse ($360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-4 hrs Sessions (4 Courses, 32 hrs ea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-8 hrs Sessions (1 Capstone, 64 h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ificate &amp; 6 Cred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2K + $2K per each additional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ven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Days/Big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3"/>
          <p:cNvSpPr/>
          <p:nvPr/>
        </p:nvSpPr>
        <p:spPr>
          <a:xfrm>
            <a:off x="3519360" y="871560"/>
            <a:ext cx="562464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d Designed Program           Sus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v Own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Gov Time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with Army Ed Sys                Thoroughness/Dep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mic (re-tailor)                              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4696920" y="2127240"/>
            <a:ext cx="4006080" cy="228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Time Commi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en Esta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/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s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-Tail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sh Technical Report/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milation of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al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e/Cre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5791320" y="4583160"/>
            <a:ext cx="209808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                Dep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-Tail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Flex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6"/>
          <p:cNvSpPr/>
          <p:nvPr/>
        </p:nvSpPr>
        <p:spPr>
          <a:xfrm>
            <a:off x="4061520" y="5891040"/>
            <a:ext cx="1851120" cy="82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 Question 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t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Straight Arrow Connector 8"/>
          <p:cNvCxnSpPr/>
          <p:nvPr/>
        </p:nvCxnSpPr>
        <p:spPr>
          <a:xfrm>
            <a:off x="3413160" y="2647800"/>
            <a:ext cx="1148040" cy="532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576" name="Straight Arrow Connector 10"/>
          <p:cNvCxnSpPr/>
          <p:nvPr/>
        </p:nvCxnSpPr>
        <p:spPr>
          <a:xfrm flipV="1">
            <a:off x="3147480" y="1265040"/>
            <a:ext cx="297720" cy="957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577" name="Straight Arrow Connector 12"/>
          <p:cNvCxnSpPr/>
          <p:nvPr/>
        </p:nvCxnSpPr>
        <p:spPr>
          <a:xfrm>
            <a:off x="1987200" y="5029200"/>
            <a:ext cx="3691800" cy="324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578" name="Straight Arrow Connector 14"/>
          <p:cNvCxnSpPr/>
          <p:nvPr/>
        </p:nvCxnSpPr>
        <p:spPr>
          <a:xfrm>
            <a:off x="3071520" y="6167160"/>
            <a:ext cx="819720" cy="75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579" name="Slide Number Placeholder 3"/>
          <p:cNvSpPr/>
          <p:nvPr/>
        </p:nvSpPr>
        <p:spPr>
          <a:xfrm>
            <a:off x="8636040" y="6626160"/>
            <a:ext cx="507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E7D3-4E7C-4EEC-8F39-728FA1F373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c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46040" y="1366560"/>
            <a:ext cx="82296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with Sponsor Mr. Sverapa - Mid Oc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Options &amp;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age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 Select Servic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Developmental Assignme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e Roster of Train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 Program - March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Program Sustain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8636040" y="6626160"/>
            <a:ext cx="507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D161-86BB-4716-8FCA-170F8C2186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88800" y="2457000"/>
            <a:ext cx="66294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8636040" y="6626160"/>
            <a:ext cx="507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C063-F993-486D-AD6D-4932A41EFD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Oval 3"/>
          <p:cNvSpPr/>
          <p:nvPr/>
        </p:nvSpPr>
        <p:spPr>
          <a:xfrm>
            <a:off x="1523880" y="1066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35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 APG SoSE Candidat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 Development Program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2"/>
          <p:cNvSpPr/>
          <p:nvPr/>
        </p:nvSpPr>
        <p:spPr>
          <a:xfrm>
            <a:off x="4343400" y="7621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35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 APG Organ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152280" y="2433600"/>
            <a:ext cx="2362320" cy="1157400"/>
          </a:xfrm>
          <a:prstGeom prst="ellipse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35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didate &amp; Supervisor Identify Desired Developmental Assignment Compet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3"/>
          <p:cNvSpPr/>
          <p:nvPr/>
        </p:nvSpPr>
        <p:spPr>
          <a:xfrm>
            <a:off x="6172200" y="2160720"/>
            <a:ext cx="2590920" cy="1218960"/>
          </a:xfrm>
          <a:prstGeom prst="ellipse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35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m A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 of Organizational  Developmental Assignment Competen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TextBox 16"/>
          <p:cNvGrpSpPr/>
          <p:nvPr/>
        </p:nvGrpSpPr>
        <p:grpSpPr>
          <a:xfrm>
            <a:off x="6168960" y="3517920"/>
            <a:ext cx="2828880" cy="1236600"/>
            <a:chOff x="6168960" y="3517920"/>
            <a:chExt cx="2828880" cy="1236600"/>
          </a:xfrm>
        </p:grpSpPr>
        <p:pic>
          <p:nvPicPr>
            <p:cNvPr id="591" name="TextBox 16" descr=""/>
            <p:cNvPicPr/>
            <p:nvPr/>
          </p:nvPicPr>
          <p:blipFill>
            <a:blip r:embed="rId1"/>
            <a:stretch/>
          </p:blipFill>
          <p:spPr>
            <a:xfrm>
              <a:off x="6168960" y="3517920"/>
              <a:ext cx="2828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6172200" y="3522600"/>
              <a:ext cx="2819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mal Developmental Assignment Agre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st of competencies to be acquir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fic activities of assig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pectations for candidate and developmental assignment organiz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Oval 17"/>
          <p:cNvSpPr/>
          <p:nvPr/>
        </p:nvSpPr>
        <p:spPr>
          <a:xfrm>
            <a:off x="6553080" y="4876920"/>
            <a:ext cx="1981440" cy="1143000"/>
          </a:xfrm>
          <a:prstGeom prst="ellipse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35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Specialized Training Required for Developmental 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8"/>
          <p:cNvSpPr/>
          <p:nvPr/>
        </p:nvSpPr>
        <p:spPr>
          <a:xfrm>
            <a:off x="533520" y="5067360"/>
            <a:ext cx="2286000" cy="762120"/>
          </a:xfrm>
          <a:prstGeom prst="ellipse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35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Formal SoSE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eft-Right-Up Arrow 20"/>
          <p:cNvSpPr/>
          <p:nvPr/>
        </p:nvSpPr>
        <p:spPr>
          <a:xfrm flipV="1">
            <a:off x="2917800" y="5113440"/>
            <a:ext cx="3483000" cy="6667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b6dcd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21"/>
          <p:cNvSpPr/>
          <p:nvPr/>
        </p:nvSpPr>
        <p:spPr>
          <a:xfrm>
            <a:off x="2982960" y="5791320"/>
            <a:ext cx="3352680" cy="990360"/>
          </a:xfrm>
          <a:prstGeom prst="ellipse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35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SoSE Development Program Plan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Notched Right Arrow 22"/>
          <p:cNvSpPr/>
          <p:nvPr/>
        </p:nvSpPr>
        <p:spPr>
          <a:xfrm rot="2398800">
            <a:off x="6347880" y="1596960"/>
            <a:ext cx="838440" cy="381240"/>
          </a:xfrm>
          <a:custGeom>
            <a:avLst/>
            <a:gdLst>
              <a:gd name="textAreaLeft" fmla="*/ 95040 w 838440"/>
              <a:gd name="textAreaRight" fmla="*/ 743400 w 8384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91" y="5400"/>
                </a:lnTo>
                <a:lnTo>
                  <a:pt x="16691" y="0"/>
                </a:lnTo>
                <a:lnTo>
                  <a:pt x="21600" y="10800"/>
                </a:lnTo>
                <a:lnTo>
                  <a:pt x="16691" y="21600"/>
                </a:lnTo>
                <a:lnTo>
                  <a:pt x="16691" y="16200"/>
                </a:lnTo>
                <a:lnTo>
                  <a:pt x="0" y="16200"/>
                </a:lnTo>
                <a:lnTo>
                  <a:pt x="2455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Notched Right Arrow 23"/>
          <p:cNvSpPr/>
          <p:nvPr/>
        </p:nvSpPr>
        <p:spPr>
          <a:xfrm rot="7012800">
            <a:off x="1879920" y="2042280"/>
            <a:ext cx="617400" cy="380880"/>
          </a:xfrm>
          <a:custGeom>
            <a:avLst/>
            <a:gdLst>
              <a:gd name="textAreaLeft" fmla="*/ 95040 w 617400"/>
              <a:gd name="textAreaRight" fmla="*/ 522360 w 617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937" y="5400"/>
                </a:lnTo>
                <a:lnTo>
                  <a:pt x="14937" y="0"/>
                </a:lnTo>
                <a:lnTo>
                  <a:pt x="21600" y="10800"/>
                </a:lnTo>
                <a:lnTo>
                  <a:pt x="14937" y="21600"/>
                </a:lnTo>
                <a:lnTo>
                  <a:pt x="14937" y="16200"/>
                </a:lnTo>
                <a:lnTo>
                  <a:pt x="0" y="16200"/>
                </a:lnTo>
                <a:lnTo>
                  <a:pt x="3332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eft-Right-Up Arrow 14"/>
          <p:cNvSpPr/>
          <p:nvPr/>
        </p:nvSpPr>
        <p:spPr>
          <a:xfrm flipV="1">
            <a:off x="2590920" y="2611800"/>
            <a:ext cx="3483000" cy="76356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b6dcd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5"/>
          <p:cNvSpPr/>
          <p:nvPr/>
        </p:nvSpPr>
        <p:spPr>
          <a:xfrm>
            <a:off x="3151080" y="3443400"/>
            <a:ext cx="2362320" cy="1218960"/>
          </a:xfrm>
          <a:prstGeom prst="ellipse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35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didate and Organizations Negotiate   Developmental Assig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24"/>
          <p:cNvSpPr/>
          <p:nvPr/>
        </p:nvSpPr>
        <p:spPr>
          <a:xfrm>
            <a:off x="3752640" y="266220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Notched Right Arrow 25"/>
          <p:cNvSpPr/>
          <p:nvPr/>
        </p:nvSpPr>
        <p:spPr>
          <a:xfrm rot="8906400">
            <a:off x="3885840" y="1120320"/>
            <a:ext cx="468360" cy="381240"/>
          </a:xfrm>
          <a:custGeom>
            <a:avLst/>
            <a:gdLst>
              <a:gd name="textAreaLeft" fmla="*/ 95040 w 468360"/>
              <a:gd name="textAreaRight" fmla="*/ 373320 w 4683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814" y="5400"/>
                </a:lnTo>
                <a:lnTo>
                  <a:pt x="12814" y="0"/>
                </a:lnTo>
                <a:lnTo>
                  <a:pt x="21600" y="10800"/>
                </a:lnTo>
                <a:lnTo>
                  <a:pt x="12814" y="21600"/>
                </a:lnTo>
                <a:lnTo>
                  <a:pt x="12814" y="16200"/>
                </a:lnTo>
                <a:lnTo>
                  <a:pt x="0" y="16200"/>
                </a:lnTo>
                <a:lnTo>
                  <a:pt x="4393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Notched Right Arrow 28"/>
          <p:cNvSpPr/>
          <p:nvPr/>
        </p:nvSpPr>
        <p:spPr>
          <a:xfrm>
            <a:off x="5580000" y="3881520"/>
            <a:ext cx="531720" cy="345960"/>
          </a:xfrm>
          <a:custGeom>
            <a:avLst/>
            <a:gdLst>
              <a:gd name="textAreaLeft" fmla="*/ 86400 w 531720"/>
              <a:gd name="textAreaRight" fmla="*/ 445320 w 531720"/>
              <a:gd name="textAreaTop" fmla="*/ 86400 h 345960"/>
              <a:gd name="textAreaBottom" fmla="*/ 259560 h 34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72" y="5400"/>
                </a:lnTo>
                <a:lnTo>
                  <a:pt x="14572" y="0"/>
                </a:lnTo>
                <a:lnTo>
                  <a:pt x="21600" y="10800"/>
                </a:lnTo>
                <a:lnTo>
                  <a:pt x="14572" y="21600"/>
                </a:lnTo>
                <a:lnTo>
                  <a:pt x="14572" y="16200"/>
                </a:lnTo>
                <a:lnTo>
                  <a:pt x="0" y="16200"/>
                </a:lnTo>
                <a:lnTo>
                  <a:pt x="3514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Notched Right Arrow 29"/>
          <p:cNvSpPr/>
          <p:nvPr/>
        </p:nvSpPr>
        <p:spPr>
          <a:xfrm rot="8086200">
            <a:off x="8418960" y="4854960"/>
            <a:ext cx="531720" cy="345960"/>
          </a:xfrm>
          <a:custGeom>
            <a:avLst/>
            <a:gdLst>
              <a:gd name="textAreaLeft" fmla="*/ 86400 w 531720"/>
              <a:gd name="textAreaRight" fmla="*/ 445320 w 531720"/>
              <a:gd name="textAreaTop" fmla="*/ 86400 h 345960"/>
              <a:gd name="textAreaBottom" fmla="*/ 259560 h 34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72" y="5400"/>
                </a:lnTo>
                <a:lnTo>
                  <a:pt x="14572" y="0"/>
                </a:lnTo>
                <a:lnTo>
                  <a:pt x="21600" y="10800"/>
                </a:lnTo>
                <a:lnTo>
                  <a:pt x="14572" y="21600"/>
                </a:lnTo>
                <a:lnTo>
                  <a:pt x="14572" y="16200"/>
                </a:lnTo>
                <a:lnTo>
                  <a:pt x="0" y="16200"/>
                </a:lnTo>
                <a:lnTo>
                  <a:pt x="3514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27"/>
          <p:cNvSpPr/>
          <p:nvPr/>
        </p:nvSpPr>
        <p:spPr>
          <a:xfrm>
            <a:off x="3511080" y="511488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ination/Schedu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8636040" y="6626160"/>
            <a:ext cx="507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FFC4-DE3B-45AC-8D27-E426CAA358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Stakehol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Bent Arrow 13"/>
          <p:cNvSpPr/>
          <p:nvPr/>
        </p:nvSpPr>
        <p:spPr>
          <a:xfrm rot="10800000">
            <a:off x="2895120" y="3708000"/>
            <a:ext cx="1219320" cy="762120"/>
          </a:xfrm>
          <a:prstGeom prst="pie">
            <a:avLst/>
          </a:pr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Bent Arrow 15"/>
          <p:cNvSpPr/>
          <p:nvPr/>
        </p:nvSpPr>
        <p:spPr>
          <a:xfrm flipH="1" rot="10800000">
            <a:off x="5105520" y="3708000"/>
            <a:ext cx="1218960" cy="762120"/>
          </a:xfrm>
          <a:prstGeom prst="pie">
            <a:avLst/>
          </a:pr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Bent Arrow 18"/>
          <p:cNvSpPr/>
          <p:nvPr/>
        </p:nvSpPr>
        <p:spPr>
          <a:xfrm flipH="1" rot="16200000">
            <a:off x="3733920" y="4013280"/>
            <a:ext cx="1218960" cy="761760"/>
          </a:xfrm>
          <a:prstGeom prst="pie">
            <a:avLst/>
          </a:pr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Bent Arrow 20"/>
          <p:cNvSpPr/>
          <p:nvPr/>
        </p:nvSpPr>
        <p:spPr>
          <a:xfrm rot="16200000">
            <a:off x="3733920" y="2870280"/>
            <a:ext cx="1218960" cy="761760"/>
          </a:xfrm>
          <a:prstGeom prst="pie">
            <a:avLst/>
          </a:pr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9"/>
          <p:cNvSpPr/>
          <p:nvPr/>
        </p:nvSpPr>
        <p:spPr>
          <a:xfrm>
            <a:off x="3238560" y="3098880"/>
            <a:ext cx="2666880" cy="1447560"/>
          </a:xfrm>
          <a:prstGeom prst="ellipse">
            <a:avLst/>
          </a:pr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ol of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Bent Arrow 12"/>
          <p:cNvSpPr/>
          <p:nvPr/>
        </p:nvSpPr>
        <p:spPr>
          <a:xfrm>
            <a:off x="2514600" y="3098880"/>
            <a:ext cx="1219320" cy="761760"/>
          </a:xfrm>
          <a:prstGeom prst="pie">
            <a:avLst/>
          </a:pr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Bent Arrow 14"/>
          <p:cNvSpPr/>
          <p:nvPr/>
        </p:nvSpPr>
        <p:spPr>
          <a:xfrm flipH="1">
            <a:off x="5409360" y="3098880"/>
            <a:ext cx="1219320" cy="761760"/>
          </a:xfrm>
          <a:prstGeom prst="pie">
            <a:avLst/>
          </a:pr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ent Arrow 17"/>
          <p:cNvSpPr/>
          <p:nvPr/>
        </p:nvSpPr>
        <p:spPr>
          <a:xfrm flipH="1" rot="5400000">
            <a:off x="4190760" y="4393800"/>
            <a:ext cx="1219320" cy="761760"/>
          </a:xfrm>
          <a:prstGeom prst="pie">
            <a:avLst/>
          </a:pr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Bent Arrow 19"/>
          <p:cNvSpPr/>
          <p:nvPr/>
        </p:nvSpPr>
        <p:spPr>
          <a:xfrm rot="5400000">
            <a:off x="4190760" y="2489040"/>
            <a:ext cx="1219320" cy="761760"/>
          </a:xfrm>
          <a:prstGeom prst="pie">
            <a:avLst/>
          </a:pr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1"/>
          <p:cNvSpPr/>
          <p:nvPr/>
        </p:nvSpPr>
        <p:spPr>
          <a:xfrm>
            <a:off x="3505320" y="5562720"/>
            <a:ext cx="213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9" descr="PEOC3T logo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523880"/>
            <a:ext cx="2247840" cy="6429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1" descr="File:Cerdec logo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720" y="3505320"/>
            <a:ext cx="1852560" cy="533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3" descr="Profile Picture"/>
          <p:cNvPicPr/>
          <p:nvPr/>
        </p:nvPicPr>
        <p:blipFill>
          <a:blip r:embed="rId5"/>
          <a:stretch/>
        </p:blipFill>
        <p:spPr>
          <a:xfrm>
            <a:off x="6705720" y="2971800"/>
            <a:ext cx="1533240" cy="1523880"/>
          </a:xfrm>
          <a:prstGeom prst="rect">
            <a:avLst/>
          </a:prstGeom>
          <a:ln w="0">
            <a:noFill/>
          </a:ln>
        </p:spPr>
      </p:pic>
      <p:sp>
        <p:nvSpPr>
          <p:cNvPr id="622" name="Slide Number Placeholder 3"/>
          <p:cNvSpPr/>
          <p:nvPr/>
        </p:nvSpPr>
        <p:spPr>
          <a:xfrm>
            <a:off x="8636040" y="6626160"/>
            <a:ext cx="507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6615-21EA-4A5C-87CB-CEF002CAC7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1:21:11Z</dcterms:created>
  <dc:creator>Beverly Obenchain</dc:creator>
  <dc:description/>
  <dc:language>en-US</dc:language>
  <cp:lastModifiedBy>Trish Mooney</cp:lastModifiedBy>
  <cp:lastPrinted>2009-02-23T23:02:36Z</cp:lastPrinted>
  <dcterms:modified xsi:type="dcterms:W3CDTF">2012-09-20T19:46:12Z</dcterms:modified>
  <cp:revision>247</cp:revision>
  <dc:subject/>
  <dc:title>PowerPoint Presentation</dc:title>
</cp:coreProperties>
</file>