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png" ContentType="image/png"/>
  <Override PartName="/ppt/media/image5.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111D6A-36DC-4DDC-8A88-6511AB5D4F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B14F45-9D2D-47C7-A026-72F112CDAA2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8D41A7C-9A4C-4DF9-9B2E-57F05493573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A021067-4674-492E-BA94-286CBE14AAB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3D05AA1-E0A9-465D-86DA-D6D95571655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782C1F0-8FF4-44F1-AE41-5D8A3DAC8FE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3F19924-25DF-4099-803A-3AFE12490A6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CA837A0-34D2-4C11-BC3A-662C8E8AED7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4B09A5F-F098-4023-9DFF-3FC5819A24E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2E17036F-6876-4141-9574-B9B9815A3DE2}"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AB7C260E-E97A-49D2-ABCF-AB16430D3D05}"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F5BBA331-51B7-4346-842A-5EA201D25DA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26365B-9A98-44F7-B170-C97643518E0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546E103D-1B90-4752-A3A3-AD36AAEC1BF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4C7022E5-47C7-4476-99F6-504C426DD86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85DBD4F8-6D3D-48AA-8058-21B82A7203D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191929D0-572B-464A-B0FB-EF6CA705357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7FF9FEDD-B8DD-4F66-9AB2-9FABC478924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2D20DA1-7C65-4201-8575-B5A0A622F59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E814D8A-336A-461D-AC9A-DE730805502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B281FE6-FBFD-4A80-B162-0380EFF63F7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6413CAFE-3D7E-443C-8448-3B9E6E427C9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4BC291A2-ADF0-4ECB-880D-28D872BF3D0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FA9691-CA2B-4494-8DE9-C541BB2CF6A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9017DF5F-09A0-4DE5-A2DE-0AC8FB5A85F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54D0E2A2-0069-43E4-A386-2EDC4969E11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F02D831A-6DB2-4F0A-945F-A7CC89BDE5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A7DDF675-50EF-4607-BB97-B372CC52F6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3E45022E-7259-4A76-8236-677A8DE98B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539A8CD6-8692-4DC3-95A5-AA58E7BAFF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65DECC37-EFAD-4C03-8496-9EAFFA99986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E24C1DF-28EE-4807-8E92-FCEDCEDDA2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04204F5-EF5B-46EC-8F4A-C0BA98A39F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20DD639-2FCB-46E9-8735-07E049A93E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9472413-DB4E-49DD-AB1C-ADDB29A8C5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B86B77D0-5937-44D6-BE11-8BE3E4EC15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B4468C09-DA93-4698-897F-98E37435E59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FACC8114-4DF3-4C18-A8EE-BF7DE9FAF48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D7917A53-D5C0-4DD6-A22A-5D44CF74CE3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8BA2B9E5-A540-465D-B19E-56D49121B01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21A0E618-2DA6-4185-BE8E-9662238910A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8841A794-3971-4F3B-8DB7-A5CFC2510B5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D738FA5C-C5F1-4139-B76E-ED9106F1E30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C1D342FE-BA8E-42E4-8372-1689FB085A6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16F1E3D-F73C-4AC2-9978-766711FE5D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0F850B5-9E0C-4044-B5B9-E229880272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D9EBFAC-C861-4F20-A238-FB29E0B3E2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6F6CACA-6D66-481C-B97B-0DDC8910BE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8F36F8FB-214B-4949-9662-04936E07028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D43B9083-403F-4231-A4F0-7AC09F21077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BEE384EF-625D-4E7D-BE87-86E9926EA44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A914DB4-0DBC-4209-B47B-90E15F6127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D30A67F-363F-4928-8E5B-D7EB6184A5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26ABD3D-3D5B-44A0-A7CF-EB5CE3FDB3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46D105D-5C38-484D-8B7C-85E6033417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9D950D2-F15D-4DC3-A9C7-E257A9BA20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C20CD-A4F9-4E4D-8E7A-2D9C63D9B6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42C20FE-C707-44F4-A9F1-54C1E339E4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52E9F57-430F-4B24-A369-D54D2ADE9E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1946BF2-A19B-46E9-AD86-DFF407B334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D172F58-0987-4E5D-B437-DD14DD85ED2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F917F7F-C860-4147-9E33-DA890D1ADED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80C918D-AA3C-4794-9C45-36DC8BB69C3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1AC4DDF-7310-470C-93E3-90041FF7C91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D3C30FE-42AB-4533-AFB4-30E01F329E4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36CFDBB-B9CC-4119-ABE6-AE8F728B2F5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E200913-433E-4720-8469-F1A14CA7EEE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B527E-CC47-4440-AC55-F1F14B9623C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7746E46-D788-4E5D-B78D-F73A553F40C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98CA712-459F-462B-98D2-DFA4F1E8E8B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09D08BB-24CC-47E0-A088-F1606B65BB0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5B2DE9F-C39F-4ACA-896B-C2977C9FA59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2C77CBC-75B1-4DFA-9684-4279C19144A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61FAF9E-6EB0-4A61-9567-E9B0A505980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4FF25D22-7D04-452C-82D2-BC5D42D9EC45}"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745AEBF3-D019-479E-BA00-7AD2A7D1F6E1}"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CFC9A8A-4E27-4227-B995-361CDE6E58A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C24BDAE-0574-4E99-9F24-E28E0A78F7E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589B7A-F300-465F-B6C6-4441D663243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094C6F6-7586-4C8B-9072-64C59A9C53F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4B8B318-581A-4B1D-B4F5-BFEBF1C953C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F41F77D-570E-4F74-9CCF-C297270557C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58F10FA-1EC8-4609-B1FD-ABCBB0F120E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874844F-DC95-4865-B7F8-C6AEB5EACA5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C227131-A219-4B71-A5B4-D1774FABA29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A4C0958-B078-4C21-8D17-ADED478E791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4CA0FC47-2C03-4D53-B532-034ED6FE8DDC}"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B55E5E98-E91D-4CDB-8B30-C2F10C6C6271}"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7C18CC06-04DB-4A18-9D41-D7D8D210616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13496CDA-387E-42EC-9045-F4533E8A612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4E17CC2-22F7-471D-BB6D-DDC02D8A6EE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CC7558E-DD9E-4D64-87E6-A8AF578B991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1E48F0E-11ED-4B9F-8D6D-9335643A3C0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75ACFA8-2294-4448-8A0A-0FC5D8D33D5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8627721-2364-4230-8222-019CB2CA9E0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637F013-120A-42DB-92A8-31B92665675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9F4C79B-A95E-47B6-B303-7BB3FDB756B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1C3673F-C11E-420D-BC61-F0A4EB6967B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3A764A5-35A9-4407-B2DA-5A960C388A7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4CD8B590-8698-41B4-A0E6-2E7CCD40F9FB}"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E187899-5107-43E5-A5B9-6B2E10CF374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69190FFB-05FE-46B3-86D0-8260592E49D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643840C4-C9AE-4697-A56D-A0FF1F8B51AB}"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4BD521B-10F8-491A-B96B-AC5A40E69EA8}"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4589151-817F-4F0B-8105-81F6BADA1C0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FA05D35-16D6-4912-99F7-19F64C1AD2F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414E2D7-D136-426A-81CC-990A05086F7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770D302-8066-43FA-89FF-AFBB55DAE9C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A110273-7FA3-484D-80B4-9E77CBB1FA0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FBD3CD3-5CB5-4C49-936E-1EEDADA45EA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28599CB-2A88-49B9-9F95-377C119132C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A19FFC-7E00-4683-BEA2-5F3B8987DF4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8E03C40-7ECE-4801-85DF-EAAE503F737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730AE1D1-D82E-4069-81B3-50900E224AF9}"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5D71F067-1694-4982-8E6B-727AE55C2A25}"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79141499-1A4B-4C57-93A8-E290CBCB5EC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2B5E38F-F757-4D93-B735-2F4ACEAC090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32D962C-785D-414E-8EE6-42D159CE650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8982BC6-699F-43E7-9460-20CD9735DC7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6709484-8873-466E-A581-17F5691397C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704D7F5-4997-4AB1-9F2B-FF9E7A2AA19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1E75D3E-AFD0-48D2-B43C-E493DCC7655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6B3AE5-00E9-4C94-9DBA-4315B2AE8BA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B99A27A-EB4A-4265-86CF-0C06332AA15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E1B817A-3889-4621-A957-4E69DE63C87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0D2043E-74AB-4211-8034-8633A2269F0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44CE887E-3F5F-4497-A7C8-218486971117}"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3CE8BEB9-8381-4B11-A7B9-FEE7A30256ED}"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9AE047C9-6E8C-4616-BD20-4D7D1B5DC1C4}"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B15FF66-03E8-4091-967D-1E4BAAAFBD9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3351EF8-45D5-4F3E-BE6D-5B980C87998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C4AD018-D8AC-4354-A784-12AEB7AA5E1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90F538A-08C9-4C98-93C6-4B7762347DE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DFE9B9-87A6-45FE-A3DC-F6208FF1EAD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E63CCA9-55BF-4C61-8518-84153506F96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6C55309-BA51-4434-B89D-C6022089864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A9B9958-177A-4CC2-9122-69702E4DC85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6C2D3BE-726F-405C-94A5-CEE4173ABEE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99D5D69-6B27-4F04-8151-80C522B74C4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569CBE02-42F0-44D4-9138-9116633C990F}"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6448AD16-276E-44F1-B9E2-1D580E30C96E}"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9C917B20-736B-440F-9DBA-7D8160BA8A9F}"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261134F-B72A-4739-A22B-3A4D51F2B7DB}"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F1B2F38-300F-4F9E-AD32-C2252F27AA82}"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MA_ppt_wDUI_inside_bkgrnd_top"/>
          <p:cNvPicPr/>
          <p:nvPr/>
        </p:nvPicPr>
        <p:blipFill>
          <a:blip r:embed="rId2"/>
          <a:srcRect l="756" t="6667" r="8507" b="0"/>
          <a:stretch/>
        </p:blipFill>
        <p:spPr>
          <a:xfrm>
            <a:off x="0" y="0"/>
            <a:ext cx="9144000" cy="1295280"/>
          </a:xfrm>
          <a:prstGeom prst="rect">
            <a:avLst/>
          </a:prstGeom>
          <a:ln w="0">
            <a:noFill/>
          </a:ln>
        </p:spPr>
      </p:pic>
      <p:sp>
        <p:nvSpPr>
          <p:cNvPr id="1"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ECCE40-19FE-4B79-AC9F-300D3401E6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9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9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9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8"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55E358-39B5-4742-B2F5-709F5FD90E5E}"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99"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0"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BB5F18-3062-4E41-9282-0DA837C3C4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3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3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44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2"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4EF186-8C70-4827-A324-00AFB08114AD}"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43"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4"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33B879-E6D9-481E-A3F0-7C9BF55C62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8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8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48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6"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76281C-28D4-4139-A3F2-5280C07AFF4F}"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87"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8"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BCF83F-46E9-420E-8EA4-CC9D525BA0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CMA_ppt_wDUI_front_bkgrnd"/>
          <p:cNvPicPr/>
          <p:nvPr/>
        </p:nvPicPr>
        <p:blipFill>
          <a:blip r:embed="rId2"/>
          <a:srcRect l="242" t="0" r="826" b="846"/>
          <a:stretch/>
        </p:blipFill>
        <p:spPr>
          <a:xfrm>
            <a:off x="0" y="-17640"/>
            <a:ext cx="9144000" cy="6875640"/>
          </a:xfrm>
          <a:prstGeom prst="rect">
            <a:avLst/>
          </a:prstGeom>
          <a:ln w="0">
            <a:noFill/>
          </a:ln>
        </p:spPr>
      </p:pic>
      <p:pic>
        <p:nvPicPr>
          <p:cNvPr id="43" name="Picture 11" descr="COHORT Logo by Toby Cisneros 2 16 2010"/>
          <p:cNvPicPr/>
          <p:nvPr/>
        </p:nvPicPr>
        <p:blipFill>
          <a:blip r:embed="rId3"/>
          <a:stretch/>
        </p:blipFill>
        <p:spPr>
          <a:xfrm>
            <a:off x="609480" y="457200"/>
            <a:ext cx="3733920" cy="1919160"/>
          </a:xfrm>
          <a:prstGeom prst="rect">
            <a:avLst/>
          </a:prstGeom>
          <a:ln w="0">
            <a:noFill/>
          </a:ln>
        </p:spPr>
      </p:pic>
      <p:sp>
        <p:nvSpPr>
          <p:cNvPr id="4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E5944F-DF12-40CD-9634-57ECB125741E}"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2111AE-84CE-48AA-9668-870EF736E6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8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8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8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358956-B3F2-43AE-8050-EB4C318F64E7}"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91"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125CCC-533E-4634-AC04-B744CABC2F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3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3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13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B6928B-D5A1-4989-9285-4D419F7ECCCB}"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35"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833C7F-5369-4A4F-A43E-F5E286C5F2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7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7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17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E8BEB8-96FF-462D-A98C-FFC0A66F63D3}"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79"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B24BBA-7029-4F4B-9EE5-E2FDD88E5B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1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1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22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2"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018271-D6AC-429C-85D6-BDE2C0EF24DE}"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23"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07CB1A-037F-4EFF-9298-790DD52467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6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6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26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37AC77-017F-48D1-8172-4DEBE4E86F52}"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67"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8"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4F09B4-E7C3-48D1-AA39-240C13E048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0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0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0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0"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F47F0B-179F-4C39-A852-7D2E60A1F3BC}"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11"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2"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FCF18E-ABBE-47A1-939A-71EF499077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5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5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5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877947-F8D4-4DC2-84DC-3140AB6A0B55}"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5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6"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CF682A-E3F2-4FF8-89D7-A3C34EE086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G Senior Leadership Cohort Program 2011</a:t>
            </a:r>
            <a:endParaRPr b="0" lang="en-US" sz="2800" spc="-1" strike="noStrike">
              <a:solidFill>
                <a:srgbClr val="000000"/>
              </a:solidFill>
              <a:latin typeface="Arial"/>
            </a:endParaRPr>
          </a:p>
        </p:txBody>
      </p:sp>
      <p:sp>
        <p:nvSpPr>
          <p:cNvPr id="526" name="PlaceHolder 2"/>
          <p:cNvSpPr>
            <a:spLocks noGrp="1"/>
          </p:cNvSpPr>
          <p:nvPr>
            <p:ph type="subTitle"/>
          </p:nvPr>
        </p:nvSpPr>
        <p:spPr>
          <a:xfrm>
            <a:off x="457200" y="4800600"/>
            <a:ext cx="830592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 Presentation – Heidi Maupin, Cohort B</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2268"/>
                </a:solidFill>
                <a:latin typeface="Arial"/>
              </a:rPr>
              <a:t>Drive</a:t>
            </a:r>
            <a:r>
              <a:rPr b="0" lang="en-US" sz="3200" spc="-1" strike="noStrike">
                <a:solidFill>
                  <a:srgbClr val="222268"/>
                </a:solidFill>
                <a:latin typeface="Arial"/>
              </a:rPr>
              <a:t> – The Surprising Truth About What Motivates Us </a:t>
            </a:r>
            <a:r>
              <a:rPr b="0" lang="en-US" sz="2800" spc="-1" strike="noStrike">
                <a:solidFill>
                  <a:srgbClr val="000000"/>
                </a:solidFill>
                <a:latin typeface="Arial"/>
              </a:rPr>
              <a:t>by Daniel H. Pink</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27" name="Picture 4" descr="OPM Seal"/>
          <p:cNvPicPr/>
          <p:nvPr/>
        </p:nvPicPr>
        <p:blipFill>
          <a:blip r:embed="rId1"/>
          <a:stretch/>
        </p:blipFill>
        <p:spPr>
          <a:xfrm>
            <a:off x="3886200" y="3276720"/>
            <a:ext cx="1371600" cy="1371600"/>
          </a:xfrm>
          <a:prstGeom prst="rect">
            <a:avLst/>
          </a:prstGeom>
          <a:ln w="0">
            <a:noFill/>
          </a:ln>
        </p:spPr>
      </p:pic>
      <p:sp>
        <p:nvSpPr>
          <p:cNvPr id="528" name="Rectangle 7"/>
          <p:cNvSpPr/>
          <p:nvPr/>
        </p:nvSpPr>
        <p:spPr>
          <a:xfrm>
            <a:off x="1055520" y="4003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tery</a:t>
            </a:r>
            <a:endParaRPr b="0" lang="en-US" sz="3200" spc="-1" strike="noStrike">
              <a:solidFill>
                <a:srgbClr val="000000"/>
              </a:solidFill>
              <a:latin typeface="Arial"/>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tery is a minds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 to get stronger?  Start pumping iron.  Want to get taller?  You’re out of luck.</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tery is a pa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tery is an asympto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a:t>
            </a:r>
            <a:endParaRPr b="0" lang="en-US" sz="3200" spc="-1" strike="noStrike">
              <a:solidFill>
                <a:srgbClr val="000000"/>
              </a:solidFill>
              <a:latin typeface="Arial"/>
            </a:endParaRPr>
          </a:p>
        </p:txBody>
      </p:sp>
      <p:sp>
        <p:nvSpPr>
          <p:cNvPr id="549"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cannot lead a life that is truly excellent without feeling that one belongs to something greater and more permanent than oneself.”- </a:t>
            </a:r>
            <a:r>
              <a:rPr b="0" lang="en-US" sz="1800" spc="-1" strike="noStrike">
                <a:solidFill>
                  <a:srgbClr val="000000"/>
                </a:solidFill>
                <a:latin typeface="Arial"/>
              </a:rPr>
              <a:t>Mihaly Csikszentmihalyi</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Since death is an absolute certainty for everyone, the important variable is the quality of life one leads between the times of birth and death.” –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1800" spc="-1" strike="noStrike">
                <a:solidFill>
                  <a:srgbClr val="000000"/>
                </a:solidFill>
                <a:latin typeface="Arial"/>
              </a:rPr>
              <a:t>Bill Strickland</a:t>
            </a:r>
            <a:endParaRPr b="0" lang="en-US" sz="1800" spc="-1" strike="noStrike">
              <a:solidFill>
                <a:srgbClr val="000000"/>
              </a:solidFill>
              <a:latin typeface="Arial"/>
            </a:endParaRPr>
          </a:p>
          <a:p>
            <a:pPr marL="332640" indent="-33264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Founder of the Mancheste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raftsmen’s Guild, and MacArthur “genius award” winner</a:t>
            </a:r>
            <a:endParaRPr b="0" lang="en-US" sz="1800" spc="-1" strike="noStrike">
              <a:solidFill>
                <a:srgbClr val="000000"/>
              </a:solidFill>
              <a:latin typeface="Arial"/>
            </a:endParaRPr>
          </a:p>
          <a:p>
            <a:pPr marL="332640" indent="-332640" algn="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Messages from this Book</a:t>
            </a:r>
            <a:endParaRPr b="0" lang="en-US" sz="3600" spc="-1" strike="noStrike">
              <a:solidFill>
                <a:srgbClr val="000000"/>
              </a:solidFill>
              <a:latin typeface="Arial"/>
            </a:endParaRPr>
          </a:p>
        </p:txBody>
      </p:sp>
      <p:sp>
        <p:nvSpPr>
          <p:cNvPr id="5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rrot and Stick approach to motivation is ineffec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elements of true motiv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nom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te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This Book Meant To Me</a:t>
            </a:r>
            <a:endParaRPr b="0" lang="en-US" sz="3600" spc="-1" strike="noStrike">
              <a:solidFill>
                <a:srgbClr val="000000"/>
              </a:solidFill>
              <a:latin typeface="Arial"/>
            </a:endParaRPr>
          </a:p>
        </p:txBody>
      </p:sp>
      <p:sp>
        <p:nvSpPr>
          <p:cNvPr id="5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l Your S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Book Review – (Sample)</a:t>
            </a:r>
            <a:endParaRPr b="0" lang="en-US" sz="2800" spc="-1" strike="noStrike">
              <a:solidFill>
                <a:srgbClr val="000000"/>
              </a:solidFill>
              <a:latin typeface="Arial"/>
            </a:endParaRPr>
          </a:p>
        </p:txBody>
      </p:sp>
      <p:sp>
        <p:nvSpPr>
          <p:cNvPr id="530"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 Dri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 Daniel H. Pink</a:t>
            </a:r>
            <a:endParaRPr b="0" lang="en-US" sz="2800" spc="-1" strike="noStrike">
              <a:solidFill>
                <a:srgbClr val="000000"/>
              </a:solidFill>
              <a:latin typeface="Arial"/>
            </a:endParaRPr>
          </a:p>
        </p:txBody>
      </p:sp>
      <p:pic>
        <p:nvPicPr>
          <p:cNvPr id="531" name="Picture 6" descr="http://www.prernacentre.com/blog/wp-content/uploads/2012/02/drivedanpink.jpg"/>
          <p:cNvPicPr/>
          <p:nvPr/>
        </p:nvPicPr>
        <p:blipFill>
          <a:blip r:embed="rId1"/>
          <a:stretch/>
        </p:blipFill>
        <p:spPr>
          <a:xfrm>
            <a:off x="5111640" y="1116000"/>
            <a:ext cx="3210120" cy="4762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Messages from this Book</a:t>
            </a:r>
            <a:endParaRPr b="0" lang="en-US" sz="3600" spc="-1" strike="noStrike">
              <a:solidFill>
                <a:srgbClr val="000000"/>
              </a:solidFill>
              <a:latin typeface="Arial"/>
            </a:endParaRPr>
          </a:p>
        </p:txBody>
      </p:sp>
      <p:sp>
        <p:nvSpPr>
          <p:cNvPr id="5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rrot and Stick approach to motivation is ineffec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elements of true motiv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nom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te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s I Would Like To Share</a:t>
            </a:r>
            <a:endParaRPr b="0" lang="en-US" sz="3200" spc="-1" strike="noStrike">
              <a:solidFill>
                <a:srgbClr val="000000"/>
              </a:solidFill>
              <a:latin typeface="Arial"/>
            </a:endParaRPr>
          </a:p>
        </p:txBody>
      </p:sp>
      <p:sp>
        <p:nvSpPr>
          <p:cNvPr id="535" name=""/>
          <p:cNvSpPr txBox="1"/>
          <p:nvPr/>
        </p:nvSpPr>
        <p:spPr>
          <a:xfrm>
            <a:off x="608040" y="1300320"/>
            <a:ext cx="8383680" cy="4525920"/>
          </a:xfrm>
          <a:prstGeom prst="rect">
            <a:avLst/>
          </a:prstGeom>
          <a:noFill/>
          <a:ln w="0">
            <a:noFill/>
          </a:ln>
        </p:spPr>
        <p:txBody>
          <a:bodyPr anchor="t">
            <a:normAutofit fontScale="8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rots and Sticks: The Seven Deadly Flaw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35560" indent="-44208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can extinguish intrinsic motivation.</a:t>
            </a:r>
            <a:endParaRPr b="0" lang="en-US" sz="2800" spc="-1" strike="noStrike">
              <a:solidFill>
                <a:srgbClr val="000000"/>
              </a:solidFill>
              <a:latin typeface="Arial"/>
            </a:endParaRPr>
          </a:p>
          <a:p>
            <a:pPr lvl="1" marL="835560" indent="-44208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can diminish performance.</a:t>
            </a:r>
            <a:endParaRPr b="0" lang="en-US" sz="2800" spc="-1" strike="noStrike">
              <a:solidFill>
                <a:srgbClr val="000000"/>
              </a:solidFill>
              <a:latin typeface="Arial"/>
            </a:endParaRPr>
          </a:p>
          <a:p>
            <a:pPr lvl="1" marL="835560" indent="-44208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can crush creativity.</a:t>
            </a:r>
            <a:endParaRPr b="0" lang="en-US" sz="2800" spc="-1" strike="noStrike">
              <a:solidFill>
                <a:srgbClr val="000000"/>
              </a:solidFill>
              <a:latin typeface="Arial"/>
            </a:endParaRPr>
          </a:p>
          <a:p>
            <a:pPr lvl="1" marL="835560" indent="-44208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can crowd out good behavior.</a:t>
            </a:r>
            <a:endParaRPr b="0" lang="en-US" sz="2800" spc="-1" strike="noStrike">
              <a:solidFill>
                <a:srgbClr val="000000"/>
              </a:solidFill>
              <a:latin typeface="Arial"/>
            </a:endParaRPr>
          </a:p>
          <a:p>
            <a:pPr lvl="1" marL="835560" indent="-44208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can encourage cheating, shortcuts, and unethical behavior.</a:t>
            </a:r>
            <a:endParaRPr b="0" lang="en-US" sz="2800" spc="-1" strike="noStrike">
              <a:solidFill>
                <a:srgbClr val="000000"/>
              </a:solidFill>
              <a:latin typeface="Arial"/>
            </a:endParaRPr>
          </a:p>
          <a:p>
            <a:pPr lvl="1" marL="835560" indent="-44208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can become addictive.</a:t>
            </a:r>
            <a:endParaRPr b="0" lang="en-US" sz="2800" spc="-1" strike="noStrike">
              <a:solidFill>
                <a:srgbClr val="000000"/>
              </a:solidFill>
              <a:latin typeface="Arial"/>
            </a:endParaRPr>
          </a:p>
          <a:p>
            <a:pPr lvl="1" marL="835560" indent="-44208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can foster short-term think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s I Would Like To Share</a:t>
            </a:r>
            <a:endParaRPr b="0" lang="en-US" sz="3200" spc="-1" strike="noStrike">
              <a:solidFill>
                <a:srgbClr val="000000"/>
              </a:solidFill>
              <a:latin typeface="Arial"/>
            </a:endParaRPr>
          </a:p>
        </p:txBody>
      </p:sp>
      <p:sp>
        <p:nvSpPr>
          <p:cNvPr id="537" name=""/>
          <p:cNvSpPr txBox="1"/>
          <p:nvPr/>
        </p:nvSpPr>
        <p:spPr>
          <a:xfrm>
            <a:off x="457200" y="1312920"/>
            <a:ext cx="8229600" cy="4525920"/>
          </a:xfrm>
          <a:prstGeom prst="rect">
            <a:avLst/>
          </a:prstGeom>
          <a:noFill/>
          <a:ln w="0">
            <a:noFill/>
          </a:ln>
        </p:spPr>
        <p:txBody>
          <a:bodyPr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ark Twai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consists of whatever a body is </a:t>
            </a:r>
            <a:r>
              <a:rPr b="0" lang="en-US" sz="2800" spc="-1" strike="noStrike">
                <a:solidFill>
                  <a:srgbClr val="000000"/>
                </a:solidFill>
                <a:latin typeface="Aharoni"/>
                <a:ea typeface="Aharoni"/>
              </a:rPr>
              <a:t>obliged</a:t>
            </a:r>
            <a:r>
              <a:rPr b="0" lang="en-US" sz="2800" spc="-1" strike="noStrike">
                <a:solidFill>
                  <a:srgbClr val="000000"/>
                </a:solidFill>
                <a:latin typeface="Arial"/>
              </a:rPr>
              <a:t> to do, while Play consists of whatever a body is obliged not to do.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wealthy gentlemen in England who drive four-horse passenger coaches twenty or thirty miles on a daily line, in the summer, because the privilege costs them considerable money, but if they were offered wages for the service, that would turn it into work and then they would resig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s</a:t>
            </a:r>
            <a:endParaRPr b="0" lang="en-US" sz="3200" spc="-1" strike="noStrike">
              <a:solidFill>
                <a:srgbClr val="000000"/>
              </a:solidFill>
              <a:latin typeface="Arial"/>
            </a:endParaRPr>
          </a:p>
        </p:txBody>
      </p:sp>
      <p:sp>
        <p:nvSpPr>
          <p:cNvPr id="5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ontrol</a:t>
            </a:r>
            <a:r>
              <a:rPr b="0" lang="en-US" sz="3200" spc="-1" strike="noStrike">
                <a:solidFill>
                  <a:srgbClr val="000000"/>
                </a:solidFill>
                <a:latin typeface="Arial"/>
              </a:rPr>
              <a:t> leads to </a:t>
            </a:r>
            <a:r>
              <a:rPr b="0" lang="en-US" sz="3200" spc="-1" strike="noStrike">
                <a:solidFill>
                  <a:srgbClr val="ff0000"/>
                </a:solidFill>
                <a:latin typeface="Arial"/>
              </a:rPr>
              <a:t>compliance</a:t>
            </a:r>
            <a:r>
              <a:rPr b="0" lang="en-US" sz="3200" spc="-1" strike="noStrike">
                <a:solidFill>
                  <a:srgbClr val="000000"/>
                </a:solidFill>
                <a:latin typeface="Arial"/>
              </a:rPr>
              <a:t>, </a:t>
            </a:r>
            <a:r>
              <a:rPr b="0" lang="en-US" sz="3200" spc="-1" strike="noStrike">
                <a:solidFill>
                  <a:srgbClr val="00b050"/>
                </a:solidFill>
                <a:latin typeface="Arial"/>
              </a:rPr>
              <a:t>autonomy </a:t>
            </a:r>
            <a:r>
              <a:rPr b="0" lang="en-US" sz="3200" spc="-1" strike="noStrike">
                <a:solidFill>
                  <a:srgbClr val="000000"/>
                </a:solidFill>
                <a:latin typeface="Arial"/>
              </a:rPr>
              <a:t>leads to </a:t>
            </a:r>
            <a:r>
              <a:rPr b="0" lang="en-US" sz="3200" spc="-1" strike="noStrike">
                <a:solidFill>
                  <a:srgbClr val="00b050"/>
                </a:solidFill>
                <a:latin typeface="Arial"/>
              </a:rPr>
              <a:t>engagemen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inherently want to get better and better at something that matt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s I Would Like To Share</a:t>
            </a:r>
            <a:endParaRPr b="0" lang="en-US" sz="3200" spc="-1" strike="noStrike">
              <a:solidFill>
                <a:srgbClr val="000000"/>
              </a:solidFill>
              <a:latin typeface="Arial"/>
            </a:endParaRPr>
          </a:p>
        </p:txBody>
      </p:sp>
      <p:sp>
        <p:nvSpPr>
          <p:cNvPr id="54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ultimate freedom for creative groups is the freedom to experiment with new ideas.  Some skeptics insist that innovation is expensive.  In the long run, innovation is cheap.  Mediocrity is expensive – and autonomy can be the antidote.”</a:t>
            </a:r>
            <a:endParaRPr b="0" lang="en-US" sz="3200" spc="-1" strike="noStrike">
              <a:solidFill>
                <a:srgbClr val="000000"/>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 Kelley</a:t>
            </a:r>
            <a:endParaRPr b="0" lang="en-US" sz="2400" spc="-1" strike="noStrike">
              <a:solidFill>
                <a:srgbClr val="000000"/>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anager, ID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rinsic Motivation</a:t>
            </a:r>
            <a:endParaRPr b="0" lang="en-US" sz="3600" spc="-1" strike="noStrike">
              <a:solidFill>
                <a:srgbClr val="000000"/>
              </a:solidFill>
              <a:latin typeface="Arial"/>
            </a:endParaRPr>
          </a:p>
        </p:txBody>
      </p:sp>
      <p:sp>
        <p:nvSpPr>
          <p:cNvPr id="5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elements of true motiv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nom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te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nomy</a:t>
            </a:r>
            <a:endParaRPr b="0" lang="en-US" sz="3200" spc="-1" strike="noStrike">
              <a:solidFill>
                <a:srgbClr val="000000"/>
              </a:solidFill>
              <a:latin typeface="Arial"/>
            </a:endParaRPr>
          </a:p>
        </p:txBody>
      </p:sp>
      <p:sp>
        <p:nvSpPr>
          <p:cNvPr id="545" name=""/>
          <p:cNvSpPr txBox="1"/>
          <p:nvPr/>
        </p:nvSpPr>
        <p:spPr>
          <a:xfrm>
            <a:off x="93240" y="1262160"/>
            <a:ext cx="8534520" cy="2333520"/>
          </a:xfrm>
          <a:prstGeom prst="rect">
            <a:avLst/>
          </a:prstGeom>
          <a:noFill/>
          <a:ln w="0">
            <a:noFill/>
          </a:ln>
        </p:spPr>
        <p:txBody>
          <a:bodyPr anchor="t">
            <a:normAutofit fontScale="54000"/>
          </a:bodyPr>
          <a:p>
            <a:pPr marL="185040" indent="-185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a:t>
            </a:r>
            <a:endParaRPr b="0" lang="en-US" sz="3200" spc="-1" strike="noStrike">
              <a:solidFill>
                <a:srgbClr val="000000"/>
              </a:solidFill>
              <a:latin typeface="Arial"/>
            </a:endParaRPr>
          </a:p>
          <a:p>
            <a:pPr lvl="1" marL="246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people to work a certain percentage of their time on projects of their own choosing.</a:t>
            </a:r>
            <a:endParaRPr b="0" lang="en-US" sz="1800" spc="-1" strike="noStrike">
              <a:solidFill>
                <a:srgbClr val="000000"/>
              </a:solidFill>
              <a:latin typeface="Arial"/>
            </a:endParaRPr>
          </a:p>
          <a:p>
            <a:pPr marL="185040" indent="-185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a:t>
            </a:r>
            <a:endParaRPr b="0" lang="en-US" sz="3200" spc="-1" strike="noStrike">
              <a:solidFill>
                <a:srgbClr val="000000"/>
              </a:solidFill>
              <a:latin typeface="Arial"/>
            </a:endParaRPr>
          </a:p>
          <a:p>
            <a:pPr lvl="1" marL="246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n the past, work was defined primarily by putting in time, and secondarily on getting results.  We need to flip that model.  No matter what kind of business you’re in, it’s time to throw away the tardy slips, time clocks, and outdated industrial-age thinking.”  Cali Ressler, Former HR Executive, Best Buy</a:t>
            </a:r>
            <a:endParaRPr b="0" lang="en-US" sz="1800" spc="-1" strike="noStrike">
              <a:solidFill>
                <a:srgbClr val="000000"/>
              </a:solidFill>
              <a:latin typeface="Arial"/>
            </a:endParaRPr>
          </a:p>
          <a:p>
            <a:pPr marL="185040" indent="-185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que</a:t>
            </a:r>
            <a:endParaRPr b="0" lang="en-US" sz="3200" spc="-1" strike="noStrike">
              <a:solidFill>
                <a:srgbClr val="000000"/>
              </a:solidFill>
              <a:latin typeface="Arial"/>
            </a:endParaRPr>
          </a:p>
          <a:p>
            <a:pPr lvl="1" marL="246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Hire good people, and leave them alone.” – William McKnight, former president and chairman, 3M</a:t>
            </a:r>
            <a:endParaRPr b="0" lang="en-US" sz="1800" spc="-1" strike="noStrike">
              <a:solidFill>
                <a:srgbClr val="000000"/>
              </a:solidFill>
              <a:latin typeface="Arial"/>
            </a:endParaRPr>
          </a:p>
          <a:p>
            <a:pPr marL="185040" indent="-185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a:t>
            </a:r>
            <a:endParaRPr b="0" lang="en-US" sz="3200" spc="-1" strike="noStrike">
              <a:solidFill>
                <a:srgbClr val="000000"/>
              </a:solidFill>
              <a:latin typeface="Arial"/>
            </a:endParaRPr>
          </a:p>
          <a:p>
            <a:pPr lvl="1" marL="246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mple research has shown that people working in self-organized teams are more satisfied than those working in inherited teams.”</a:t>
            </a:r>
            <a:endParaRPr b="0" lang="en-US" sz="1800" spc="-1" strike="noStrike">
              <a:solidFill>
                <a:srgbClr val="000000"/>
              </a:solidFill>
              <a:latin typeface="Arial"/>
            </a:endParaRPr>
          </a:p>
          <a:p>
            <a:pPr marL="185040" indent="-185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6T12:32:45Z</dcterms:created>
  <dc:creator>Trish Mooney</dc:creator>
  <dc:description/>
  <dc:language>en-US</dc:language>
  <cp:lastModifiedBy>Heidi</cp:lastModifiedBy>
  <cp:lastPrinted>2011-06-13T12:29:39Z</cp:lastPrinted>
  <dcterms:modified xsi:type="dcterms:W3CDTF">2012-11-15T22:57:55Z</dcterms:modified>
  <cp:revision>23</cp:revision>
  <dc:subject/>
  <dc:title>Leading with Impact</dc:title>
</cp:coreProperties>
</file>