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86235E-4E9B-4EE1-A564-1D19E302F4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AA4804-DE14-4C77-86FB-553052B80AC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8FDFE13-99EF-497F-BD73-8EFBF74C59D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99A2BFF-771B-4489-8D60-E8BB91D2555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3C4866F-91D7-4FEA-8A9E-3A7B7A1E8FE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09B4471-23B6-4D1A-BB36-CD5B2B50FC5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35BA2AC-916E-4E19-9AFF-7833DE109EF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01402C9-B3B1-4A64-9378-F79B8F07F52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03D14F6-A1CC-4735-B469-A63FEF13DD5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23715DF-87E8-4ABA-92A3-7683C6BC77C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48EF231-7D9E-4BCB-A6CE-B30913266E9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F525E50-72C5-41B9-8283-2E070119781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3D18FA-6AA5-47BF-B91A-22ED666BEED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684195A-2B98-47B4-BE14-42E94D335C2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2A39E20-06C3-46CF-9B20-A0134D42FA7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9A06D23-1DB4-4C0D-89AA-A9114E3016E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1ED0D6A-DD1C-4404-BD20-E0F3C5BE481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10D6C0F-979E-4F76-BDE4-3F56F5EBA22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19A99B4-2A87-426B-B488-7FB5468E2F9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C8B64C1-C4F9-4AEC-AA08-4EB31A437C2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4164A00-C228-43DE-8313-6460ABCA8A7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7993F78-7FF0-4B28-B5A3-01E4EE71BA0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C237BAE-3D3A-490F-AEB2-1BA1C0D8293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E8B5FB-9843-4128-972A-E0B4D90BB1F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C8401D1-E8F7-494F-A333-A2D9BE37C1C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3FF30F2-D0BA-448C-8BD2-A473FC7AB3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0484ECF-9242-498A-B6FE-94185BEE1E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0862BFE-02A3-4810-A667-7C0FD86F25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214E436-D208-48DA-9C6D-EC39AA6794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739D5C7-D236-4387-A6CA-07CC82A444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58D5F76-D38E-4318-9DA7-4BDDE152AF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24CEE15-70EA-4A20-AE00-EFA23639F4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CA1D66F-A088-4BBC-B5E1-C85C2F02BB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E4BCB03-105E-4640-AC1A-1B439B140D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B80BB07-557D-4BA8-9898-DDDD24767E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591DA3D-2562-4180-B5C2-186FB5E7DF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4288DC3-F71D-453F-A043-5ACBD55F73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99CDDBF-B1CA-4139-9E72-B0B65FCA22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E5D9B95-676F-4C7B-8847-9D9E5BAE05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7DA9577-0AE8-4C8E-9FF1-FCDE1FDA80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9747A31-6FA8-41C6-8FD3-89946E8964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DA40262-DFC6-4FBC-9D9A-9B673FB7BE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AC3C713-CC34-4253-8050-58ACE8916E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3C226EC-B636-4D57-AEF9-2F14C51633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4A26C95-5F1D-4018-9ABB-5A2FC9647A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6E42A7-D498-4046-A6D5-FD4A687C70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9AEC5F8-CF14-47F2-B341-7C1E3A81A5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B9BD68C-2F64-4E03-9B8A-FB55D62F31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B1A82C1-F4D1-4910-AA9D-C60FAFBF1F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C0CC1F0-2620-4AA5-A171-38EE094FF7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57C3DDBE-658F-4E17-BE6F-4BAA3D91D3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8846E1-5803-4560-A444-58B4C6BC5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5DE15E6-BA13-4B41-8793-D8C3EEDA9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548BEF-F706-4AF1-91C8-9825F12E8F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00793A-AFA5-4976-B00C-C49CD5D5A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D3C437-9DF8-4D4B-B4BE-E56AD96E0B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37173-1899-43F3-912E-D7344DB85D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0C32CD-A667-4486-B274-3734A2B770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4A87A4-D550-4BFA-A4B0-508586DC78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3A4BAB-B072-48C2-B17C-717992A22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1428FE3-ECD3-448C-98FA-2475856559C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5A1C39E-B458-4A3F-A151-00A4A4BC818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7C37192-C9A0-4E74-95D3-5D01519888A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BFC9D17-6150-4F98-9E8E-16C799D9A7C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AD7925A-8E3E-488B-ABD0-7C171D8200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7350F1B-C384-4260-8E1F-C954F4378E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20262CB-8053-4F68-9B94-9F3BCC03D24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64F23-DB18-48A2-B88F-C62B07788D1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1017077-DBD9-491B-8C46-2C865B3EC0C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294EFFF-6939-489B-852A-888EC07FA8A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64681AD-956F-418A-AD42-F1E3773D68D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F613F8C-1B2A-4632-979F-3D987C905E1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AEDBE1C-EF54-4AA7-A74F-B93CB4BCF09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02714CB-4AF4-4319-9B0A-0B263E7C640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C251B85-5D6A-49C6-8CA1-65C8696EEA2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CFC115E-3716-4492-8826-2FEB2D836BA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093D938-5D55-4024-922A-A5B271C8A21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6E1AB9E-6A8F-460D-AF95-F101140B8E5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25C481-8DFD-4FC8-8346-5C4EEEEB470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43EE644-1956-443C-9089-C3B8108B133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08509F6-33B8-436B-ACD9-1EF554974DC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4981BBC-D0F1-4673-9942-ED6C933E53E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1A439CA-711B-47E1-B4CF-D429A1D184B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35F395D-14B5-4B23-89BB-36C51171AB9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5701BC6-4CAE-4F62-9322-07C1BCBFE7A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FB6C3C0-9613-44B4-8E29-F8ADADFC7EA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FC64B04-6A07-4CC8-B7E3-449A0339C87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A68CA59-6BA7-45E7-927E-FB6A9CF17BD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5162F6C-86D0-4DDB-99DC-839F76E1005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532501D0-7501-4FAD-899C-DB8D535934A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A88927A-5734-4E21-8E67-68988CCB67B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34BA7E9-BF05-46AB-AE6E-2CD02778762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BD9D3F2-BD87-47E4-8F08-5E3BF9FF85F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44492A7-9C44-4069-B7F8-2C7C9FC3EE9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1BCCFC9-ACE3-4DB2-B10B-CB7FA1FFA2D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0F43379-654F-4C38-A263-BB27B697752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56FBC17-8608-4A85-B48A-9FAE48702E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B8EE3BA-87C0-475A-ABE3-8D1C464B53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D20D761-E4E0-4036-9C54-5917AA7A35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A1FA723-1379-48BB-A192-FA226006788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5B33B73-22E5-4E27-84EC-295AA332190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929E0A7-BD6C-4385-BABC-8EB46C547A2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C82C27C-BD50-444B-9981-E809DBC1F99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2E14686-DA2D-42D4-B035-43B48539120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04CA9EA-42D8-4C76-B755-7BE7D964C98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2D054F5-541D-4E78-A57F-AD0A324C20C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97A81E1-C1BE-4286-9FEB-9B1AAD8BAEE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558BBB4-05D5-4F22-8826-2B22F48A591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3B5E30A-B241-4210-848E-A04C8FD2F1A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F130506-143F-4C93-ACFE-2A9B62CAB56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8BAAE31-76A3-46C2-841A-A9565AD13C1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44125-5F7D-4D31-AFEB-2639EF34B7B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CD0F64A-1097-4926-9FB4-A952E5FBC1D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44E6BE1-C0A3-4A95-867A-D7B352342CA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70C2F85-42F8-4BB0-B52F-19A3536EF86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4370667-6F08-4D9A-A5B0-69449A86FC0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56F2E37-56A2-4371-9D4C-158A30AFD39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DD279F4-D33B-4742-822E-50BEDB54719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31714D2-4CDD-4766-93DB-20ACD129158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6AED7A6-2C33-48AE-BB33-8D5DFABEEB9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F1EADF3-4B22-4C6D-B4BD-4F15C4AD9A4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77E70FF-E07F-4DAE-8082-CEEA224ECCC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F8D7F-6EC5-4A3D-996C-877B1265AAA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8B211A2-158F-4107-A6DC-9500E4410E8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542B44A-ED0E-4B98-A1DE-47CD75FF352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AB88EF2-F473-4EB5-BEB4-6B9906768E7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E1921C5-513C-48B7-B560-BBBA30941C9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C4D91E6-DE9C-45E6-A2E5-AE764F215D2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D4B5D99-21B4-46AA-B8EF-0178432634E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91B087E-0B90-4808-9D5F-56354E8552E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31EDD88-5AA8-47BF-A46C-ADDD8873137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A37C45C-4C1C-4A0A-A574-CEDA56E387E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37194E8-CB25-4F91-9705-858A067B99A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0C7D1-80DD-4C04-917E-5392B4FADF7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216E41F-25A9-48C5-A954-D6849AF80B4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1C93B2E-7B8D-4FA3-B251-F2AEF30B366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43964CF-3A23-4233-B0A1-7D1306A42D2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3511F90-DD36-4B13-ABB4-D1722710983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0455BB8-14B7-489A-8140-E203B85B252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7FFF533-F3F8-40A3-A2EB-023E6B6C37E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43253C5-A3E5-4798-9243-DE5BEBB72E7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FF81530-A5DD-40B6-A5E8-7BD96B86764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22B9795-733A-43C6-80DA-E9DB3939885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F87BAA2-D632-4BD7-815D-514C90E011A8}"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3CBEB-8082-4635-AADC-AA0141848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A22FC-9501-4B97-974F-2B5360A59FB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09F894-9C1B-4A7A-BE86-62A6B5A01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5C773-32BE-4A84-ACAC-EAFC1F111B5A}"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75F530-00D7-4117-BABA-E3772E147B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3908B-F4D5-4871-AEB4-754823256283}"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6A5D12-36B8-433F-9C1E-529289F0C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C8025F-DAA6-45D2-AB4F-B16E8F7D4B91}"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BC5D67-F5DB-42B7-BC2B-BC2AA650B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AD1E0-7194-4A12-B3B1-C108D799A51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B0563B-51BB-4611-8E57-641C6589C5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E7DBFA-8E9F-4580-B9B6-0A41699B2C3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7BB95-DB81-437A-8804-6AE519A09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2D04A-675D-467F-B5D0-D36B60114A15}"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49CC97-A1B0-47DA-9E18-DE60FD1B6B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AC4373-297C-4D3E-9FA3-863A89A3C93F}"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F4ED6-413B-4D17-B328-C23E403623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B4124E-E38D-481F-8B9F-FEAC3BF93B03}"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9372AC-A0F7-4C78-8567-8487CA2442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32E1D-6690-4D5C-B775-9EA7A7BD3F01}"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13234-E4E8-45B6-A539-81544F3C25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FE029-BFB7-4223-9991-53DFDBF3B4D7}"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89D48-E79D-4937-B262-45748FC6DC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1</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Review</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Horchner</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Review</a:t>
            </a:r>
            <a:endParaRPr b="0" lang="en-US" sz="2800" spc="-1" strike="noStrike">
              <a:solidFill>
                <a:srgbClr val="000000"/>
              </a:solidFill>
              <a:latin typeface="Arial"/>
            </a:endParaRPr>
          </a:p>
        </p:txBody>
      </p:sp>
      <p:sp>
        <p:nvSpPr>
          <p:cNvPr id="530" name=""/>
          <p:cNvSpPr txBox="1"/>
          <p:nvPr/>
        </p:nvSpPr>
        <p:spPr>
          <a:xfrm>
            <a:off x="456840" y="1600200"/>
            <a:ext cx="5419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aac Newt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Gale E. Christianson</a:t>
            </a:r>
            <a:endParaRPr b="0" lang="en-US" sz="2800" spc="-1" strike="noStrike">
              <a:solidFill>
                <a:srgbClr val="000000"/>
              </a:solidFill>
              <a:latin typeface="Arial"/>
            </a:endParaRPr>
          </a:p>
        </p:txBody>
      </p:sp>
      <p:pic>
        <p:nvPicPr>
          <p:cNvPr id="531" name="Picture 5" descr=""/>
          <p:cNvPicPr/>
          <p:nvPr/>
        </p:nvPicPr>
        <p:blipFill>
          <a:blip r:embed="rId1"/>
          <a:stretch/>
        </p:blipFill>
        <p:spPr>
          <a:xfrm>
            <a:off x="5877000" y="1398600"/>
            <a:ext cx="2948040" cy="4316400"/>
          </a:xfrm>
          <a:prstGeom prst="rect">
            <a:avLst/>
          </a:prstGeom>
          <a:ln w="0">
            <a:noFill/>
          </a:ln>
        </p:spPr>
      </p:pic>
      <p:pic>
        <p:nvPicPr>
          <p:cNvPr id="532" name="Picture 6" descr=""/>
          <p:cNvPicPr/>
          <p:nvPr/>
        </p:nvPicPr>
        <p:blipFill>
          <a:blip r:embed="rId2"/>
          <a:stretch/>
        </p:blipFill>
        <p:spPr>
          <a:xfrm>
            <a:off x="774720" y="2957400"/>
            <a:ext cx="1901880" cy="1489320"/>
          </a:xfrm>
          <a:prstGeom prst="rect">
            <a:avLst/>
          </a:prstGeom>
          <a:ln w="0">
            <a:noFill/>
          </a:ln>
        </p:spPr>
      </p:pic>
      <p:pic>
        <p:nvPicPr>
          <p:cNvPr id="533" name="Picture 7" descr=""/>
          <p:cNvPicPr/>
          <p:nvPr/>
        </p:nvPicPr>
        <p:blipFill>
          <a:blip r:embed="rId3"/>
          <a:stretch/>
        </p:blipFill>
        <p:spPr>
          <a:xfrm>
            <a:off x="774720" y="4584600"/>
            <a:ext cx="1927080" cy="1683000"/>
          </a:xfrm>
          <a:prstGeom prst="rect">
            <a:avLst/>
          </a:prstGeom>
          <a:ln w="0">
            <a:noFill/>
          </a:ln>
        </p:spPr>
      </p:pic>
      <p:pic>
        <p:nvPicPr>
          <p:cNvPr id="534" name="Picture 8" descr=""/>
          <p:cNvPicPr/>
          <p:nvPr/>
        </p:nvPicPr>
        <p:blipFill>
          <a:blip r:embed="rId4"/>
          <a:stretch/>
        </p:blipFill>
        <p:spPr>
          <a:xfrm>
            <a:off x="2830680" y="2957400"/>
            <a:ext cx="2457360" cy="331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6" name="Content Placeholder 2"/>
          <p:cNvSpPr/>
          <p:nvPr/>
        </p:nvSpPr>
        <p:spPr>
          <a:xfrm>
            <a:off x="355680" y="1279440"/>
            <a:ext cx="8383680" cy="5246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was born premature on Christmas Day (1642) to a farming family of illiterates.  He was not expected to survive.  As an adult he was of small statu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 father died before his birth; his mother remarried while Newton was a toddler.  He was left to live with his maternal grandparents.  An arrangement that he deeply resented… </a:t>
            </a:r>
            <a:r>
              <a:rPr b="0" i="1" lang="en-US" sz="1600" spc="-1" strike="noStrike">
                <a:solidFill>
                  <a:srgbClr val="000000"/>
                </a:solidFill>
                <a:latin typeface="Arial"/>
              </a:rPr>
              <a:t>he wished his stepfather dead and his mother dead for having left him to remarry.   </a:t>
            </a:r>
            <a:r>
              <a:rPr b="0" lang="en-US" sz="1600" spc="-1" strike="noStrike">
                <a:solidFill>
                  <a:srgbClr val="000000"/>
                </a:solidFill>
                <a:latin typeface="Arial"/>
              </a:rPr>
              <a:t>To cope with the hurt he learned to withdraw to the hidden recesses of his mind.  As a boy he was skilled with his hands.  He built wooden mechanical models of waterwheels and was fascinated by ki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ounded determination and aggression -  In a school yard fight, after his opponent had acquiesced, he held the boy’s head and rubbed his face against a wall for good measure.  After initially not caring and doing poorly in school he excelled in an effort to vanquish other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was a genius who was without peers in all things cereb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ch of Newton’s private life is unrecorded.  Few private letters or memoires; no record of lover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itable and odd, a recluse who ate and slept very little.   At night he might sleep on the floor, fully clothed, to awaken several hours lat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s conducted on his body after death revealed high levels on mercury perhaps explaining some of his odd behav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ncipia Mathematica</a:t>
            </a:r>
            <a:endParaRPr b="0" lang="en-US" sz="3600" spc="-1" strike="noStrike">
              <a:solidFill>
                <a:srgbClr val="000000"/>
              </a:solidFill>
              <a:latin typeface="Arial"/>
            </a:endParaRPr>
          </a:p>
        </p:txBody>
      </p:sp>
      <p:sp>
        <p:nvSpPr>
          <p:cNvPr id="538" name=""/>
          <p:cNvSpPr txBox="1"/>
          <p:nvPr/>
        </p:nvSpPr>
        <p:spPr>
          <a:xfrm>
            <a:off x="200160" y="1345680"/>
            <a:ext cx="835632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Three Law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very body continues in its state of rest, or of uniform motion in a straight line, unless it is compelled to change that state by forces impressed upon i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9" name="Picture 2" descr=""/>
          <p:cNvPicPr/>
          <p:nvPr/>
        </p:nvPicPr>
        <p:blipFill>
          <a:blip r:embed="rId1"/>
          <a:stretch/>
        </p:blipFill>
        <p:spPr>
          <a:xfrm>
            <a:off x="4965840" y="3321000"/>
            <a:ext cx="4025880" cy="2679840"/>
          </a:xfrm>
          <a:prstGeom prst="rect">
            <a:avLst/>
          </a:prstGeom>
          <a:ln w="0">
            <a:noFill/>
          </a:ln>
        </p:spPr>
      </p:pic>
      <p:sp>
        <p:nvSpPr>
          <p:cNvPr id="540" name="Content Placeholder 2"/>
          <p:cNvSpPr/>
          <p:nvPr/>
        </p:nvSpPr>
        <p:spPr>
          <a:xfrm>
            <a:off x="200160" y="2849400"/>
            <a:ext cx="4833720" cy="4526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The change in motion (of a body) is proportional to the motive force impressed: and is in the direction of the straight line in which that force is impresse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 every action there is always opposed an equal reaction: or, the mutual action of two bodies upon each other are always equal, and directed to contrary par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42" name=""/>
          <p:cNvSpPr txBox="1"/>
          <p:nvPr/>
        </p:nvSpPr>
        <p:spPr>
          <a:xfrm>
            <a:off x="457200" y="1627200"/>
            <a:ext cx="8416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econd inventors count for nothing!” with regard to Leibniz over the invention of calculu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f I have seen further it is by standing on the shoulders of giants” in a letter to Robert Hooke during a dispute regarding the true discoverer of optic phenomen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do not know what I may appear to the world, but to myself I seem to have been only like a boy playing on the sea-shore, and diverting myself in now and then finding a smoother pebble or a prettier shell than ordinary, whilst the great ocean of truth lay all undiscovered before me” shortly before his death at age 8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44" name=""/>
          <p:cNvSpPr txBox="1"/>
          <p:nvPr/>
        </p:nvSpPr>
        <p:spPr>
          <a:xfrm>
            <a:off x="228600" y="1347840"/>
            <a:ext cx="8686800" cy="5587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ve context to the man.  Mechanical engineering tradecraft heavily based upon Newton’s work.  Newton the man was an enigma; my knowledge of the great discoverer based in the short bios found in science or engineering textbook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ton had one foot in alchemy and another in the scientific revolution (Age of Reason 1650-1700).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ton as a genius responsible for some of the significant scientific contributions of all time involving the theory of light, laws of motion, universal gravity, first reflecting telescope, and mathematical discoveries such as the invention of calculus. Newton was also petty, ill-tempered and vengeful.  He never shied away from a fight and rarely fought fair.</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Master of the Royal mint he prosecuted numerous counterfeiters sending many to the gallow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President of the Royal Society he played behind the scenes to handpick the panel investigating competing claims of Leibniz and himself as the inventors of calculus and anonymously shared authorship of the final report of the matter that found in favor of Newton.</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on’t think I would have liked Newton if I met him.  His genius is astounding and admirable.  As a leader he brought function and order the Royal Mint and the Royal Society.  However, in matters involving character, Newton was self-centered, underhanded and deceitful at worst and Machiavellian at bes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3-02-12T14:22:52Z</dcterms:modified>
  <cp:revision>63</cp:revision>
  <dc:subject/>
  <dc:title>Leading with Impact</dc:title>
</cp:coreProperties>
</file>