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E5B-4686-4945-8F72-2A085227D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0C8-D5D9-42E2-9057-440450BF6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BAD-197B-45BD-8569-A7E4A88DB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595-86C0-4074-855D-C944CD8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03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F6B-B5C9-496B-88A5-2A2305D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FE8-48D5-44D8-A5D7-DE8CBB41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72F-A9E2-49F8-A9A9-D0B8E3A8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6949-66AF-434C-810F-0CB47F25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C9C-2CC7-4C0B-8878-CC3D4E0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91E-5A17-4FAA-B2D2-F83FBC56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F308-7CCB-42D1-B55F-4467FE9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728-069B-44B8-8A2D-C3B8E4A8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C84B-9403-4DD7-955B-80CC4AE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23C-B7E8-4052-BFEB-062C05B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E96-7DA0-47FC-821F-B2C9EC39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F6F-5991-4B36-AE6F-35EF3B0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254-2801-4589-9407-CFAC864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803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1AED-FB3B-4907-9DCF-8EE87CC6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CAD-FFB7-4610-9159-B4A868A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144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803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6E8D-9CA9-4F6B-A17B-385186E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F8D-7FA7-459D-A3F8-437DCFC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B1B-3199-480D-89F1-5E985EA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78D-3B5E-4579-8233-0F61A22C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B1C-4355-464E-BE56-47B8C7A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05A-1CE1-4F3D-8B24-DE719E5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03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A13-086B-4461-9DE9-A6A78CA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144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03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F2-9B45-4EF1-9408-DB7D564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152280" y="762120"/>
            <a:ext cx="8839440" cy="5790960"/>
          </a:xfrm>
          <a:prstGeom prst="roundRect">
            <a:avLst>
              <a:gd name="adj" fmla="val 557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CAF-02E1-4818-922D-6CCB520C3850}" type="datetime">
              <a:rPr b="0" lang="en-US" sz="10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685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Integrate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44B-BA23-4B98-A380-EA699D338A16}" type="slidenum">
              <a:rPr b="0" lang="en-US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152280" y="762120"/>
            <a:ext cx="8839440" cy="5790960"/>
          </a:xfrm>
          <a:prstGeom prst="roundRect">
            <a:avLst>
              <a:gd name="adj" fmla="val 557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320" y="6513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DC27-5AB8-4749-BC0E-509D81807078}" type="datetime">
              <a:rPr b="0" lang="en-US" sz="10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5293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egrate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DAA0-44C6-457D-AE86-84FD02F16410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G Coh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unity-Based Project</a:t>
            </a:r>
            <a:br>
              <a:rPr sz="60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PG Training Consortiu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3885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APG SES Counc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6 Sep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ordon Brow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ith Gord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om Hawk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ria Layt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oseph Ph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8480"/>
            <a:ext cx="82296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ant organizations do not coordinate/share their training needs or resources among APG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cost is high due to low attendance and TDY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ty training needs are not iden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of technology and skills training among organizations is limited and/or non-ex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do not always have enough enrollment to meet class fill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rkforce development opportunities are mi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D9CC-0C2F-497C-90F3-0186D640A8D6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 &amp;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4600" y="14554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ntary consortium of APG-based organizations pooling training needs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benefits to participating APG organiz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Enhanced workforce development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train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d training-related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class enrollment (lower unit cos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ering more local classes (eliminate TDY co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variety and availability of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coordination and communication among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lot program is expandable to exploit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069E-6A1D-4967-A69B-D48627AC696B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428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focus (APG – North and So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ntary particip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 and Developmental skills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skills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U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for broadly applicable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 of Sco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that is specific to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569-1A40-49AD-AC51-976CD47A8018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5584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Strategic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 with unit Training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unit training needs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ommunication venues and cost sharing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5293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egrate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592-4243-4E87-BCBB-8EEC597BC13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gram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03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duled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tr FY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:  Three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ntary particip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rketing, registration and payment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hallenges for way ah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CD25-6CB3-4C2B-82CF-D34AD9B925D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quest for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314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of senior-leader support to your unit HR training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gestions or refinement of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934320" y="6529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08E-E7A6-4870-9428-7CBE6D4B6C40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5:24:49Z</dcterms:created>
  <dc:creator>thom.hawkins</dc:creator>
  <dc:description/>
  <dc:language>en-US</dc:language>
  <cp:lastModifiedBy>Trish Mooney</cp:lastModifiedBy>
  <dcterms:modified xsi:type="dcterms:W3CDTF">2012-09-25T16:48:02Z</dcterms:modified>
  <cp:revision>1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5CE2A717F2C44A5E3E347238FEC18</vt:lpwstr>
  </property>
</Properties>
</file>