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011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0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6"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A8549-0BD5-4C40-967B-B5F950AF4135}"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54160" y="682200"/>
            <a:ext cx="4549680" cy="3413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22520"/>
            <a:ext cx="5486400" cy="4095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4396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4396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FBCD7-D44C-4185-A6BC-740C1F319A5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54160" y="682560"/>
            <a:ext cx="4549680" cy="3413160"/>
          </a:xfrm>
          <a:prstGeom prst="rect">
            <a:avLst/>
          </a:prstGeom>
          <a:ln w="0">
            <a:noFill/>
          </a:ln>
        </p:spPr>
      </p:sp>
      <p:sp>
        <p:nvSpPr>
          <p:cNvPr id="547" name="PlaceHolder 2"/>
          <p:cNvSpPr>
            <a:spLocks noGrp="1"/>
          </p:cNvSpPr>
          <p:nvPr>
            <p:ph type="body"/>
          </p:nvPr>
        </p:nvSpPr>
        <p:spPr>
          <a:xfrm>
            <a:off x="685800" y="4322520"/>
            <a:ext cx="5486400" cy="409572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rength is something that is done well consistently and with little thought.   The book’s definition of a weakness is anything that gets in the way of excellent perform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ent – naturally recurring patterns of thought, feeling or behavior that can be productively applied.    Knowledge – is broken into factual knowledge which is facts and lessons learned and experiential knowledge which is gained through experience.  Skills are the steps of an activity bringing structure to experential knowledge.  Skills will help you perform, but not necessarily excel.   You may know the steps on how to be a public speaker, but will not excel without the tal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book’s is based on the online strength finder exam which identifies your top five strengths or talent themes.    The key to identifying your strengths is to focus on your immediate near instinctial reactions to various situations that are incorporated within 34 themes.  Themes include..achiever, activator, adaptability, arranger, belief, command, communication….The book goes on to describe each theme and to provide an example of a person exhibiting the the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8" name="Slide Number Placeholder 3"/>
          <p:cNvSpPr/>
          <p:nvPr/>
        </p:nvSpPr>
        <p:spPr>
          <a:xfrm>
            <a:off x="3884760" y="864396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119F0-16F8-423F-B284-093469950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54160" y="682560"/>
            <a:ext cx="4549680" cy="3413160"/>
          </a:xfrm>
          <a:prstGeom prst="rect">
            <a:avLst/>
          </a:prstGeom>
          <a:ln w="0">
            <a:noFill/>
          </a:ln>
        </p:spPr>
      </p:sp>
      <p:sp>
        <p:nvSpPr>
          <p:cNvPr id="550" name="PlaceHolder 2"/>
          <p:cNvSpPr>
            <a:spLocks noGrp="1"/>
          </p:cNvSpPr>
          <p:nvPr>
            <p:ph type="body"/>
          </p:nvPr>
        </p:nvSpPr>
        <p:spPr>
          <a:xfrm>
            <a:off x="685800" y="4322520"/>
            <a:ext cx="5486400" cy="40957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age around weaknesses by using technology; ie electronic organizer if you’re disorganized or schedule short meetings if you have a short attention span.  Find someone who’s strength’s compliments your weaknesses…this requires that a person be able to admit weaknesses.  Just stop doing it….this is a last resort, but can be effective in cases where a particular trait or talent isn’t necessary for the jo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agers should be able to </a:t>
            </a:r>
            <a:endParaRPr b="0" lang="en-US" sz="1200" spc="-1" strike="noStrike">
              <a:solidFill>
                <a:srgbClr val="000000"/>
              </a:solidFill>
              <a:latin typeface="Calibri"/>
            </a:endParaRPr>
          </a:p>
        </p:txBody>
      </p:sp>
      <p:sp>
        <p:nvSpPr>
          <p:cNvPr id="551" name="Slide Number Placeholder 3"/>
          <p:cNvSpPr/>
          <p:nvPr/>
        </p:nvSpPr>
        <p:spPr>
          <a:xfrm>
            <a:off x="3884760" y="864396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E3944-DFB0-445D-9D7B-7035BD147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34801-8925-423E-B004-D2415F73A3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29510-0B42-4A25-88FF-9EF44E990DF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3E90BEA-1181-4063-8EDA-B792CE21E67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42AD404-80A0-4785-A03E-8EFEF3A61D9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EF4B1CF-2E1C-4A3B-A4BA-759BBAAE3F9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7E7D438-ED88-4788-A5C1-80BF59C847F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D40BA7A-2846-44D1-9DB1-FF62BB0343B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F6213A5-5C95-4248-81A7-32EDCF33D14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5799D20-F44D-4496-98E5-6F992C8F9C9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7F6E9D3-C00A-4F79-ABFB-A457EAD4D8F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46F657A-716F-4BC1-AEB7-0360D85BA15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EB7687C-05BA-47F0-9DA1-A3F0667593A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AEDE51-EF81-4D2E-9134-643E477C112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00B5435-E1F1-4125-9922-D6496B31B8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4882A86-EFE4-4A39-9C55-34B157236B8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DD8ABFD-F975-4307-851E-050B4F555A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7589C5A-29BE-4518-87C6-467C7D362AD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A4E10AD-F731-469C-9E1E-D28DEA7511E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FD2D43D-96D2-48E3-99C7-DEFA08736D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33CECA-32F5-49A4-AD45-30BBE5C4FC0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33D4475-2469-49FE-89DA-9D3E4B99E0B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F1538DF-6AE5-4039-A699-271DA4081B8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AF1FFA3-DF87-4A97-8635-33DC6627010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BEA3A2-13A9-49E4-A7D8-BEB24B644A5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3935940-1082-4C46-8194-DD2465C6E6C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D302327-38C9-4D8E-980B-932CA9C1E1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47C9B19-C0ED-4D57-8970-92B94308F0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D0A536F-708D-45FD-AA5A-B1A85CDF1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27A55B7-22B1-4CE9-9D05-BBBB6686BB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5E4CFC5-7566-4152-BA8F-6B345B4F67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7BC9BD8-12A6-47EE-B06E-85A997D56D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9D1A1FA-0386-4F1C-BAE5-30C9274DAD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9527AD4-D103-4279-8096-1886F95C9F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FC490F6-3A29-43F5-860B-D57FB43E8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F04127-BB69-4B5C-92F3-56CA698B0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9979E37-6D67-4C47-AE28-FAF276DF9A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FD45595-BBDC-433C-AE12-A2CAC43A5E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FDAB6C7-9CFC-4857-BB3A-E51C833024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9E6B194-DFFA-46A2-92EC-E08384590E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FA3D555-526E-4A12-BD1D-328BEE2AA5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B2AB98D-6E46-45F5-A705-03A2C873CC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450F8D1-065D-46B1-9687-976D941691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D736403-E2B6-4FEF-8431-1A7114C2F4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66E07CF-A1A0-42E9-B843-5E347BE6C8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A90BC53-16AF-40CD-9890-79D7FAF48C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8DAD3B-F9EC-4A24-9DCB-CF381BF6DA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FEB57E9-943A-4F27-8829-3D94792D06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E0E1139-9571-4EEE-9EFC-420D3F2D51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73C340A-4E13-4F6E-956F-E57C7C51E4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9936F8B-C92B-413A-9684-3381EC2048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8DDA409-640A-4394-A483-A0F1970AA7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4EE6B3-9450-48D6-9E49-DD2E3C4F1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CA6227-8099-4942-A4F5-3B8DAB72D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CF3C6E-5DB5-4173-8A3E-2E260E698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DEAACE-C6E2-43BD-8D7C-DFAFA4C0C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F1C166-A186-443B-8415-FD7C849AF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10D45-0E06-4F8C-9F9D-7E8DEE7A0C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5C6969-0767-45E8-B179-D978A0114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71487E-D111-4977-A61D-B5BD7EE32A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60F862-B0BB-471E-9AD4-A7731799D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A68456-9E49-47BD-8D68-9E496B941D6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C264A8B-4113-49C4-8CF3-A61DBC3CE7F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F2C6697-65B9-40B4-937C-CB5A9179D6F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A6A424A-0D29-450D-8E10-C34415EB21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5BF60B-A51C-4D85-9857-F88463A6653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2BD112-AD76-4842-A209-B40C21068FC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5A6C556-0166-4B79-8796-0AA60A711A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D04F0-815E-4834-8BA4-20AA99D8DB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4B8223-8E68-4E9F-8A4F-64925605126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D2D4D2-CCD6-4337-95E7-13B49EB95B4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3C7BB2-7ACF-4AAC-8F30-593FD13ECD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AC680A-EF5D-43FA-8667-C7381539E8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6667875-3CD3-47EA-A96B-23099D38EEB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11BB545-5C84-4626-9111-8E35DE01B22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9051729-6A7C-4F3C-A4A8-E2374950915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8EC9E72-2748-4359-9128-B22094A7556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C77309A-453E-452F-8EC3-ECD37DEAC30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15E393A-A8A3-4683-BF88-64DE8009A8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93A7D-5088-4DDC-8A8E-7741AABC41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3BBE9C-584B-49BE-B5D9-A0F59BC2CC3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F236125-8B86-446B-947E-9767F3BAE0F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E24B045-9D90-470C-A94E-0A9E416DF37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5603F78-8065-4EAC-B565-C97D681431D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1FC0395-ED36-4E5C-BBB3-5D4145FCD37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7EC3614-4895-44E3-9D56-F4D581F6D9B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B6D6FA-2382-406E-9AB1-3B80AE3F73A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47AC4A6-8BE9-4B92-B105-1BFA7C7E2FC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4A07DCC-2F25-487D-96CB-A1C4CFCFEB9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0CFFB40-EA77-4BB8-B19D-EB9F79F4378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7E1EEF19-DC68-470A-9C29-1DBE1FFE64A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6CDF4A0-BEFE-47C6-86CD-02456877A0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DBA0B17-75B0-4738-8FA5-0BCB852547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E8E2EEC-9E18-46A5-8EDE-F7273FFC68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B97A710-E598-4327-8819-36D32637C3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AE8531D-53A9-457B-AEA1-89EFC84BBF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8D3448-CE4E-4541-8306-EAF41B8773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0C9A1E-3C21-409C-9E26-94DA365E8B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14699D-EACC-43E9-9D27-8F51944631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0E21428-7774-463E-A7F8-C4F8984D36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BE6DC2D-116D-4E69-9329-1294E121F72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436C5E2-4356-414D-863E-00988DB166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2825CC1-75A4-4194-8B82-2995640745F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241A4EE-2429-4011-BFD7-46D4CE92FE1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1B8A59-71B1-46A0-A051-08DC3936423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9F1441B-1B21-4061-8A25-D7A650FE6C3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C936F43-3B39-4558-B4AE-4AADAADDE20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1980826-41FB-41EA-A2EE-3773218C579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64B8689-F74B-48BB-9D1E-FAC5F5249CB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5217660-A72D-4A43-8844-8D0BC686483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BC56C09-F924-4CB5-8D3D-9BB75210209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CEEB14-1E79-473C-8E05-CD90A1CEF1E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E88CB-8A44-4EE5-B4B5-B266E30249C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7FDCE4D-C6EF-4F6D-8FC4-9BFDFB1ACFC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3B60B5C-825F-419B-A745-BE4E8BF69A2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16512CF-2CF9-4310-B051-EF9BE3028EC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2045759-EC2D-4D72-85B3-A65A82646E4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49080DB-505D-4F5F-9763-9EB6EBD00DB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D107D32-C037-40F6-AF58-384E54B564F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4BFB6ED-2968-45D9-B40D-67C663CB2E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76A17F8-1A46-45FC-9721-2D71B9B850F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B2D87C7-1E1C-48AD-B3DF-4B48009FE8C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9A0F4A4-80A6-4B07-B787-FE923BCC8C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27F35-12EE-4695-AD3E-34E228060FF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D593366-551B-44A4-AC61-AE4B890AB1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4DB2DA-3387-4433-BB1E-4F7C59CCED1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E0A372A-03F4-48D2-93AF-4827365DF15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6160215-42BE-4A97-9A5C-F99009194D2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98AF0E8-B76D-4DEE-9B9B-CF840F7AA0C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567BBCA-4088-47F8-B20B-B0EF034A07A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F99FB2F-6023-4607-BF0E-4ECC81CDEFC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721156E-5F86-46C8-B69F-ABF7A8FE703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197B2E7-7C7A-4F19-8812-27EBF3F5D89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F2008D2-A841-474A-99C2-1C80BAD2813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5DA5E-5886-478D-93F1-699BFDD57D8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A6E43FD-0899-486A-B4A2-DAF154159E9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B0B56E3-3F86-48E1-8318-0D18AD7426E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E8B3B78-506C-4B8D-AA79-0DBF7E79AB2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204DC34-E800-4C98-A0A5-AE1C19ECE79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CBE0248-56F9-4276-BE22-8020B56A4F5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8D2D999-3B9F-4266-9143-1FAA7E86A7C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C064148-C9A7-48BE-BF98-204E3C08DCA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AAC4AC8-64B0-40D9-8D32-CF558C6FA46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8395C11-5B0A-4631-B1C9-F9CD78E2966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52A7F5C-3E61-4BF8-9147-C97E9323793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6C21D-3011-4520-BCD4-691F376CF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14438-B67C-4EC8-B743-EF8B205E5FA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AB73E-7C14-49A6-92EE-D34D3F324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52566-0BCE-4224-8CC3-18D577E7917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DAFB4-24A7-4244-B6B9-CB49B6B3F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A67BF-6DE9-4CFB-B920-D9416CDCE0E8}"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2CBB2-C622-452A-833F-9982FE225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6810D-B00D-43BC-8757-573F4B0A890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44523-EE36-4919-9845-19FB7F54C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C48AD-9B49-4D30-A01B-C0DBAECF6020}"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5F681-B0F7-4136-8C46-F6B1AD67E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86A1D-6EF9-4BCB-8CB4-9148F424903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65E5F-BABC-4EB3-8412-0E1D1C170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46484-35D0-4C93-9257-FB5A9A90E991}"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CAE27-4147-49CF-84C2-D0C82F03C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6A53B-95E5-426F-BAD3-70440868E2F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B4215-E1A1-43BE-A3A5-B1E3D1F63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DBE3D-14A6-427E-9206-4C67DEEEFFE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DB5D1-E26D-4B60-890E-1B9F0B405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8C092-259B-4CFD-A302-DA61243B28A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5329D-D414-464D-B2A7-E3A6869DA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4EB3A-6C44-44D3-BB74-32A2C835B05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E819F-39B1-48ED-8287-8FD5685359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amazon.com/gp/product/0743201140?tag=thesimpledo0c-20" TargetMode="External"/><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Discover Your Streng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Marcus Buckingham and Donald O. Clifton, Ph.D.</a:t>
            </a:r>
            <a:endParaRPr b="0" lang="en-US" sz="2800" spc="-1" strike="noStrike">
              <a:solidFill>
                <a:srgbClr val="000000"/>
              </a:solidFill>
              <a:latin typeface="Arial"/>
            </a:endParaRPr>
          </a:p>
        </p:txBody>
      </p:sp>
      <p:pic>
        <p:nvPicPr>
          <p:cNvPr id="538" name="Picture 4" descr="buck">
            <a:hlinkClick r:id="rId1"/>
          </p:cNvPr>
          <p:cNvPicPr/>
          <p:nvPr/>
        </p:nvPicPr>
        <p:blipFill>
          <a:blip r:embed="rId2"/>
          <a:stretch/>
        </p:blipFill>
        <p:spPr>
          <a:xfrm>
            <a:off x="5402160" y="2166840"/>
            <a:ext cx="2772000" cy="3699000"/>
          </a:xfrm>
          <a:prstGeom prst="rect">
            <a:avLst/>
          </a:prstGeom>
          <a:ln w="0">
            <a:noFill/>
          </a:ln>
        </p:spPr>
      </p:pic>
      <p:sp>
        <p:nvSpPr>
          <p:cNvPr id="539" name=""/>
          <p:cNvSpPr txBox="1"/>
          <p:nvPr/>
        </p:nvSpPr>
        <p:spPr>
          <a:xfrm>
            <a:off x="4647960" y="1599840"/>
            <a:ext cx="4143240" cy="487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 = talent + knowledge + sk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l have natural strengths and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ed an approach of self-evaluation to assess what one “brings to the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excel by maximizing strengths, not by fixing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ize on your strengths and manage around your weaknes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ve to create strength based teams and organiza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two assumptions that guide effective manager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Each person’s talents are enduring and uniq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Each person’s greatest room for growth is in the areas of his or her </a:t>
            </a:r>
            <a:r>
              <a:rPr b="0" lang="en-US" sz="1800" spc="-1" strike="noStrike">
                <a:solidFill>
                  <a:srgbClr val="000000"/>
                </a:solidFill>
                <a:latin typeface="Arial"/>
              </a:rPr>
              <a:t>	</a:t>
            </a:r>
            <a:r>
              <a:rPr b="0" lang="en-US" sz="1800" spc="-1" strike="noStrike">
                <a:solidFill>
                  <a:srgbClr val="000000"/>
                </a:solidFill>
                <a:latin typeface="Arial"/>
              </a:rPr>
              <a:t>    greatest strength.</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s hire employees and train them to do the work of the organization instead of determining the individual’s strengths and hiring the people most likely to succeed at doing the work of the org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s greatest room for growth is in the areas of his or her greatest str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managers must possess the ability to recognize individual and team strengths for peak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steven.norman</cp:lastModifiedBy>
  <cp:lastPrinted>2011-06-13T12:29:39Z</cp:lastPrinted>
  <dcterms:modified xsi:type="dcterms:W3CDTF">2013-01-07T22:10:36Z</dcterms:modified>
  <cp:revision>502</cp:revision>
  <dc:subject/>
  <dc:title>Leading with Impact</dc:title>
</cp:coreProperties>
</file>